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588-7699-4B7D-A923-3D18C2C0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1E7-ECFF-4CFE-AE6A-D5D4327D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9A4-8C18-472E-90EB-867E9125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A24-3B2C-4929-AFBE-E5D6416F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20AE-2A0E-47CC-86CC-A2ADDEDA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D837-500C-4744-BC34-D1BEDF28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D8BC-33B4-40C4-9C15-FF9F817E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3D77-D722-48DF-9A10-BF91C184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71C1-59F6-47A5-996B-ADAAB5BF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EEC4-F885-4818-9F30-3AC82A9A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6B0C-A98A-4E89-B068-A0038625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1A6-3E0A-403A-A32D-2CC517DA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2883-6EEC-40D0-87DB-5998B874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F930-2807-45AC-81DE-8937620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F21D-C1A4-490B-920B-13F5BC5C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2C60-F1C9-4FD6-B8F3-4BE05E72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3CFE-E6A4-4990-8713-5C1B035D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D80-C1F1-40BB-A3CF-112C22A9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28B-E60E-4AD8-B9A4-EF06AA33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974-EEEA-4B47-A5D2-DEB66AA4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DBF-2F38-4442-A8E5-4826CFC3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F1C-EC21-4BCC-80E3-D6D64613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36D-C554-4FFD-A991-E481B31A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22C-B05B-4981-89EA-8A1BF42E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B69C-5F08-4932-88AD-AD8EF428A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BC4D-54DA-4E04-9F0F-68D33BCEF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-mebel.com.ua/" TargetMode="External"/><Relationship Id="rId3" Type="http://schemas.openxmlformats.org/officeDocument/2006/relationships/hyperlink" Target="http://www.art-mebel.com.ua/" TargetMode="External"/><Relationship Id="rId4" Type="http://schemas.openxmlformats.org/officeDocument/2006/relationships/hyperlink" Target="http://www.art-mebel.com.ua/" TargetMode="External"/><Relationship Id="rId5" Type="http://schemas.openxmlformats.org/officeDocument/2006/relationships/hyperlink" Target="http://www.art-mebel.com.ua/" TargetMode="External"/><Relationship Id="rId6" Type="http://schemas.openxmlformats.org/officeDocument/2006/relationships/hyperlink" Target="http://www.art-mebel.com.ua/" TargetMode="External"/><Relationship Id="rId7" Type="http://schemas.openxmlformats.org/officeDocument/2006/relationships/hyperlink" Target="http://www.myinterior.info/" TargetMode="External"/><Relationship Id="rId8" Type="http://schemas.openxmlformats.org/officeDocument/2006/relationships/hyperlink" Target="http://www.myinterior.info/" TargetMode="External"/><Relationship Id="rId9" Type="http://schemas.openxmlformats.org/officeDocument/2006/relationships/hyperlink" Target="http://www.myinterior.info/" TargetMode="External"/><Relationship Id="rId10" Type="http://schemas.openxmlformats.org/officeDocument/2006/relationships/hyperlink" Target="http://www.myinterior.info/" TargetMode="External"/><Relationship Id="rId11" Type="http://schemas.openxmlformats.org/officeDocument/2006/relationships/hyperlink" Target="http://www.myinterior.info/" TargetMode="External"/><Relationship Id="rId12" Type="http://schemas.openxmlformats.org/officeDocument/2006/relationships/hyperlink" Target="http://www.elitflats.od.ua/" TargetMode="External"/><Relationship Id="rId13" Type="http://schemas.openxmlformats.org/officeDocument/2006/relationships/hyperlink" Target="http://www.elitflats.od.ua/" TargetMode="External"/><Relationship Id="rId14" Type="http://schemas.openxmlformats.org/officeDocument/2006/relationships/hyperlink" Target="http://www.elitflats.od.ua/" TargetMode="External"/><Relationship Id="rId15" Type="http://schemas.openxmlformats.org/officeDocument/2006/relationships/hyperlink" Target="http://www.elitflats.od.ua/" TargetMode="External"/><Relationship Id="rId16" Type="http://schemas.openxmlformats.org/officeDocument/2006/relationships/hyperlink" Target="http://www.elitflats.od.ua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y ho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tion of vocabu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 you have such furniture and devices at hom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ll-unit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нной шка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V-set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евиз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amp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етиль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2160720" cy="15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1607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езентация создана по материалам Интерне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art-mebel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com.ua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http://www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myinterior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info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http://www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elitflats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od.ua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kitch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52760" y="1916280"/>
            <a:ext cx="32576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living ro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95640" y="2205000"/>
            <a:ext cx="3587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bedro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e bed comfortabl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24360" y="2909880"/>
            <a:ext cx="30956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bathro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586320" y="2421000"/>
            <a:ext cx="24159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ere can we put such furnitur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1647720"/>
            <a:ext cx="2303640" cy="1737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ofa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в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2920" y="414936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m-chair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ес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87280" y="4221000"/>
            <a:ext cx="2067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 this furniture comfortabl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able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hair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1824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 the room coz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tains on the window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шторы на ок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icture on the wall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ртина на сте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wers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в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2498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 we need such furniture and devic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rdrobe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аф для одеж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rigerator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лодиль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upboard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ф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tove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3280" y="2205000"/>
            <a:ext cx="1656000" cy="124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16000" y="3848040"/>
            <a:ext cx="2303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07:55:57Z</dcterms:created>
  <dc:creator>Customer</dc:creator>
  <dc:description/>
  <dc:language>en-US</dc:language>
  <cp:lastModifiedBy>Aleks</cp:lastModifiedBy>
  <dcterms:modified xsi:type="dcterms:W3CDTF">2008-08-13T13:24:30Z</dcterms:modified>
  <cp:revision>7</cp:revision>
  <dc:subject/>
  <dc:title>My home</dc:title>
</cp:coreProperties>
</file>