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85A-CF90-4147-89E8-A04CC518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767-D6F6-419C-995F-2C1C6699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B2B-0EB4-4BD9-AD95-3C011D9F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F59-3217-442F-986D-58F36670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729D-69E4-4DC0-972F-EAE8D57E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8ABF-E574-47E8-AC5A-B97C8921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9D57-BEF7-4E71-A8FA-B0CC56BE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0F1A-AE34-4714-A3BD-4D3E33CD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47C4-E6F7-4355-898E-05A4B831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DB37-25E6-4866-9D14-E6B7859A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354B-8889-4006-AD48-7990A3B9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F51-9A27-4C54-B5DD-23E096E0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94CE-AD69-46B4-87AD-381FFF28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5A1F-BB94-4D7D-9EEA-25AFBBBC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3DCC-20CD-469C-8A29-40DE29E5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53E4-0A81-4BF2-ABEE-784A04C4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E83F-6206-4EBD-BE7D-53932039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D1B3-3ABA-43E6-A2E6-61CA4C76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662-0441-4959-BDE9-105DA4C2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2D8-F898-4170-ACC7-F80464ED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BB3-0D12-4D26-9326-3E0A0FA4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816-DA89-4812-82C8-71B45AED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572-F23B-4A4D-A347-C8C56D5D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D27-00DA-49BC-A22F-F1FCA97E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C722-8357-4BBA-B52B-61DA4CDB4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0A7B-2B11-42E7-96A3-D5D4B4916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-mebel.com.ua/" TargetMode="External"/><Relationship Id="rId3" Type="http://schemas.openxmlformats.org/officeDocument/2006/relationships/hyperlink" Target="http://www.art-mebel.com.ua/" TargetMode="External"/><Relationship Id="rId4" Type="http://schemas.openxmlformats.org/officeDocument/2006/relationships/hyperlink" Target="http://www.art-mebel.com.ua/" TargetMode="External"/><Relationship Id="rId5" Type="http://schemas.openxmlformats.org/officeDocument/2006/relationships/hyperlink" Target="http://www.art-mebel.com.ua/" TargetMode="External"/><Relationship Id="rId6" Type="http://schemas.openxmlformats.org/officeDocument/2006/relationships/hyperlink" Target="http://www.art-mebel.com.ua/" TargetMode="External"/><Relationship Id="rId7" Type="http://schemas.openxmlformats.org/officeDocument/2006/relationships/hyperlink" Target="http://www.myinterior.info/" TargetMode="External"/><Relationship Id="rId8" Type="http://schemas.openxmlformats.org/officeDocument/2006/relationships/hyperlink" Target="http://www.myinterior.info/" TargetMode="External"/><Relationship Id="rId9" Type="http://schemas.openxmlformats.org/officeDocument/2006/relationships/hyperlink" Target="http://www.myinterior.info/" TargetMode="External"/><Relationship Id="rId10" Type="http://schemas.openxmlformats.org/officeDocument/2006/relationships/hyperlink" Target="http://www.myinterior.info/" TargetMode="External"/><Relationship Id="rId11" Type="http://schemas.openxmlformats.org/officeDocument/2006/relationships/hyperlink" Target="http://www.myinterior.info/" TargetMode="External"/><Relationship Id="rId12" Type="http://schemas.openxmlformats.org/officeDocument/2006/relationships/hyperlink" Target="http://www.elitflats.od.ua/" TargetMode="External"/><Relationship Id="rId13" Type="http://schemas.openxmlformats.org/officeDocument/2006/relationships/hyperlink" Target="http://www.elitflats.od.ua/" TargetMode="External"/><Relationship Id="rId14" Type="http://schemas.openxmlformats.org/officeDocument/2006/relationships/hyperlink" Target="http://www.elitflats.od.ua/" TargetMode="External"/><Relationship Id="rId15" Type="http://schemas.openxmlformats.org/officeDocument/2006/relationships/hyperlink" Target="http://www.elitflats.od.ua/" TargetMode="External"/><Relationship Id="rId16" Type="http://schemas.openxmlformats.org/officeDocument/2006/relationships/hyperlink" Target="http://www.elitflats.od.ua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y ho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ation of vocabu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o you have such furniture and devices at hom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all-unit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нной шка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V-set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левиз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lamp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етиль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2160720" cy="15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1607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езентация создана по материалам Интерне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art-mebel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com.ua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http://www.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myinterior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.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info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http://www.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elitflats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od.ua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kitch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52760" y="1916280"/>
            <a:ext cx="32576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living ro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95640" y="2205000"/>
            <a:ext cx="35877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bedro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e bed comfortabl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24360" y="2909880"/>
            <a:ext cx="30956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bathroo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586320" y="2421000"/>
            <a:ext cx="24159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ere can we put such furnitur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08000" y="1647720"/>
            <a:ext cx="2303640" cy="1737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48320" y="19810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ofa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ив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2920" y="414936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rm-chair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ес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87280" y="4221000"/>
            <a:ext cx="20671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s this furniture comfortabl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able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hair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18241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s the room coz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tains on the window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шторы на ок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icture on the wall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ртина на сте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wers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в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42498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o we need such furniture and devic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ardrobe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аф для одеж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rigerator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олодиль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upboard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ф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tove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и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3280" y="2205000"/>
            <a:ext cx="1656000" cy="1241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116000" y="3848040"/>
            <a:ext cx="2303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07:55:57Z</dcterms:created>
  <dc:creator>Customer</dc:creator>
  <dc:description/>
  <dc:language>en-US</dc:language>
  <cp:lastModifiedBy>Aleks</cp:lastModifiedBy>
  <dcterms:modified xsi:type="dcterms:W3CDTF">2008-08-13T13:24:30Z</dcterms:modified>
  <cp:revision>7</cp:revision>
  <dc:subject/>
  <dc:title>My home</dc:title>
</cp:coreProperties>
</file>