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BAD97-7834-4FF1-AD4D-B3554C80C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F317A-3066-4B3B-A4EB-5B37079CB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44DDC-0150-4731-B12B-675A3A0DC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E248F-A506-4080-9658-AE903DBE8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A99E9-D061-48CE-B5D6-668FAF9FA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B4F1F-0F52-4A26-B59B-82DC12D1D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142C2-5872-455D-BC6A-464574DE0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EE8FE-8418-41C8-B80B-6D298D5E0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2F24B-DF7B-4C98-8187-94E9ECF22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5A691-963B-4BB9-94FC-DA86A6B96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61A26-04E6-4EAD-90A8-C7EE3DBE6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D6567-FD82-48D3-BEF7-701CA943B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89CA4-DA90-4FE2-9D51-E8A15326A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33D86-33EF-4442-B91D-4D75CB14A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E78EF-CA70-4AFE-8486-96EF701F3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84C42-F72F-4D04-97C7-825664796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802CC-EBB0-4DD3-953B-97E26B608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E5FE1-BB4F-434E-9096-3B1C62C37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04000-B16E-4C81-852E-C0EDD11B4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557FA-7668-4FA7-BE51-620530FFE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EA874-EE3E-40F4-BE29-8C61DB3D3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579A1-BF7E-4B0E-93EB-C0DFD83F1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CB7D4-B6ED-4BB7-92A5-527813DB1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EAAB6-FD64-47F8-8175-F5870E5DA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31DB6-4436-4F84-89E2-35ED15113245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1B53E-5D44-443F-91F0-44472E32585B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Обобщение опыта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Использование личностно-ориентированного подхода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с элементами дифференцированного обучения на уроках физики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как средство  повышения качества знаний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и мотивации достижения успеха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Учителя физики МОУ-СОШ №21 г Белгород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Дорониной Елены Анатольевны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виды личностно-ориентированного подхода: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 разноуровневый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 дифференцируемый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 индивидуальный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 субъективно-личностный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cover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виды деятельности учащихся на уроке 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индивидуальная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групповая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коллективная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амостоятельная работа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cover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педагогические технологии 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Личностно-ориентированное обучение  (Якиманская  И.С.)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Технологии уровневой дифференциации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гровые технологии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Технология индивидуального обучения;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облемное обучение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оллективный способ обучения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cover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типы уроков 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роблемное изложение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эвристическая беседа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частично - поисковый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урок – исследовани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cover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этапы учебного занятия 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организационный этап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этап проверки домашнего задания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этап актуализации субъектного опыта учащихся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этап изучения новых знаний и способов деятельности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этап первичной проверки понимания изученного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этап закрепления изученного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этап применения изученного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этап обобщения и систематизации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этап контроля и самоконтроля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этап коррекции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этап информации о домашнем задании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этап подведения итогов учебного занятия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этап рефлекси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cover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Средства обучения 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Раздаточный материа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тексты разноуровневых контрольных и самостоятельных работ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тестовые задания;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варианты заданий  ЕГЭ (демонстрационные и тренировочные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систематизированная картотека с карточками для индивидуальной и дифференцированной работы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медиа-ресурсы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коллекция творческих работ     учащихс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cover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dbbd71"/>
                </a:solidFill>
                <a:latin typeface="Arial"/>
              </a:rPr>
              <a:t>3. Результативность</a:t>
            </a: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 результативность работы с применением данного опыта проводилось с   помощью как промежуточного, так и итогового контроля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обученность учащихся по физике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 мониторинг качества знаний учащихся и степени обученности по физике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участие в предметных олимпиадах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участие в конкурсах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cover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bbd71"/>
                </a:solidFill>
                <a:latin typeface="Arial"/>
              </a:rPr>
              <a:t>Обученность учащихся по физике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005/2006г : КЗ-51%, У-100%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006/2007г : КЗ-52%, У-100%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007/2008г : КЗ-56%, У-100%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cover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Результаты школьного мониторинга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Административная контрольная работа 2005г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Классы:8а,б,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КЗ:  72%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У: 100%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cover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bbd71"/>
                </a:solidFill>
                <a:latin typeface="Arial"/>
              </a:rPr>
              <a:t>Результаты промежуточной аттестации</a:t>
            </a:r>
            <a:endParaRPr b="0" lang="en-US" sz="2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006/2007г                       2007/2008г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Класс: 7а                                7б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КЗ: 53%                                   72%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У: 100%                                   100%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cover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bbd71"/>
                </a:solidFill>
                <a:latin typeface="Arial"/>
              </a:rPr>
              <a:t>1. Информация об опыте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1.Условия возникновения опыт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Определяющим условие становления опыта является создание условий содействующих совершенствованию качества знаний учащихся по физике, усиление их мотивации к изучению предмета на основе личностно-ориентированного подхода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cover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bbd71"/>
                </a:solidFill>
                <a:latin typeface="Arial"/>
              </a:rPr>
              <a:t>Рост качества знаний по классам</a:t>
            </a:r>
            <a:endParaRPr b="0" lang="en-US" sz="2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2005/2006г   классы 9 а,б,в   КЗ-46%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2006/2007г   классы 10 а,б,в КЗ- 51%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2007/2008г   классы 11 а,б,в  КЗ-60%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cover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bd71"/>
                </a:solidFill>
                <a:latin typeface="Arial"/>
              </a:rPr>
              <a:t>Итоги городских олимпиад по физике</a:t>
            </a:r>
            <a:endParaRPr b="0" lang="en-US" sz="2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2005/2006г  физическая         Михайличенко Л.  8а     4 место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2006/2007г  политехническая Сехна А.               11 а   3 место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         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шкадерова Д.    10а     4 место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физическая         Моргунова М.       10б    12 место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2007/2008г  астрономия          Кузнецов К.         11б   8 место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олитехническая Ошкадерова Д.     11а    9 место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физико-математическая Моргунова  11б   13 место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физическая           Моргунова М.      11 б  15место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cover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bd71"/>
                </a:solidFill>
                <a:latin typeface="Arial"/>
              </a:rPr>
              <a:t>Итоги участия в конкурсах</a:t>
            </a:r>
            <a:endParaRPr b="0" lang="en-US" sz="2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Ошкадерова Дарья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Учащаяся 11 «А» класс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Получила диплом </a:t>
            </a:r>
            <a:r>
              <a:rPr b="1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1 степени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участвуя в Международной конференции в г.Харькове по физике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Ошкадерова Дарья также заняла  </a:t>
            </a:r>
            <a:r>
              <a:rPr b="1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2 место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в городском конкурсе «Первые шаги в науку» в г.Белгород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cover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Итоги опыта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Анализ результатов мониторинга учащихся свидетельствует в целом о положительной динамике качества знаний и умений учащихся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у большинства учащихся сформировалась положительная мотивация к изучению предмета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озросла эффективность развития интеллектуальных и творческих способностей учащихс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cover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Итак: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пыт работы показывает, что личностно-ориентированный подход с элементами дифференцированного обучения дает положительные результат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bbd71"/>
                </a:solidFill>
                <a:latin typeface="Arial"/>
              </a:rPr>
              <a:t>1.2  Актуальность и перспективность опыта.</a:t>
            </a:r>
            <a:endParaRPr b="0" lang="en-US" sz="2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Использование личностно-ориентированного подхода с элементами дифференцированного обучения на уроках физики делает актуальной проблему совершенствования учебного процесса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 с одной стороны формируется устойчивость положительной мотиваци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 с другой стороны обеспечивает выполнение государственного стандарта физического образован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cover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bbd71"/>
                </a:solidFill>
                <a:latin typeface="Arial"/>
              </a:rPr>
              <a:t>1.3  Ведущая педагогическая идея</a:t>
            </a: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ущность опыта заключается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создании условий для творческой самореализации учащихся через внедрение различных технологий в преподавание физики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ведение в урок элементов проблемност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усилении мотивации к изучению предмета на основе личностно-ориентированного подход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bbd71"/>
                </a:solidFill>
                <a:latin typeface="Arial"/>
              </a:rPr>
              <a:t>1.4  Длительность работы над опытом.</a:t>
            </a: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этап – начальный 2005/2006уч.год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2 этап – основной 2006/2007-2007/2008уч.год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3 этап – заключительный 2008/2009уч.год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cover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bbd71"/>
                </a:solidFill>
                <a:latin typeface="Arial"/>
              </a:rPr>
              <a:t>1.5 Диапазон опыта</a:t>
            </a: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это единая система «урок - внеклассная работа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 тоже время опыт тесно взаимосвязан со школьным образовательным процессом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cover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bbd71"/>
                </a:solidFill>
                <a:latin typeface="Arial"/>
              </a:rPr>
              <a:t>1.6 Теоретическая база опыта</a:t>
            </a:r>
            <a:endParaRPr b="0" lang="en-US" sz="2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1. Идеи личностно-ориентированного подхода И.С.Якименско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ущность, структура и компоненты личностно-ориентированного подхода Е.Н.Степанов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еализация идей проблемного обучения М.И.Махмутов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еализация принципа системной дифференциации в процессе конструирования содержания предметного образования по методу В.В.Давыдова и Л.В.Занкова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cover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dbbd71"/>
                </a:solidFill>
                <a:latin typeface="Arial"/>
              </a:rPr>
              <a:t>2. Технология описания опыта.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Цел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: создание необходимых условий содействующих развитию мотивации личности школьника к изучению физике, на основе раскрытия их индивидуального потенциал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cover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bd71"/>
                </a:solidFill>
                <a:latin typeface="Arial"/>
              </a:rPr>
              <a:t>Основные задачи</a:t>
            </a:r>
            <a:r>
              <a:rPr b="0" lang="en-US" sz="2800" spc="-1" strike="noStrike">
                <a:solidFill>
                  <a:srgbClr val="dbbd71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Использование различных форм и методов организации учебной деятельности, которые позволяют раскрыть субъективный опыт ребенк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оздание атмосферы заинтересованности каждого ученика в работе класс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тимулирование учащихся к высказываниям. Использование различных способов выполнения задания без боязни ошибитьс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Использование дидактического материала, позволяющего ученику выбрать наиболее значимые для него вид и форму учебного содержан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Поощрение стремления ученика находить свой способ работы, анализировать способы работы других учеников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оздание на уроке ситуации общен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одействие реализации личностной познавательной деятельности обучаемых в процессе изучения физик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***</cp:lastModifiedBy>
  <dcterms:modified xsi:type="dcterms:W3CDTF">2009-11-04T10:00:04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