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3151-C433-439F-B172-E05F340B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E866-48D0-4F57-93B8-A77F6944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FB26-E1AC-4054-93E1-5A318AE2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DB5D-2B28-4127-A421-8F3C9975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EFF6-965F-4809-BED8-89EFAFF3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B2D6-CA08-4964-A383-00DCB2FF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2E5E-BF21-4C4F-8125-B20325C9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74CF-638B-4FF8-9765-2C577A66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8083-BB21-4C86-8338-21D2937D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8EB1-8D2A-48AB-84EB-A0C6E740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F70C-6FB2-4136-8AFA-B231E338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7F6C-FCCD-42F3-8C38-4EEC619B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B037-2E5B-4F0B-87DD-04DEECBF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4C88-F1CD-49DE-8824-90BD2AA1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1138-CDCD-4ADE-B654-39557C47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3876-4642-4BE3-A9DF-D8556D28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1915-3259-4C21-A7D9-A9755F22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E8B9-AA39-4B57-AA07-766191A7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0D9F-9539-4759-A858-4F4E9797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5549-DCF5-4C9E-8476-EF2272B3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CBFC-45DF-457C-AC36-2C4C4F56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5A27-3578-44DF-9BC0-49508ADC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87F8-B589-4E5E-B560-A0591E22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669A-446A-4FA6-AB2A-1DBD6A42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FFCE-F8EE-41BC-A5D3-CBF461984D7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BF45-9D65-40ED-81F4-8AFE54CF5DB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Обобщение опыта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Использование личностно-ориентированного подхо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с элементами дифференцированного обучения на уроках физи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как средство  повышения качества знан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и мотивации достижения успех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Учителя физики МОУ-СОШ №21 г Белгор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Дорониной Елены Анатольев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виды личностно-ориентированного подхода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разноуровневы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дифференцируемы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индивидуальны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субъективно-личностн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виды деятельности учащихся на уроке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ндивидуальна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руппова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ллективна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амостоятельная работ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едагогические технологии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ностно-ориентированное обучение  (Якиманская  И.С.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хнологии уровневой дифференциац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ровые технолог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хнология индивидуального обучения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блемное обуч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ллективный способ обучения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типы уроков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блемное излож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вристическая бесед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астично - поисковы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рок – исслед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этапы учебного занятия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рганизационный этап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ап проверки домашнего задани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ап актуализации субъектного опыта учащихс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ап изучения новых знаний и способов деятельност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ап первичной проверки понимания изученного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ап закрепления изученного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ап применения изученного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ап обобщения и систематизаци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ап контроля и самоконтрол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ап коррекци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ап информации о домашнем задани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ап подведения итогов учебного занят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этап рефлекс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редства обучения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Раздаточный материа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тексты разноуровневых контрольных и самостоятельных работ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тестовые задания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варианты заданий  ЕГЭ (демонстрационные и тренировочны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систематизированная картотека с карточками для индивидуальной и дифференцированной работ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медиа-ресурс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оллекция творческих работ     учащих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3. Результативность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 результативность работы с применением данного опыта проводилось с   помощью как промежуточного, так и итогового контрол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обученность учащихся по физик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 мониторинг качества знаний учащихся и степени обученности по физик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участие в предметных олимпиада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участие в конкурс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Обученность учащихся по физике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5/2006г : КЗ-51%, У-10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6/2007г : КЗ-52%, У-10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7/2008г : КЗ-56%, У-10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Результаты школьного мониторинг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дминистративная контрольная работа 2005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лассы:8а,б,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З:  72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: 10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Результаты промежуточной аттестации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6/2007г                       2007/2008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ласс: 7а                                7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З: 53%                                   72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: 100%                                   10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1. Информация об опыт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Условия возникновения опы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пределяющим условие становления опыта является создание условий содействующих совершенствованию качества знаний учащихся по физике, усиление их мотивации к изучению предмета на основе личностно-ориентированного подход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Рост качества знаний по классам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005/2006г   классы 9 а,б,в   КЗ-46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006/2007г   классы 10 а,б,в КЗ- 51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007/2008г   классы 11 а,б,в  КЗ-6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Итоги городских олимпиад по физике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005/2006г  физическая         Михайличенко Л.  8а     4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006/2007г  политехническая Сехна А.               11 а   3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шкадерова Д.    10а     4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зическая         Моргунова М.       10б    12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007/2008г  астрономия          Кузнецов К.         11б   8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итехническая Ошкадерова Д.     11а    9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зико-математическая Моргунова  11б   13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зическая           Моргунова М.      11 б  15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Итоги участия в конкурсах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шкадерова Дарь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чащаяся 11 «А»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лучила диплом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1 степени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участвуя в Международной конференции в г.Харькове по физик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шкадерова Дарья также заняла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2 место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в городском конкурсе «Первые шаги в науку» в г.Белгоро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Итоги опыт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нализ результатов мониторинга учащихся свидетельствует в целом о положительной динамике качества знаний и умений учащихс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 большинства учащихся сформировалась положительная мотивация к изучению предмет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зросла эффективность развития интеллектуальных и творческих способностей учащих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Итак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пыт работы показывает, что личностно-ориентированный подход с элементами дифференцированного обучения дает положительные результа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1.2  Актуальность и перспективность опыта.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ьзование личностно-ориентированного подхода с элементами дифференцированного обучения на уроках физики делает актуальной проблему совершенствования учебного процесс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с одной стороны формируется устойчивость положительной мотив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с другой стороны обеспечивает выполнение государственного стандарта физического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1.3  Ведущая педагогическая идея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ность опыта заключаетс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оздании условий для творческой самореализации учащихся через внедрение различных технологий в преподавание физи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ведение в урок элементов проблем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усилении мотивации к изучению предмета на основе личностно-ориентированного подх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1.4  Длительность работы над опытом.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ап – начальный 2005/2006уч.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этап – основной 2006/2007-2007/2008уч.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 этап – заключительный 2008/2009уч.г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1.5 Диапазон опыта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это единая система «урок - внеклассная работ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тоже время опыт тесно взаимосвязан со школьным образовательным процессо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1.6 Теоретическая база опыта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Идеи личностно-ориентированного подхода И.С.Якименс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щность, структура и компоненты личностно-ориентированного подхода Е.Н.Степан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ализация идей проблемного обучения М.И.Махмуто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ализация принципа системной дифференциации в процессе конструирования содержания предметного образования по методу В.В.Давыдова и Л.В.Занков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2. Технология описания опыта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Цел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создание необходимых условий содействующих развитию мотивации личности школьника к изучению физике, на основе раскрытия их индивидуального потенци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Основные задачи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спользование различных форм и методов организации учебной деятельности, которые позволяют раскрыть субъективный опыт реб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здание атмосферы заинтересованности каждого ученика в работе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имулирование учащихся к высказываниям. Использование различных способов выполнения задания без боязни ошибитьс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спользование дидактического материала, позволяющего ученику выбрать наиболее значимые для него вид и форму учебного содерж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ощрение стремления ученика находить свой способ работы, анализировать способы работы других учени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здание на уроке ситуации общ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действие реализации личностной познавательной деятельности обучаемых в процессе изучения физ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**</cp:lastModifiedBy>
  <dcterms:modified xsi:type="dcterms:W3CDTF">2009-11-04T10:00:0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