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0E82-399F-4A38-97E7-41CB34F90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прев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C73E-9533-46DE-B433-61149BD75C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4D2-B4D9-486F-AC53-D6A70D6A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1D7-6E6B-4804-AC50-64CF072B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0FC-057B-481E-8D9D-C76D5431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533-3864-4561-971E-D5FA6ACF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3B4-DBA5-474A-9E96-037FE910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9CD-0797-4B98-AB71-226AF7E2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178-FAA9-4DFC-87E1-FA7F4EA9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C58-F3F8-47E9-9C22-ADD47059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1A1-23C1-4061-A439-E815389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42A-2B97-45AA-B74F-03CA025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DC1-6565-4A8D-BB83-9912B23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347-E07E-46B5-91B2-67D78CF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609-D0DC-451B-BE97-6C39BDF2E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ol-collection.edu.ru/collection/organic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6312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хим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темы «Углеводороды»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ласс. УМК Габриеляна О.С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-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-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1052640"/>
          <a:ext cx="8712360" cy="510048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12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749160"/>
          </a:xfrm>
          <a:prstGeom prst="rect">
            <a:avLst/>
          </a:prstGeom>
          <a:ln w="0">
            <a:noFill/>
          </a:ln>
        </p:spPr>
      </p:pic>
      <p:grpSp>
        <p:nvGrpSpPr>
          <p:cNvPr id="50" name="Прямоугольник с двумя скругленными противолежащими углами 3"/>
          <p:cNvGrpSpPr/>
          <p:nvPr/>
        </p:nvGrpSpPr>
        <p:grpSpPr>
          <a:xfrm>
            <a:off x="324000" y="1305000"/>
            <a:ext cx="3900240" cy="2127240"/>
            <a:chOff x="324000" y="1305000"/>
            <a:chExt cx="3900240" cy="2127240"/>
          </a:xfrm>
        </p:grpSpPr>
        <p:pic>
          <p:nvPicPr>
            <p:cNvPr id="51" name="Прямоугольник с двумя скругленными противолежащими углами 3" descr=""/>
            <p:cNvPicPr/>
            <p:nvPr/>
          </p:nvPicPr>
          <p:blipFill>
            <a:blip r:embed="rId3"/>
            <a:stretch/>
          </p:blipFill>
          <p:spPr>
            <a:xfrm>
              <a:off x="324000" y="1305000"/>
              <a:ext cx="390024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93560" y="1440000"/>
              <a:ext cx="347508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нергоносители для получения света и теп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6875640" y="4292640"/>
            <a:ext cx="196848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4284720" y="2276640"/>
            <a:ext cx="2324160" cy="304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6"/>
          <a:stretch/>
        </p:blipFill>
        <p:spPr>
          <a:xfrm>
            <a:off x="468360" y="4076640"/>
            <a:ext cx="2616120" cy="2171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и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и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24000" y="1413000"/>
            <a:ext cx="84960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ны – предельные углеводороды, в молекулах которых между атомами углерода только одинарные связ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+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57120" y="3714840"/>
            <a:ext cx="4000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-Br →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57120" y="371484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718560" y="37148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2076480" y="37148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6286680" y="371484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2786760" y="3714840"/>
            <a:ext cx="8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0" y="471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ны не обесцвечивают бромную воду и перманганат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1143000" y="40719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5143680" y="4000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4.32932E-006 L 0.68784 -0.00879 E">
                                      <p:cBhvr>
                                        <p:cTn id="1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26 0.00115 L 0.44219 0.00115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54209E-006 L 0.36025 -4.54209E-006 E">
                                      <p:cBhvr>
                                        <p:cTn id="1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54209E-006 L 0.51979 -0.0104 E">
                                      <p:cBhvr>
                                        <p:cTn id="2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"/>
          <p:cNvSpPr/>
          <p:nvPr/>
        </p:nvSpPr>
        <p:spPr>
          <a:xfrm>
            <a:off x="250920" y="1197000"/>
            <a:ext cx="856908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ы – непредельные углеводороды, в молекулах которых между атомами углерода кроме одинарных  одна двойная связ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68360" y="3933720"/>
            <a:ext cx="468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-Br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5105520" y="3929040"/>
            <a:ext cx="3280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Прямоугольник 9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2"/>
          <p:cNvSpPr/>
          <p:nvPr/>
        </p:nvSpPr>
        <p:spPr>
          <a:xfrm>
            <a:off x="250920" y="1268280"/>
            <a:ext cx="86421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ы – непредельные углеводороды, в молекулах которых между атомами углерода кроме одинарных  одна двойн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50920" y="3645000"/>
            <a:ext cx="48927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]+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5072040" y="3645000"/>
            <a:ext cx="407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9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250920" y="1197000"/>
            <a:ext cx="86421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ны – непредельные углеводороды, в молекулах которых между атомами углерода кроме одинарных  одна тройн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-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395280" y="3643200"/>
            <a:ext cx="8748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-Br →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10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179280" y="1197000"/>
            <a:ext cx="871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ы – ароматические углеводороды, в молекулах которых между атомами углерода особая ароматическ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-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0" y="3643200"/>
            <a:ext cx="9144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све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8"/>
          <p:cNvCxnSpPr/>
          <p:nvPr/>
        </p:nvCxnSpPr>
        <p:spPr>
          <a:xfrm>
            <a:off x="4642920" y="407196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3" name="Прямоугольник 9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250920" y="1125360"/>
            <a:ext cx="86421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ы – ароматические углеводороды, в молекулах которых между атомами углерода особая ароматическ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-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0" y="3643200"/>
            <a:ext cx="9144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ка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 + HBr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8"/>
          <p:cNvCxnSpPr/>
          <p:nvPr/>
        </p:nvCxnSpPr>
        <p:spPr>
          <a:xfrm>
            <a:off x="3857760" y="4071960"/>
            <a:ext cx="7149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7" name="Прямоугольник 10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"/>
          <p:cNvSpPr/>
          <p:nvPr/>
        </p:nvSpPr>
        <p:spPr>
          <a:xfrm>
            <a:off x="179280" y="1125360"/>
            <a:ext cx="871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ы – ароматические углеводороды, в молекулах которых между атомами углерода особая ароматическ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-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0" y="3860640"/>
            <a:ext cx="9144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-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С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8"/>
          <p:cNvCxnSpPr/>
          <p:nvPr/>
        </p:nvCxnSpPr>
        <p:spPr>
          <a:xfrm>
            <a:off x="4071960" y="4071960"/>
            <a:ext cx="7149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Box 7"/>
          <p:cNvSpPr/>
          <p:nvPr/>
        </p:nvSpPr>
        <p:spPr>
          <a:xfrm>
            <a:off x="3924360" y="3500280"/>
            <a:ext cx="11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2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Скругленный прямоугольник 2"/>
          <p:cNvGrpSpPr/>
          <p:nvPr/>
        </p:nvGrpSpPr>
        <p:grpSpPr>
          <a:xfrm>
            <a:off x="334800" y="1481040"/>
            <a:ext cx="4492800" cy="1719360"/>
            <a:chOff x="334800" y="1481040"/>
            <a:chExt cx="4492800" cy="1719360"/>
          </a:xfrm>
        </p:grpSpPr>
        <p:pic>
          <p:nvPicPr>
            <p:cNvPr id="144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34800" y="1481040"/>
              <a:ext cx="449280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1600" y="1633680"/>
              <a:ext cx="4205160" cy="14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ность атомов углерода образовывать различные цепи: линейные, разветвленные, замкнут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5"/>
          <p:cNvGrpSpPr/>
          <p:nvPr/>
        </p:nvGrpSpPr>
        <p:grpSpPr>
          <a:xfrm>
            <a:off x="1865160" y="3139920"/>
            <a:ext cx="4407120" cy="2028960"/>
            <a:chOff x="1865160" y="3139920"/>
            <a:chExt cx="4407120" cy="2028960"/>
          </a:xfrm>
        </p:grpSpPr>
        <p:pic>
          <p:nvPicPr>
            <p:cNvPr id="14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865160" y="3139920"/>
              <a:ext cx="44071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016000" y="3373560"/>
              <a:ext cx="411192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зование между атомами углерода одинарных, двойных, тройных, ароматических связ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6"/>
          <p:cNvGrpSpPr/>
          <p:nvPr/>
        </p:nvGrpSpPr>
        <p:grpSpPr>
          <a:xfrm>
            <a:off x="4084560" y="5175360"/>
            <a:ext cx="4114800" cy="1328760"/>
            <a:chOff x="4084560" y="5175360"/>
            <a:chExt cx="4114800" cy="1328760"/>
          </a:xfrm>
        </p:grpSpPr>
        <p:pic>
          <p:nvPicPr>
            <p:cNvPr id="15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84560" y="5175360"/>
              <a:ext cx="41148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02280" y="5273640"/>
              <a:ext cx="38829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вление гомологии и изомер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Прямоугольник 7" descr=""/>
          <p:cNvPicPr/>
          <p:nvPr/>
        </p:nvPicPr>
        <p:blipFill>
          <a:blip r:embed="rId5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749160"/>
          </a:xfrm>
          <a:prstGeom prst="rect">
            <a:avLst/>
          </a:prstGeom>
          <a:ln w="0">
            <a:noFill/>
          </a:ln>
        </p:spPr>
      </p:pic>
      <p:grpSp>
        <p:nvGrpSpPr>
          <p:cNvPr id="57" name="Прямоугольник с двумя скругленными противолежащими углами 7"/>
          <p:cNvGrpSpPr/>
          <p:nvPr/>
        </p:nvGrpSpPr>
        <p:grpSpPr>
          <a:xfrm>
            <a:off x="189000" y="1090440"/>
            <a:ext cx="3792600" cy="2122560"/>
            <a:chOff x="189000" y="1090440"/>
            <a:chExt cx="3792600" cy="2122560"/>
          </a:xfrm>
        </p:grpSpPr>
        <p:pic>
          <p:nvPicPr>
            <p:cNvPr id="5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89000" y="1090440"/>
              <a:ext cx="379260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49200" y="1222200"/>
              <a:ext cx="347652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ырье для производства органических соединений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Скругленный прямоугольник 14"/>
          <p:cNvSpPr/>
          <p:nvPr/>
        </p:nvSpPr>
        <p:spPr>
          <a:xfrm>
            <a:off x="395280" y="3645000"/>
            <a:ext cx="2448000" cy="12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539640" y="386064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ластмассы и кауч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6"/>
          <p:cNvSpPr/>
          <p:nvPr/>
        </p:nvSpPr>
        <p:spPr>
          <a:xfrm>
            <a:off x="755640" y="5229360"/>
            <a:ext cx="2448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7"/>
          <p:cNvSpPr/>
          <p:nvPr/>
        </p:nvSpPr>
        <p:spPr>
          <a:xfrm>
            <a:off x="3419640" y="4076640"/>
            <a:ext cx="2447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8"/>
          <p:cNvSpPr/>
          <p:nvPr/>
        </p:nvSpPr>
        <p:spPr>
          <a:xfrm>
            <a:off x="6300720" y="5157720"/>
            <a:ext cx="24480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9"/>
          <p:cNvSpPr/>
          <p:nvPr/>
        </p:nvSpPr>
        <p:spPr>
          <a:xfrm>
            <a:off x="6156360" y="2997360"/>
            <a:ext cx="2448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0"/>
          <p:cNvSpPr/>
          <p:nvPr/>
        </p:nvSpPr>
        <p:spPr>
          <a:xfrm>
            <a:off x="4788000" y="1268280"/>
            <a:ext cx="244800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1116000" y="551664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реон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3708360" y="4292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ксусный 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4859280" y="1700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створ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6372360" y="3141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Этилов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6588000" y="5445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ен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ы формулы углеводородов:   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CH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=C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=C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H-CH=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Шестиугольник 2" descr=""/>
          <p:cNvPicPr/>
          <p:nvPr/>
        </p:nvPicPr>
        <p:blipFill>
          <a:blip r:embed="rId2"/>
          <a:stretch/>
        </p:blipFill>
        <p:spPr>
          <a:xfrm>
            <a:off x="3328920" y="1255680"/>
            <a:ext cx="693720" cy="981000"/>
          </a:xfrm>
          <a:prstGeom prst="rect">
            <a:avLst/>
          </a:prstGeom>
          <a:ln w="0">
            <a:noFill/>
          </a:ln>
        </p:spPr>
      </p:pic>
      <p:sp>
        <p:nvSpPr>
          <p:cNvPr id="155" name="Блок-схема: узел 3"/>
          <p:cNvSpPr/>
          <p:nvPr/>
        </p:nvSpPr>
        <p:spPr>
          <a:xfrm>
            <a:off x="3500280" y="1571760"/>
            <a:ext cx="357480" cy="357120"/>
          </a:xfrm>
          <a:prstGeom prst="flowChartConnector">
            <a:avLst/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0" y="221472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берите формулу (формулы), соответствующую типу, классу углеводор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епредельные 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0" y="3214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) ал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0" y="3571920"/>
            <a:ext cx="91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ещество (вещества), состав которого соответствует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0" y="428616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молог вещества с формулой 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0" y="46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омер  вещества с формулой ж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0" y="507204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омеры вещества с формулой 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0" y="550080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ещества, вступающие в реакцию с хлором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0" y="592920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ещества, обесцвечивающие бромную воду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0" y="628668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ещества, вступающие в реакции присоединения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3643200" y="27860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д) е) з) 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1428840" y="3214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б)в)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643120" y="32148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лке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3786120" y="321480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8"/>
          <p:cNvSpPr/>
          <p:nvPr/>
        </p:nvSpPr>
        <p:spPr>
          <a:xfrm>
            <a:off x="4357800" y="321480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алкадие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5929200" y="3143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357960" y="321480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алки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7500960" y="3143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)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23"/>
          <p:cNvSpPr/>
          <p:nvPr/>
        </p:nvSpPr>
        <p:spPr>
          <a:xfrm>
            <a:off x="1285920" y="142884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25"/>
          <p:cNvSpPr/>
          <p:nvPr/>
        </p:nvSpPr>
        <p:spPr>
          <a:xfrm>
            <a:off x="857160" y="17859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9"/>
          <p:cNvSpPr/>
          <p:nvPr/>
        </p:nvSpPr>
        <p:spPr>
          <a:xfrm>
            <a:off x="1428840" y="38577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б)в)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0"/>
          <p:cNvSpPr/>
          <p:nvPr/>
        </p:nvSpPr>
        <p:spPr>
          <a:xfrm>
            <a:off x="2571840" y="3857760"/>
            <a:ext cx="1714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- 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1"/>
          <p:cNvSpPr/>
          <p:nvPr/>
        </p:nvSpPr>
        <p:spPr>
          <a:xfrm>
            <a:off x="400068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/>
          <p:cNvSpPr/>
          <p:nvPr/>
        </p:nvSpPr>
        <p:spPr>
          <a:xfrm>
            <a:off x="4525560" y="3857760"/>
            <a:ext cx="122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4"/>
          <p:cNvSpPr/>
          <p:nvPr/>
        </p:nvSpPr>
        <p:spPr>
          <a:xfrm>
            <a:off x="6429240" y="3857760"/>
            <a:ext cx="150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- 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5"/>
          <p:cNvSpPr/>
          <p:nvPr/>
        </p:nvSpPr>
        <p:spPr>
          <a:xfrm>
            <a:off x="5715000" y="37861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7786800" y="3786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) з) 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7"/>
          <p:cNvSpPr/>
          <p:nvPr/>
        </p:nvSpPr>
        <p:spPr>
          <a:xfrm>
            <a:off x="4286160" y="42148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428616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4572000" y="50007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) 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5572080" y="5429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д) е) з) к) 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1"/>
          <p:cNvSpPr/>
          <p:nvPr/>
        </p:nvSpPr>
        <p:spPr>
          <a:xfrm>
            <a:off x="5715000" y="5857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д) е) з) к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2"/>
          <p:cNvSpPr/>
          <p:nvPr/>
        </p:nvSpPr>
        <p:spPr>
          <a:xfrm>
            <a:off x="6429240" y="62866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д) е) з) к) 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Скругленный прямоугольник 2"/>
          <p:cNvGrpSpPr/>
          <p:nvPr/>
        </p:nvGrpSpPr>
        <p:grpSpPr>
          <a:xfrm>
            <a:off x="298440" y="1609560"/>
            <a:ext cx="2182680" cy="1109880"/>
            <a:chOff x="298440" y="1609560"/>
            <a:chExt cx="2182680" cy="1109880"/>
          </a:xfrm>
        </p:grpSpPr>
        <p:pic>
          <p:nvPicPr>
            <p:cNvPr id="18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1609560"/>
              <a:ext cx="21826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06440" y="1692360"/>
              <a:ext cx="197316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кади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- 2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Скругленный прямоугольник 3"/>
          <p:cNvGrpSpPr/>
          <p:nvPr/>
        </p:nvGrpSpPr>
        <p:grpSpPr>
          <a:xfrm>
            <a:off x="3511440" y="1609560"/>
            <a:ext cx="1974960" cy="1109880"/>
            <a:chOff x="3511440" y="1609560"/>
            <a:chExt cx="1974960" cy="1109880"/>
          </a:xfrm>
        </p:grpSpPr>
        <p:pic>
          <p:nvPicPr>
            <p:cNvPr id="19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511440" y="1609560"/>
              <a:ext cx="19749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621240" y="1692360"/>
              <a:ext cx="175896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ка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+ 2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Скругленный прямоугольник 4"/>
          <p:cNvGrpSpPr/>
          <p:nvPr/>
        </p:nvGrpSpPr>
        <p:grpSpPr>
          <a:xfrm>
            <a:off x="6583320" y="1609560"/>
            <a:ext cx="1974960" cy="1109880"/>
            <a:chOff x="6583320" y="1609560"/>
            <a:chExt cx="1974960" cy="1109880"/>
          </a:xfrm>
        </p:grpSpPr>
        <p:pic>
          <p:nvPicPr>
            <p:cNvPr id="195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583320" y="1609560"/>
              <a:ext cx="19749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692760" y="1692360"/>
              <a:ext cx="175896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р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- 6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5"/>
          <p:cNvGrpSpPr/>
          <p:nvPr/>
        </p:nvGrpSpPr>
        <p:grpSpPr>
          <a:xfrm>
            <a:off x="1511280" y="4108320"/>
            <a:ext cx="1970280" cy="1109880"/>
            <a:chOff x="1511280" y="4108320"/>
            <a:chExt cx="1970280" cy="1109880"/>
          </a:xfrm>
        </p:grpSpPr>
        <p:pic>
          <p:nvPicPr>
            <p:cNvPr id="198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511280" y="4108320"/>
              <a:ext cx="19702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620720" y="4192560"/>
              <a:ext cx="17589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к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6"/>
          <p:cNvGrpSpPr/>
          <p:nvPr/>
        </p:nvGrpSpPr>
        <p:grpSpPr>
          <a:xfrm>
            <a:off x="5510160" y="4108320"/>
            <a:ext cx="1976400" cy="1109880"/>
            <a:chOff x="5510160" y="4108320"/>
            <a:chExt cx="1976400" cy="1109880"/>
          </a:xfrm>
        </p:grpSpPr>
        <p:pic>
          <p:nvPicPr>
            <p:cNvPr id="201" name="Скругленный 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5510160" y="4108320"/>
              <a:ext cx="19764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621400" y="4192560"/>
              <a:ext cx="17589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к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- 2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Двойная стрелка влево/вправо 7"/>
          <p:cNvGrpSpPr/>
          <p:nvPr/>
        </p:nvGrpSpPr>
        <p:grpSpPr>
          <a:xfrm>
            <a:off x="2584440" y="2036880"/>
            <a:ext cx="828720" cy="322200"/>
            <a:chOff x="2584440" y="2036880"/>
            <a:chExt cx="828720" cy="322200"/>
          </a:xfrm>
        </p:grpSpPr>
        <p:pic>
          <p:nvPicPr>
            <p:cNvPr id="204" name="Двойная стрелка влево/вправо 7" descr=""/>
            <p:cNvPicPr/>
            <p:nvPr/>
          </p:nvPicPr>
          <p:blipFill>
            <a:blip r:embed="rId7"/>
            <a:stretch/>
          </p:blipFill>
          <p:spPr>
            <a:xfrm>
              <a:off x="2584440" y="2036880"/>
              <a:ext cx="8287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697120" y="2125800"/>
              <a:ext cx="6066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Двойная стрелка влево/вправо 8"/>
          <p:cNvGrpSpPr/>
          <p:nvPr/>
        </p:nvGrpSpPr>
        <p:grpSpPr>
          <a:xfrm>
            <a:off x="5583240" y="2036880"/>
            <a:ext cx="830160" cy="322200"/>
            <a:chOff x="5583240" y="2036880"/>
            <a:chExt cx="830160" cy="322200"/>
          </a:xfrm>
        </p:grpSpPr>
        <p:pic>
          <p:nvPicPr>
            <p:cNvPr id="207" name="Двойная стрелка влево/вправо 8" descr=""/>
            <p:cNvPicPr/>
            <p:nvPr/>
          </p:nvPicPr>
          <p:blipFill>
            <a:blip r:embed="rId8"/>
            <a:stretch/>
          </p:blipFill>
          <p:spPr>
            <a:xfrm>
              <a:off x="5583240" y="2036880"/>
              <a:ext cx="8301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697360" y="2125800"/>
              <a:ext cx="6066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Двойная стрелка влево/вправо 9"/>
          <p:cNvGrpSpPr/>
          <p:nvPr/>
        </p:nvGrpSpPr>
        <p:grpSpPr>
          <a:xfrm>
            <a:off x="3584520" y="4535640"/>
            <a:ext cx="1616040" cy="396720"/>
            <a:chOff x="3584520" y="4535640"/>
            <a:chExt cx="1616040" cy="396720"/>
          </a:xfrm>
        </p:grpSpPr>
        <p:pic>
          <p:nvPicPr>
            <p:cNvPr id="210" name="Двойная стрелка влево/вправо 9" descr=""/>
            <p:cNvPicPr/>
            <p:nvPr/>
          </p:nvPicPr>
          <p:blipFill>
            <a:blip r:embed="rId9"/>
            <a:stretch/>
          </p:blipFill>
          <p:spPr>
            <a:xfrm>
              <a:off x="3584520" y="4535640"/>
              <a:ext cx="1616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714840" y="4643280"/>
              <a:ext cx="1357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Двойная стрелка влево/вправо 10"/>
          <p:cNvGrpSpPr/>
          <p:nvPr/>
        </p:nvGrpSpPr>
        <p:grpSpPr>
          <a:xfrm>
            <a:off x="3097080" y="2783880"/>
            <a:ext cx="1011240" cy="1349640"/>
            <a:chOff x="3097080" y="2783880"/>
            <a:chExt cx="1011240" cy="1349640"/>
          </a:xfrm>
        </p:grpSpPr>
        <p:pic>
          <p:nvPicPr>
            <p:cNvPr id="213" name="Двойная стрелка влево/вправо 10" descr=""/>
            <p:cNvPicPr/>
            <p:nvPr/>
          </p:nvPicPr>
          <p:blipFill>
            <a:blip r:embed="rId10"/>
            <a:stretch/>
          </p:blipFill>
          <p:spPr>
            <a:xfrm>
              <a:off x="3097080" y="2783880"/>
              <a:ext cx="1011240" cy="13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7379400">
              <a:off x="2937960" y="3365280"/>
              <a:ext cx="1339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Двойная стрелка влево/вправо 12"/>
          <p:cNvGrpSpPr/>
          <p:nvPr/>
        </p:nvGrpSpPr>
        <p:grpSpPr>
          <a:xfrm>
            <a:off x="1463760" y="2651040"/>
            <a:ext cx="566640" cy="1451160"/>
            <a:chOff x="1463760" y="2651040"/>
            <a:chExt cx="566640" cy="1451160"/>
          </a:xfrm>
        </p:grpSpPr>
        <p:pic>
          <p:nvPicPr>
            <p:cNvPr id="216" name="Двойная стрелка влево/вправо 12" descr=""/>
            <p:cNvPicPr/>
            <p:nvPr/>
          </p:nvPicPr>
          <p:blipFill>
            <a:blip r:embed="rId11"/>
            <a:stretch/>
          </p:blipFill>
          <p:spPr>
            <a:xfrm>
              <a:off x="1463760" y="2651040"/>
              <a:ext cx="56664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4830600">
              <a:off x="1143000" y="3285000"/>
              <a:ext cx="1214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Стрелка углом вверх 13"/>
          <p:cNvGrpSpPr/>
          <p:nvPr/>
        </p:nvGrpSpPr>
        <p:grpSpPr>
          <a:xfrm>
            <a:off x="7461360" y="3029040"/>
            <a:ext cx="695160" cy="1834920"/>
            <a:chOff x="7461360" y="3029040"/>
            <a:chExt cx="695160" cy="1834920"/>
          </a:xfrm>
        </p:grpSpPr>
        <p:pic>
          <p:nvPicPr>
            <p:cNvPr id="219" name="Стрелка углом вверх 13" descr=""/>
            <p:cNvPicPr/>
            <p:nvPr/>
          </p:nvPicPr>
          <p:blipFill>
            <a:blip r:embed="rId12"/>
            <a:stretch/>
          </p:blipFill>
          <p:spPr>
            <a:xfrm>
              <a:off x="7461360" y="3029040"/>
              <a:ext cx="69516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524720" y="4649760"/>
              <a:ext cx="503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Прямоугольник 14" descr=""/>
          <p:cNvPicPr/>
          <p:nvPr/>
        </p:nvPicPr>
        <p:blipFill>
          <a:blip r:embed="rId13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2"/>
          <p:cNvSpPr/>
          <p:nvPr/>
        </p:nvSpPr>
        <p:spPr>
          <a:xfrm>
            <a:off x="250920" y="620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 → этилен → ацетилен → бензо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179280" y="112536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716360" y="148428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 → ацетилен → этан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4716360" y="1916280"/>
            <a:ext cx="421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250920" y="1773360"/>
            <a:ext cx="421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250920" y="2349360"/>
            <a:ext cx="307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250920" y="2924280"/>
            <a:ext cx="292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539640" y="3429000"/>
            <a:ext cx="65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овый спирт →  этилен → 1,2 - дибромэ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4643280" y="4869000"/>
            <a:ext cx="421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4643280" y="5373720"/>
            <a:ext cx="428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539640" y="5805360"/>
            <a:ext cx="51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5003640" y="2421000"/>
            <a:ext cx="39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4932360" y="2924280"/>
            <a:ext cx="40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179280" y="4437000"/>
            <a:ext cx="7056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Прямоугольник 16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749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 Габриелян. Учебник для общеобразовательных учреждений. ХИМИЯ. Базовый уровень. 10 класс.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Дрофа, 200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. Габриелян, И. Г. Остроумов. Химия 10 класс: Настольная книга учителя. – М.: Дрофа, 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. Габриелян, А. В. Яшуков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. 10 класс. Базовый уровень. Методическое пособие. –  М.: Дрофа,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-collection.edu.ru/collection/organic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1125360"/>
          <a:ext cx="8712000" cy="5170680"/>
        </p:xfrm>
        <a:graphic>
          <a:graphicData uri="http://schemas.openxmlformats.org/drawingml/2006/table">
            <a:tbl>
              <a:tblPr/>
              <a:tblGrid>
                <a:gridCol w="1452600"/>
                <a:gridCol w="1450800"/>
                <a:gridCol w="1316160"/>
                <a:gridCol w="1701720"/>
                <a:gridCol w="1339920"/>
                <a:gridCol w="1450800"/>
              </a:tblGrid>
              <a:tr h="4100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052640"/>
          <a:ext cx="871200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0800"/>
                <a:gridCol w="1316160"/>
                <a:gridCol w="1701720"/>
                <a:gridCol w="1339920"/>
                <a:gridCol w="145080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125360"/>
          <a:ext cx="8712360" cy="517068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100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1052640"/>
          <a:ext cx="871200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0800"/>
                <a:gridCol w="1316160"/>
                <a:gridCol w="1701720"/>
                <a:gridCol w="1339920"/>
                <a:gridCol w="145080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-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9:02:52Z</dcterms:created>
  <dc:creator>Ирина Викторовна</dc:creator>
  <dc:description/>
  <dc:language>en-US</dc:language>
  <cp:lastModifiedBy>Home</cp:lastModifiedBy>
  <dcterms:modified xsi:type="dcterms:W3CDTF">2012-12-19T17:58:22Z</dcterms:modified>
  <cp:revision>51</cp:revision>
  <dc:subject/>
  <dc:title>Слайд 1</dc:title>
</cp:coreProperties>
</file>