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114-B41E-4BAD-A06B-79D78781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62F-CE9D-4621-BA6B-F41781DE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B75-8D05-42F1-AEFF-5A5A4C4F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D6E-46FC-409E-B78F-EE1687C3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42A-2042-4FE6-8889-E334E33F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5EF-5752-4EEC-8670-916FEAB8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BC7-B1B5-4988-954D-EE0F6DB6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2391-1F4F-4AB1-B38F-48CCABC1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068-4D56-4671-BD61-64D23710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569-A80A-462F-AA3B-2B26C0CC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E46-2214-4766-939B-8EE08E64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94D-EC21-4DE3-AB94-09C56CAB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5F88-9605-4974-8D26-EBF224FCF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hegepe33.narod.ru/content/minerals/kvarc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mineraly.ru/img/catalog/06/t_01_40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Окси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Определение, состав, номенклатура, классификация и структурные форм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87280" y="765000"/>
            <a:ext cx="8856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Назовите следующие оксиды: а) СаО, б)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S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, в) А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l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, г) М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7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 М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, д) С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 С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: а) оксид кальц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оксид сер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оксид се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оксид алюми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оксид марганц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оксид марганц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оксид хром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оксид хром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773360"/>
            <a:ext cx="3240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Edwardian Script ITC"/>
              </a:rPr>
              <a:t>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9999995231628">
                                      <p:cBhvr additive="repl">
                                        <p:cTn id="107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9999995231628">
                                      <p:cBhvr additive="repl">
                                        <p:cTn id="109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9999995231628">
                                      <p:cBhvr additive="repl">
                                        <p:cTn id="111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9999995231628">
                                      <p:cBhvr additive="repl">
                                        <p:cTn id="113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9999995231628">
                                      <p:cBhvr additive="repl">
                                        <p:cTn id="115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3745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Edwardian Script ITC"/>
              </a:rPr>
              <a:t>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424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оставьте молекулярные и структурные формулы указанных оксид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а) оксид кал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б) оксид бар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) оксид серы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I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40000" y="3141720"/>
            <a:ext cx="4464000" cy="2519280"/>
            <a:chOff x="2340000" y="3141720"/>
            <a:chExt cx="4464000" cy="2519280"/>
          </a:xfrm>
        </p:grpSpPr>
        <p:sp>
          <p:nvSpPr>
            <p:cNvPr id="95" name=""/>
            <p:cNvSpPr/>
            <p:nvPr/>
          </p:nvSpPr>
          <p:spPr>
            <a:xfrm>
              <a:off x="2340000" y="3141720"/>
              <a:ext cx="4464000" cy="2519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веты: а) К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     К     О      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 ВаО    Ва       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О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148360" y="3717720"/>
              <a:ext cx="1366920" cy="1007280"/>
              <a:chOff x="5148360" y="3717720"/>
              <a:chExt cx="1366920" cy="1007280"/>
            </a:xfrm>
          </p:grpSpPr>
          <p:sp>
            <p:nvSpPr>
              <p:cNvPr id="97" name=""/>
              <p:cNvSpPr/>
              <p:nvPr/>
            </p:nvSpPr>
            <p:spPr>
              <a:xfrm>
                <a:off x="5148360" y="37177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651640" y="37177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5292720" y="4004640"/>
                <a:ext cx="35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292720" y="4077720"/>
                <a:ext cx="3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08720" y="42937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08720" y="42220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85080" y="429372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83280" y="422208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40360" y="4365000"/>
                <a:ext cx="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012000" y="4365000"/>
                <a:ext cx="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3645000"/>
            <a:ext cx="748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овая доля элемента рассчитывается по формул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) = Ar (O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M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74320"/>
            <a:ext cx="5834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Edwardian Script ITC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Не производя вычислений, скажите, в каком из оксидов массовая доля кислорода больш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) H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; 2) Li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0; 3) Сu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; 4) Аg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660066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27280" y="3933720"/>
                <a:ext cx="57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140360" y="3933720"/>
                <a:ext cx="5745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п.25, стр. 84 задания 4, 5 пись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ыучить 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оставить задания на карточке для д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Вода Н</a:t>
            </a:r>
            <a:r>
              <a:rPr b="1" i="1" lang="en-US" sz="32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О – оксид вод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6481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В атмосфере нашей планеты вода находится в виде капель малого размера, в облаках и тумане, а также в виде пара. При конденсации выводится из атмосферы в виде атмосферных осадков (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дождь, снег, град, роса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). В совокупности жидкая водная оболочка Земли называется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гидросферой.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Вода является важнейшим веществом всех живых организмов на Земле.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Предположительно, зарождение жизни на Земле произошло в водной среде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В природе происходит непрерывный круговорот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04000" y="1268280"/>
            <a:ext cx="2232000" cy="1622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223200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804000" y="4941720"/>
            <a:ext cx="2232000" cy="1681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35280" y="6021360"/>
            <a:ext cx="1368360" cy="620640"/>
          </a:xfrm>
          <a:prstGeom prst="leftArrow">
            <a:avLst>
              <a:gd name="adj1" fmla="val 50000"/>
              <a:gd name="adj2" fmla="val 551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Углекислый газ (диоксид углерода) СО</a:t>
            </a:r>
            <a:r>
              <a:rPr b="1" i="1" lang="ru-RU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– </a:t>
            </a: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оксид углерода (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1" i="1" lang="tt-RU" sz="24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67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Углекислый газ образуется в процессе сжигания угля или углеводородных соединений, при гниении растительных и животных остатков, а также как продукт дыхания людей и животных. В небольших количествах он содержится и в атмосфере, откуда он ассимилируется растениями, которые, в свою очередь, производят кислор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Углекислый газ бесцветен и тяжелее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Он не пригоден для поддержания жизни.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Углекислый газ замерзает при температуре −78.5°C с образованием снега, состоящего из двуокиси угле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020000" y="907920"/>
            <a:ext cx="2016000" cy="1679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20000" y="2708280"/>
            <a:ext cx="2016000" cy="160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020000" y="4508640"/>
            <a:ext cx="2016000" cy="144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093080" y="6093000"/>
            <a:ext cx="1368360" cy="620640"/>
          </a:xfrm>
          <a:prstGeom prst="leftArrow">
            <a:avLst>
              <a:gd name="adj1" fmla="val 50000"/>
              <a:gd name="adj2" fmla="val 551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84360" y="274320"/>
            <a:ext cx="5183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Оксид кремния (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IV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)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Si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О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16360" y="907920"/>
            <a:ext cx="5976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Диоксид кремния — главный компонент почти всех земных горных пород. Из кремнезёма и силикатов состоит 87% массы лито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Аморфный непористый диоксид кремния применяется 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в пищевой промышленности в качестве вспомогательного вещества E551,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 препятствующего слёживанию и комкованию, фармацевтике (зубные пасты), а также пищевой добавки или лекарственного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Искусственно полученные плёнки диоксида кремния используются в качестве изолятора при производстве микросхем и других электронных компон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Картинка 4 из 4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692280"/>
            <a:ext cx="2914560" cy="3024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Картинка 216 из 4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8000" y="3789360"/>
            <a:ext cx="2879640" cy="2279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35280" y="6093000"/>
            <a:ext cx="1368360" cy="620640"/>
          </a:xfrm>
          <a:prstGeom prst="leftArrow">
            <a:avLst>
              <a:gd name="adj1" fmla="val 50000"/>
              <a:gd name="adj2" fmla="val 551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1673280"/>
                <a:gridCol w="1911240"/>
                <a:gridCol w="1790640"/>
                <a:gridCol w="1806840"/>
                <a:gridCol w="196200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азвание окс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Химическая формула окс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Агрегатн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Температура плавления (</a:t>
                      </a:r>
                      <a:r>
                        <a:rPr b="1" lang="ru-RU" sz="1600" spc="-1" strike="noStrike" baseline="30000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меди (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ерд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че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маг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ерд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железа (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ерд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расно - коричн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крем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ерд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есцве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углерода (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О</a:t>
                      </a:r>
                      <a:r>
                        <a:rPr b="1" lang="en-US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газообраз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есцве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 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да (оксид водоро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en-US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жид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есцве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азота (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газообраз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расно - бур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-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180px-CopperIIoxide" descr=""/>
          <p:cNvPicPr/>
          <p:nvPr/>
        </p:nvPicPr>
        <p:blipFill>
          <a:blip r:embed="rId1"/>
          <a:srcRect l="-362" t="4613" r="409" b="27416"/>
          <a:stretch/>
        </p:blipFill>
        <p:spPr>
          <a:xfrm>
            <a:off x="8388360" y="1049400"/>
            <a:ext cx="755640" cy="703080"/>
          </a:xfrm>
          <a:prstGeom prst="rect">
            <a:avLst/>
          </a:prstGeom>
          <a:ln w="0">
            <a:noFill/>
          </a:ln>
        </p:spPr>
      </p:pic>
      <p:pic>
        <p:nvPicPr>
          <p:cNvPr id="44" name="100px-Diossido_di_azoto" descr="Оксид азота(IV): структура"/>
          <p:cNvPicPr/>
          <p:nvPr/>
        </p:nvPicPr>
        <p:blipFill>
          <a:blip r:embed="rId2"/>
          <a:stretch/>
        </p:blipFill>
        <p:spPr>
          <a:xfrm>
            <a:off x="8172360" y="612936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45" name="180px-2006-01-28_Drop-impact" descr=""/>
          <p:cNvPicPr/>
          <p:nvPr/>
        </p:nvPicPr>
        <p:blipFill>
          <a:blip r:embed="rId3"/>
          <a:stretch/>
        </p:blipFill>
        <p:spPr>
          <a:xfrm>
            <a:off x="8028000" y="5300640"/>
            <a:ext cx="826920" cy="801720"/>
          </a:xfrm>
          <a:prstGeom prst="rect">
            <a:avLst/>
          </a:prstGeom>
          <a:ln w="0">
            <a:noFill/>
          </a:ln>
        </p:spPr>
      </p:pic>
      <p:pic>
        <p:nvPicPr>
          <p:cNvPr id="46" name="250px-Quartz_Crystal" descr=""/>
          <p:cNvPicPr/>
          <p:nvPr/>
        </p:nvPicPr>
        <p:blipFill>
          <a:blip r:embed="rId4"/>
          <a:stretch/>
        </p:blipFill>
        <p:spPr>
          <a:xfrm>
            <a:off x="8101080" y="3554280"/>
            <a:ext cx="1042920" cy="698760"/>
          </a:xfrm>
          <a:prstGeom prst="rect">
            <a:avLst/>
          </a:prstGeom>
          <a:ln w="0">
            <a:noFill/>
          </a:ln>
        </p:spPr>
      </p:pic>
      <p:pic>
        <p:nvPicPr>
          <p:cNvPr id="47" name="235px-Hematite" descr=""/>
          <p:cNvPicPr/>
          <p:nvPr/>
        </p:nvPicPr>
        <p:blipFill>
          <a:blip r:embed="rId5"/>
          <a:stretch/>
        </p:blipFill>
        <p:spPr>
          <a:xfrm>
            <a:off x="8101080" y="2492280"/>
            <a:ext cx="1042920" cy="1003320"/>
          </a:xfrm>
          <a:prstGeom prst="rect">
            <a:avLst/>
          </a:prstGeom>
          <a:ln w="0">
            <a:noFill/>
          </a:ln>
        </p:spPr>
      </p:pic>
      <p:pic>
        <p:nvPicPr>
          <p:cNvPr id="48" name="180px-Magnesium_oxide" descr=""/>
          <p:cNvPicPr/>
          <p:nvPr/>
        </p:nvPicPr>
        <p:blipFill>
          <a:blip r:embed="rId6"/>
          <a:stretch/>
        </p:blipFill>
        <p:spPr>
          <a:xfrm>
            <a:off x="8388360" y="1762200"/>
            <a:ext cx="755640" cy="73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64000" y="1052640"/>
            <a:ext cx="1800000" cy="5805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1052640"/>
            <a:ext cx="1800360" cy="5805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1052640"/>
            <a:ext cx="1979640" cy="5805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ксиды – это соединения, состоящие из атомов двух элементов, одним из которых является кислород в степени окисления -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остав оксидов выражается общей формул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Э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х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де х – число атомов элемента, у – число атомов кислорода</a:t>
            </a:r>
            <a:r>
              <a:rPr b="1" i="1" lang="ru-RU" sz="2000" spc="-1" strike="noStrike" baseline="-25000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Примеры оксидов: СаО, Fe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ZnO, BeO, NO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, P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4941720"/>
            <a:ext cx="1728720" cy="1522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2520720" cy="15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124000" y="47973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211640" y="4797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astellar"/>
              </a:rPr>
              <a:t>Название окси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В названиях оксидов вначале указывают слово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оксид 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(в именительном падеже), а затем – в родительном падеже название эле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ZnO – оксид цинка,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аО – оксид кальция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Если элемент образует несколько оксидов, то после названия элемента в скобках римской цифрой указывают численную величину его степени ок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Fe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3 – оксид железа (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Arial"/>
              </a:rPr>
              <a:t>III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) (читается: «оксид железа три»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P</a:t>
            </a:r>
            <a:r>
              <a:rPr b="1" i="1" lang="ru-RU" sz="32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ru-RU" sz="3200" spc="-1" strike="noStrike" baseline="-25000">
                <a:solidFill>
                  <a:srgbClr val="990000"/>
                </a:solidFill>
                <a:latin typeface="Arial"/>
              </a:rPr>
              <a:t>5 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– оксид фосфора (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Arial"/>
              </a:rPr>
              <a:t>V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) (читается: «оксид фосфора пять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ВНИМАНИЕ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Постоянную валентность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990000"/>
                </a:solidFill>
                <a:uFillTx/>
                <a:latin typeface="Arial"/>
              </a:rPr>
              <a:t>которая не указывается в названии оксидов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ме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- элементы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группы главной подгруппы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- алюминий, ци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7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95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Класс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По агрегатному состоянию оксиды неметаллов разделяются 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твердые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Р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5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SiO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, N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и др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газообразные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О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 и др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жидкие -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  Н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,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SO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, N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Все оксиды металлов – тверд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308720" y="3860640"/>
            <a:ext cx="1584360" cy="119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2017440" cy="148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093080" y="5229360"/>
            <a:ext cx="1871640" cy="1374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484360" y="4581360"/>
            <a:ext cx="2016360" cy="1868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859280" y="4076640"/>
            <a:ext cx="21607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Структурные форм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French Script MT"/>
              </a:rPr>
              <a:t>В оксидах атомы кислорода связаны</a:t>
            </a:r>
            <a:r>
              <a:rPr b="1" lang="ru-RU" sz="2400" spc="-1" strike="noStrike">
                <a:solidFill>
                  <a:srgbClr val="008000"/>
                </a:solidFill>
                <a:latin typeface="French Script MT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French Script MT"/>
              </a:rPr>
              <a:t>только </a:t>
            </a:r>
            <a:r>
              <a:rPr b="1" lang="ru-RU" sz="2400" spc="-1" strike="noStrike">
                <a:solidFill>
                  <a:srgbClr val="990000"/>
                </a:solidFill>
                <a:latin typeface="French Script MT"/>
              </a:rPr>
              <a:t>с атомами </a:t>
            </a:r>
            <a:r>
              <a:rPr b="1" lang="ru-RU" sz="2400" spc="-1" strike="noStrike">
                <a:solidFill>
                  <a:srgbClr val="660066"/>
                </a:solidFill>
                <a:latin typeface="French Script MT"/>
              </a:rPr>
              <a:t>другого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элемента</a:t>
            </a:r>
            <a:r>
              <a:rPr b="1" lang="ru-RU" sz="2400" spc="-1" strike="noStrike">
                <a:solidFill>
                  <a:srgbClr val="990000"/>
                </a:solidFill>
                <a:latin typeface="French Script MT"/>
              </a:rPr>
              <a:t> и не связаны между собой. Число связей (черточек) у атома кислорода должно быть равно двум, а у атома элемента число связей должно быть равно его степени ок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М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g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О                 М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g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SO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i="1" lang="tt-RU" sz="2400" spc="-1" strike="noStrike">
                <a:solidFill>
                  <a:srgbClr val="660066"/>
                </a:solidFill>
                <a:latin typeface="Arial"/>
              </a:rPr>
              <a:t>                    О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"/>
              </a:rPr>
              <a:t>3                    </a:t>
            </a:r>
            <a:r>
              <a:rPr b="1" i="1" lang="ru-RU" sz="2400" spc="-1" strike="noStrike" baseline="-25000">
                <a:solidFill>
                  <a:srgbClr val="660066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О     А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l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О        А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l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3357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3429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429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29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515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522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40360" y="5157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5157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5229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95280" y="274680"/>
            <a:ext cx="51483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Оксиды в при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321440" cy="3140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76360" y="4365720"/>
            <a:ext cx="2664000" cy="22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216 из 429"/>
          <p:cNvPicPr/>
          <p:nvPr/>
        </p:nvPicPr>
        <p:blipFill>
          <a:blip r:embed="rId3"/>
          <a:stretch/>
        </p:blipFill>
        <p:spPr>
          <a:xfrm>
            <a:off x="4572000" y="2492280"/>
            <a:ext cx="4032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4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Edwardian Script ITC"/>
              </a:rPr>
              <a:t>Вопросы и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42472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Из приведенного перечня веществ выпишите только формулы оксид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aO, HN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Si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KOH, H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P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MgO, CaC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HF, HN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Al(OH)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B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500280"/>
            <a:ext cx="8064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O, Si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MgO, 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2:42:31Z</dcterms:created>
  <dc:creator>ЖЕНЯ</dc:creator>
  <dc:description/>
  <dc:language>en-US</dc:language>
  <cp:lastModifiedBy>Home</cp:lastModifiedBy>
  <dcterms:modified xsi:type="dcterms:W3CDTF">2012-12-19T16:58:50Z</dcterms:modified>
  <cp:revision>63</cp:revision>
  <dc:subject/>
  <dc:title>Оксиды. Определение, состав, номенклатура, классификация и структурные формулы</dc:title>
</cp:coreProperties>
</file>