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9861-B97E-4C60-B14E-21ECC55A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196D-496C-4032-82EE-2731A40A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307B-99F6-49A7-9302-30D7B838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9E1-A559-459E-AF47-A950DC07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6D66-B769-47CA-B980-A504A921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F35F-5A0A-4831-AFF8-F114EF07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F2F8-9213-4F02-AB3D-3E2EFB8B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7436-8FB8-4766-A32C-F48F3607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314A-39E1-4F4E-A77F-5543E1B2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09CD-158C-4017-9A42-7B4FFB42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4EAB-A17C-469F-99D7-DB6DF21D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54EF-6399-47E1-A459-4ED726B8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2FAA-F7BE-4621-AEEB-DB09D9EA1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hegepe33.narod.ru/content/minerals/kvarc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mineraly.ru/img/catalog/06/t_01_40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Окси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Определение, состав, номенклатура, классификация и структурные форм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87280" y="765000"/>
            <a:ext cx="8856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Назовите следующие оксиды: а) СаО, б)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SO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, в) А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l</a:t>
            </a:r>
            <a:r>
              <a:rPr b="1" lang="ru-RU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</a:t>
            </a:r>
            <a:r>
              <a:rPr b="1" lang="ru-RU" sz="28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, г) М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n</a:t>
            </a:r>
            <a:r>
              <a:rPr b="1" lang="ru-RU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</a:t>
            </a:r>
            <a:r>
              <a:rPr b="1" lang="ru-RU" sz="2800" spc="-1" strike="noStrike" baseline="-25000">
                <a:solidFill>
                  <a:srgbClr val="660066"/>
                </a:solidFill>
                <a:latin typeface="Arial"/>
              </a:rPr>
              <a:t>7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и М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, д) С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</a:t>
            </a:r>
            <a:r>
              <a:rPr b="1" lang="ru-RU" sz="2800" spc="-1" strike="noStrike" baseline="-25000">
                <a:solidFill>
                  <a:srgbClr val="660066"/>
                </a:solidFill>
                <a:latin typeface="Arial"/>
              </a:rPr>
              <a:t>3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и С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1" lang="ru-RU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</a:t>
            </a:r>
            <a:r>
              <a:rPr b="1" lang="ru-RU" sz="28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Arial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ы: а) оксид кальц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оксид серы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оксид сер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оксид алюми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оксид марганц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и оксид марганц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оксид хром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и оксид хром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1773360"/>
            <a:ext cx="3240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843280" y="-360"/>
            <a:ext cx="374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Edwardian Script ITC"/>
              </a:rPr>
              <a:t>Вопросы и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29999995231628">
                                      <p:cBhvr additive="repl">
                                        <p:cTn id="107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29999995231628">
                                      <p:cBhvr additive="repl">
                                        <p:cTn id="109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29999995231628">
                                      <p:cBhvr additive="repl">
                                        <p:cTn id="111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29999995231628">
                                      <p:cBhvr additive="repl">
                                        <p:cTn id="113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29999995231628">
                                      <p:cBhvr additive="repl">
                                        <p:cTn id="115" dur="2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26920" y="-360"/>
            <a:ext cx="3745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Edwardian Script ITC"/>
              </a:rPr>
              <a:t>Вопросы и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424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оставьте молекулярные и структурные формулы указанных оксид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а) оксид кал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б) оксид бар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в) оксид серы (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VI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340000" y="3141720"/>
            <a:ext cx="4464000" cy="2519280"/>
            <a:chOff x="2340000" y="3141720"/>
            <a:chExt cx="4464000" cy="2519280"/>
          </a:xfrm>
        </p:grpSpPr>
        <p:sp>
          <p:nvSpPr>
            <p:cNvPr id="95" name=""/>
            <p:cNvSpPr/>
            <p:nvPr/>
          </p:nvSpPr>
          <p:spPr>
            <a:xfrm>
              <a:off x="2340000" y="3141720"/>
              <a:ext cx="4464000" cy="2519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t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веты: а) К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     К     О      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) ВаО    Ва       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О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148360" y="3717720"/>
              <a:ext cx="1366920" cy="1007280"/>
              <a:chOff x="5148360" y="3717720"/>
              <a:chExt cx="1366920" cy="1007280"/>
            </a:xfrm>
          </p:grpSpPr>
          <p:sp>
            <p:nvSpPr>
              <p:cNvPr id="97" name=""/>
              <p:cNvSpPr/>
              <p:nvPr/>
            </p:nvSpPr>
            <p:spPr>
              <a:xfrm>
                <a:off x="5148360" y="37177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651640" y="371772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5292720" y="4004640"/>
                <a:ext cx="35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292720" y="4077720"/>
                <a:ext cx="35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08720" y="42937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508720" y="422208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085080" y="4293720"/>
                <a:ext cx="35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083280" y="4222080"/>
                <a:ext cx="4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940360" y="4365000"/>
                <a:ext cx="0" cy="36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012000" y="4365000"/>
                <a:ext cx="0" cy="36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4360" y="3645000"/>
            <a:ext cx="7488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овая доля элемента рассчитывается по формул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) = Ar (O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M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0920" y="274320"/>
            <a:ext cx="5834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Edwardian Script ITC"/>
              </a:rPr>
              <a:t>Вопросы и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Не производя вычислений, скажите, в каком из оксидов массовая доля кислорода больш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) H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О; 2) Li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0; 3) Сu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О; 4) Аg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О</a:t>
            </a:r>
            <a:r>
              <a:rPr b="0" i="1" lang="en-US" sz="3200" spc="-1" strike="noStrike">
                <a:solidFill>
                  <a:srgbClr val="660066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627280" y="3933720"/>
                <a:ext cx="576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140360" y="3933720"/>
                <a:ext cx="5745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п.25, стр. 84 задания 4, 5 письм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Выучить 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Составить задания на карточке для др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Вода Н</a:t>
            </a:r>
            <a:r>
              <a:rPr b="1" i="1" lang="en-US" sz="32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990000"/>
                </a:solidFill>
                <a:latin typeface="Arial"/>
              </a:rPr>
              <a:t>О – оксид вод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6481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В атмосфере нашей планеты вода находится в виде капель малого размера, в облаках и тумане, а также в виде пара. При конденсации выводится из атмосферы в виде атмосферных осадков (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дождь, снег, град, роса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). В совокупности жидкая водная оболочка Земли называется 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гидросферой.</a:t>
            </a:r>
            <a:r>
              <a:rPr b="1" i="1" lang="en-US" sz="2400" spc="-1" strike="noStrike">
                <a:solidFill>
                  <a:srgbClr val="800080"/>
                </a:solidFill>
                <a:latin typeface="Arial"/>
              </a:rPr>
              <a:t> Вода является важнейшим веществом всех живых организмов на Земле. 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Предположительно, зарождение жизни на Земле произошло в водной среде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В природе происходит непрерывный круговорот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04000" y="1268280"/>
            <a:ext cx="2232000" cy="1622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04000" y="3068640"/>
            <a:ext cx="2232000" cy="1681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804000" y="4941720"/>
            <a:ext cx="2232000" cy="1681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835280" y="6021360"/>
            <a:ext cx="1368360" cy="620640"/>
          </a:xfrm>
          <a:prstGeom prst="leftArrow">
            <a:avLst>
              <a:gd name="adj1" fmla="val 50000"/>
              <a:gd name="adj2" fmla="val 551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Углекислый газ (диоксид углерода) СО</a:t>
            </a:r>
            <a:r>
              <a:rPr b="1" i="1" lang="ru-RU" sz="24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– </a:t>
            </a:r>
            <a:br>
              <a:rPr sz="2400"/>
            </a:b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оксид углерода (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IV</a:t>
            </a:r>
            <a:r>
              <a:rPr b="1" i="1" lang="tt-RU" sz="2400" spc="-1" strike="noStrike">
                <a:solidFill>
                  <a:srgbClr val="66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6769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Углекислый газ образуется в процессе сжигания угля или углеводородных соединений, при гниении растительных и животных остатков, а также как продукт дыхания людей и животных. В небольших количествах он содержится и в атмосфере, откуда он ассимилируется растениями, которые, в свою очередь, производят кислор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Углекислый газ бесцветен и тяжелее возд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Он не пригоден для поддержания жизни.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Углекислый газ замерзает при температуре −78.5°C с образованием снега, состоящего из двуокиси углер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020000" y="907920"/>
            <a:ext cx="2016000" cy="1679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020000" y="2708280"/>
            <a:ext cx="2016000" cy="1606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020000" y="4508640"/>
            <a:ext cx="2016000" cy="1444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093080" y="6093000"/>
            <a:ext cx="1368360" cy="620640"/>
          </a:xfrm>
          <a:prstGeom prst="leftArrow">
            <a:avLst>
              <a:gd name="adj1" fmla="val 50000"/>
              <a:gd name="adj2" fmla="val 551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84360" y="274320"/>
            <a:ext cx="51832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Оксид кремния (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IV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) </a:t>
            </a: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Si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О</a:t>
            </a:r>
            <a:r>
              <a:rPr b="1" i="1" lang="ru-RU" sz="2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16360" y="907920"/>
            <a:ext cx="5976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Диоксид кремния — главный компонент почти всех земных горных пород. Из кремнезёма и силикатов состоит 87% массы литосф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Аморфный непористый диоксид кремния применяется </a:t>
            </a: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в пищевой промышленности в качестве вспомогательного вещества E551,</a:t>
            </a: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 препятствующего слёживанию и комкованию, фармацевтике (зубные пасты), а также пищевой добавки или лекарственного пре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Искусственно полученные плёнки диоксида кремния используются в качестве изолятора при производстве микросхем и других электронных компон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Картинка 4 из 4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692280"/>
            <a:ext cx="2914560" cy="3024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Картинка 216 из 4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8000" y="3789360"/>
            <a:ext cx="2879640" cy="2279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35280" y="6093000"/>
            <a:ext cx="1368360" cy="620640"/>
          </a:xfrm>
          <a:prstGeom prst="leftArrow">
            <a:avLst>
              <a:gd name="adj1" fmla="val 50000"/>
              <a:gd name="adj2" fmla="val 551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7640"/>
        </p:xfrm>
        <a:graphic>
          <a:graphicData uri="http://schemas.openxmlformats.org/drawingml/2006/table">
            <a:tbl>
              <a:tblPr/>
              <a:tblGrid>
                <a:gridCol w="1673280"/>
                <a:gridCol w="1911240"/>
                <a:gridCol w="1790640"/>
                <a:gridCol w="1806840"/>
                <a:gridCol w="1962000"/>
              </a:tblGrid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Название окс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Химическая формула окс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Агрегатное состоя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ц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Температура плавления (</a:t>
                      </a:r>
                      <a:r>
                        <a:rPr b="1" lang="ru-RU" sz="1600" spc="-1" strike="noStrike" baseline="30000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ксид меди (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1" lang="ru-RU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верд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че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4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ксид маг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ru-RU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верд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б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8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ксид железа (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1600" spc="-1" strike="noStrike" baseline="-30000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1600" spc="-1" strike="noStrike" baseline="-30000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верд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расно - коричне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5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ксид крем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Si</a:t>
                      </a:r>
                      <a:r>
                        <a:rPr b="1" lang="ru-RU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1600" spc="-1" strike="noStrike" baseline="-30000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верд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бесцве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7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ксид углерода (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СО</a:t>
                      </a:r>
                      <a:r>
                        <a:rPr b="1" lang="en-US" sz="1600" spc="-1" strike="noStrike" baseline="-30000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газообраз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бесцве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- 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ода (оксид водород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en-US" sz="1600" spc="-1" strike="noStrike" baseline="-30000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жид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бесцвет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ксид азота (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ru-RU" sz="1600" spc="-1" strike="noStrike" baseline="-30000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газообраз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расно - бур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-1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180px-CopperIIoxide" descr=""/>
          <p:cNvPicPr/>
          <p:nvPr/>
        </p:nvPicPr>
        <p:blipFill>
          <a:blip r:embed="rId1"/>
          <a:srcRect l="-362" t="4613" r="409" b="27416"/>
          <a:stretch/>
        </p:blipFill>
        <p:spPr>
          <a:xfrm>
            <a:off x="8388360" y="1049400"/>
            <a:ext cx="755640" cy="703080"/>
          </a:xfrm>
          <a:prstGeom prst="rect">
            <a:avLst/>
          </a:prstGeom>
          <a:ln w="0">
            <a:noFill/>
          </a:ln>
        </p:spPr>
      </p:pic>
      <p:pic>
        <p:nvPicPr>
          <p:cNvPr id="44" name="100px-Diossido_di_azoto" descr="Оксид азота(IV): структура"/>
          <p:cNvPicPr/>
          <p:nvPr/>
        </p:nvPicPr>
        <p:blipFill>
          <a:blip r:embed="rId2"/>
          <a:stretch/>
        </p:blipFill>
        <p:spPr>
          <a:xfrm>
            <a:off x="8172360" y="6129360"/>
            <a:ext cx="971640" cy="728640"/>
          </a:xfrm>
          <a:prstGeom prst="rect">
            <a:avLst/>
          </a:prstGeom>
          <a:ln w="0">
            <a:noFill/>
          </a:ln>
        </p:spPr>
      </p:pic>
      <p:pic>
        <p:nvPicPr>
          <p:cNvPr id="45" name="180px-2006-01-28_Drop-impact" descr=""/>
          <p:cNvPicPr/>
          <p:nvPr/>
        </p:nvPicPr>
        <p:blipFill>
          <a:blip r:embed="rId3"/>
          <a:stretch/>
        </p:blipFill>
        <p:spPr>
          <a:xfrm>
            <a:off x="8028000" y="5300640"/>
            <a:ext cx="826920" cy="801720"/>
          </a:xfrm>
          <a:prstGeom prst="rect">
            <a:avLst/>
          </a:prstGeom>
          <a:ln w="0">
            <a:noFill/>
          </a:ln>
        </p:spPr>
      </p:pic>
      <p:pic>
        <p:nvPicPr>
          <p:cNvPr id="46" name="250px-Quartz_Crystal" descr=""/>
          <p:cNvPicPr/>
          <p:nvPr/>
        </p:nvPicPr>
        <p:blipFill>
          <a:blip r:embed="rId4"/>
          <a:stretch/>
        </p:blipFill>
        <p:spPr>
          <a:xfrm>
            <a:off x="8101080" y="3554280"/>
            <a:ext cx="1042920" cy="698760"/>
          </a:xfrm>
          <a:prstGeom prst="rect">
            <a:avLst/>
          </a:prstGeom>
          <a:ln w="0">
            <a:noFill/>
          </a:ln>
        </p:spPr>
      </p:pic>
      <p:pic>
        <p:nvPicPr>
          <p:cNvPr id="47" name="235px-Hematite" descr=""/>
          <p:cNvPicPr/>
          <p:nvPr/>
        </p:nvPicPr>
        <p:blipFill>
          <a:blip r:embed="rId5"/>
          <a:stretch/>
        </p:blipFill>
        <p:spPr>
          <a:xfrm>
            <a:off x="8101080" y="2492280"/>
            <a:ext cx="1042920" cy="1003320"/>
          </a:xfrm>
          <a:prstGeom prst="rect">
            <a:avLst/>
          </a:prstGeom>
          <a:ln w="0">
            <a:noFill/>
          </a:ln>
        </p:spPr>
      </p:pic>
      <p:pic>
        <p:nvPicPr>
          <p:cNvPr id="48" name="180px-Magnesium_oxide" descr=""/>
          <p:cNvPicPr/>
          <p:nvPr/>
        </p:nvPicPr>
        <p:blipFill>
          <a:blip r:embed="rId6"/>
          <a:stretch/>
        </p:blipFill>
        <p:spPr>
          <a:xfrm>
            <a:off x="8388360" y="1762200"/>
            <a:ext cx="755640" cy="73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64000" y="1052640"/>
            <a:ext cx="1800000" cy="5805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1052640"/>
            <a:ext cx="1800360" cy="5805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4360" y="1052640"/>
            <a:ext cx="1979640" cy="5805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8360" y="115920"/>
            <a:ext cx="82072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Оксиды – это соединения, состоящие из атомов двух элементов, одним из которых является кислород в степени окисления -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Состав оксидов выражается общей формул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Э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х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О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где х – число атомов элемента, у – число атомов кислорода</a:t>
            </a:r>
            <a:r>
              <a:rPr b="1" i="1" lang="ru-RU" sz="2000" spc="-1" strike="noStrike" baseline="-25000">
                <a:solidFill>
                  <a:srgbClr val="66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Примеры оксидов: СаО, Fe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3</a:t>
            </a: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ZnO, BeO, NO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, P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4941720"/>
            <a:ext cx="1728720" cy="1522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372360" y="4941720"/>
            <a:ext cx="2520720" cy="1509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124000" y="479736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211640" y="4797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3280" y="2743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astellar"/>
              </a:rPr>
              <a:t>Название окси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В названиях оксидов вначале указывают слово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оксид </a:t>
            </a: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(в именительном падеже), а затем – в родительном падеже название элемен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ZnO – оксид цинка,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СаО – оксид кальция</a:t>
            </a: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Если элемент образует несколько оксидов, то после названия элемента в скобках римской цифрой указывают численную величину его степени окис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Fe</a:t>
            </a:r>
            <a:r>
              <a:rPr b="1" i="1" lang="ru-RU" sz="28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1" i="1" lang="ru-RU" sz="2800" spc="-1" strike="noStrike" baseline="-25000">
                <a:solidFill>
                  <a:srgbClr val="990000"/>
                </a:solidFill>
                <a:latin typeface="Arial"/>
              </a:rPr>
              <a:t>3 – оксид железа (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Arial"/>
              </a:rPr>
              <a:t>III</a:t>
            </a:r>
            <a:r>
              <a:rPr b="1" i="1" lang="ru-RU" sz="2800" spc="-1" strike="noStrike" baseline="-25000">
                <a:solidFill>
                  <a:srgbClr val="990000"/>
                </a:solidFill>
                <a:latin typeface="Arial"/>
              </a:rPr>
              <a:t>) (читается: «оксид железа три»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P</a:t>
            </a:r>
            <a:r>
              <a:rPr b="1" i="1" lang="ru-RU" sz="32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1" i="1" lang="ru-RU" sz="3200" spc="-1" strike="noStrike" baseline="-25000">
                <a:solidFill>
                  <a:srgbClr val="990000"/>
                </a:solidFill>
                <a:latin typeface="Arial"/>
              </a:rPr>
              <a:t>5 </a:t>
            </a:r>
            <a:r>
              <a:rPr b="1" i="1" lang="ru-RU" sz="2800" spc="-1" strike="noStrike" baseline="-25000">
                <a:solidFill>
                  <a:srgbClr val="990000"/>
                </a:solidFill>
                <a:latin typeface="Arial"/>
              </a:rPr>
              <a:t>– оксид фосфора (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Arial"/>
              </a:rPr>
              <a:t>V</a:t>
            </a:r>
            <a:r>
              <a:rPr b="1" i="1" lang="ru-RU" sz="2800" spc="-1" strike="noStrike" baseline="-25000">
                <a:solidFill>
                  <a:srgbClr val="990000"/>
                </a:solidFill>
                <a:latin typeface="Arial"/>
              </a:rPr>
              <a:t>) (читается: «оксид фосфора пять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ВНИМАНИЕ!!!!!!!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Постоянную валентность,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 u="sng">
                <a:solidFill>
                  <a:srgbClr val="990000"/>
                </a:solidFill>
                <a:uFillTx/>
                <a:latin typeface="Arial"/>
              </a:rPr>
              <a:t>которая не указывается в названии оксидов,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имею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- элементы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I 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и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II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 группы главной подгруппы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- алюминий, ци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700"/>
                            </p:stCondLst>
                            <p:childTnLst>
                              <p:par>
                                <p:cTn id="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950"/>
                            </p:stCondLst>
                            <p:childTnLst>
                              <p:par>
                                <p:cTn id="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54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Arial"/>
              </a:rPr>
              <a:t>Классифи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По агрегатному состоянию оксиды неметаллов разделяются н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твердые</a:t>
            </a: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Р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О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5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SiO</a:t>
            </a:r>
            <a:r>
              <a:rPr b="1" i="1" lang="en-US" sz="24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, N</a:t>
            </a:r>
            <a:r>
              <a:rPr b="1" i="1" lang="en-US" sz="24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1" i="1" lang="en-US" sz="2400" spc="-1" strike="noStrike" baseline="-25000">
                <a:solidFill>
                  <a:srgbClr val="990000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и др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газообразные –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СО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S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О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N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О и др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жидкие -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  Н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О, 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SO</a:t>
            </a:r>
            <a:r>
              <a:rPr b="1" i="1" lang="en-US" sz="2400" spc="-1" strike="noStrike" baseline="-25000">
                <a:solidFill>
                  <a:srgbClr val="9900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, N</a:t>
            </a:r>
            <a:r>
              <a:rPr b="1" i="1" lang="en-US" sz="2400" spc="-1" strike="noStrike" baseline="-25000">
                <a:solidFill>
                  <a:srgbClr val="99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1" i="1" lang="en-US" sz="2400" spc="-1" strike="noStrike" baseline="-25000">
                <a:solidFill>
                  <a:srgbClr val="990000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Все оксиды металлов – твердые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308720" y="3860640"/>
            <a:ext cx="1584360" cy="1190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2017440" cy="1482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093080" y="5229360"/>
            <a:ext cx="1871640" cy="1374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484360" y="4581360"/>
            <a:ext cx="2016360" cy="1868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859280" y="4076640"/>
            <a:ext cx="21607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Структурные форм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French Script MT"/>
              </a:rPr>
              <a:t>В оксидах атомы кислорода связаны</a:t>
            </a:r>
            <a:r>
              <a:rPr b="1" lang="ru-RU" sz="2400" spc="-1" strike="noStrike">
                <a:solidFill>
                  <a:srgbClr val="008000"/>
                </a:solidFill>
                <a:latin typeface="French Script MT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French Script MT"/>
              </a:rPr>
              <a:t>только </a:t>
            </a:r>
            <a:r>
              <a:rPr b="1" lang="ru-RU" sz="2400" spc="-1" strike="noStrike">
                <a:solidFill>
                  <a:srgbClr val="990000"/>
                </a:solidFill>
                <a:latin typeface="French Script MT"/>
              </a:rPr>
              <a:t>с атомами </a:t>
            </a:r>
            <a:r>
              <a:rPr b="1" lang="ru-RU" sz="2400" spc="-1" strike="noStrike">
                <a:solidFill>
                  <a:srgbClr val="660066"/>
                </a:solidFill>
                <a:latin typeface="French Script MT"/>
              </a:rPr>
              <a:t>другого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элемента</a:t>
            </a:r>
            <a:r>
              <a:rPr b="1" lang="ru-RU" sz="2400" spc="-1" strike="noStrike">
                <a:solidFill>
                  <a:srgbClr val="990000"/>
                </a:solidFill>
                <a:latin typeface="French Script MT"/>
              </a:rPr>
              <a:t> и не связаны между собой. Число связей (черточек) у атома кислорода должно быть равно двум, а у атома элемента число связей должно быть равно его степени окис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М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g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О                 М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g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    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SO</a:t>
            </a:r>
            <a:r>
              <a:rPr b="1" i="1" lang="en-US" sz="24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i="1" lang="tt-RU" sz="2400" spc="-1" strike="noStrike">
                <a:solidFill>
                  <a:srgbClr val="660066"/>
                </a:solidFill>
                <a:latin typeface="Arial"/>
              </a:rPr>
              <a:t>                    О          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S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        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А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l</a:t>
            </a:r>
            <a:r>
              <a:rPr b="1" i="1" lang="en-US" sz="24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O</a:t>
            </a:r>
            <a:r>
              <a:rPr b="1" i="1" lang="en-US" sz="2400" spc="-1" strike="noStrike" baseline="-25000">
                <a:solidFill>
                  <a:srgbClr val="660066"/>
                </a:solidFill>
                <a:latin typeface="Arial"/>
              </a:rPr>
              <a:t>3                    </a:t>
            </a:r>
            <a:r>
              <a:rPr b="1" i="1" lang="ru-RU" sz="2400" spc="-1" strike="noStrike" baseline="-25000">
                <a:solidFill>
                  <a:srgbClr val="660066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О     А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l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     О        А</a:t>
            </a: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l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     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4000" y="335772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64000" y="34290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360" y="429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429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5157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19640" y="5229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40360" y="5157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928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67280" y="5157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5229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95280" y="274680"/>
            <a:ext cx="51483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Monotype Corsiva"/>
              </a:rPr>
              <a:t>Оксиды в природ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321440" cy="3140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76360" y="4365720"/>
            <a:ext cx="2664000" cy="2219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Картинка 216 из 429"/>
          <p:cNvPicPr/>
          <p:nvPr/>
        </p:nvPicPr>
        <p:blipFill>
          <a:blip r:embed="rId3"/>
          <a:stretch/>
        </p:blipFill>
        <p:spPr>
          <a:xfrm>
            <a:off x="4572000" y="2492280"/>
            <a:ext cx="403236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3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54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Edwardian Script ITC"/>
              </a:rPr>
              <a:t>Вопросы и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42472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Из приведенного перечня веществ выпишите только формулы оксид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aO, HN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, Si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, KOH, H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, P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, MgO, CaC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, HF, HN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, Al(OH)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, B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3500280"/>
            <a:ext cx="806436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O, Si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MgO, 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3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12:42:31Z</dcterms:created>
  <dc:creator>ЖЕНЯ</dc:creator>
  <dc:description/>
  <dc:language>en-US</dc:language>
  <cp:lastModifiedBy>Home</cp:lastModifiedBy>
  <dcterms:modified xsi:type="dcterms:W3CDTF">2012-12-19T16:58:50Z</dcterms:modified>
  <cp:revision>63</cp:revision>
  <dc:subject/>
  <dc:title>Оксиды. Определение, состав, номенклатура, классификация и структурные формулы</dc:title>
</cp:coreProperties>
</file>