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15.wmf" ContentType="image/x-wmf"/>
  <Override PartName="/ppt/media/image22.jpeg" ContentType="image/jpeg"/>
  <Override PartName="/ppt/media/image14.wmf" ContentType="image/x-wmf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21E0-BB79-4E62-A901-704BF8BFCA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A557-602B-4791-A31B-521EED232B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6B0F-783A-49FA-ACEA-9304C0F027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fld id="{6A253AAF-6D3B-44B8-A39E-05E559E250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688B9-CC14-4651-BD8D-E78736B4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35100-463D-44AD-A136-6AF03D59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C22A7-B523-46B4-8A1B-5BD0AFCF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DCF27-E4DD-4C64-BBDF-45094A40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AABC-7D4D-4566-BD7B-E930CE32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026F-362A-4763-A37B-9D03A55B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355E-C35F-4D1B-8BAE-1245D92E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0192-C6A8-4BA1-BF16-DC1E301A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CA1B-1E91-41A8-B513-73491430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045C-4C77-450A-A39E-A19F7B72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F29C-6C96-42E5-B11F-B88FFAE0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18800-B25E-4976-BED2-1B809957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DD05-7053-41FE-9E6E-D531AF16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0392-E39C-42B5-A0D0-CBDF2BAB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C8D8-7DDB-4E5A-9A70-0D05D01E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7326-5874-4785-9722-0CDFBE4D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5246-261E-4987-982F-F4502596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F0D6F-BC17-41CB-B40D-D82A18A1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06003-1832-4782-8C92-5F8C7B4E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8582C-ECEA-4483-A5B2-7BB6208A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C45E1-2DCF-4BED-BF69-38760D22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FC462-F4D8-46AC-ADCA-1D6336F1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E0846-2C5F-4E16-BCDF-35A437A3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A20BA-D806-4730-8CF8-6D169ACA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56d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A096-78E8-4470-9917-568B2E3F81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b724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C8D2-6EF9-4679-AE44-A1D120A668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images.google.ru/imgres?imgurl=http://www.sevin.ru/invasive/invasion/insects/settled/american_white_moth.gif&amp;imgrefurl=http://www.sevin.ru/invasive/invasion/insects/settled/american_white_moth.html&amp;h=439&amp;w=309&amp;sz=100&amp;hl=ru&amp;start=211&amp;tbnid=z0Xo7Hy8VLoOrM:&amp;tbnh=127&amp;tbnw=89&amp;prev=/images%3Fq%3D%25D0%25B1%25D0%25B0%25D0%25B1%25D0%25BE%25D1%2587%25D0%25BA%25D0%25B0%26start%3D200%26ndsp%3D20%26svnum%3D10%26hl%3Dru%26newwindow%3D1%26rlz%3D1T4ADBF_ruRU239RU248%26sa%3DN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google.ru/imgres?imgurl=http://www.museum.ru/imgB.asp%3F3498&amp;imgrefurl=http://www.museum.ru/alb/image.asp%3F3498&amp;h=382&amp;w=600&amp;sz=77&amp;hl=ru&amp;start=2&amp;tbnid=j1nuWmR8cRp1ZM:&amp;tbnh=86&amp;tbnw=135&amp;prev=/images%3Fq%3D%25D0%25B1%25D0%25B0%25D0%25B1%25D0%25BE%25D1%2587%25D0%25BA%25D0%25B0%26ndsp%3D20%26svnum%3D10%26hl%3Dru%26newwindow%3D1%26rlz%3D1T4ADBF_ruRU239RU248%26sa%3DN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s.google.ru/imgres?imgurl=http://www.dewinrain.com/frogs/frog_life.jpg&amp;imgrefurl=http://www.dewinrain.com/life_frog.shtml&amp;h=409&amp;w=400&amp;sz=82&amp;hl=ru&amp;start=78&amp;tbnid=VYZ9Ik1PSSctzM:&amp;tbnh=125&amp;tbnw=122&amp;prev=/images%3Fq%3D%25D0%25BB%25D1%258F%25D0%25B3%25D1%2583%25D1%2588%25D0%25BA%25D0%25B0%26start%3D60%26ndsp%3D20%26svnum%3D10%26hl%3Dru%26newwindow%3D1%26rlz%3D1T4ADBF_ruRU239RU248%26sa%3DN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images.google.ru/imgres?imgurl=http://www.aquahobby.ru/fishes/fish061.jpg&amp;imgrefurl=http://www.aquahobby.ru/fishes/discus.shtml&amp;h=350&amp;w=320&amp;sz=12&amp;hl=ru&amp;start=15&amp;tbnid=KcIDzyWIXkRQwM:&amp;tbnh=120&amp;tbnw=110&amp;prev=/images%3Fq%3D%25D1%2580%25D1%258B%25D0%25B1%25D1%258B%26ndsp%3D20%26svnum%3D10%26hl%3Dru%26newwindow%3D1%26rlz%3D1T4ADBF_ruRU239RU248%26sa%3DN" TargetMode="External"/><Relationship Id="rId11" Type="http://schemas.openxmlformats.org/officeDocument/2006/relationships/image" Target="../media/image7.jpeg"/><Relationship Id="rId12" Type="http://schemas.openxmlformats.org/officeDocument/2006/relationships/hyperlink" Target="http://images.google.ru/imgres?imgurl=http://greenplaneta.ru/news/2005020419000000_s.jpg&amp;imgrefurl=http://greenplaneta.ru/news_id.php%3Fid%3D2005020419000000&amp;h=140&amp;w=100&amp;sz=7&amp;hl=ru&amp;start=21&amp;tbnid=s_4-uH4NR5O12M:&amp;tbnh=93&amp;tbnw=66&amp;prev=/images%3Fq%3D%25D0%25BF%25D1%2582%25D0%25B8%25D1%2586%25D1%258B%2B%25D1%2580%25D0%25BE%25D1%2581%25D1%2581%25D0%25B8%25D0%25B8%26start%3D20%26ndsp%3D20%26svnum%3D10%26hl%3Dru%26newwindow%3D1%26rlz%3D1T4ADBF_ruRU239RU248%26sa%3DN" TargetMode="External"/><Relationship Id="rId13" Type="http://schemas.openxmlformats.org/officeDocument/2006/relationships/image" Target="../media/image8.jpeg"/><Relationship Id="rId14" Type="http://schemas.openxmlformats.org/officeDocument/2006/relationships/hyperlink" Target="http://images.google.ru/imgres?imgurl=http://img.utro.ua/2007/06/234/1c78ba1b1030fbb15dc94f5db3493301.jpg&amp;imgrefurl=http://www.utro.ua/articles/2007/06/20/51107.shtml&amp;h=234&amp;w=234&amp;sz=30&amp;hl=ru&amp;start=36&amp;tbnid=CCNnWYVLcYCasM:&amp;tbnh=109&amp;tbnw=109&amp;prev=/images%3Fq%3D%25D0%25BF%25D0%25B0%25D1%2583%25D0%25BA%25D0%25B8%2B%25D1%2583%25D0%25BA%25D1%2580%25D0%25B0%25D0%25B8%25D0%25BD%25D1%258B%26start%3D20%26ndsp%3D20%26svnum%3D10%26hl%3Dru%26newwindow%3D1%26rlz%3D1T4ADBF_ruRU239RU248%26sa%3DN" TargetMode="External"/><Relationship Id="rId15" Type="http://schemas.openxmlformats.org/officeDocument/2006/relationships/image" Target="../media/image9.jpeg"/><Relationship Id="rId16" Type="http://schemas.openxmlformats.org/officeDocument/2006/relationships/image" Target="../media/image10.jpeg"/><Relationship Id="rId17" Type="http://schemas.openxmlformats.org/officeDocument/2006/relationships/image" Target="../media/image11.jpeg"/><Relationship Id="rId18" Type="http://schemas.openxmlformats.org/officeDocument/2006/relationships/image" Target="../media/image12.jpe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4.wm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окина В.Ю.</a:t>
            </a:r>
            <a:br>
              <a:rPr sz="5400"/>
            </a:br>
            <a:r>
              <a:rPr b="1" lang="ru-RU" sz="60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Онтогене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4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4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4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4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4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Эктоде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Энтодерма пищеварительной труб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Мезоде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00"/>
                </a:solidFill>
                <a:latin typeface="Arial"/>
              </a:rPr>
              <a:t>Нервная пласт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Хо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4" descr="Размножение организмов"/>
          <p:cNvPicPr/>
          <p:nvPr/>
        </p:nvPicPr>
        <p:blipFill>
          <a:blip r:embed="rId1"/>
          <a:srcRect l="0" t="72008" r="0" b="-794"/>
          <a:stretch/>
        </p:blipFill>
        <p:spPr>
          <a:xfrm>
            <a:off x="1187280" y="981000"/>
            <a:ext cx="6480360" cy="2305080"/>
          </a:xfrm>
          <a:prstGeom prst="rect">
            <a:avLst/>
          </a:prstGeom>
          <a:ln w="0">
            <a:noFill/>
          </a:ln>
        </p:spPr>
      </p:pic>
      <p:sp>
        <p:nvSpPr>
          <p:cNvPr id="571" name="Line 17"/>
          <p:cNvSpPr/>
          <p:nvPr/>
        </p:nvSpPr>
        <p:spPr>
          <a:xfrm flipV="1">
            <a:off x="2268360" y="2276280"/>
            <a:ext cx="3240360" cy="115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8"/>
          <p:cNvSpPr/>
          <p:nvPr/>
        </p:nvSpPr>
        <p:spPr>
          <a:xfrm flipV="1">
            <a:off x="5364000" y="2420640"/>
            <a:ext cx="719280" cy="143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2"/>
          <p:cNvSpPr/>
          <p:nvPr/>
        </p:nvSpPr>
        <p:spPr>
          <a:xfrm flipV="1">
            <a:off x="2195640" y="1628280"/>
            <a:ext cx="4537080" cy="331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5"/>
          <p:cNvSpPr/>
          <p:nvPr/>
        </p:nvSpPr>
        <p:spPr>
          <a:xfrm flipH="1" flipV="1">
            <a:off x="7235640" y="2276640"/>
            <a:ext cx="144360" cy="23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26"/>
          <p:cNvSpPr/>
          <p:nvPr/>
        </p:nvSpPr>
        <p:spPr>
          <a:xfrm flipV="1">
            <a:off x="4859280" y="1844640"/>
            <a:ext cx="1728720" cy="417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5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об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ение и рост 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фференциация 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сто и органоген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йцеклетка после оплодотво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5" descr="оплодотворенная яцеклетка"/>
          <p:cNvPicPr/>
          <p:nvPr/>
        </p:nvPicPr>
        <p:blipFill>
          <a:blip r:embed="rId1"/>
          <a:stretch/>
        </p:blipFill>
        <p:spPr>
          <a:xfrm>
            <a:off x="2411280" y="1916280"/>
            <a:ext cx="4681800" cy="3517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ое деление ( 2 клетки) - бласто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4" descr="первое деление"/>
          <p:cNvPicPr/>
          <p:nvPr/>
        </p:nvPicPr>
        <p:blipFill>
          <a:blip r:embed="rId1"/>
          <a:stretch/>
        </p:blipFill>
        <p:spPr>
          <a:xfrm>
            <a:off x="611280" y="1341360"/>
            <a:ext cx="4066920" cy="30546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" descr="2кл"/>
          <p:cNvPicPr/>
          <p:nvPr/>
        </p:nvPicPr>
        <p:blipFill>
          <a:blip r:embed="rId2"/>
          <a:stretch/>
        </p:blipFill>
        <p:spPr>
          <a:xfrm>
            <a:off x="4211640" y="2276640"/>
            <a:ext cx="4386240" cy="329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торое деление (4 бластоме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4" descr="1075405948_01"/>
          <p:cNvPicPr/>
          <p:nvPr/>
        </p:nvPicPr>
        <p:blipFill>
          <a:blip r:embed="rId1"/>
          <a:stretch/>
        </p:blipFill>
        <p:spPr>
          <a:xfrm>
            <a:off x="971640" y="3357720"/>
            <a:ext cx="3876480" cy="27144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" descr="CAGWQ8MH"/>
          <p:cNvPicPr/>
          <p:nvPr/>
        </p:nvPicPr>
        <p:blipFill>
          <a:blip r:embed="rId2"/>
          <a:stretch/>
        </p:blipFill>
        <p:spPr>
          <a:xfrm>
            <a:off x="5148360" y="2565360"/>
            <a:ext cx="3024000" cy="302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тье деле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8 бластомер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4" descr="8бластомеров"/>
          <p:cNvPicPr/>
          <p:nvPr/>
        </p:nvPicPr>
        <p:blipFill>
          <a:blip r:embed="rId1"/>
          <a:stretch/>
        </p:blipFill>
        <p:spPr>
          <a:xfrm>
            <a:off x="1692360" y="1700280"/>
            <a:ext cx="5148000" cy="3865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дия мору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4" descr="стадия морулы"/>
          <p:cNvPicPr/>
          <p:nvPr/>
        </p:nvPicPr>
        <p:blipFill>
          <a:blip r:embed="rId1"/>
          <a:stretch/>
        </p:blipFill>
        <p:spPr>
          <a:xfrm>
            <a:off x="2340000" y="1773360"/>
            <a:ext cx="5076720" cy="3811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астула с полостью внут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" descr="бластоциста"/>
          <p:cNvPicPr/>
          <p:nvPr/>
        </p:nvPicPr>
        <p:blipFill>
          <a:blip r:embed="rId1"/>
          <a:stretch/>
        </p:blipFill>
        <p:spPr>
          <a:xfrm>
            <a:off x="2340000" y="1628640"/>
            <a:ext cx="5538600" cy="4159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Arial"/>
              </a:rPr>
              <a:t>Эктодерма</a:t>
            </a: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 – нервная система, органы чувств, эпидермис кожи и его производные, эмаль зуб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Энтодерма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– пищеварительная система, печень, поджелудочная железа, дыхательные системы( жабры, легк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Мезодерма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– скелет, мускулатура, кровеносная, выделительная и половая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мбриолог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наука о развитии организ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Онтогене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сс индивидуального развития особ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т момента образования зиготы до смер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Эмбриогенез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процесс развития особи от зиготы до рождения или выхода  из яйцевых оболо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Постэмбриональное развит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развитие от выхода из яйцевых оболочек или  рождения до смерти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стэмбриональное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Прям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тела матери или яйцевых оболочек выходит особь, отличающаяся от взрослого организма только меньшим разме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00"/>
                </a:solidFill>
                <a:latin typeface="Arial"/>
              </a:rPr>
              <a:t>Яйцекладный                                     внутриутроб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С превращением, метаморфозом (непрямое) -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йца выходит личинка, отличающаяся от взрослой особ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5" descr="american_white_moth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42920" y="5229360"/>
            <a:ext cx="1224000" cy="12254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7" descr="imgB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348000" y="5445000"/>
            <a:ext cx="1285920" cy="8193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9" descr="frog_lif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948360" y="5157720"/>
            <a:ext cx="1379520" cy="14144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5" descr="fish061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84360" y="3141720"/>
            <a:ext cx="1047600" cy="1143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7" descr="2005020419000000_s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979640" y="3284640"/>
            <a:ext cx="628560" cy="8856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9" descr="1c78ba1b1030fbb15dc94f5db3493301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356000" y="2781360"/>
            <a:ext cx="1038240" cy="10382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1" descr="Bonobo_009"/>
          <p:cNvPicPr/>
          <p:nvPr/>
        </p:nvPicPr>
        <p:blipFill>
          <a:blip r:embed="rId16"/>
          <a:stretch/>
        </p:blipFill>
        <p:spPr>
          <a:xfrm>
            <a:off x="6659640" y="314172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3" descr="ipstyp0"/>
          <p:cNvPicPr/>
          <p:nvPr/>
        </p:nvPicPr>
        <p:blipFill>
          <a:blip r:embed="rId17"/>
          <a:stretch/>
        </p:blipFill>
        <p:spPr>
          <a:xfrm>
            <a:off x="5364000" y="5300640"/>
            <a:ext cx="838440" cy="12859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5" descr="Ящерицы"/>
          <p:cNvPicPr/>
          <p:nvPr/>
        </p:nvPicPr>
        <p:blipFill>
          <a:blip r:embed="rId18"/>
          <a:stretch/>
        </p:blipFill>
        <p:spPr>
          <a:xfrm>
            <a:off x="2843280" y="3141720"/>
            <a:ext cx="1473120" cy="1104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плодотворен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роцесс слияния двух половых кл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394308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2n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4с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амета +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амета =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зигота 2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4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6" descr="j0345384"/>
          <p:cNvPicPr/>
          <p:nvPr/>
        </p:nvPicPr>
        <p:blipFill>
          <a:blip r:embed="rId2"/>
          <a:stretch/>
        </p:blipFill>
        <p:spPr>
          <a:xfrm>
            <a:off x="1979640" y="4653000"/>
            <a:ext cx="258840" cy="3873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" descr="j0345383"/>
          <p:cNvPicPr/>
          <p:nvPr/>
        </p:nvPicPr>
        <p:blipFill>
          <a:blip r:embed="rId3"/>
          <a:stretch/>
        </p:blipFill>
        <p:spPr>
          <a:xfrm>
            <a:off x="4140360" y="4581360"/>
            <a:ext cx="379080" cy="3794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j0345383"/>
          <p:cNvPicPr/>
          <p:nvPr/>
        </p:nvPicPr>
        <p:blipFill>
          <a:blip r:embed="rId4"/>
          <a:stretch/>
        </p:blipFill>
        <p:spPr>
          <a:xfrm>
            <a:off x="3348000" y="530064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1" descr="j0345384"/>
          <p:cNvPicPr/>
          <p:nvPr/>
        </p:nvPicPr>
        <p:blipFill>
          <a:blip r:embed="rId5"/>
          <a:stretch/>
        </p:blipFill>
        <p:spPr>
          <a:xfrm>
            <a:off x="826920" y="5300640"/>
            <a:ext cx="258840" cy="3873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2" descr="37"/>
          <p:cNvPicPr/>
          <p:nvPr/>
        </p:nvPicPr>
        <p:blipFill>
          <a:blip r:embed="rId6"/>
          <a:srcRect l="57101" t="-650" r="1801" b="0"/>
          <a:stretch/>
        </p:blipFill>
        <p:spPr>
          <a:xfrm>
            <a:off x="3132000" y="1341360"/>
            <a:ext cx="2876760" cy="302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азвитие ланцетника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тадия дробления или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ластуля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68360" y="23493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7000"/>
          </a:bodyPr>
          <a:p>
            <a:pPr marL="58320" indent="-5832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Дробление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яд последовательных митотических делений зиг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Бластом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летка бласту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Морула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клеточный зарод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Бласту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шаровидный зародыш с полостью внут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етки, ограничивающие полость образуют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бластодер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сть, заполненная жидкостью –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бластоцель или первичная пол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7" descr="Размножение организмов"/>
          <p:cNvPicPr/>
          <p:nvPr/>
        </p:nvPicPr>
        <p:blipFill>
          <a:blip r:embed="rId8"/>
          <a:srcRect l="21801" t="67532" r="54282" b="0"/>
          <a:stretch/>
        </p:blipFill>
        <p:spPr>
          <a:xfrm>
            <a:off x="7020000" y="1268280"/>
            <a:ext cx="1081080" cy="9828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Размножение организмов"/>
          <p:cNvPicPr/>
          <p:nvPr/>
        </p:nvPicPr>
        <p:blipFill>
          <a:blip r:embed="rId9"/>
          <a:srcRect l="0" t="1633" r="67802" b="80807"/>
          <a:stretch/>
        </p:blipFill>
        <p:spPr>
          <a:xfrm>
            <a:off x="1476360" y="1125360"/>
            <a:ext cx="1982880" cy="15242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Размножение организмов"/>
          <p:cNvPicPr/>
          <p:nvPr/>
        </p:nvPicPr>
        <p:blipFill>
          <a:blip r:embed="rId10"/>
          <a:srcRect l="34510" t="325" r="47180" b="80807"/>
          <a:stretch/>
        </p:blipFill>
        <p:spPr>
          <a:xfrm>
            <a:off x="3780000" y="1125360"/>
            <a:ext cx="961920" cy="13957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0" descr="Размножение организмов"/>
          <p:cNvPicPr/>
          <p:nvPr/>
        </p:nvPicPr>
        <p:blipFill>
          <a:blip r:embed="rId11"/>
          <a:srcRect l="50609" t="181" r="26467" b="80807"/>
          <a:stretch/>
        </p:blipFill>
        <p:spPr>
          <a:xfrm>
            <a:off x="4788000" y="1125360"/>
            <a:ext cx="1137960" cy="13305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1" descr="Размножение организмов"/>
          <p:cNvPicPr/>
          <p:nvPr/>
        </p:nvPicPr>
        <p:blipFill>
          <a:blip r:embed="rId12"/>
          <a:srcRect l="73624" t="-1633" r="0" b="80807"/>
          <a:stretch/>
        </p:blipFill>
        <p:spPr>
          <a:xfrm>
            <a:off x="5867280" y="1197000"/>
            <a:ext cx="987480" cy="109692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обенност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тотическое 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о клеток увеличи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меры клеток уменьш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родыш не рас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нетическая информация не реализ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игота  – бластомеры  – морула  - бласт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тадия -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астру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(двухслойный зародыш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вичный 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строц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нтоде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тодер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4" descr="Размножение организмов"/>
          <p:cNvPicPr/>
          <p:nvPr/>
        </p:nvPicPr>
        <p:blipFill>
          <a:blip r:embed="rId5"/>
          <a:srcRect l="0" t="19200" r="0" b="52007"/>
          <a:stretch/>
        </p:blipFill>
        <p:spPr>
          <a:xfrm>
            <a:off x="1042920" y="1197000"/>
            <a:ext cx="6840720" cy="2322360"/>
          </a:xfrm>
          <a:prstGeom prst="rect">
            <a:avLst/>
          </a:prstGeom>
          <a:ln w="0">
            <a:noFill/>
          </a:ln>
        </p:spPr>
      </p:pic>
      <p:sp>
        <p:nvSpPr>
          <p:cNvPr id="556" name="Line 10"/>
          <p:cNvSpPr/>
          <p:nvPr/>
        </p:nvSpPr>
        <p:spPr>
          <a:xfrm flipV="1">
            <a:off x="2987640" y="1699920"/>
            <a:ext cx="3672000" cy="230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1"/>
          <p:cNvSpPr/>
          <p:nvPr/>
        </p:nvSpPr>
        <p:spPr>
          <a:xfrm flipV="1">
            <a:off x="2627280" y="2276640"/>
            <a:ext cx="3889440" cy="22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4"/>
          <p:cNvSpPr/>
          <p:nvPr/>
        </p:nvSpPr>
        <p:spPr>
          <a:xfrm flipV="1">
            <a:off x="2556000" y="2708280"/>
            <a:ext cx="3887640" cy="216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5"/>
          <p:cNvSpPr/>
          <p:nvPr/>
        </p:nvSpPr>
        <p:spPr>
          <a:xfrm flipV="1">
            <a:off x="2627280" y="3068640"/>
            <a:ext cx="4032360" cy="216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об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мещение  части стенки бластулы в первичную полость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родыш не рас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ения клеток не происхо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инает использоваться генетическая информация, первые признаки дифференцировки 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уется двухслойный зарод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тадия –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рганогенез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формирование органов из зародышевых листков -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нейруля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тоде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нтоде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зоде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4" descr="Размножение организмов"/>
          <p:cNvPicPr/>
          <p:nvPr/>
        </p:nvPicPr>
        <p:blipFill>
          <a:blip r:embed="rId9"/>
          <a:srcRect l="0" t="45604" r="0" b="25603"/>
          <a:stretch/>
        </p:blipFill>
        <p:spPr>
          <a:xfrm>
            <a:off x="1258920" y="1341360"/>
            <a:ext cx="6408720" cy="2448000"/>
          </a:xfrm>
          <a:prstGeom prst="rect">
            <a:avLst/>
          </a:prstGeom>
          <a:ln w="0">
            <a:noFill/>
          </a:ln>
        </p:spPr>
      </p:pic>
      <p:sp>
        <p:nvSpPr>
          <p:cNvPr id="565" name="Line 9"/>
          <p:cNvSpPr/>
          <p:nvPr/>
        </p:nvSpPr>
        <p:spPr>
          <a:xfrm flipV="1">
            <a:off x="5580000" y="2923920"/>
            <a:ext cx="1079640" cy="1657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0"/>
          <p:cNvSpPr/>
          <p:nvPr/>
        </p:nvSpPr>
        <p:spPr>
          <a:xfrm flipV="1">
            <a:off x="5651640" y="2565000"/>
            <a:ext cx="1512720" cy="230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1"/>
          <p:cNvSpPr/>
          <p:nvPr/>
        </p:nvSpPr>
        <p:spPr>
          <a:xfrm flipV="1">
            <a:off x="5580000" y="3068640"/>
            <a:ext cx="28728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20:27:45Z</dcterms:created>
  <dc:creator>HOME</dc:creator>
  <dc:description/>
  <dc:language>en-US</dc:language>
  <cp:lastModifiedBy>teacher</cp:lastModifiedBy>
  <dcterms:modified xsi:type="dcterms:W3CDTF">2012-12-18T06:51:12Z</dcterms:modified>
  <cp:revision>17</cp:revision>
  <dc:subject/>
  <dc:title>            Сорокина В.Ю. Онтогенез</dc:title>
</cp:coreProperties>
</file>