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5916-E01C-437A-ACEE-1DD96C428E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9CC6-849C-449C-B001-1D74A1D9E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287D-69C9-4D5A-A3E2-520462AD8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fld id="{C058EC8C-AFE1-4BFB-B107-7C01A7F92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0492-D878-4073-B8BC-563B376B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2B10-1815-494B-87D3-5EEAEAA0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C0C0-E472-49A6-B90A-BEEDE22C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5EEA-0A9E-495C-A510-C5D95FC2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A793-9EDA-4650-92B6-DACF5E9B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6AA3-812B-47AB-A2C8-16D38C2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0D80-1F3B-46E2-A959-B3D77817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6E56-953E-459B-866C-D4A74300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4069-C32B-4AE9-BA50-35687045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8A6D-5B21-4886-94E2-77B441DE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0B74-1F55-4041-BDFB-875006F6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271D-A18D-4E7B-B53E-64F9A5AF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38C1-B526-4887-8C1B-815F4B09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D16D-EF59-43C3-A265-FC0D2834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3E1F-BA5D-476C-B8D1-F475BE76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D179-E904-4603-A6C5-028449BF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473D-AF63-40F8-B0CE-21FF200F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BDC7-F59C-4FBA-A12E-F71DDA32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1619-3402-4FD4-A393-C9553E80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8796-9176-446B-B2E5-9897F250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360A-A100-4D69-B86F-6E512A6D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7255-8BC8-4B79-9250-98C91E4A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E9D4-B982-4E66-B88D-78E42D0B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9813-47D9-45C8-9351-8EAE78F2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730F-0346-4C51-953B-DD3B5E6ED6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5E08-1014-4AED-917C-53FF55A1A0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images.google.ru/imgres?imgurl=http://www.sevin.ru/invasive/invasion/insects/settled/american_white_moth.gif&amp;imgrefurl=http://www.sevin.ru/invasive/invasion/insects/settled/american_white_moth.html&amp;h=439&amp;w=309&amp;sz=100&amp;hl=ru&amp;start=211&amp;tbnid=z0Xo7Hy8VLoOrM:&amp;tbnh=127&amp;tbnw=89&amp;prev=/images%3Fq%3D%25D0%25B1%25D0%25B0%25D0%25B1%25D0%25BE%25D1%2587%25D0%25BA%25D0%25B0%26start%3D200%26ndsp%3D20%26svnum%3D10%26hl%3Dru%26newwindow%3D1%26rlz%3D1T4ADBF_ruRU239RU248%26sa%3DN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google.ru/imgres?imgurl=http://www.museum.ru/imgB.asp%3F3498&amp;imgrefurl=http://www.museum.ru/alb/image.asp%3F3498&amp;h=382&amp;w=600&amp;sz=77&amp;hl=ru&amp;start=2&amp;tbnid=j1nuWmR8cRp1ZM:&amp;tbnh=86&amp;tbnw=135&amp;prev=/images%3Fq%3D%25D0%25B1%25D0%25B0%25D0%25B1%25D0%25BE%25D1%2587%25D0%25BA%25D0%25B0%26ndsp%3D20%26svnum%3D10%26hl%3Dru%26newwindow%3D1%26rlz%3D1T4ADBF_ruRU239RU248%26sa%3DN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ru/imgres?imgurl=http://www.dewinrain.com/frogs/frog_life.jpg&amp;imgrefurl=http://www.dewinrain.com/life_frog.shtml&amp;h=409&amp;w=400&amp;sz=82&amp;hl=ru&amp;start=78&amp;tbnid=VYZ9Ik1PSSctzM:&amp;tbnh=125&amp;tbnw=122&amp;prev=/images%3Fq%3D%25D0%25BB%25D1%258F%25D0%25B3%25D1%2583%25D1%2588%25D0%25BA%25D0%25B0%26start%3D60%26ndsp%3D20%26svnum%3D10%26hl%3Dru%26newwindow%3D1%26rlz%3D1T4ADBF_ruRU239RU248%26sa%3D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ru/imgres?imgurl=http://www.aquahobby.ru/fishes/fish061.jpg&amp;imgrefurl=http://www.aquahobby.ru/fishes/discus.shtml&amp;h=350&amp;w=320&amp;sz=12&amp;hl=ru&amp;start=15&amp;tbnid=KcIDzyWIXkRQwM:&amp;tbnh=120&amp;tbnw=110&amp;prev=/images%3Fq%3D%25D1%2580%25D1%258B%25D0%25B1%25D1%258B%26ndsp%3D20%26svnum%3D10%26hl%3Dru%26newwindow%3D1%26rlz%3D1T4ADBF_ruRU239RU248%26sa%3DN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google.ru/imgres?imgurl=http://greenplaneta.ru/news/2005020419000000_s.jpg&amp;imgrefurl=http://greenplaneta.ru/news_id.php%3Fid%3D2005020419000000&amp;h=140&amp;w=100&amp;sz=7&amp;hl=ru&amp;start=21&amp;tbnid=s_4-uH4NR5O12M:&amp;tbnh=93&amp;tbnw=66&amp;prev=/images%3Fq%3D%25D0%25BF%25D1%2582%25D0%25B8%25D1%2586%25D1%258B%2B%25D1%2580%25D0%25BE%25D1%2581%25D1%2581%25D0%25B8%25D0%25B8%26start%3D20%26ndsp%3D20%26svnum%3D10%26hl%3Dru%26newwindow%3D1%26rlz%3D1T4ADBF_ruRU239RU248%26sa%3DN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google.ru/imgres?imgurl=http://img.utro.ua/2007/06/234/1c78ba1b1030fbb15dc94f5db3493301.jpg&amp;imgrefurl=http://www.utro.ua/articles/2007/06/20/51107.shtml&amp;h=234&amp;w=234&amp;sz=30&amp;hl=ru&amp;start=36&amp;tbnid=CCNnWYVLcYCasM:&amp;tbnh=109&amp;tbnw=109&amp;prev=/images%3Fq%3D%25D0%25BF%25D0%25B0%25D1%2583%25D0%25BA%25D0%25B8%2B%25D1%2583%25D0%25BA%25D1%2580%25D0%25B0%25D0%25B8%25D0%25BD%25D1%258B%26start%3D20%26ndsp%3D20%26svnum%3D10%26hl%3Dru%26newwindow%3D1%26rlz%3D1T4ADBF_ruRU239RU248%26sa%3DN" TargetMode="External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image" Target="../media/image12.jpe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окина В.Ю.</a:t>
            </a:r>
            <a:br>
              <a:rPr sz="5400"/>
            </a:br>
            <a:r>
              <a:rPr b="1" lang="ru-RU" sz="6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Онтогене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Эк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Энтодерма пищеварительной тру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Мез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Нервная пл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Хо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Размножение организмов"/>
          <p:cNvPicPr/>
          <p:nvPr/>
        </p:nvPicPr>
        <p:blipFill>
          <a:blip r:embed="rId1"/>
          <a:srcRect l="0" t="72008" r="0" b="-794"/>
          <a:stretch/>
        </p:blipFill>
        <p:spPr>
          <a:xfrm>
            <a:off x="1187280" y="981000"/>
            <a:ext cx="6480360" cy="2305080"/>
          </a:xfrm>
          <a:prstGeom prst="rect">
            <a:avLst/>
          </a:prstGeom>
          <a:ln w="0">
            <a:noFill/>
          </a:ln>
        </p:spPr>
      </p:pic>
      <p:sp>
        <p:nvSpPr>
          <p:cNvPr id="571" name="Line 17"/>
          <p:cNvSpPr/>
          <p:nvPr/>
        </p:nvSpPr>
        <p:spPr>
          <a:xfrm flipV="1">
            <a:off x="2268360" y="2276280"/>
            <a:ext cx="324036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8"/>
          <p:cNvSpPr/>
          <p:nvPr/>
        </p:nvSpPr>
        <p:spPr>
          <a:xfrm flipV="1">
            <a:off x="5364000" y="2420640"/>
            <a:ext cx="719280" cy="143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2"/>
          <p:cNvSpPr/>
          <p:nvPr/>
        </p:nvSpPr>
        <p:spPr>
          <a:xfrm flipV="1">
            <a:off x="2195640" y="1628280"/>
            <a:ext cx="4537080" cy="33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5"/>
          <p:cNvSpPr/>
          <p:nvPr/>
        </p:nvSpPr>
        <p:spPr>
          <a:xfrm flipH="1" flipV="1">
            <a:off x="7235640" y="2276640"/>
            <a:ext cx="144360" cy="23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6"/>
          <p:cNvSpPr/>
          <p:nvPr/>
        </p:nvSpPr>
        <p:spPr>
          <a:xfrm flipV="1">
            <a:off x="4859280" y="1844640"/>
            <a:ext cx="1728720" cy="41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5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ние и рост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фференциация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сто и органоген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йцеклетка после оплодотво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5" descr="оплодотворенная яцеклетка"/>
          <p:cNvPicPr/>
          <p:nvPr/>
        </p:nvPicPr>
        <p:blipFill>
          <a:blip r:embed="rId1"/>
          <a:stretch/>
        </p:blipFill>
        <p:spPr>
          <a:xfrm>
            <a:off x="2411280" y="1916280"/>
            <a:ext cx="4681800" cy="351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ое деление ( 2 клетки) - бласто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первое деление"/>
          <p:cNvPicPr/>
          <p:nvPr/>
        </p:nvPicPr>
        <p:blipFill>
          <a:blip r:embed="rId1"/>
          <a:stretch/>
        </p:blipFill>
        <p:spPr>
          <a:xfrm>
            <a:off x="611280" y="1341360"/>
            <a:ext cx="4066920" cy="3054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2кл"/>
          <p:cNvPicPr/>
          <p:nvPr/>
        </p:nvPicPr>
        <p:blipFill>
          <a:blip r:embed="rId2"/>
          <a:stretch/>
        </p:blipFill>
        <p:spPr>
          <a:xfrm>
            <a:off x="4211640" y="2276640"/>
            <a:ext cx="4386240" cy="329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торое деление (4 бластоме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1075405948_01"/>
          <p:cNvPicPr/>
          <p:nvPr/>
        </p:nvPicPr>
        <p:blipFill>
          <a:blip r:embed="rId1"/>
          <a:stretch/>
        </p:blipFill>
        <p:spPr>
          <a:xfrm>
            <a:off x="971640" y="3357720"/>
            <a:ext cx="3876480" cy="2714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AGWQ8MH"/>
          <p:cNvPicPr/>
          <p:nvPr/>
        </p:nvPicPr>
        <p:blipFill>
          <a:blip r:embed="rId2"/>
          <a:stretch/>
        </p:blipFill>
        <p:spPr>
          <a:xfrm>
            <a:off x="5148360" y="256536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ье дел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8 бластоме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8бластомеров"/>
          <p:cNvPicPr/>
          <p:nvPr/>
        </p:nvPicPr>
        <p:blipFill>
          <a:blip r:embed="rId1"/>
          <a:stretch/>
        </p:blipFill>
        <p:spPr>
          <a:xfrm>
            <a:off x="1692360" y="1700280"/>
            <a:ext cx="5148000" cy="386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дия мор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стадия морулы"/>
          <p:cNvPicPr/>
          <p:nvPr/>
        </p:nvPicPr>
        <p:blipFill>
          <a:blip r:embed="rId1"/>
          <a:stretch/>
        </p:blipFill>
        <p:spPr>
          <a:xfrm>
            <a:off x="2340000" y="1773360"/>
            <a:ext cx="5076720" cy="381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астула с полостью вну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бластоциста"/>
          <p:cNvPicPr/>
          <p:nvPr/>
        </p:nvPicPr>
        <p:blipFill>
          <a:blip r:embed="rId1"/>
          <a:stretch/>
        </p:blipFill>
        <p:spPr>
          <a:xfrm>
            <a:off x="2340000" y="1628640"/>
            <a:ext cx="5538600" cy="415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Эктодерма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 – нервная система, органы чувств, эпидермис кожи и его производные, эмаль зу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Энтодерма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– пищеварительная система, печень, поджелудочная железа, дыхательные системы( жабры, легк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езодерма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– скелет, мускулатура, кровеносная, выделительная и половая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мбриолог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наука о развитии орган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Онтогене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индивидуального развития особ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момента образования зиготы до см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Эмбриогенез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роцесс развития особи от зиготы до рождения или выхода  из яйцевых обол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Постэмбриональное развит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развитие от выхода из яйцевых оболочек или  рождения до смерти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стэмбриональ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Прям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тела матери или яйцевых оболочек выходит особь, отличающаяся от взрослого организма только меньшим разм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00"/>
                </a:solidFill>
                <a:latin typeface="Arial"/>
              </a:rPr>
              <a:t>Яйцекладный                                     внутриутроб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Arial"/>
              </a:rPr>
              <a:t>С превращением, метаморфозом (непрямое)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а выходит личинка, отличающаяся от взрослой особ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american_white_mot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5229360"/>
            <a:ext cx="1224000" cy="122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imgB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48000" y="5445000"/>
            <a:ext cx="1285920" cy="819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frog_lif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948360" y="5157720"/>
            <a:ext cx="1379520" cy="1414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5" descr="fish06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4360" y="314172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7" descr="2005020419000000_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979640" y="3284640"/>
            <a:ext cx="628560" cy="8856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1c78ba1b1030fbb15dc94f5db349330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356000" y="2781360"/>
            <a:ext cx="1038240" cy="1038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1" descr="Bonobo_009"/>
          <p:cNvPicPr/>
          <p:nvPr/>
        </p:nvPicPr>
        <p:blipFill>
          <a:blip r:embed="rId16"/>
          <a:stretch/>
        </p:blipFill>
        <p:spPr>
          <a:xfrm>
            <a:off x="6659640" y="31417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3" descr="ipstyp0"/>
          <p:cNvPicPr/>
          <p:nvPr/>
        </p:nvPicPr>
        <p:blipFill>
          <a:blip r:embed="rId17"/>
          <a:stretch/>
        </p:blipFill>
        <p:spPr>
          <a:xfrm>
            <a:off x="5364000" y="5300640"/>
            <a:ext cx="838440" cy="1285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5" descr="Ящерицы"/>
          <p:cNvPicPr/>
          <p:nvPr/>
        </p:nvPicPr>
        <p:blipFill>
          <a:blip r:embed="rId18"/>
          <a:stretch/>
        </p:blipFill>
        <p:spPr>
          <a:xfrm>
            <a:off x="2843280" y="3141720"/>
            <a:ext cx="1473120" cy="1104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плодотвор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роцесс слияния двух половых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2n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4с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мета +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мета =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зигота 2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4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6" descr="j0345384"/>
          <p:cNvPicPr/>
          <p:nvPr/>
        </p:nvPicPr>
        <p:blipFill>
          <a:blip r:embed="rId2"/>
          <a:stretch/>
        </p:blipFill>
        <p:spPr>
          <a:xfrm>
            <a:off x="1979640" y="4653000"/>
            <a:ext cx="258840" cy="387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j0345383"/>
          <p:cNvPicPr/>
          <p:nvPr/>
        </p:nvPicPr>
        <p:blipFill>
          <a:blip r:embed="rId3"/>
          <a:stretch/>
        </p:blipFill>
        <p:spPr>
          <a:xfrm>
            <a:off x="4140360" y="4581360"/>
            <a:ext cx="379080" cy="3794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j0345383"/>
          <p:cNvPicPr/>
          <p:nvPr/>
        </p:nvPicPr>
        <p:blipFill>
          <a:blip r:embed="rId4"/>
          <a:stretch/>
        </p:blipFill>
        <p:spPr>
          <a:xfrm>
            <a:off x="3348000" y="5300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1" descr="j0345384"/>
          <p:cNvPicPr/>
          <p:nvPr/>
        </p:nvPicPr>
        <p:blipFill>
          <a:blip r:embed="rId5"/>
          <a:stretch/>
        </p:blipFill>
        <p:spPr>
          <a:xfrm>
            <a:off x="826920" y="5300640"/>
            <a:ext cx="258840" cy="387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37"/>
          <p:cNvPicPr/>
          <p:nvPr/>
        </p:nvPicPr>
        <p:blipFill>
          <a:blip r:embed="rId6"/>
          <a:srcRect l="57101" t="-650" r="1801" b="0"/>
          <a:stretch/>
        </p:blipFill>
        <p:spPr>
          <a:xfrm>
            <a:off x="3132000" y="1341360"/>
            <a:ext cx="2876760" cy="30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звитие ланцетника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адия дробления или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стуля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68360" y="23493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робление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яд последовательных митотических делений зиг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ласто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летка бласт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Морул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леточный заро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ласту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шаровидный зародыш с полостью вну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етки, ограничивающие полость образуют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ластодер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сть, заполненная жидкостью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бластоцель или первичн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Размножение организмов"/>
          <p:cNvPicPr/>
          <p:nvPr/>
        </p:nvPicPr>
        <p:blipFill>
          <a:blip r:embed="rId8"/>
          <a:srcRect l="21801" t="67532" r="54282" b="0"/>
          <a:stretch/>
        </p:blipFill>
        <p:spPr>
          <a:xfrm>
            <a:off x="7020000" y="1268280"/>
            <a:ext cx="1081080" cy="982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Размножение организмов"/>
          <p:cNvPicPr/>
          <p:nvPr/>
        </p:nvPicPr>
        <p:blipFill>
          <a:blip r:embed="rId9"/>
          <a:srcRect l="0" t="1633" r="67802" b="80807"/>
          <a:stretch/>
        </p:blipFill>
        <p:spPr>
          <a:xfrm>
            <a:off x="1476360" y="1125360"/>
            <a:ext cx="1982880" cy="1524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Размножение организмов"/>
          <p:cNvPicPr/>
          <p:nvPr/>
        </p:nvPicPr>
        <p:blipFill>
          <a:blip r:embed="rId10"/>
          <a:srcRect l="34510" t="325" r="47180" b="80807"/>
          <a:stretch/>
        </p:blipFill>
        <p:spPr>
          <a:xfrm>
            <a:off x="3780000" y="1125360"/>
            <a:ext cx="961920" cy="1395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Размножение организмов"/>
          <p:cNvPicPr/>
          <p:nvPr/>
        </p:nvPicPr>
        <p:blipFill>
          <a:blip r:embed="rId11"/>
          <a:srcRect l="50609" t="181" r="26467" b="80807"/>
          <a:stretch/>
        </p:blipFill>
        <p:spPr>
          <a:xfrm>
            <a:off x="4788000" y="1125360"/>
            <a:ext cx="1137960" cy="13305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" descr="Размножение организмов"/>
          <p:cNvPicPr/>
          <p:nvPr/>
        </p:nvPicPr>
        <p:blipFill>
          <a:blip r:embed="rId12"/>
          <a:srcRect l="73624" t="-1633" r="0" b="80807"/>
          <a:stretch/>
        </p:blipFill>
        <p:spPr>
          <a:xfrm>
            <a:off x="5867280" y="1197000"/>
            <a:ext cx="987480" cy="10969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енност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тотическое 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клеток увели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ы клеток уменьш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одыш не рас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нетическая информация не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игота  – бластомеры  – морула  - бласт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адия -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астр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двухслойный зародыш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ичный 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стро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тодер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Размножение организмов"/>
          <p:cNvPicPr/>
          <p:nvPr/>
        </p:nvPicPr>
        <p:blipFill>
          <a:blip r:embed="rId5"/>
          <a:srcRect l="0" t="19200" r="0" b="52007"/>
          <a:stretch/>
        </p:blipFill>
        <p:spPr>
          <a:xfrm>
            <a:off x="1042920" y="1197000"/>
            <a:ext cx="6840720" cy="2322360"/>
          </a:xfrm>
          <a:prstGeom prst="rect">
            <a:avLst/>
          </a:prstGeom>
          <a:ln w="0">
            <a:noFill/>
          </a:ln>
        </p:spPr>
      </p:pic>
      <p:sp>
        <p:nvSpPr>
          <p:cNvPr id="556" name="Line 10"/>
          <p:cNvSpPr/>
          <p:nvPr/>
        </p:nvSpPr>
        <p:spPr>
          <a:xfrm flipV="1">
            <a:off x="2987640" y="1699920"/>
            <a:ext cx="3672000" cy="23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1"/>
          <p:cNvSpPr/>
          <p:nvPr/>
        </p:nvSpPr>
        <p:spPr>
          <a:xfrm flipV="1">
            <a:off x="2627280" y="2276640"/>
            <a:ext cx="388944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4"/>
          <p:cNvSpPr/>
          <p:nvPr/>
        </p:nvSpPr>
        <p:spPr>
          <a:xfrm flipV="1">
            <a:off x="2556000" y="2708280"/>
            <a:ext cx="3887640" cy="216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 flipV="1">
            <a:off x="2627280" y="3068640"/>
            <a:ext cx="4032360" cy="216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щение  части стенки бластулы в первичную полость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одыш не рас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ения клеток не проис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ет использоваться генетическая информация, первые признаки дифференцировки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уется двухслойный заро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адия –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рганогенез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формирование органов из зародышевых листков -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ейр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з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Размножение организмов"/>
          <p:cNvPicPr/>
          <p:nvPr/>
        </p:nvPicPr>
        <p:blipFill>
          <a:blip r:embed="rId9"/>
          <a:srcRect l="0" t="45604" r="0" b="25603"/>
          <a:stretch/>
        </p:blipFill>
        <p:spPr>
          <a:xfrm>
            <a:off x="1258920" y="1341360"/>
            <a:ext cx="6408720" cy="2448000"/>
          </a:xfrm>
          <a:prstGeom prst="rect">
            <a:avLst/>
          </a:prstGeom>
          <a:ln w="0">
            <a:noFill/>
          </a:ln>
        </p:spPr>
      </p:pic>
      <p:sp>
        <p:nvSpPr>
          <p:cNvPr id="565" name="Line 9"/>
          <p:cNvSpPr/>
          <p:nvPr/>
        </p:nvSpPr>
        <p:spPr>
          <a:xfrm flipV="1">
            <a:off x="5580000" y="2923920"/>
            <a:ext cx="1079640" cy="165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0"/>
          <p:cNvSpPr/>
          <p:nvPr/>
        </p:nvSpPr>
        <p:spPr>
          <a:xfrm flipV="1">
            <a:off x="5651640" y="2565000"/>
            <a:ext cx="1512720" cy="230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1"/>
          <p:cNvSpPr/>
          <p:nvPr/>
        </p:nvSpPr>
        <p:spPr>
          <a:xfrm flipV="1">
            <a:off x="5580000" y="3068640"/>
            <a:ext cx="28728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20:27:45Z</dcterms:created>
  <dc:creator>HOME</dc:creator>
  <dc:description/>
  <dc:language>en-US</dc:language>
  <cp:lastModifiedBy>teacher</cp:lastModifiedBy>
  <dcterms:modified xsi:type="dcterms:W3CDTF">2012-12-18T06:51:12Z</dcterms:modified>
  <cp:revision>17</cp:revision>
  <dc:subject/>
  <dc:title>            Сорокина В.Ю. Онтогенез</dc:title>
</cp:coreProperties>
</file>