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AF4-945E-4D3E-BDD5-2C771F84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58A-2906-487C-AD08-012F93FE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5EE-F363-472E-8DE9-4543C8A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3B5-60B4-40B9-AA8F-B9AD2837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A22-EEEC-482D-8343-7CCD3A26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72B-FF0E-46AC-9BAB-34B3891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6003-2664-4A59-AA52-24879CA7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855-42D4-49A8-9F72-27F4EF52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593-190E-429E-BFC4-1002826B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4CC-1811-4B0B-A9DB-C59FB32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0FD-FF61-4A0F-B208-00E76A5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7B6-C9BA-47DA-B5AF-90C4C8A3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CCC7-32DB-4652-AC6D-BAFF47D88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ЛИМЕ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                 ( -X- 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– мономер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-Х-) – структурное звен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ь полимеризаци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(- Х- 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акромолекулы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378936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зависимости от строения основной цепи полимеры имеют разные структуры: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линейн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например, полиэтилен),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разветвленну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например, крахмал) и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пространственну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например, вторичная и третичная структура белк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549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189000"/>
            <a:ext cx="4824360" cy="720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3097080" cy="4152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736720" cy="415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3276720" cy="41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03280" y="404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ы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7640" y="59500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етвл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2000" y="591192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ранствен-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. Пластмассы и волок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ычно полимеры редко используют в чистом виде. Как правило из них получают полимерные материалы. К числу последних относя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ластмассы и вол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ластмас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материал, в котором связующим компонентом служит полимер, а остальные составные части – наполнители, пластификаторы, красители, и др.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ая роль отводится наполнителям, которые добавляют к полимерам. Они повышают прочность и жёстк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мера, снижают его себестоимость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качестве наполнителей могут быть стеклянные волокна, опилки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ментная пыль, бумага, асбест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3141720"/>
            <a:ext cx="8640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этому такие пластмассы, как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иэтилен, поливинилхлорид, полистиро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фенолформальдегидные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шир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няются в различных отрас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мышлен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льского хозяй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едицине, культуре, в бы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83528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084640"/>
            <a:ext cx="304812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08720" y="260280"/>
            <a:ext cx="18352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локна – это вырабатываемые из природных или синтетических полимеров длинные гибкие нити, из которых изготавливается пряжа и другие текстильные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окна подразделяются на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родные и хим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риродные, или нату -     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  ральные, волокна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материалы животного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или растительног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происхождения: шёлк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шерсть, хлопок, лё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3995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Химические волок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олучают путём химической переработки природных (прежде всего целлюлозы) или синтетических пол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химическим волокнам относятся вискозные, ацетатные волокна, а также капрон, нейлон, лавсан и многие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3456000" cy="3017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632560" y="6329520"/>
            <a:ext cx="26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ные и синтетические пол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особы получения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онятия химии поли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стмассы и волок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1726920" cy="190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372360" y="4767120"/>
            <a:ext cx="24476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. Природные и синтетические полим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имеры – это соединения, б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ых человек уже не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йтись. С этими соедин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комы все – от самых маленьких 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жилых, от домохозяек до специалис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и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же такое полим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олимеры – это высокомолекулярные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соединения, состоящие из множества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      одинаковых структурных звен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5229360"/>
            <a:ext cx="7201080" cy="1296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1052640"/>
            <a:ext cx="219564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655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происхождению полимеры делятся на </a:t>
            </a:r>
            <a:r>
              <a:rPr b="1" i="1" lang="en-US" sz="4000" spc="-1" strike="noStrike">
                <a:solidFill>
                  <a:srgbClr val="990033"/>
                </a:solidFill>
                <a:latin typeface="Arial"/>
              </a:rPr>
              <a:t>природные и синтетическ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родные полимеры – это, 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туральный каучук, крахмал, целлюл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ки, нуклеиновые кислоты. Б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которых из них невозмож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знь на нашей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2124000" cy="216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80360" y="609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1640" y="486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63388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ахм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851280" y="4869000"/>
            <a:ext cx="1800360" cy="151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5640" y="63388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интетические полимеры – это многочисленные пластмассы, волокна, каучу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 играют большую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звитии всех отрас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ышл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ьского хозяйства, транспорта,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без природных поли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в невозможна с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знь,так без синте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имеров немысл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ая цивилизация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411280" cy="2492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1125360"/>
            <a:ext cx="270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. Способы получения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же образуются эти необычные соедине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меры получают в основном двум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реакциями полимеризации и реакциями поликонденс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еакцию полимеризации вступают молекулы, содержащие кратную (чаще – двойную) связь. Такие реакции протекают по механизму присоединения и всё начинается с разрыва двойных свя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акция полимер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6979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(-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С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еакции поликонденс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ые молекулы. В их состав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ходить две или более 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ы (-ОН, -СООН,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взаимодействии таких групп происходит отщепление низкомолекулярного продукта (например, воды) и образование новой группировки, которая связывает остатки реагирующих между собой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2133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8720" y="1197000"/>
            <a:ext cx="1835280" cy="208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" y="1773360"/>
            <a:ext cx="6553440" cy="647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53272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еакцию поликонденсации вступают аминокислоты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 этом образуется биополимер - белок и побочное низкомолекулярное вещество – в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–СООН+ … 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–СООН+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О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-СН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О-… 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акцией поликонденсации получают многие полимеры, в том числе кап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10560" y="299736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2852640"/>
            <a:ext cx="15829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2852640"/>
            <a:ext cx="100656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852640"/>
            <a:ext cx="10429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57336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4905360"/>
            <a:ext cx="2303280" cy="1952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2160360" cy="191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012000" y="4913280"/>
            <a:ext cx="2232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. Основные понятия химии полиме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акромолекула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от греч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кро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большой, дли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оном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исходное вещество для получения полим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олиме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ного мер (структурное зве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труктурное зве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многократно повторяющиеся в макромолекуле группы ато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тепень полимеризации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число структурных звеньев в макромолеку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6:15:27Z</dcterms:created>
  <dc:creator>ХИМИКИ</dc:creator>
  <dc:description/>
  <dc:language>en-US</dc:language>
  <cp:lastModifiedBy>Home</cp:lastModifiedBy>
  <dcterms:modified xsi:type="dcterms:W3CDTF">2012-12-19T16:41:06Z</dcterms:modified>
  <cp:revision>17</cp:revision>
  <dc:subject/>
  <dc:title>9 класс (обязательный минимум по химии)  ПОЛИМЕРЫ</dc:title>
</cp:coreProperties>
</file>