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5AF-F1CF-4431-93D9-291285D2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0D0-6559-4369-8F53-202B7E74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6B2-38E7-4449-8897-CB646CAF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A7D-2BBB-41FB-8D86-EAB583F4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9FC-60C8-4528-B267-F4C1EB6C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5F3-45D2-4B24-8AF5-0D0E3004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947-BEFD-4AB1-B700-C9E879E8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484-7B66-4197-8265-3B45A408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FF5-0D30-488D-9430-E875D487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E68-A411-4D79-B831-266DAB1E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F69-59FC-481B-9A23-2703879F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E74-3F42-4CFC-9B83-C072A000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AADA-5429-4FA8-8F31-423A5386A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ОЛИМЕ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                 ( -X- 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– мономер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-Х-) – структурное звено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пень полимеризаци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(- Х-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акромолекулы пол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3789360"/>
            <a:ext cx="896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зависимости от строения основной цепи полимеры имеют разные структуры: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линейну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например, полиэтилен),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разветвленну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например, крахмал) и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пространственну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например, вторичная и третичная структура белк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4000" y="549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189000"/>
            <a:ext cx="4824360" cy="720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3097080" cy="4152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059280" y="1773360"/>
            <a:ext cx="2736720" cy="4152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867280" y="1773360"/>
            <a:ext cx="3276720" cy="410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03280" y="4046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уктуры полиме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50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ней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59500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етвлё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2000" y="5911920"/>
            <a:ext cx="31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ранствен-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4. Пластмассы и волок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ычно полимеры редко используют в чистом виде. Как правило из них получают полимерные материалы. К числу последних относя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ластмассы и волок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ластмас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материал, в котором связующим компонентом служит полимер, а остальные составные части – наполнители, пластификаторы, красители, и др.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ая роль отводится наполнителям, которые добавляют к полимерам. Они повышают прочность и жёстк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имера, снижают его себестоимость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ачестве наполнителей могут быть стеклянные волокна, опилки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ментная пыль, бумага, асбест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3141720"/>
            <a:ext cx="8640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этому такие пластмассы, как, наприм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иэтилен, поливинилхлорид, полистиро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фенолформальдегидные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шир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няются в различных отрасл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мышлен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ль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едицине, культуре, в бы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835280" cy="194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5084640"/>
            <a:ext cx="3048120" cy="17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08720" y="260280"/>
            <a:ext cx="183528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локна – это вырабатываемые из природных или синтетических полимеров длинные гибкие нити, из которых изготавливается пряжа и другие текстильные изд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окна подразделяются на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природные и химичес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риродные, или нату -     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   ральные, волокна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материалы животного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или растительно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происхождения: шёлк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шерсть, хлопок, лё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3995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Химические волок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олучают путём химической переработки природных (прежде всего целлюлозы) или синтетических полим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химическим волокнам относятся вискозные, ацетатные волокна, а также капрон, нейлон, лавсан и многие друг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92720" y="3645000"/>
            <a:ext cx="3168720" cy="287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3456000" cy="3017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632560" y="6329520"/>
            <a:ext cx="268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родные и синтетические поли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особы получения пол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понятия химии пол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стмассы и волок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1726920" cy="190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372360" y="4767120"/>
            <a:ext cx="244764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. Природные и синтетические полиме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имеры – это соединения, б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торых человек уже не 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ойтись. С этими соедин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накомы все – от самых маленьких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жилых, от домохозяек до специалис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их отраслей промыш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же такое полиме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имеры – это высокомолекулярные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соединения, состоящие из множества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   одинаковых структурных звен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5229360"/>
            <a:ext cx="7201080" cy="1296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04000" y="1052640"/>
            <a:ext cx="2195640" cy="187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1655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 происхождению полимеры делятся на </a:t>
            </a: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природные и синтетическ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родные полимеры – это, напри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туральный каучук, крахмал, целлюл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лки, нуклеиновые кислоты. Б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которых из них невозмож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знь на нашей пла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2124000" cy="2160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380360" y="6093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71640" y="4869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63388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хм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851280" y="4869000"/>
            <a:ext cx="1800360" cy="151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95640" y="6338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358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нтетические полимеры – это многочисленные пластмассы, волокна, каучу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 играют большую 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звитии всех отрас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мышлен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льского хозяйства, транспорта, свя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без природных поли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ов невозможна са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знь,так без синте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имеров немысл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ая цивилизация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2411280" cy="2492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1125360"/>
            <a:ext cx="2700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. Способы получения полиме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же образуются эти необычные соедине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имеры получают в основном двум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реакциями полимеризации и реакциями поликонденс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реакцию полимеризации вступают молекулы, содержащие кратную (чаще – двойную) связь. Такие реакции протекают по механизму присоединения и всё начинается с разрыва двойных свя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8930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еакция полимериз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6979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(- 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реакции поликонденса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у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ые молекулы. В их состав дол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ходить две или более функцион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ы (-ОН, -СООН,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р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взаимодействии таких групп происходит отщепление низкомолекулярного продукта (например, воды) и образование новой группировки, которая связывает остатки реагирующих между собой молек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21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08720" y="1197000"/>
            <a:ext cx="1835280" cy="2089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9280" y="1773360"/>
            <a:ext cx="6553440" cy="647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5327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реакцию поликонденсации вступают аминокислоты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 этом образуется биополимер - белок и побочное низкомолекулярное вещество – в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-С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–СООН+ … 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-С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–СООН+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-СН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О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-СН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О-…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кцией поликонденсации получают многие полимеры, в том числе кап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10560" y="299736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360" y="2852640"/>
            <a:ext cx="158292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2852640"/>
            <a:ext cx="100656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852640"/>
            <a:ext cx="104292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57336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4905360"/>
            <a:ext cx="2303280" cy="1952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76720" y="4941720"/>
            <a:ext cx="2160360" cy="1916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012000" y="4913280"/>
            <a:ext cx="2232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3. Основные понятия химии полиме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496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Макромолекула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от греч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кро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большой, дли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Моном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исходное вещество для получения полим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Полим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много мер (структурное зве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труктурное зве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многократно повторяющиеся в макромолекуле группы ато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тепень полимеризации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число структурных звеньев в макромолеку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06:15:27Z</dcterms:created>
  <dc:creator>ХИМИКИ</dc:creator>
  <dc:description/>
  <dc:language>en-US</dc:language>
  <cp:lastModifiedBy>Home</cp:lastModifiedBy>
  <dcterms:modified xsi:type="dcterms:W3CDTF">2012-12-19T16:41:06Z</dcterms:modified>
  <cp:revision>17</cp:revision>
  <dc:subject/>
  <dc:title>9 класс (обязательный минимум по химии)  ПОЛИМЕРЫ</dc:title>
</cp:coreProperties>
</file>