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6BE0-A7E1-41A6-AC01-B5CC4A6EC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37AE-9BFF-46C3-8CCD-3108CECFC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896B-F324-4C73-8C98-2A4D4EFB8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0611-31D2-4A59-89F4-9CCFCF080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6CC5-A30B-4E37-A08C-7E2B19C2B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A820-602D-4DD9-A613-0A2056729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2DB2-AFA2-4494-B05F-C69DD4B5C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FE36-B511-4A69-8750-004BF17B9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964B-5193-4FBD-80D8-EEBEACAF5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81EB-690B-49E3-80A4-EEAFE2B89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C44C-6AB9-4C4B-AE85-7E78DFACB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0502-AB98-4534-B6A6-63D6402CD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82FB2-FC3E-4AC7-AB68-5E58A6B99A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95640" y="47628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рок математики в 3»А» клас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66160" y="1125360"/>
            <a:ext cx="73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9T09:52:40Z</dcterms:created>
  <dc:creator>IRINA</dc:creator>
  <dc:description/>
  <dc:language>en-US</dc:language>
  <cp:lastModifiedBy>IRINA</cp:lastModifiedBy>
  <dcterms:modified xsi:type="dcterms:W3CDTF">2012-11-19T09:58:31Z</dcterms:modified>
  <cp:revision>2</cp:revision>
  <dc:subject/>
  <dc:title>Слайд 1</dc:title>
</cp:coreProperties>
</file>