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746-6488-4D85-AA4D-E9F9FC7D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093-AEE0-486F-8135-430810A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C18-183E-4E2F-BB3F-284C9E75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06C-6897-4DC5-8FD4-39CDC6D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331-1522-4212-9600-45E093B6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C18-9ADA-425B-A972-6E238B5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BC9-16CE-4366-AF86-03BBC03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32E-FABF-4B1C-AAC8-E6674E73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D2B-DEEF-43DB-BDE9-951CCB8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559-4DDC-4271-8153-9A5A301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63C-AD15-4A6B-811D-AC763A7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7BB-6FBF-4473-A17E-234576D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8778-599A-440A-BF04-56BD36329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76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математики в 3»А»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6160" y="112536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9:52:40Z</dcterms:created>
  <dc:creator>IRINA</dc:creator>
  <dc:description/>
  <dc:language>en-US</dc:language>
  <cp:lastModifiedBy>IRINA</cp:lastModifiedBy>
  <dcterms:modified xsi:type="dcterms:W3CDTF">2012-11-19T09:58:31Z</dcterms:modified>
  <cp:revision>2</cp:revision>
  <dc:subject/>
  <dc:title>Слайд 1</dc:title>
</cp:coreProperties>
</file>