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8A83-ECB8-4AC2-BBDE-8928E7B72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6C23-61F3-4FC5-9533-D1374DC2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A7B2-A4EB-46AD-A1C6-7033AAAE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8724-9220-4C94-B6BC-2C638DE80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1B54-146F-492A-9B61-3AA1CD81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3B31-6B3F-4630-9373-83529749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C5DC-DD11-4B4D-AFF4-F5C79DC2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18E1-A9E3-4D93-B908-DD8704AB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051E-FFAD-4A9F-8089-500A3D4E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3065-7891-441E-85D7-2033EB2A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E250-86C2-48C1-A459-A5EDBD3D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6A72-1448-48A9-BDCF-2D12A88A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015A-FE21-41CA-857E-CC6F64BF88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99cc00"/>
                </a:solidFill>
                <a:latin typeface="Arial"/>
              </a:rPr>
              <a:t>Г</a:t>
            </a:r>
            <a:r>
              <a:rPr b="0" lang="ru-RU" sz="8000" spc="-1" strike="noStrike">
                <a:solidFill>
                  <a:srgbClr val="333399"/>
                </a:solidFill>
                <a:latin typeface="Arial"/>
              </a:rPr>
              <a:t>о</a:t>
            </a:r>
            <a:r>
              <a:rPr b="0" lang="ru-RU" sz="8000" spc="-1" strike="noStrike">
                <a:solidFill>
                  <a:srgbClr val="ff9966"/>
                </a:solidFill>
                <a:latin typeface="Arial"/>
              </a:rPr>
              <a:t>р</a:t>
            </a: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8000" spc="-1" strike="noStrike">
                <a:solidFill>
                  <a:srgbClr val="bbe0e3"/>
                </a:solidFill>
                <a:latin typeface="Arial"/>
              </a:rPr>
              <a:t>д</a:t>
            </a: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808080"/>
                </a:solidFill>
                <a:latin typeface="Arial"/>
              </a:rPr>
              <a:t>С</a:t>
            </a:r>
            <a:r>
              <a:rPr b="1" lang="ru-RU" sz="8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8000" spc="-1" strike="noStrike">
                <a:solidFill>
                  <a:srgbClr val="009999"/>
                </a:solidFill>
                <a:latin typeface="Arial"/>
              </a:rPr>
              <a:t>н</a:t>
            </a:r>
            <a:r>
              <a:rPr b="1" lang="ru-RU" sz="8000" spc="-1" strike="noStrike">
                <a:solidFill>
                  <a:srgbClr val="0000ff"/>
                </a:solidFill>
                <a:latin typeface="Arial"/>
              </a:rPr>
              <a:t>о</a:t>
            </a:r>
            <a:r>
              <a:rPr b="1" lang="ru-RU" sz="8000" spc="-1" strike="noStrike">
                <a:solidFill>
                  <a:srgbClr val="66ff66"/>
                </a:solidFill>
                <a:latin typeface="Arial"/>
              </a:rPr>
              <a:t>в</a:t>
            </a:r>
            <a:r>
              <a:rPr b="1" lang="ru-RU" sz="8000" spc="-1" strike="noStrike">
                <a:solidFill>
                  <a:srgbClr val="ff00ff"/>
                </a:solidFill>
                <a:latin typeface="Arial"/>
              </a:rPr>
              <a:t>ы</a:t>
            </a:r>
            <a:r>
              <a:rPr b="1" lang="ru-RU" sz="8000" spc="-1" strike="noStrike">
                <a:solidFill>
                  <a:srgbClr val="00ff00"/>
                </a:solidFill>
                <a:latin typeface="Arial"/>
              </a:rPr>
              <a:t>й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808080"/>
                </a:solidFill>
                <a:latin typeface="Arial"/>
              </a:rPr>
              <a:t>Б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8000" spc="-1" strike="noStrike">
                <a:solidFill>
                  <a:srgbClr val="ff9966"/>
                </a:solidFill>
                <a:latin typeface="Arial"/>
              </a:rPr>
              <a:t>р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ихотворение о гор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437920" y="1447560"/>
            <a:ext cx="358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основый Бор! Сосновый Бор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 нем особый разговор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о с утречка, то вечерк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Я исходил его пешком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тараясь отыскать ответ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Что это - город или нет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десь не фантазия, не сон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тук дятла и синички звон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десь так расставлены до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хватило сердца и ума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Что в каждом комнатном окн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то сосен с солнцем наравне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 ним прикрепили облака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е отрываются пока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десь летом ночи коротки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десь чайки наперегон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 домашней птицей, налегк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кользят по Ковашу - рек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основый Бор! Его вихо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еперь причесан на пробор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етрами влажными прогрет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 что ни улица - проспект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 рядом, берег просолив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порский ширится зали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ечет река вдоль берегов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ней силуэты рыбак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тражены. Красив и прост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чается висячий мост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..Безликим городам в уко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расуется Сосновый Бор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66"/>
                </a:solidFill>
                <a:latin typeface="Arial"/>
              </a:rPr>
              <a:t>Достопримечательности        Красивые ме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Андерсенград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рам «Неопалимая Купин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ые пе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э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береж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ые пе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к аттракци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Андерсенград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Андерсенград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9" descr="Andersengrad"/>
          <p:cNvPicPr/>
          <p:nvPr/>
        </p:nvPicPr>
        <p:blipFill>
          <a:blip r:embed="rId1"/>
          <a:stretch/>
        </p:blipFill>
        <p:spPr>
          <a:xfrm>
            <a:off x="163044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Андерсенград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623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Андерсенград» –  это мини-городок, в котором отдыхает много-много людей. Там есть амфитеатр, где показывают спектакли и проводят очень интересные игровые программы. Это очень живописное место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КК «Энергети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img1119"/>
          <p:cNvPicPr/>
          <p:nvPr/>
        </p:nvPicPr>
        <p:blipFill>
          <a:blip r:embed="rId1"/>
          <a:stretch/>
        </p:blipFill>
        <p:spPr>
          <a:xfrm>
            <a:off x="762120" y="1523880"/>
            <a:ext cx="76197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КК «Энергети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120" y="2057040"/>
            <a:ext cx="80773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портивно- концертном комплексе  есть много кружков, секций. Например, плаванье, волейбол и так далее. Там проводятся концерты, в которых иногда принимают участие девочки из нашего класса. В ССК занимаются многие ученики нашей шк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819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ец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</cp:lastModifiedBy>
  <dcterms:modified xsi:type="dcterms:W3CDTF">2009-04-23T19:15:23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