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B7F-2D00-408F-AAAB-4D727FDA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B41-5F0E-46AE-9270-D6E8166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45E-7A31-47B2-B3D6-03C001C3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898-6EE7-487F-8C16-69528CC1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C26-DBB4-4292-871A-BD5FE03B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803-B736-4784-9BDF-0B8F74FD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EA2-407B-41EC-A1BA-243325E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E7A-C286-45D4-B112-E36123A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1AA-8D74-4951-91D5-B9B9CCBC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D40-BF1D-4C46-9F70-E23B60B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FD2-C73C-4078-986E-D335DF1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17B1-D274-49ED-97E7-92F215E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1ED9-23C7-4A2A-8D47-0ABC3F531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ff9966"/>
                </a:solidFill>
                <a:latin typeface="Arial"/>
              </a:rPr>
              <a:t>р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bbe0e3"/>
                </a:solidFill>
                <a:latin typeface="Arial"/>
              </a:rPr>
              <a:t>д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808080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ff00ff"/>
                </a:solidFill>
                <a:latin typeface="Arial"/>
              </a:rPr>
              <a:t>ы</a:t>
            </a:r>
            <a:r>
              <a:rPr b="1" lang="ru-RU" sz="8000" spc="-1" strike="noStrike">
                <a:solidFill>
                  <a:srgbClr val="00ff00"/>
                </a:solidFill>
                <a:latin typeface="Arial"/>
              </a:rPr>
              <a:t>й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808080"/>
                </a:solidFill>
                <a:latin typeface="Arial"/>
              </a:rPr>
              <a:t>Б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9966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отворение о го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7920" y="144756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новый Бор! Сосновый Бор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 нем особый разгов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 с утречка, то вечерк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 исходил его пешко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раясь отыскать отве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 это - город или нет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не фантазия, не сон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ук дятла и синички зв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так расставлены до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ватило сердца и ума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 в каждом комнатном ок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о сосен с солнцем наравне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ним прикрепили облака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 отрываются пока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летом ночи коротк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чайки наперего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домашней птицей, налег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льзят по Ковашу - ре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новый Бор! Его вих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перь причесан на пробор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трами влажными прогр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что ни улица - проспек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 рядом, берег просоли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порский ширится зали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чет река вдоль берег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ей силуэты рыба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ражены. Красив и прос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чается висячий мос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..Безликим городам в ук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уется Сосновый Бор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Достопримечательности        Красивые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м «Неопалимая Куп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е п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э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ре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е п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к аттракц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ndersengrad"/>
          <p:cNvPicPr/>
          <p:nvPr/>
        </p:nvPicPr>
        <p:blipFill>
          <a:blip r:embed="rId1"/>
          <a:stretch/>
        </p:blipFill>
        <p:spPr>
          <a:xfrm>
            <a:off x="16304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 –  это мини-городок, в котором отдыхает много-много людей. Там есть амфитеатр, где показывают спектакли и проводят очень интересные игровые программы. Это очень живописное место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К «Энерге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mg1119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К «Энерге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ортивно- концертном комплексе  есть много кружков, секций. Например, плаванье, волейбол и так далее. Там проводятся концерты, в которых иногда принимают участие девочки из нашего класса. В ССК занимаются многие ученики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4-23T19:15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