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A87-3434-4DC7-A963-4859B2C5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D61-6E0B-4505-B50C-C88715D2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E93-6729-4534-A4A0-53A2AF5C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990-F4A5-4212-9D0D-DF0128EE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D631-A225-4031-9A23-CF5401E9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A6E4-E84A-4FB7-B1D2-4686C5D2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0BFD-7286-41F2-82C4-3D9AB53B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1EA0-E027-46AB-93CE-5D5DC957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A0AF-1F70-4696-8A39-B81F1741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4B95-6220-44E3-A870-3AE202E8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B564-7216-43FD-830B-94CCA2FC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8E0-C874-4D29-9FE0-0B9B9CE7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1CC3-DFB8-4A34-8E11-D246CFA3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74D7-10BD-466F-89F1-5C5551A4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14F0-D523-49B5-B320-F6509DFD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B8CC-532E-4EAF-A9E3-DA74819B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3670-7961-433F-937D-B4934829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6720-237C-4284-A680-DBBC7CAC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EC2-36BA-4842-867C-ED62A146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4BA-4F26-4EF6-AC5E-01B9975D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050-9A9D-4717-B8CA-F2955D95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992-3436-437B-8B83-0A0E4FBC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D4D-C70C-4D96-B63B-6CC333DF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FC4-DEBD-4577-9BE5-7AE90D29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F589-206D-4713-BBBE-E5F62EA14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3935-1849-4ECA-ADF8-8353AA1CB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просы для взаимопровер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915920"/>
            <a:ext cx="91440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 каком соединении проводников конец одного проводника соединяется с началом другог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хема какого соединения ламп показ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а рисун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Чему равна сила тока в последователь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оединенных потребител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 Чему равно напряжение на всём рассматриваемом участке цеп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. Чему равно общее сопротивление цеп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Рисунок 5" descr="http://festival.1september.ru/articles/511918/img5.jpg"/>
          <p:cNvPicPr/>
          <p:nvPr/>
        </p:nvPicPr>
        <p:blipFill>
          <a:blip r:embed="rId2"/>
          <a:srcRect l="67026" t="10933" r="0" b="16294"/>
          <a:stretch/>
        </p:blipFill>
        <p:spPr>
          <a:xfrm>
            <a:off x="7308720" y="2781360"/>
            <a:ext cx="1476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Преимущества и недостатки соедин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ahoma"/>
              </a:rPr>
              <a:t>Пример последовательного соединения: гирлян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ahoma"/>
              </a:rPr>
              <a:t>Пример параллельного соединения: лампы в кабинет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ahoma"/>
              </a:rPr>
              <a:t>Преимущества и недостатки соединений: Параллельное – при перегорании одной лампы, остальные горят. Но при включении лампы с меньшим возможным напряжением она перегорит. Последовательное – лампы с меньшим возможным напряжением включают в цепь с большим напряжением, но при перегорании одной лампы все не будут горе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дведем итоги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знали как нужно включить в цепь потребители, чтобы они могли работать независимо друг от дру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помощью эксперимента сформулировали законы параллельного соединения провод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менили полученные знания в решении модулированной ситу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смотрели преимущества и недостатки соедин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ритерии оценки за урок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брали в сумме  12-13 баллов  поставьте себе отметку  </a:t>
            </a:r>
            <a:r>
              <a:rPr b="0" lang="en-US" sz="3200" spc="-1" strike="noStrike">
                <a:solidFill>
                  <a:srgbClr val="cb134c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брали в сумме  9-11 баллов  поставьте себе отметку  </a:t>
            </a:r>
            <a:r>
              <a:rPr b="0" lang="en-US" sz="3200" spc="-1" strike="noStrike">
                <a:solidFill>
                  <a:srgbClr val="cb134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брали в сумме  6-8 баллов  поставьте себе отметку  </a:t>
            </a:r>
            <a:r>
              <a:rPr b="0" lang="en-US" sz="3200" spc="-1" strike="noStrike">
                <a:solidFill>
                  <a:srgbClr val="cb134c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566100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Осуществите самооцен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параграф 49, задачи на карточках,                                                               решить необходимо одну задачу на выб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адача №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Две электрические лампы включены параллельно под напряжение   127 В. Определите силу тока в каждой лампе и в подводящей цепи, если сопротивление одной лампы 600 Ом, а другой 360 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адача №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Два проводника соединены  параллельно, сопротивление второго -  9 Ом,  сила тока в подводящей цепи 0,6А. Сила тока, проходящего через первый проводник 0,2 А. Чему равно сопротивление этого участка и напряжение на его концах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dbd6"/>
                </a:solidFill>
                <a:latin typeface="Tahoma"/>
              </a:rPr>
              <a:t>Молодцы!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dbd6"/>
                </a:solidFill>
                <a:latin typeface="Tahoma"/>
              </a:rPr>
              <a:t>Спасибо за работу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ритерии оценки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 каждый правильный ответ  ставим по 1 баллу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ри последователь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оследовательн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блемный вопрос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нужно соединить потребители в квартире, чтобы можно было пользоваться каждым прибором в отдельност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араллельное соединение проводник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49228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2492280"/>
            <a:ext cx="7201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формировать знания  о законах параллельного соединения проводников, умение записывать количественные зависимости между величинами характеризующими электрический ток и научиться применять знания на практ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параллельном соединении проводников их начала и концы имеют общие точки подключения к источнику тока.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9" descr="Paralel2"/>
          <p:cNvPicPr/>
          <p:nvPr/>
        </p:nvPicPr>
        <p:blipFill>
          <a:blip r:embed="rId2"/>
          <a:stretch/>
        </p:blipFill>
        <p:spPr>
          <a:xfrm>
            <a:off x="1692360" y="1700280"/>
            <a:ext cx="5616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ритерии оценки действий школьника во время проведения эксперимент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нимал активное участие в проведении эксперимента  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б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астично принимал участие в проведении эксперимента –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б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нимательно следил за проведением эксперимента –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бал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Comic Sans MS"/>
              </a:rPr>
              <a:t>Законы параллельного </a:t>
            </a:r>
            <a:br>
              <a:rPr sz="4000"/>
            </a:br>
            <a:r>
              <a:rPr b="0" i="1" lang="en-US" sz="4000" spc="-1" strike="noStrike">
                <a:solidFill>
                  <a:srgbClr val="cc0000"/>
                </a:solidFill>
                <a:latin typeface="Comic Sans MS"/>
              </a:rPr>
              <a:t>соединения проводник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3505320" y="1828800"/>
                <a:ext cx="1446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Rectangle 9"/>
          <p:cNvSpPr/>
          <p:nvPr/>
        </p:nvSpPr>
        <p:spPr>
          <a:xfrm>
            <a:off x="571680" y="1384560"/>
            <a:ext cx="84200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и параллельном соединени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напряжения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на всех участках цепи одинаковы: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04920" y="2188080"/>
            <a:ext cx="86868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умма токов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 и 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протекающих по обоим проводникам, равна току в неразветвленной цепи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3613320" y="2720880"/>
                <a:ext cx="11872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Rectangle 21"/>
          <p:cNvSpPr/>
          <p:nvPr/>
        </p:nvSpPr>
        <p:spPr>
          <a:xfrm>
            <a:off x="317520" y="3124800"/>
            <a:ext cx="447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писывая на основании закона Ом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771640" y="3500280"/>
                <a:ext cx="308772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и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Rectangle 23"/>
          <p:cNvSpPr/>
          <p:nvPr/>
        </p:nvSpPr>
        <p:spPr>
          <a:xfrm>
            <a:off x="304920" y="4174200"/>
            <a:ext cx="646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электрическое сопротивление всей цепи, получим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5"/>
              <p:cNvSpPr txBox="1"/>
              <p:nvPr/>
            </p:nvSpPr>
            <p:spPr>
              <a:xfrm>
                <a:off x="3449520" y="4724280"/>
                <a:ext cx="1521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Rectangle 26"/>
          <p:cNvSpPr/>
          <p:nvPr/>
        </p:nvSpPr>
        <p:spPr>
          <a:xfrm>
            <a:off x="304920" y="5532480"/>
            <a:ext cx="86868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При параллельном соединении проводников величина, обратная общему сопротивлению цепи, равна сумме величин, обратных сопротивлениям параллельно включенных проводников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7" descr="ParalelSxema"/>
          <p:cNvPicPr/>
          <p:nvPr/>
        </p:nvPicPr>
        <p:blipFill>
          <a:blip r:embed="rId2"/>
          <a:stretch/>
        </p:blipFill>
        <p:spPr>
          <a:xfrm>
            <a:off x="6659640" y="2781360"/>
            <a:ext cx="20160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404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Две электрические лампы включены параллельно под напряжение 220 В. Определите силу тока в каждой лампе и в подводящей цепи, если сопротивление одной лампы 1000 Ом, а другой 488 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2708280"/>
            <a:ext cx="806472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о:                          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 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20 В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 220 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1000 Ом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488 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= 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?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0,22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?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0,45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?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0,67 А             Ответ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= 0,22 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;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= 0,45 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;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= 0,67 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2924280"/>
            <a:ext cx="0" cy="32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450864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2627280" y="3573360"/>
                <a:ext cx="35290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и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Критерии оценки решения задачи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9298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раткая запись условия -0,5 б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спользование физической символики -0,5 б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spcAft>
                <a:spcPts val="115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запись единиц измерения и перевод их в СИ – 0,5 б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хождение и запись необходимых табличных и     постоянных величин – 0,5 б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пись формул – 0,5 б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вод расчётной формулы – 1 б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числения – 1 б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нализ полученных результатов – 0,5 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04:18:34Z</dcterms:created>
  <dc:creator>Компьютер</dc:creator>
  <dc:description/>
  <dc:language>en-US</dc:language>
  <cp:lastModifiedBy>Компьютер</cp:lastModifiedBy>
  <dcterms:modified xsi:type="dcterms:W3CDTF">2005-12-31T19:09:10Z</dcterms:modified>
  <cp:revision>8</cp:revision>
  <dc:subject/>
  <dc:title>Вопросы для взаимопроверки:</dc:title>
</cp:coreProperties>
</file>