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3F7-96AB-4358-ACDA-459C65EA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E10-BB8D-4351-B0AA-8C680A83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9EF-A92E-4AF3-8D0D-07FCF596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E70-902D-4449-AD30-D5A4A1F1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9672-E824-44C7-A711-133DC09A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24D8-AB19-45DD-AEDD-1FA078D3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DDA7-2E35-45AE-BECC-C1F200D5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D04F-A0E1-49D8-9824-910EB7C5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C0F0-1F50-4D67-8D8C-F0D5E73E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79A9-265C-4BE3-9DEE-7A6B00D1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4A3C-71FB-4D3F-B0DB-692D2C8D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ECF-8398-4267-B1BA-5523CB07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F601-34DC-402E-9E41-240B19E9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0590-C63E-4EA1-9BCC-EC0CDDAE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A58E-C36A-4997-A44D-5FC2F142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2CC8-4099-4CC7-BA34-CB011999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D6B6-FDD1-45B2-A908-1F402A6D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814-51D7-4918-8360-73A5A8F8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236-C2D2-4068-B6B6-86E04595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836-CC15-46C6-AB4A-47EB8720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8BA-4ADD-453A-A851-155DF22E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F7E-2687-4F73-82A4-99A8CBB5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DB2-0FE0-414C-9CFE-EAF39E06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9AF-2E8A-4424-9F4E-2CE3C652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2B2C-22AC-4409-98E9-40CBE1A80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F14D-4000-4B6E-8562-C74738F5B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опросы для взаимопровер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915920"/>
            <a:ext cx="91440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 каком соединении проводников конец одного проводника соединяется с началом другог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хема какого соединения ламп показа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а рисун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 Чему равна сила тока в последователь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оединенных потребите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. Чему равно напряжение на всём рассматриваемом участке цеп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. Чему равно общее сопротивление цеп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Рисунок 5" descr="http://festival.1september.ru/articles/511918/img5.jpg"/>
          <p:cNvPicPr/>
          <p:nvPr/>
        </p:nvPicPr>
        <p:blipFill>
          <a:blip r:embed="rId2"/>
          <a:srcRect l="67026" t="10933" r="0" b="16294"/>
          <a:stretch/>
        </p:blipFill>
        <p:spPr>
          <a:xfrm>
            <a:off x="7308720" y="2781360"/>
            <a:ext cx="1476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реимущества и недостатки соединен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ahoma"/>
              </a:rPr>
              <a:t>Пример последовательного соединения: гирлян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ahoma"/>
              </a:rPr>
              <a:t>Пример параллельного соединения: лампы в кабинет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ahoma"/>
              </a:rPr>
              <a:t>Преимущества и недостатки соединений: Параллельное – при перегорании одной лампы, остальные горят. Но при включении лампы с меньшим возможным напряжением она перегорит. Последовательное – лампы с меньшим возможным напряжением включают в цепь с большим напряжением, но при перегорании одной лампы все не будут горе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дведем итоги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знали как нужно включить в цепь потребители, чтобы они могли работать независимо друг от дру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помощью эксперимента сформулировали законы параллельного соединения провод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менили полученные знания в решении модулированной ситу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ссмотрели преимущества и недостатки соедин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ритерии оценки за урок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брали в сумме  12-13 баллов  поставьте себе отметку  </a:t>
            </a:r>
            <a:r>
              <a:rPr b="0" lang="en-US" sz="3200" spc="-1" strike="noStrike">
                <a:solidFill>
                  <a:srgbClr val="cb134c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брали в сумме  9-11 баллов  поставьте себе отметку  </a:t>
            </a:r>
            <a:r>
              <a:rPr b="0" lang="en-US" sz="3200" spc="-1" strike="noStrike">
                <a:solidFill>
                  <a:srgbClr val="cb134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брали в сумме  6-8 баллов  поставьте себе отметку  </a:t>
            </a:r>
            <a:r>
              <a:rPr b="0" lang="en-US" sz="3200" spc="-1" strike="noStrike">
                <a:solidFill>
                  <a:srgbClr val="cb134c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56610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Осуществите самооцен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параграф 49, задачи на карточках,                                                               решить необходимо одну задачу на выб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адача №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Две электрические лампы включены параллельно под напряжение   127 В. Определите силу тока в каждой лампе и в подводящей цепи, если сопротивление одной лампы 600 Ом, а другой 360 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адача №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Два проводника соединены  параллельно, сопротивление второго -  9 Ом,  сила тока в подводящей цепи 0,6А. Сила тока, проходящего через первый проводник 0,2 А. Чему равно сопротивление этого участка и напряжение на его конца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dbd6"/>
                </a:solidFill>
                <a:latin typeface="Tahoma"/>
              </a:rPr>
              <a:t>Молодцы!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dbd6"/>
                </a:solidFill>
                <a:latin typeface="Tahoma"/>
              </a:rPr>
              <a:t>Спасибо за работу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ритерии оценки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 каждый правильный ответ  ставим по 1 баллу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ри последователь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оследовательн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блемный вопрос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нужно соединить потребители в квартире, чтобы можно было пользоваться каждым прибором в отдельност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араллельное соединение проводник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49228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492280"/>
            <a:ext cx="7201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формировать знания  о законах параллельного соединения проводников, умение записывать количественные зависимости между величинами характеризующими электрический ток и научиться применять знания на прак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параллельном соединении проводников их начала и концы имеют общие точки подключения к источнику тока.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9" descr="Paralel2"/>
          <p:cNvPicPr/>
          <p:nvPr/>
        </p:nvPicPr>
        <p:blipFill>
          <a:blip r:embed="rId2"/>
          <a:stretch/>
        </p:blipFill>
        <p:spPr>
          <a:xfrm>
            <a:off x="1692360" y="1700280"/>
            <a:ext cx="561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ритерии оценки действий школьника во время проведения эксперимент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нимал активное участие в проведении эксперимента  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б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стично принимал участие в проведении эксперимента 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б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нимательно следил за проведением эксперимента 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бал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Законы параллельного </a:t>
            </a:r>
            <a:br>
              <a:rPr sz="4000"/>
            </a:b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соединения проводник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3505320" y="1828800"/>
                <a:ext cx="14461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Rectangle 9"/>
          <p:cNvSpPr/>
          <p:nvPr/>
        </p:nvSpPr>
        <p:spPr>
          <a:xfrm>
            <a:off x="571680" y="1384560"/>
            <a:ext cx="84200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и параллельном соединени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напряжения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на всех участках цепи одинаковы: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04920" y="2188080"/>
            <a:ext cx="86868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умма токов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 и 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протекающих по обоим проводникам, равна току в неразветвленной цеп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3613320" y="2720880"/>
                <a:ext cx="1187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Rectangle 21"/>
          <p:cNvSpPr/>
          <p:nvPr/>
        </p:nvSpPr>
        <p:spPr>
          <a:xfrm>
            <a:off x="317520" y="3124800"/>
            <a:ext cx="447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писывая на основании закона Ом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771640" y="3500280"/>
                <a:ext cx="308772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и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23"/>
          <p:cNvSpPr/>
          <p:nvPr/>
        </p:nvSpPr>
        <p:spPr>
          <a:xfrm>
            <a:off x="304920" y="4174200"/>
            <a:ext cx="646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электрическое сопротивление всей цепи, получим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3449520" y="4724280"/>
                <a:ext cx="1521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Rectangle 26"/>
          <p:cNvSpPr/>
          <p:nvPr/>
        </p:nvSpPr>
        <p:spPr>
          <a:xfrm>
            <a:off x="304920" y="5532480"/>
            <a:ext cx="86868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При параллельном соединении проводников величина, обратная общему сопротивлению цепи, равна сумме величин, обратных сопротивлениям параллельно включенных проводников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ParalelSxema"/>
          <p:cNvPicPr/>
          <p:nvPr/>
        </p:nvPicPr>
        <p:blipFill>
          <a:blip r:embed="rId2"/>
          <a:stretch/>
        </p:blipFill>
        <p:spPr>
          <a:xfrm>
            <a:off x="6659640" y="2781360"/>
            <a:ext cx="20160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404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Две электрические лампы включены параллельно под напряжение 220 В. Определите силу тока в каждой лампе и в подводящей цепи, если сопротивление одной лампы 1000 Ом, а другой 488 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2708280"/>
            <a:ext cx="806472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о:                          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 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20 В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 220 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1000 Ом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488 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= 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?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0,22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?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 0,45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?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0,67 А             Ответ: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= 0,22 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;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= 0,45 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;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= 0,67 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292428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450864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2627280" y="3573360"/>
                <a:ext cx="35290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и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Критерии оценки решения задачи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9298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раткая запись условия -0,5 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спользование физической символики -0,5 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spcAft>
                <a:spcPts val="1151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ahoma"/>
              </a:rPr>
              <a:t>запись единиц измерения и перевод их в СИ – 0,5 б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хождение и запись необходимых табличных и     постоянных величин – 0,5 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пись формул – 0,5 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вод расчётной формулы – 1 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числения – 1 б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нализ полученных результатов – 0,5 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04:18:34Z</dcterms:created>
  <dc:creator>Компьютер</dc:creator>
  <dc:description/>
  <dc:language>en-US</dc:language>
  <cp:lastModifiedBy>Компьютер</cp:lastModifiedBy>
  <dcterms:modified xsi:type="dcterms:W3CDTF">2005-12-31T19:09:10Z</dcterms:modified>
  <cp:revision>8</cp:revision>
  <dc:subject/>
  <dc:title>Вопросы для взаимопроверки:</dc:title>
</cp:coreProperties>
</file>