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098-0295-46E9-A134-5AC3980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6E6-9802-4628-93E5-46EAA42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877-FB8A-4C88-BDBE-E0D5F411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EE8-A5F6-48B4-9E49-7091EE38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668-55E5-4043-9F34-8CCDF479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689-1904-45D4-B639-BC732C4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BF9-95C6-482F-A880-7B08A6D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443-9522-49A2-8B15-09EC77B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BBD-2DE3-44F2-9ED5-665B4B25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DE9-C8B2-4954-8C79-B62076E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5D8-FB1D-476A-8A5A-82164012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A21-A020-441F-AC72-7A79252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505E-5D0C-499C-A083-06CE2A04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2064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на тему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«Формы и классификации дизартр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08464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студен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р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ПИ Азизов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1268280"/>
            <a:ext cx="639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дизартрии по степени понятности речи для окружающих применительно к детям с церебральным параличом выделяет четыре степени тяжести речевых нарушений у так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16000" y="1052640"/>
            <a:ext cx="727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самая легкая степень, когда нарушения звукопроизношения выявляются только специалистом в процессе обследов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ушения произношения заметны каждому, но речь понятна для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ть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 понятна только близким ребёнка и частично для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етверта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тяжёлая – отсутствие речи или речь непонятна даже близким ребенка (анартрия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1557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ечение дизартрии предполагает не только участие специалистов. Родители также должны заниматься с ребенком. Выполнять различные логопедические упражнения для развития речевого дыхания. Например, можно играть с малышом в разные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672000" cy="43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105264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дизартрии выражены нарушения интеллектуальной деятельности в виде низкой умственной работоспособности, нарушений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я многих детей характерно замедленное формирование пространственно-временных представлений, оптико-пространственного гнозиса, фонематического анализа, конструктивного пракс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сихолингвистически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зар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25360"/>
            <a:ext cx="93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структуры дефекта при дизартрии на современном уровне развития науки невозможно без привлечения данных психолингвистики о процессе порожден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 дизартрии нарушается реализация двигательной программы за счет несформированности операцией внешнего оформления высказывания: голосовых, темпо-ритмических, артикуляционно-фонетических и просодических нарушений. При дизартрии просодические нарушения могут вызвать своеобразные семантические нарушения и затруднять коммуникацию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924360" cy="475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620640"/>
            <a:ext cx="475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изартрии, сочитающейся с более локальным поражением (или дисфункцией) теменно-затылочных отделов левого полушария, отмечается недостаточная сформированность симультанных пространственных синтезов, что затрудняет формирование сложных логико-грамматических отношений. Это проявляется в затруднениях формирования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744720" cy="36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кация дизар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557360"/>
            <a:ext cx="442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ё основу положены принцип локализации, синдромологиче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 подход, степень понятности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круж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Формы дизартр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125360"/>
            <a:ext cx="6553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льба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евдобульба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страпирамидная (или       подкоркова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зжеч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476360" y="0"/>
            <a:ext cx="12157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Формы дизартрии примените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 детям с церебральным параличом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6286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ригид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гиперкине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атактическа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гиперкинетическая  (И.И. Панченко 197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9280" y="907920"/>
            <a:ext cx="36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дромологическая оценка характера нарушений артикуляционной моторики представляет значительную сложность для неврологической диагностики, особенно когда эти нарушения проявляются без четких двигательных расстройст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219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529080" cy="410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03640" y="1341360"/>
            <a:ext cx="36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ко в ряде случаев при тесной взаимосвязи в работе логопеда и врача -невропатолога может быть целесообразно сочетание обоих подходов к выделению различных форм дизар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21:28Z</dcterms:created>
  <dc:creator>Home</dc:creator>
  <dc:description/>
  <dc:language>en-US</dc:language>
  <cp:lastModifiedBy>Home</cp:lastModifiedBy>
  <dcterms:modified xsi:type="dcterms:W3CDTF">2012-10-27T20:41:50Z</dcterms:modified>
  <cp:revision>3</cp:revision>
  <dc:subject/>
  <dc:title>Слайд 1</dc:title>
</cp:coreProperties>
</file>