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610-2212-4EE7-9DF2-B16716DE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02F-0F82-486D-A55F-56AA202E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536-FDAD-466A-BBBD-98496B9C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558-2E24-4C4C-8D50-E17F2817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941-A377-4744-9B0C-26806D3B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91D-C937-4718-BD7C-E49F1242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C11-2341-46EA-B3FA-B840A100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10D-548C-4088-9A49-A3C1ADFB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C03-D2C7-46E8-81BB-7B2D75BD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4A9-135B-4876-BF29-AAF8E71B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AF3-8751-4238-9444-392634D3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D11-C378-4E71-9AB7-76D94DD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369E-5261-45FD-A15A-BAE17C000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62064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резентация на тему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«Формы и классификации дизартр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508464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студент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р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ПИ Азизова С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1268280"/>
            <a:ext cx="6397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ификация дизартрии по степени понятности речи для окружающих применительно к детям с церебральным параличом выделяет четыре степени тяжести речевых нарушений у таких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16000" y="1052640"/>
            <a:ext cx="727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ерва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самая легкая степень, когда нарушения звукопроизношения выявляются только специалистом в процессе обследован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тора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ушения произношения заметны каждому, но речь понятна для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реть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чь понятна только близким ребёнка и частично для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Четвертая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я тяжёлая – отсутствие речи или речь непонятна даже близким ребенка (анартрия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155772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ечение дизартрии предполагает не только участие специалистов. Родители также должны заниматься с ребенком. Выполнять различные логопедические упражнения для развития речевого дыхания. Например, можно играть с малышом в разные иг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3672000" cy="439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105264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 дизартрии выражены нарушения интеллектуальной деятельности в виде низкой умственной работоспособности, нарушений памяти,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ля многих детей характерно замедленное формирование пространственно-временных представлений, оптико-пространственного гнозиса, фонематического анализа, конструктивного пракс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сихолингвистические а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зар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125360"/>
            <a:ext cx="932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 структуры дефекта при дизартрии на современном уровне развития науки невозможно без привлечения данных психолингвистики о процессе порождения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и дизартрии нарушается реализация двигательной программы за счет несформированности операцией внешнего оформления высказывания: голосовых, темпо-ритмических, артикуляционно-фонетических и просодических нарушений. При дизартрии просодические нарушения могут вызвать своеобразные семантические нарушения и затруднять коммуникацию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3924360" cy="475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620640"/>
            <a:ext cx="475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изартрии, сочитающейся с более локальным поражением (или дисфункцией) теменно-затылочных отделов левого полушария, отмечается недостаточная сформированность симультанных пространственных синтезов, что затрудняет формирование сложных логико-грамматических отношений. Это проявляется в затруднениях формирования 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3744720" cy="367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ификация дизар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6360" y="1557360"/>
            <a:ext cx="442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ё основу положены принцип локализации, синдромологиче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й подход, степень понятности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окружаю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58920" y="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Формы дизартр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125360"/>
            <a:ext cx="65530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ульба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евдобульба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кстрапирамидная (или       подкоркова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зжеч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1476360" y="0"/>
            <a:ext cx="12157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Формы дизартрии применитель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к детям с церебральным параличом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1628640"/>
            <a:ext cx="741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тико – ригид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тико – гиперкинет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тико – атактическая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тико – гиперкинетическая  (И.И. Панченко 197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59280" y="907920"/>
            <a:ext cx="36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дромологическая оценка характера нарушений артикуляционной моторики представляет значительную сложность для неврологической диагностики, особенно когда эти нарушения проявляются без четких двигательных расстройст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219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3529080" cy="410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003640" y="1341360"/>
            <a:ext cx="36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ако в ряде случаев при тесной взаимосвязи в работе логопеда и врача -невропатолога может быть целесообразно сочетание обоих подходов к выделению различных форм дизар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4:21:28Z</dcterms:created>
  <dc:creator>Home</dc:creator>
  <dc:description/>
  <dc:language>en-US</dc:language>
  <cp:lastModifiedBy>Home</cp:lastModifiedBy>
  <dcterms:modified xsi:type="dcterms:W3CDTF">2012-10-27T20:41:50Z</dcterms:modified>
  <cp:revision>3</cp:revision>
  <dc:subject/>
  <dc:title>Слайд 1</dc:title>
</cp:coreProperties>
</file>