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D5F-4506-4166-8B22-B6A5CBE13125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011E-D52B-4A0F-9EE3-53B5CBD76F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задач открываются по гиперссылке – смайлу, последовательность действий по щелчку. Ответы к задачам открываются последовательно по щелчку на слайде №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B8A-70CF-457A-98FB-CAA143A0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093-C2CD-4609-A128-A55CDF1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FC3-A8BF-4C0F-BE6A-714AD3B5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BB8-6A7C-4F2E-9E5B-050B9B65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5943-55B5-46D0-821C-A71654FF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8E49-A20A-4DF1-B8AD-2E6A022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2FA2-C100-490A-BFDF-15D3DC04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E047-7A5E-4845-B849-4D563208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9CC2-35B4-4302-BC5E-69F86E9F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B90F-1A33-464A-9EA1-8F3B3D1A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F1D2-E26B-4C76-98C8-41B17968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8F9-B5D4-4A1A-9BD9-07DF6E4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811E-F954-493A-B388-EF0E015F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CD3-8817-4D51-8390-80D91797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E595-3880-4ED6-BF53-6BA13DCE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BA3D-413B-44FC-A3F2-FDF20749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E924-AA6D-44A6-88FD-29C50D29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7C2-92CC-4385-8FA8-D44A231D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925-A2C5-4A6F-AB18-EF55C84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5C6-8011-4843-B375-2B2088B5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EDE-CC11-4747-A8C0-2055E23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B2B-C2FE-4F39-9B16-C878BB7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02B-A7C8-468C-9954-A4CD4BD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5A3-E7E5-420A-BAA9-0F58940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BEF-468F-44E5-BAFD-D6FBDD89A2C4}" type="datetime"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A48D-A908-40D1-A7B4-84299032AB0B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4BE3-8F52-4E1B-B736-6666744E3262}" type="datetime"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F61F-B31C-471F-83D0-235DFE475274}" type="slidenum">
              <a:rPr b="0" lang="ru-RU" sz="1400" spc="-1" strike="noStrike">
                <a:solidFill>
                  <a:srgbClr val="33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Решение задач с использованием понятия «количество веществ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6084720" y="3357720"/>
                <a:ext cx="278640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4859280" y="5300640"/>
                <a:ext cx="30369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476360" y="4437000"/>
            <a:ext cx="2952720" cy="10098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2e2e2"/>
                </a:solidFill>
                <a:latin typeface="Arial"/>
                <a:ea typeface="Arial"/>
              </a:rPr>
              <a:t>8 класс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B536366-1D79-4403-ABE8-CE5E9B0E7B8A}" type="datetime1">
              <a:rPr lang="en-US"/>
              <a:t>07/28/26</a:t>
            </a:fld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826920" y="260280"/>
          <a:ext cx="7740720" cy="6193080"/>
        </p:xfrm>
        <a:graphic>
          <a:graphicData uri="http://schemas.openxmlformats.org/drawingml/2006/table">
            <a:tbl>
              <a:tblPr/>
              <a:tblGrid>
                <a:gridCol w="730440"/>
                <a:gridCol w="2409840"/>
                <a:gridCol w="1533600"/>
                <a:gridCol w="1535040"/>
                <a:gridCol w="153180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О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ce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 к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лекислый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м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м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ОН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 к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d8e1e4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Д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 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м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e5e0e8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ОР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 КГ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кмоль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*10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7236000" y="3573360"/>
            <a:ext cx="1223640" cy="720720"/>
          </a:xfrm>
          <a:prstGeom prst="ellipse">
            <a:avLst/>
          </a:prstGeom>
          <a:solidFill>
            <a:srgbClr val="e5e0e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836640"/>
            <a:ext cx="1223640" cy="647640"/>
          </a:xfrm>
          <a:prstGeom prst="ellipse">
            <a:avLst/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08720" y="1844640"/>
            <a:ext cx="1368360" cy="719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3080" y="1844640"/>
            <a:ext cx="1296720" cy="71928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781360"/>
            <a:ext cx="1224000" cy="718920"/>
          </a:xfrm>
          <a:prstGeom prst="ellipse">
            <a:avLst/>
          </a:prstGeom>
          <a:solidFill>
            <a:srgbClr val="d8e1e4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2781360"/>
            <a:ext cx="1224000" cy="718920"/>
          </a:xfrm>
          <a:prstGeom prst="ellipse">
            <a:avLst/>
          </a:prstGeom>
          <a:solidFill>
            <a:srgbClr val="d8e1e4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3573360"/>
            <a:ext cx="1224000" cy="647640"/>
          </a:xfrm>
          <a:prstGeom prst="ellipse">
            <a:avLst/>
          </a:prstGeom>
          <a:solidFill>
            <a:srgbClr val="e5e0e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907920"/>
            <a:ext cx="1223640" cy="719280"/>
          </a:xfrm>
          <a:prstGeom prst="ellipse">
            <a:avLst/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5084640"/>
            <a:ext cx="1440000" cy="86364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5013360"/>
            <a:ext cx="1403280" cy="792000"/>
          </a:xfrm>
          <a:prstGeom prst="ellipse">
            <a:avLst/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900000" y="134136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e2e2e2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00000" y="41497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e5e0e8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900000" y="2349360"/>
            <a:ext cx="360360" cy="28764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900000" y="321300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d8e1e4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900000" y="551664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9C35-5428-4D57-A5B2-09EF933D53FC}" type="datetime1">
              <a:rPr lang="en-US"/>
              <a:t>07/28/26</a:t>
            </a:fld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76360" y="476280"/>
            <a:ext cx="3429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76280"/>
            <a:ext cx="529272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 2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г/к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1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моль*28 кг/кмоль = 280 к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моль* 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/кмоль= 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7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76360" y="333360"/>
            <a:ext cx="2374920" cy="2016000"/>
            <a:chOff x="1476360" y="333360"/>
            <a:chExt cx="2374920" cy="2016000"/>
          </a:xfrm>
        </p:grpSpPr>
        <p:sp>
          <p:nvSpPr>
            <p:cNvPr id="120" name=""/>
            <p:cNvSpPr/>
            <p:nvPr/>
          </p:nvSpPr>
          <p:spPr>
            <a:xfrm>
              <a:off x="1476360" y="170172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1280" y="33336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4284720" y="981000"/>
                <a:ext cx="10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4284720" y="2276640"/>
                <a:ext cx="14018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7493"/>
                </a:moveTo>
                <a:lnTo>
                  <a:pt x="11925" y="7493"/>
                </a:lnTo>
                <a:lnTo>
                  <a:pt x="11925" y="12828"/>
                </a:lnTo>
                <a:cubicBezTo>
                  <a:pt x="11925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65380-131D-4E4C-A8A3-451495F42235}" type="datetime1">
              <a:rPr lang="en-US"/>
              <a:t>07/28/26</a:t>
            </a:fld>
          </a:p>
        </p:txBody>
      </p:sp>
    </p:spTree>
  </p:cSld>
  <p:transition spd="slow">
    <p:pull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04640"/>
            <a:ext cx="342900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5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04640"/>
            <a:ext cx="496872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54 мг/ммоль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моль*254мг/ммоль =   1270мг =1,27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 ммоль* 6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/ммоль= 3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1,27г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*10</a:t>
            </a:r>
            <a:r>
              <a:rPr b="0" lang="ru-RU" sz="22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76360" y="189000"/>
            <a:ext cx="2374920" cy="2016000"/>
            <a:chOff x="1476360" y="189000"/>
            <a:chExt cx="2374920" cy="2016000"/>
          </a:xfrm>
        </p:grpSpPr>
        <p:sp>
          <p:nvSpPr>
            <p:cNvPr id="128" name=""/>
            <p:cNvSpPr/>
            <p:nvPr/>
          </p:nvSpPr>
          <p:spPr>
            <a:xfrm>
              <a:off x="1476360" y="155736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1280" y="18900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211640" y="836640"/>
                <a:ext cx="10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4284720" y="2492280"/>
                <a:ext cx="1401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10800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7493"/>
                </a:moveTo>
                <a:lnTo>
                  <a:pt x="11925" y="7493"/>
                </a:lnTo>
                <a:lnTo>
                  <a:pt x="11925" y="12828"/>
                </a:lnTo>
                <a:cubicBezTo>
                  <a:pt x="11925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C5D0F-D99E-40EF-A984-2D1D5EF0F6FF}" type="datetime1">
              <a:rPr lang="en-US"/>
              <a:t>07/28/26</a:t>
            </a:fld>
          </a:p>
        </p:txBody>
      </p:sp>
    </p:spTree>
  </p:cSld>
  <p:transition spd="slow">
    <p:pull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3520" y="620640"/>
            <a:ext cx="3429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88 м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7280" y="333360"/>
            <a:ext cx="460836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4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/м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м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= 12*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92360" y="404640"/>
            <a:ext cx="2374920" cy="2016000"/>
            <a:chOff x="1692360" y="404640"/>
            <a:chExt cx="2374920" cy="2016000"/>
          </a:xfrm>
        </p:grpSpPr>
        <p:sp>
          <p:nvSpPr>
            <p:cNvPr id="136" name=""/>
            <p:cNvSpPr/>
            <p:nvPr/>
          </p:nvSpPr>
          <p:spPr>
            <a:xfrm>
              <a:off x="1692360" y="177300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67280" y="40464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4572000" y="836640"/>
                <a:ext cx="1366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4211640" y="2565360"/>
                <a:ext cx="48117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rPr>
                            <m:lit/>
                            <m:nor/>
                          </m:rPr>
                          <m:t xml:space="preserve">м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м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ммоль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ммол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4643280" y="3500280"/>
                <a:ext cx="1401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4321080" y="4030560"/>
                <a:ext cx="3949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ммоль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ммоль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08000" y="6237360"/>
            <a:ext cx="718920" cy="503280"/>
          </a:xfrm>
          <a:custGeom>
            <a:avLst/>
            <a:gdLst>
              <a:gd name="textAreaLeft" fmla="*/ 32400 w 718920"/>
              <a:gd name="textAreaRight" fmla="*/ 686520 w 718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48" h="21600">
                <a:moveTo>
                  <a:pt x="0" y="0"/>
                </a:moveTo>
                <a:lnTo>
                  <a:pt x="30848" y="0"/>
                </a:lnTo>
                <a:lnTo>
                  <a:pt x="30848" y="21600"/>
                </a:lnTo>
                <a:lnTo>
                  <a:pt x="0" y="21600"/>
                </a:lnTo>
                <a:close/>
              </a:path>
              <a:path fill="lightenLess" w="30848" h="21600">
                <a:moveTo>
                  <a:pt x="0" y="0"/>
                </a:moveTo>
                <a:lnTo>
                  <a:pt x="30848" y="0"/>
                </a:lnTo>
                <a:lnTo>
                  <a:pt x="29448" y="1400"/>
                </a:lnTo>
                <a:lnTo>
                  <a:pt x="1400" y="1400"/>
                </a:lnTo>
                <a:close/>
              </a:path>
              <a:path fill="darken" w="30848" h="21600">
                <a:moveTo>
                  <a:pt x="30848" y="0"/>
                </a:moveTo>
                <a:lnTo>
                  <a:pt x="30848" y="21600"/>
                </a:lnTo>
                <a:lnTo>
                  <a:pt x="29448" y="20200"/>
                </a:lnTo>
                <a:lnTo>
                  <a:pt x="29448" y="1400"/>
                </a:lnTo>
                <a:close/>
              </a:path>
              <a:path fill="darkenLess" w="30848" h="21600">
                <a:moveTo>
                  <a:pt x="30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8" y="20200"/>
                </a:lnTo>
                <a:close/>
              </a:path>
              <a:path fill="lighten" w="30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8" h="21600">
                <a:moveTo>
                  <a:pt x="8418" y="7493"/>
                </a:moveTo>
                <a:lnTo>
                  <a:pt x="11925" y="7493"/>
                </a:lnTo>
                <a:lnTo>
                  <a:pt x="11925" y="12828"/>
                </a:lnTo>
                <a:cubicBezTo>
                  <a:pt x="11925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7AFEB-A7FB-448E-8A6F-460F97060D6D}" type="datetime1">
              <a:rPr lang="en-US"/>
              <a:t>07/28/26</a:t>
            </a:fld>
          </a:p>
        </p:txBody>
      </p:sp>
    </p:spTree>
  </p:cSld>
  <p:transition spd="slow">
    <p:pull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523520" y="620640"/>
            <a:ext cx="3429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(P) = 6.2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(P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(P)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27280" y="333360"/>
            <a:ext cx="460836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P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г/к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 (P) =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2 км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(P) = 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*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476360" y="404640"/>
            <a:ext cx="2374920" cy="2016000"/>
            <a:chOff x="1476360" y="404640"/>
            <a:chExt cx="2374920" cy="2016000"/>
          </a:xfrm>
        </p:grpSpPr>
        <p:sp>
          <p:nvSpPr>
            <p:cNvPr id="146" name=""/>
            <p:cNvSpPr/>
            <p:nvPr/>
          </p:nvSpPr>
          <p:spPr>
            <a:xfrm>
              <a:off x="1476360" y="177300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51280" y="40464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4572000" y="836640"/>
                <a:ext cx="1366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4430880" y="2565360"/>
                <a:ext cx="4373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моль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4643280" y="3500280"/>
                <a:ext cx="1401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468680" y="4030560"/>
                <a:ext cx="3652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оль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0" y="623736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7493"/>
                </a:moveTo>
                <a:lnTo>
                  <a:pt x="11933" y="7493"/>
                </a:lnTo>
                <a:lnTo>
                  <a:pt x="11933" y="12828"/>
                </a:lnTo>
                <a:cubicBezTo>
                  <a:pt x="11933" y="13751"/>
                  <a:pt x="12734" y="14482"/>
                  <a:pt x="13769" y="14482"/>
                </a:cubicBezTo>
                <a:lnTo>
                  <a:pt x="15432" y="14482"/>
                </a:lnTo>
                <a:cubicBezTo>
                  <a:pt x="16468" y="14482"/>
                  <a:pt x="17268" y="13751"/>
                  <a:pt x="17268" y="12828"/>
                </a:cubicBezTo>
                <a:lnTo>
                  <a:pt x="17268" y="7493"/>
                </a:lnTo>
                <a:lnTo>
                  <a:pt x="15432" y="7493"/>
                </a:lnTo>
                <a:lnTo>
                  <a:pt x="18939" y="3985"/>
                </a:lnTo>
                <a:lnTo>
                  <a:pt x="22612" y="7493"/>
                </a:lnTo>
                <a:lnTo>
                  <a:pt x="20776" y="7493"/>
                </a:lnTo>
                <a:lnTo>
                  <a:pt x="20776" y="12828"/>
                </a:lnTo>
                <a:cubicBezTo>
                  <a:pt x="20776" y="15596"/>
                  <a:pt x="18200" y="18155"/>
                  <a:pt x="15432" y="18155"/>
                </a:cubicBezTo>
                <a:lnTo>
                  <a:pt x="13769" y="18155"/>
                </a:lnTo>
                <a:cubicBezTo>
                  <a:pt x="11002" y="18155"/>
                  <a:pt x="8425" y="15596"/>
                  <a:pt x="8425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6F66A-51D8-4734-BE72-D31520D265FC}" type="datetime1">
              <a:rPr lang="en-US"/>
              <a:t>07/28/26</a:t>
            </a:fld>
          </a:p>
        </p:txBody>
      </p:sp>
    </p:spTree>
  </p:cSld>
  <p:transition spd="slow">
    <p:pull dir="rd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02920" y="54936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(O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24*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 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40000" y="475920"/>
            <a:ext cx="4608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(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=48 кг / км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4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мо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(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= 192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619280" y="549360"/>
            <a:ext cx="2374920" cy="2016000"/>
            <a:chOff x="1619280" y="549360"/>
            <a:chExt cx="2374920" cy="2016000"/>
          </a:xfrm>
        </p:grpSpPr>
        <p:sp>
          <p:nvSpPr>
            <p:cNvPr id="156" name=""/>
            <p:cNvSpPr/>
            <p:nvPr/>
          </p:nvSpPr>
          <p:spPr>
            <a:xfrm>
              <a:off x="1619280" y="1917720"/>
              <a:ext cx="237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94200" y="549360"/>
              <a:ext cx="0" cy="2016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Object 3"/>
              <p:cNvSpPr txBox="1"/>
              <p:nvPr/>
            </p:nvSpPr>
            <p:spPr>
              <a:xfrm>
                <a:off x="4200480" y="1916280"/>
                <a:ext cx="4703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моль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моль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4356000" y="928800"/>
                <a:ext cx="13683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356000" y="2781360"/>
                <a:ext cx="172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4284720" y="4149720"/>
                <a:ext cx="4248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кмоль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моль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7493"/>
                </a:moveTo>
                <a:lnTo>
                  <a:pt x="11933" y="7493"/>
                </a:lnTo>
                <a:lnTo>
                  <a:pt x="11933" y="12828"/>
                </a:lnTo>
                <a:cubicBezTo>
                  <a:pt x="11933" y="13751"/>
                  <a:pt x="12734" y="14482"/>
                  <a:pt x="13769" y="14482"/>
                </a:cubicBezTo>
                <a:lnTo>
                  <a:pt x="15432" y="14482"/>
                </a:lnTo>
                <a:cubicBezTo>
                  <a:pt x="16468" y="14482"/>
                  <a:pt x="17268" y="13751"/>
                  <a:pt x="17268" y="12828"/>
                </a:cubicBezTo>
                <a:lnTo>
                  <a:pt x="17268" y="7493"/>
                </a:lnTo>
                <a:lnTo>
                  <a:pt x="15432" y="7493"/>
                </a:lnTo>
                <a:lnTo>
                  <a:pt x="18939" y="3985"/>
                </a:lnTo>
                <a:lnTo>
                  <a:pt x="22612" y="7493"/>
                </a:lnTo>
                <a:lnTo>
                  <a:pt x="20776" y="7493"/>
                </a:lnTo>
                <a:lnTo>
                  <a:pt x="20776" y="12828"/>
                </a:lnTo>
                <a:cubicBezTo>
                  <a:pt x="20776" y="15596"/>
                  <a:pt x="18200" y="18155"/>
                  <a:pt x="15432" y="18155"/>
                </a:cubicBezTo>
                <a:lnTo>
                  <a:pt x="13769" y="18155"/>
                </a:lnTo>
                <a:cubicBezTo>
                  <a:pt x="11002" y="18155"/>
                  <a:pt x="8425" y="15596"/>
                  <a:pt x="8425" y="12828"/>
                </a:cubicBez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знецова Ольга Александровна                                                  МОУ СОШ №7 г. Обнинс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811DC-6D7E-4526-AE2A-4D4D0212B823}" type="datetime1">
              <a:rPr lang="en-US"/>
              <a:t>07/28/26</a:t>
            </a:fld>
          </a:p>
        </p:txBody>
      </p:sp>
    </p:spTree>
  </p:cSld>
  <p:transition spd="slow">
    <p:pull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7:26:35Z</dcterms:created>
  <dc:creator>user</dc:creator>
  <dc:description/>
  <dc:language>en-US</dc:language>
  <cp:lastModifiedBy>Home</cp:lastModifiedBy>
  <dcterms:modified xsi:type="dcterms:W3CDTF">2012-12-19T17:36:04Z</dcterms:modified>
  <cp:revision>4</cp:revision>
  <dc:subject/>
  <dc:title>Решение задач с использованием понятия «количество вещества»</dc:title>
</cp:coreProperties>
</file>