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1DAC-0888-4506-886F-0AFC059D3AF3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75F9-7898-4C95-AFCA-BC21563B3D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я задач открываются по гиперссылке – смайлу, последовательность действий по щелчку. Ответы к задачам открываются последовательно по щелчку на слайде №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E6F-9896-42AB-9DF3-B070C33C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791-E13F-4CFD-AC8E-85DABBFB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A62-C466-44CE-BFE0-87A8B449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1AB-DD50-45EA-A9D9-53B8D185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CB00-AADC-47B0-A6D8-E2D853A5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CFAD-21B2-453F-95AD-AF7D6C81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4E5E-B0A2-40E7-9B13-E7E662F3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4651-5B38-4D73-9FE9-E7AFABCD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000A-9E46-418F-8105-D674D8C1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ACA5-6A90-4B9A-A29B-7917C541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AAB9-FA45-4509-A1CF-DAF81FE7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44C-6F25-4C77-B892-0D29A763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E31B-3370-4685-8FA5-EACA4C99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94B9-4B09-4036-B9F3-5234ED4C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56D7-8189-4249-B75B-37F18D62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68EF-7430-4AC3-B108-92A6748B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599C-988F-4B3E-B465-1A3F5365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FBE-9934-4C4B-8697-B32476F4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A06-387D-4997-8D24-4AF259D2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1EF-C7E5-4451-B690-FDB7A0FD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732-3037-4894-A63E-F0CA33BA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86A-24D8-4567-A1D8-FB2B3BB0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37E-A2BD-4003-AE5F-D9BE834A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1E7-F904-4A3E-88AF-15F32478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5F90-33CE-4FB8-B36E-F04DE958EDDD}" type="datetime">
              <a:rPr b="0" lang="ru-RU" sz="1000" spc="-1" strike="noStrike">
                <a:solidFill>
                  <a:srgbClr val="336666"/>
                </a:solidFill>
                <a:latin typeface="Times New Roman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3C0D-911F-4D61-B7B7-F750E60F7EED}" type="slidenum">
              <a:rPr b="0" lang="ru-RU" sz="1400" spc="-1" strike="noStrike">
                <a:solidFill>
                  <a:srgbClr val="3366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AEB7-0CB1-4346-A9C2-407AF108FCC3}" type="datetime">
              <a:rPr b="0" lang="ru-RU" sz="1000" spc="-1" strike="noStrike">
                <a:solidFill>
                  <a:srgbClr val="336666"/>
                </a:solidFill>
                <a:latin typeface="Times New Roman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BC00-A7CD-4239-97CF-844763AFF3D2}" type="slidenum">
              <a:rPr b="0" lang="ru-RU" sz="1400" spc="-1" strike="noStrike">
                <a:solidFill>
                  <a:srgbClr val="3366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шение задач с использованием понятия «количество веществ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6084720" y="3357720"/>
                <a:ext cx="278640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4859280" y="5300640"/>
                <a:ext cx="30369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1476360" y="4437000"/>
            <a:ext cx="2952720" cy="10098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2e2e2"/>
                </a:solidFill>
                <a:latin typeface="Arial"/>
                <a:ea typeface="Arial"/>
              </a:rPr>
              <a:t>8 класс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Кузнецова Ольга Александровна                                                  МОУ СОШ №7 г. Обнинс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50785BE-9476-4888-A4E2-C1ED66918EED}" type="datetime1">
              <a:rPr lang="en-US"/>
              <a:t>07/29/26</a:t>
            </a:fld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826920" y="260280"/>
          <a:ext cx="7740720" cy="6193080"/>
        </p:xfrm>
        <a:graphic>
          <a:graphicData uri="http://schemas.openxmlformats.org/drawingml/2006/table">
            <a:tbl>
              <a:tblPr/>
              <a:tblGrid>
                <a:gridCol w="730440"/>
                <a:gridCol w="2409840"/>
                <a:gridCol w="1533600"/>
                <a:gridCol w="1535040"/>
                <a:gridCol w="153180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cec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 кг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моль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*10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2e2e2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кислый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мг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моль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*10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1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ОН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1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 кг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1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моль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1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*10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1e4"/>
                    </a:solidFill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5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ОД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5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7 г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5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ммоль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5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*10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5e0e8"/>
                    </a:solidFill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 КГ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кмоль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*10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7236000" y="3573360"/>
            <a:ext cx="1223640" cy="720720"/>
          </a:xfrm>
          <a:prstGeom prst="ellipse">
            <a:avLst/>
          </a:prstGeom>
          <a:solidFill>
            <a:srgbClr val="e5e0e8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836640"/>
            <a:ext cx="1223640" cy="647640"/>
          </a:xfrm>
          <a:prstGeom prst="ellipse">
            <a:avLst/>
          </a:prstGeom>
          <a:solidFill>
            <a:srgbClr val="e2e2e2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1844640"/>
            <a:ext cx="1368360" cy="719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93080" y="1844640"/>
            <a:ext cx="1296720" cy="719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2781360"/>
            <a:ext cx="1224000" cy="718920"/>
          </a:xfrm>
          <a:prstGeom prst="ellipse">
            <a:avLst/>
          </a:prstGeom>
          <a:solidFill>
            <a:srgbClr val="d8e1e4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2781360"/>
            <a:ext cx="1224000" cy="718920"/>
          </a:xfrm>
          <a:prstGeom prst="ellipse">
            <a:avLst/>
          </a:prstGeom>
          <a:solidFill>
            <a:srgbClr val="d8e1e4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7280" y="3573360"/>
            <a:ext cx="1224000" cy="647640"/>
          </a:xfrm>
          <a:prstGeom prst="ellipse">
            <a:avLst/>
          </a:prstGeom>
          <a:solidFill>
            <a:srgbClr val="e5e0e8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907920"/>
            <a:ext cx="1223640" cy="719280"/>
          </a:xfrm>
          <a:prstGeom prst="ellipse">
            <a:avLst/>
          </a:prstGeom>
          <a:solidFill>
            <a:srgbClr val="e2e2e2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5084640"/>
            <a:ext cx="1440000" cy="863640"/>
          </a:xfrm>
          <a:prstGeom prst="ellipse">
            <a:avLst/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5013360"/>
            <a:ext cx="1403280" cy="792000"/>
          </a:xfrm>
          <a:prstGeom prst="ellipse">
            <a:avLst/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900000" y="134136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e2e2e2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900000" y="414972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e5e0e8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900000" y="2349360"/>
            <a:ext cx="360360" cy="287640"/>
          </a:xfrm>
          <a:prstGeom prst="smileyFace">
            <a:avLst>
              <a:gd name="adj" fmla="val 9282"/>
            </a:avLst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900000" y="321300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d8e1e4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900000" y="551664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знецова Ольга Александровна                                                  МОУ СОШ №7 г. Обнинс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609FC-D382-44B9-A871-A17358E1741D}" type="datetime1">
              <a:rPr lang="en-US"/>
              <a:t>07/29/26</a:t>
            </a:fld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76360" y="476280"/>
            <a:ext cx="3429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 1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моль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476280"/>
            <a:ext cx="5292720" cy="55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= 2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г/кмоль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=1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моль*28 кг/кмоль = 280 кг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 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моль* 6*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/кмоль= 6*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8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*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76360" y="333360"/>
            <a:ext cx="2374920" cy="2016000"/>
            <a:chOff x="1476360" y="333360"/>
            <a:chExt cx="2374920" cy="2016000"/>
          </a:xfrm>
        </p:grpSpPr>
        <p:sp>
          <p:nvSpPr>
            <p:cNvPr id="120" name=""/>
            <p:cNvSpPr/>
            <p:nvPr/>
          </p:nvSpPr>
          <p:spPr>
            <a:xfrm>
              <a:off x="1476360" y="1701720"/>
              <a:ext cx="237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1280" y="333360"/>
              <a:ext cx="0" cy="2016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2" name="Object 2"/>
              <p:cNvSpPr txBox="1"/>
              <p:nvPr/>
            </p:nvSpPr>
            <p:spPr>
              <a:xfrm>
                <a:off x="4284720" y="981000"/>
                <a:ext cx="1081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4284720" y="2276640"/>
                <a:ext cx="14018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250920" y="623736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7493"/>
                </a:moveTo>
                <a:lnTo>
                  <a:pt x="11925" y="7493"/>
                </a:lnTo>
                <a:lnTo>
                  <a:pt x="11925" y="12828"/>
                </a:lnTo>
                <a:cubicBezTo>
                  <a:pt x="11925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знецова Ольга Александровна                                                  МОУ СОШ №7 г. Обнинс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4B0F2-1913-46C6-9E13-4FD2BC0EEE63}" type="datetime1">
              <a:rPr lang="en-US"/>
              <a:t>07/29/26</a:t>
            </a:fld>
          </a:p>
        </p:txBody>
      </p:sp>
    </p:spTree>
  </p:cSld>
  <p:transition spd="slow">
    <p:pull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3880" y="404640"/>
            <a:ext cx="3429000" cy="56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 5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моль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404640"/>
            <a:ext cx="4968720" cy="56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(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54 мг/ммоль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(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моль*254мг/ммоль =   1270мг =1,27г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 ммоль* 6*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/ммоль= 3*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(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,27г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*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476360" y="189000"/>
            <a:ext cx="2374920" cy="2016000"/>
            <a:chOff x="1476360" y="189000"/>
            <a:chExt cx="2374920" cy="2016000"/>
          </a:xfrm>
        </p:grpSpPr>
        <p:sp>
          <p:nvSpPr>
            <p:cNvPr id="128" name=""/>
            <p:cNvSpPr/>
            <p:nvPr/>
          </p:nvSpPr>
          <p:spPr>
            <a:xfrm>
              <a:off x="1476360" y="1557360"/>
              <a:ext cx="237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1280" y="189000"/>
              <a:ext cx="0" cy="2016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4211640" y="836640"/>
                <a:ext cx="1081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4284720" y="2492280"/>
                <a:ext cx="14018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108000" y="623736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7493"/>
                </a:moveTo>
                <a:lnTo>
                  <a:pt x="11925" y="7493"/>
                </a:lnTo>
                <a:lnTo>
                  <a:pt x="11925" y="12828"/>
                </a:lnTo>
                <a:cubicBezTo>
                  <a:pt x="11925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знецова Ольга Александровна                                                  МОУ СОШ №7 г. Обнинс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08B20-BBEA-4F09-AFE9-F8DF85E67ACA}" type="datetime1">
              <a:rPr lang="en-US"/>
              <a:t>07/29/26</a:t>
            </a:fld>
          </a:p>
        </p:txBody>
      </p:sp>
    </p:spTree>
  </p:cSld>
  <p:transition spd="slow">
    <p:pull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23520" y="620640"/>
            <a:ext cx="3429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8 м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7280" y="333360"/>
            <a:ext cx="460836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4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г/мм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 мм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 12*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92360" y="404640"/>
            <a:ext cx="2374920" cy="2016000"/>
            <a:chOff x="1692360" y="404640"/>
            <a:chExt cx="2374920" cy="2016000"/>
          </a:xfrm>
        </p:grpSpPr>
        <p:sp>
          <p:nvSpPr>
            <p:cNvPr id="136" name=""/>
            <p:cNvSpPr/>
            <p:nvPr/>
          </p:nvSpPr>
          <p:spPr>
            <a:xfrm>
              <a:off x="1692360" y="1773000"/>
              <a:ext cx="237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67280" y="404640"/>
              <a:ext cx="0" cy="2016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Object 3"/>
              <p:cNvSpPr txBox="1"/>
              <p:nvPr/>
            </p:nvSpPr>
            <p:spPr>
              <a:xfrm>
                <a:off x="4572000" y="836640"/>
                <a:ext cx="13669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4211640" y="2565360"/>
                <a:ext cx="48117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мг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мг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ммоль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ммол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4643280" y="3500280"/>
                <a:ext cx="14018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"/>
              <p:cNvSpPr txBox="1"/>
              <p:nvPr/>
            </p:nvSpPr>
            <p:spPr>
              <a:xfrm>
                <a:off x="4321080" y="4030560"/>
                <a:ext cx="3949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ммоль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ммоль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108000" y="623736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7493"/>
                </a:moveTo>
                <a:lnTo>
                  <a:pt x="11925" y="7493"/>
                </a:lnTo>
                <a:lnTo>
                  <a:pt x="11925" y="12828"/>
                </a:lnTo>
                <a:cubicBezTo>
                  <a:pt x="11925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знецова Ольга Александровна                                                  МОУ СОШ №7 г. Обнинс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EE662-99E4-4894-81D9-EA067AF958C5}" type="datetime1">
              <a:rPr lang="en-US"/>
              <a:t>07/29/26</a:t>
            </a:fld>
          </a:p>
        </p:txBody>
      </p:sp>
    </p:spTree>
  </p:cSld>
  <p:transition spd="slow">
    <p:pull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23520" y="620640"/>
            <a:ext cx="3429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(P) = 6.2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(P)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(P)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7280" y="333360"/>
            <a:ext cx="460836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P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г/км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 (P) =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2 км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(P) = 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*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476360" y="404640"/>
            <a:ext cx="2374920" cy="2016000"/>
            <a:chOff x="1476360" y="404640"/>
            <a:chExt cx="2374920" cy="2016000"/>
          </a:xfrm>
        </p:grpSpPr>
        <p:sp>
          <p:nvSpPr>
            <p:cNvPr id="146" name=""/>
            <p:cNvSpPr/>
            <p:nvPr/>
          </p:nvSpPr>
          <p:spPr>
            <a:xfrm>
              <a:off x="1476360" y="1773000"/>
              <a:ext cx="237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51280" y="404640"/>
              <a:ext cx="0" cy="2016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4572000" y="836640"/>
                <a:ext cx="13669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4430880" y="2565360"/>
                <a:ext cx="4373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кмоль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,2</m:t>
                    </m:r>
                    <m:r>
                      <m:rPr>
                        <m:lit/>
                        <m:nor/>
                      </m:rPr>
                      <m:t xml:space="preserve">кмол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4643280" y="3500280"/>
                <a:ext cx="14018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4468680" y="4030560"/>
                <a:ext cx="3652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кмоль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моль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0" y="623736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7493"/>
                </a:moveTo>
                <a:lnTo>
                  <a:pt x="11933" y="7493"/>
                </a:lnTo>
                <a:lnTo>
                  <a:pt x="11933" y="12828"/>
                </a:lnTo>
                <a:cubicBezTo>
                  <a:pt x="11933" y="13751"/>
                  <a:pt x="12734" y="14482"/>
                  <a:pt x="13769" y="14482"/>
                </a:cubicBezTo>
                <a:lnTo>
                  <a:pt x="15432" y="14482"/>
                </a:lnTo>
                <a:cubicBezTo>
                  <a:pt x="16468" y="14482"/>
                  <a:pt x="17268" y="13751"/>
                  <a:pt x="17268" y="12828"/>
                </a:cubicBezTo>
                <a:lnTo>
                  <a:pt x="17268" y="7493"/>
                </a:lnTo>
                <a:lnTo>
                  <a:pt x="15432" y="7493"/>
                </a:lnTo>
                <a:lnTo>
                  <a:pt x="18939" y="3985"/>
                </a:lnTo>
                <a:lnTo>
                  <a:pt x="22612" y="7493"/>
                </a:lnTo>
                <a:lnTo>
                  <a:pt x="20776" y="7493"/>
                </a:lnTo>
                <a:lnTo>
                  <a:pt x="20776" y="12828"/>
                </a:lnTo>
                <a:cubicBezTo>
                  <a:pt x="20776" y="15596"/>
                  <a:pt x="18200" y="18155"/>
                  <a:pt x="15432" y="18155"/>
                </a:cubicBezTo>
                <a:lnTo>
                  <a:pt x="13769" y="18155"/>
                </a:lnTo>
                <a:cubicBezTo>
                  <a:pt x="11002" y="18155"/>
                  <a:pt x="8425" y="15596"/>
                  <a:pt x="8425" y="1282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знецова Ольга Александровна                                                  МОУ СОШ №7 г. Обнинс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16F61-3302-4E14-9C68-C7A32629163E}" type="datetime1">
              <a:rPr lang="en-US"/>
              <a:t>07/29/26</a:t>
            </a:fld>
          </a:p>
        </p:txBody>
      </p:sp>
    </p:spTree>
  </p:cSld>
  <p:transition spd="slow">
    <p:pull dir="r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402920" y="5493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(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= 24*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 (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40000" y="475920"/>
            <a:ext cx="4608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(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=48 кг / кмо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(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= 4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мо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(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= 192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619280" y="549360"/>
            <a:ext cx="2374920" cy="2016000"/>
            <a:chOff x="1619280" y="549360"/>
            <a:chExt cx="2374920" cy="2016000"/>
          </a:xfrm>
        </p:grpSpPr>
        <p:sp>
          <p:nvSpPr>
            <p:cNvPr id="156" name=""/>
            <p:cNvSpPr/>
            <p:nvPr/>
          </p:nvSpPr>
          <p:spPr>
            <a:xfrm>
              <a:off x="1619280" y="1917720"/>
              <a:ext cx="237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94200" y="549360"/>
              <a:ext cx="0" cy="2016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Object 3"/>
              <p:cNvSpPr txBox="1"/>
              <p:nvPr/>
            </p:nvSpPr>
            <p:spPr>
              <a:xfrm>
                <a:off x="4200480" y="1916280"/>
                <a:ext cx="4703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моль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моль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кмол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4356000" y="928800"/>
                <a:ext cx="13683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4356000" y="2781360"/>
                <a:ext cx="1727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4284720" y="4149720"/>
                <a:ext cx="4248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кмоль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моль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7493"/>
                </a:moveTo>
                <a:lnTo>
                  <a:pt x="11933" y="7493"/>
                </a:lnTo>
                <a:lnTo>
                  <a:pt x="11933" y="12828"/>
                </a:lnTo>
                <a:cubicBezTo>
                  <a:pt x="11933" y="13751"/>
                  <a:pt x="12734" y="14482"/>
                  <a:pt x="13769" y="14482"/>
                </a:cubicBezTo>
                <a:lnTo>
                  <a:pt x="15432" y="14482"/>
                </a:lnTo>
                <a:cubicBezTo>
                  <a:pt x="16468" y="14482"/>
                  <a:pt x="17268" y="13751"/>
                  <a:pt x="17268" y="12828"/>
                </a:cubicBezTo>
                <a:lnTo>
                  <a:pt x="17268" y="7493"/>
                </a:lnTo>
                <a:lnTo>
                  <a:pt x="15432" y="7493"/>
                </a:lnTo>
                <a:lnTo>
                  <a:pt x="18939" y="3985"/>
                </a:lnTo>
                <a:lnTo>
                  <a:pt x="22612" y="7493"/>
                </a:lnTo>
                <a:lnTo>
                  <a:pt x="20776" y="7493"/>
                </a:lnTo>
                <a:lnTo>
                  <a:pt x="20776" y="12828"/>
                </a:lnTo>
                <a:cubicBezTo>
                  <a:pt x="20776" y="15596"/>
                  <a:pt x="18200" y="18155"/>
                  <a:pt x="15432" y="18155"/>
                </a:cubicBezTo>
                <a:lnTo>
                  <a:pt x="13769" y="18155"/>
                </a:lnTo>
                <a:cubicBezTo>
                  <a:pt x="11002" y="18155"/>
                  <a:pt x="8425" y="15596"/>
                  <a:pt x="8425" y="1282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знецова Ольга Александровна                                                  МОУ СОШ №7 г. Обнинс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3AD44-58DC-45DF-899D-28BE24D2B90B}" type="datetime1">
              <a:rPr lang="en-US"/>
              <a:t>07/29/26</a:t>
            </a:fld>
          </a:p>
        </p:txBody>
      </p:sp>
    </p:spTree>
  </p:cSld>
  <p:transition spd="slow">
    <p:pull dir="r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7:26:35Z</dcterms:created>
  <dc:creator>user</dc:creator>
  <dc:description/>
  <dc:language>en-US</dc:language>
  <cp:lastModifiedBy>Home</cp:lastModifiedBy>
  <dcterms:modified xsi:type="dcterms:W3CDTF">2012-12-19T17:36:04Z</dcterms:modified>
  <cp:revision>4</cp:revision>
  <dc:subject/>
  <dc:title>Решение задач с использованием понятия «количество вещества»</dc:title>
</cp:coreProperties>
</file>