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4C9-7DF1-46E3-A44A-554EACD2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AD4-F43A-4CD2-B5F9-C9061DB4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0B1F-0DD0-46E3-BB10-F62361A9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496-8C3D-4506-9C45-586DA660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07F3-09A1-4343-847C-1A0C1BD4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50C5-C2B7-44D4-AD21-A68DEEBE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EF91-ABE3-44C0-B51F-DD054E8C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B826-F754-47BE-91F4-B36CBEAA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6771-CE09-4C5D-BFCE-7F8B340C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6FD6-BEBC-4F9B-98DA-EDB08CD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5F28-3AB3-4F08-9343-A09FA3AE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C8E-90A5-459F-9F3D-8BDFFEDD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F5E5-B8A9-4668-93F7-700C192B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4F25-E109-423C-A499-D79B0CF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0E40-8B6B-4F45-84B1-BB49DE13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50E4-8B39-481C-AD40-2072ADED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557A-21E0-4731-BCC0-C58D469C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71F-5299-45AC-89C8-9C7C08B4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FCA-8E62-409A-9E8F-DF26FF4F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4E0-10D9-4D74-8D49-B8E07CF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B3F-07CF-49D5-AA6E-6AA4F074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16D-2D15-4D43-BF6E-BD42DC3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A400-7B10-4357-9E13-AE05E18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181-B88B-4E05-A41C-C7A5991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967B-8097-4AF7-84E4-10906EAD37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2898-B22F-4EF4-986A-A13882405E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08000" y="1268280"/>
            <a:ext cx="5400720" cy="284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</a:t>
            </a: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  о  н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43480" y="5032440"/>
            <a:ext cx="24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игорьева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ца  7  в 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имназия  №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627280" y="260280"/>
            <a:ext cx="387684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УМЕЕТЕ  ЛИ  ВЫ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 А С Ы П А Т 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20500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ШАЕТ ЗАСНУТЬ - СВЕТ , ЗВУ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ОКИХ ТОНОВ, ДУШЕВН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СПОКОЙСТ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ПРЕДЛОЖЕНИЕ – СЧИТАЙТЕ  «БАРАШКОВ» -ВЫРАБОТАЕТЕ УСЛОВНЫЙ РЕФЛЕ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443640" y="3357720"/>
            <a:ext cx="2524320" cy="1952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олеон – ложился в 22 , вставал в 2 ночи – работал до 5 утра , ложился и спал до 7 утра. «Только дураки и инвалиды нуждаются в большом количестве сна» - говорил 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чиль – британский гос. деятель – работал до 3-4 ночи, в 8 утра на ногах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днём  2 часа отды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берт  Эйнштейн – 10 час. – но именно во сне открыл важнейшие элементы теории относительности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60280"/>
            <a:ext cx="64674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ЭТО  ИНТЕРЕСНО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4697280"/>
            <a:ext cx="392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оровая диета из натуральных проду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упражнения на свежем воздух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рошая книга , открытое окно , низкая подушка, чистое нательное и постельное бельё , не твёрдый матрац, одеяло – шерстяное или пуховое, кушать не позднее ,чем за 2 часа до сна – лёгкую пищ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орождённому около 23 часов; школьнику – 10 час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зрослому – около 8 часов. НО ВСЁ ИНДИВИДУАЛЬНО!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МНИ – сон не число часов, а время, когда вы наслаждаетесь глубоким естественным сно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00000" y="333360"/>
            <a:ext cx="793440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цепты  хорошего  сн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ОН – состояние, цель которого предоставление отдыха клеткам мозга. Защищают себя от притока информации и восстанавливают запасы питательных веществ. СОН – лучший отдых!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24000" y="1125360"/>
            <a:ext cx="384804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 Ы  В  О  Д</a:t>
            </a:r>
            <a:endParaRPr b="0" lang="en-US" sz="5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произвольное расслаб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шц –дополнительный отд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МЫСЛЕННО ПРИ ПОМОЩИ ОБРАЗ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ДСТАВЛЕНИЯ ОТКЛЮЧИТЬ МЫШЦЫ О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МПУЛЬСОВ, ИДУЩИХ ОТ ДВИГАТЕЛЬНЫХ ЦЕНТР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НИ О ЧЁМ НЕ ДУМАТЬ : ВДОХ – «я отгоняю мысли точно так же», выдох – «как гашу свет, если он мне мешает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ВЫЗЫВАТЬ ПО ПАМЯТИ ОЩУЩЕНИЕ ПОТЕПЛЕНИЯ РУК И НОГ ( регулировать приток и отток крови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013f"/>
                </a:solidFill>
                <a:latin typeface="Arial"/>
              </a:rPr>
              <a:t>10 МИНУТ ОТДЫХА С ПРАВИЛЬ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013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c013f"/>
                </a:solidFill>
                <a:latin typeface="Arial"/>
              </a:rPr>
              <a:t>ДЫХАНИЕМ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</a:t>
            </a:r>
            <a:r>
              <a:rPr b="0" lang="en-US" sz="1800" spc="-1" strike="noStrike">
                <a:solidFill>
                  <a:srgbClr val="20013f"/>
                </a:solidFill>
                <a:latin typeface="Arial"/>
              </a:rPr>
              <a:t>ВОССТАНАВЛИВАЮТ СИЛЫ ТАК Ж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13f"/>
                </a:solidFill>
                <a:latin typeface="Arial"/>
              </a:rPr>
              <a:t>                                       </a:t>
            </a:r>
            <a:r>
              <a:rPr b="0" lang="en-US" sz="1800" spc="-1" strike="noStrike">
                <a:solidFill>
                  <a:srgbClr val="20013f"/>
                </a:solidFill>
                <a:latin typeface="Arial"/>
              </a:rPr>
              <a:t>КАК  ДНЕВНОЙ С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5280" y="333360"/>
            <a:ext cx="85345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 Е Л А К С А Ц И Я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ОВИДЕНИЯ   видеокассета 1985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Ё ЗДОРОВЬЕ  Г.К. Зайцев  Санкт -Петербург  1977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алеология подростка  Л.Г. Татарник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нкт - Петербург   199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63640" y="620640"/>
            <a:ext cx="552456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71640" y="1341360"/>
            <a:ext cx="7829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ЧЕМ ЛЮДЯМ СОН?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17760" y="2409840"/>
            <a:ext cx="2509920" cy="203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24000" y="476280"/>
            <a:ext cx="3448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ИТ  ВСЁ ЖИВОЕ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239840" y="2008080"/>
            <a:ext cx="63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560" y="1936800"/>
            <a:ext cx="8055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етья часть жизни уходит на сон – целых 20 лет! Доса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по утру мы бодры, способны к труду. В этом жизне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ходимость сна ! Отсутствие сна мучительнее ,чем гол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редние века – вид пытки. Покушение на жизнь француз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ля Людовика 15 для осуждённого закончилось этим изощрён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рактер человека, род работы, привычки – влияют на сон. Расстро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еловек может потерять и аппетит и сон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Но несколько минут сна -и челове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др и свеж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Н – видоизмененная жизнь. Протекает  так, что утраченная за день энергия восстанавливается: утомлённые нервы и мозг отдыхают, уставшие мышцы заряжаются новой энергией. Человек спит и по внешним признакам состояние одинаково, но сон чередуется по фазам – глубокий(видим сны), поверхностный, пробуждение. В античной  Греции был бог сна Морфей – младший брат  смер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11280" y="620640"/>
            <a:ext cx="4210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 Т О  Ж Е  ТАКОЕ  С О Н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 rot="334200">
            <a:off x="-2179440" y="-340560"/>
            <a:ext cx="4515120" cy="168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 Н О В И Д Е Н И 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8480" y="639720"/>
            <a:ext cx="721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чью,  во сне, уживаются нелепые , противоречивые поступ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ытия   переплетаются самым  невероятным   образ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т логических                                                              закон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ршие воскресают                                            старики молод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сбыточные мечты                   осуществляют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огда это целый спектакль! Красочны, радостны, интерес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ывают ясные, бывают туманные, а иногда страш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ворождённый после 6 недель начинает во сне улыбать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крикивать,   чмокать. По-видимому, сны видят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аки – рычат, повизгивают, вздрагивают, машут хвос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предположение, что сны   снятся и крокоди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 спит, но работа мозга во сне не прекращается. Вспомните – иногда вам приходилось строить планы на жизнь, с изобретательностью выходить или выручать других из затруднительных положений, рождаются ценные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льянский композитор Тартини – сона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рель дьявола». Пушкин – несколько стихов во сне. Химик Кекуле – формулу бензола. Химик Д.Менделеев – периодическую систему эле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ы – это не только продолжение творчества дн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и воспоминания, это мечты и тревоги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11280" y="476280"/>
            <a:ext cx="4743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ТВОРЧЕСТВО ВО С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всех есть свой тревоги и мечты, которые порой отражаются во с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печатлительный видит беспокойные , весёлый и неунывающий – радостные и смешные с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ветные – эмоциональным, черно-белые – рационалист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лодные тона – спокойным людям, увеличение красных оттенков – беспокойство и трев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приятные сны – сигнал о раннем заболевании в латентный пери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гипертонии – за 2-3 мес.; гастрит – за месяц; туберкулёз – сознание рисует  удушье(не может вынырнуть из  воды); сердце – страхи смер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  здоровый видит плохие сны – отпечаток профессиональных знаний, род занятий, уровень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голове, как в компьютере, происходит переработка огромного количества  информ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76360" y="333360"/>
            <a:ext cx="4600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ВОГИ  И  МЕЧТ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люди пытались толковать сновидения. Они видели в снах предзнаменования. У греков ни один военный поход не обходился без вещателей, по снам определяли его исход. Разгадыватели снов были в чести у королей. Уже тогда были особые книги – сонники, где давалось объяснение. «Ягоды или жемчуг – к слезам», «зуб выпал – к потере», «сборы в дорогу – к благополучию», «в зеркало глядеть – к свадьбе». Верить ли? Решает каждый 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сны предупреждения вызывают действительно большой научный и практический интерес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68360" y="549360"/>
            <a:ext cx="37245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 Е  Щ  И  Е  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  Н  Ы 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336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ловек спит, но глаза, уши, нос, кожа, мозг сохраняют связь с внешним миром, особенно слу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чью нет полной тишины – даже очень тихие влияют на мозг(шум ветра или моря – снится музыка; грохот мелких камешков, звук будильника – шумы во с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вление, холод, жара дают свои сны, т.е. сигналы внешнего мира отражаются во сн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95640" y="260280"/>
            <a:ext cx="4657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 Н Ы   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НЕШНИЙ МИР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08:00:29Z</dcterms:created>
  <dc:creator>LARA</dc:creator>
  <dc:description/>
  <dc:language>en-US</dc:language>
  <cp:lastModifiedBy>LARA</cp:lastModifiedBy>
  <dcterms:modified xsi:type="dcterms:W3CDTF">2006-04-20T12:52:23Z</dcterms:modified>
  <cp:revision>9</cp:revision>
  <dc:subject/>
  <dc:title>Слайд 1</dc:title>
</cp:coreProperties>
</file>