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08A-1162-44B9-B06B-504413FF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3A7-3362-4CE2-A7BF-399F0725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C5E-1C93-4B29-BA7E-4E773C23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DFA-49E7-4FB0-8545-6545E34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E463-49F6-4C27-BE93-DF2BD5E2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93BE-CDBC-4C6A-B920-280CE65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E69-215E-4886-9DAA-CC6A7DA7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447-E7CF-44D0-B5C9-7EC2A7B9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A86B-120E-40DB-B49B-386FF0F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ACF-0563-4F40-A5D5-EC7A247D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37F7-F21B-4BF7-8519-316C6E6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B8D-B7B3-46CC-83AC-2153110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3440-156F-41EC-B884-2D1EB6A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52A7-CCBD-45DD-B491-869BA94A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1839-1827-41DC-BE7B-C238C91F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37E5-8F5E-42D9-9CA5-8584A1F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E68F-37D4-4BC1-B8FE-AB3D73EB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4F6-C25A-467F-8960-EDC0F139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DCF-F8ED-4754-BD1D-0D6160F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A89-B575-4DB2-9028-9A52F19A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5E6-03EE-4050-8FB2-D9AB47CB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5B4-841B-4514-BFDF-A2ABCD6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71B-1202-4C75-BA5B-2CFA5B1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8E6-2560-42AB-8811-B1DDF03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E62-AB88-4A57-BC16-9B8A94916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7D05-143E-49F7-83D1-875A7AF7D3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8000" y="1268280"/>
            <a:ext cx="5400720" cy="28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 о  н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43480" y="5032440"/>
            <a:ext cx="24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игорьев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ца  7  в 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мназия  №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627280" y="260280"/>
            <a:ext cx="387684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МЕЕТЕ  ЛИ  ВЫ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 А С Ы П А Т 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20500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ШАЕТ ЗАСНУТЬ - СВЕТ , ЗВ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КИХ ТОНОВ, ДУШЕ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ПОКОЙ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РЕДЛОЖЕНИЕ – СЧИТАЙТЕ  «БАРАШКОВ» -ВЫРАБОТАЕТЕ УСЛОВНЫЙ РЕФЛЕ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43640" y="3357720"/>
            <a:ext cx="2524320" cy="195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олеон – ложился в 22 , вставал в 2 ночи – работал до 5 утра , ложился и спал до 7 утра. «Только дураки и инвалиды нуждаются в большом количестве сна» - говорил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чиль – британский гос. деятель – работал до 3-4 ночи, в 8 утра на ногах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днём  2 часа отды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ерт  Эйнштейн – 10 час. – но именно во сне открыл важнейшие элементы теории относительност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60280"/>
            <a:ext cx="64674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ЭТО  ИНТЕРЕСНО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4697280"/>
            <a:ext cx="392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оровая диета из натуральных проду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упражнения на свежем возду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ая книга , открытое окно , низкая подушка, чистое нательное и постельное бельё , не твёрдый матрац, одеяло – шерстяное или пуховое, кушать не позднее ,чем за 2 часа до сна – лёгкую п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орождённому около 23 часов; школьнику – 10 час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рослому – около 8 часов. НО ВСЁ ИНДИВИДУАЛЬНО!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МНИ – сон не число часов, а время, когда вы наслаждаетесь глубоким естественным сно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333360"/>
            <a:ext cx="79344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цепты  хорошего  сн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Н – состояние, цель которого предоставление отдыха клеткам мозга. Защищают себя от притока информации и восстанавливают запасы питательных веществ. СОН – лучший отдых!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24000" y="1125360"/>
            <a:ext cx="384804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 Ы  В  О  Д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произвольное расслаб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шц –дополнительный отд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МЫСЛЕННО ПРИ ПОМОЩИ ОБРАЗ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ДСТАВЛЕНИЯ ОТКЛЮЧИТЬ МЫШЦЫ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МПУЛЬСОВ, ИДУЩИХ ОТ ДВИГАТЕЛЬНЫХ ЦЕНТ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НИ О ЧЁМ НЕ ДУМАТЬ : ВДОХ – «я отгоняю мысли точно так же», выдох – «как гашу свет, если он мне мешает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ВЫЗЫВАТЬ ПО ПАМЯТИ ОЩУЩЕНИЕ ПОТЕПЛЕНИЯ РУК И НОГ ( регулировать приток и отток крови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10 МИНУТ ОТДЫХА С ПРАВИЛЬ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ДЫХАНИЕ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ВОССТАНАВЛИВАЮТ СИЛЫ ТАК Ж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КАК  ДНЕВНОЙ С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333360"/>
            <a:ext cx="85345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 Е Л А К С А Ц И Я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ИДЕНИЯ   видеокассета 198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Ё ЗДОРОВЬЕ  Г.К. Зайцев  Санкт -Петербург  1977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леология подростка  Л.Г. Татарни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нкт - Петербург   199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620640"/>
            <a:ext cx="552456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1640" y="1341360"/>
            <a:ext cx="7829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ЧЕМ ЛЮДЯМ СОН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17760" y="2409840"/>
            <a:ext cx="2509920" cy="203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4000" y="476280"/>
            <a:ext cx="3448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ИТ  ВСЁ ЖИВОЕ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39840" y="2008080"/>
            <a:ext cx="63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560" y="1936800"/>
            <a:ext cx="8055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тья часть жизни уходит на сон – целых 20 лет! Доса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по утру мы бодры, способны к труду. В этом жизн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сть сна ! Отсутствие сна мучительнее ,чем гол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редние века – вид пытки. Покушение на жизнь француз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ля Людовика 15 для осуждённого закончилось этим изощрён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рактер человека, род работы, привычки – влияют на сон. Расстро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ловек может потерять и аппетит и сон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о несколько минут сна -и челове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др и свеж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Н – видоизмененная жизнь. Протекает  так, что утраченная за день энергия восстанавливается: утомлённые нервы и мозг отдыхают, уставшие мышцы заряжаются новой энергией. Человек спит и по внешним признакам состояние одинаково, но сон чередуется по фазам – глубокий(видим сны), поверхностный, пробуждение. В античной  Греции был бог сна Морфей – младший брат 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11280" y="620640"/>
            <a:ext cx="4210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 Т О  Ж Е  ТАКОЕ  С О 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334200">
            <a:off x="-2179440" y="-340560"/>
            <a:ext cx="451512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 Н О В И Д Е Н И 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8480" y="639720"/>
            <a:ext cx="721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чью,  во сне, уживаются нелепые , противоречивые поступ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ытия   переплетаются самым  невероятным   образ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т логических                                                              закон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ршие воскресают                                            старики молод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сбыточные мечты                   осуществляют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огда это целый спектакль! Красочны, радостны, интере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вают ясные, бывают туманные, а иногда страш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ворождённый после 6 недель начинает во сне улыб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крикивать,   чмокать. По-видимому, сны видят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аки – рычат, повизгивают, вздрагивают, машут хвос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предположение, что сны   снятся и крокоди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спит, но работа мозга во сне не прекращается. Вспомните – иногда вам приходилось строить планы на жизнь, с изобретательностью выходить или выручать других из затруднительных положений, рождаются ценные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льянский композитор Тартини – сона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рель дьявола». Пушкин – несколько стихов во сне. Химик Кекуле – формулу бензола. Химик Д.Менделеев – периодическую систему эле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ы – это не только продолжение творчества д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и воспоминания, это мечты и тревоги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11280" y="476280"/>
            <a:ext cx="4743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ВОРЧЕСТВО ВО С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сех есть свой тревоги и мечты, которые порой отражаются во с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чатлительный видит беспокойные , весёлый и неунывающий – радостные и смешные 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ветные – эмоциональным, черно-белые – рационалис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лодные тона – спокойным людям, увеличение красных оттенков – беспокойство и трев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приятные сны – сигнал о раннем заболевании в латентный пери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гипертонии – за 2-3 мес.; гастрит – за месяц; туберкулёз – сознание рисует  удушье(не может вынырнуть из  воды); сердце – страхи смер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 здоровый видит плохие сны – отпечаток профессиональных знаний, род занятий, уровень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голове, как в компьютере, происходит переработка огромного количества  информ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6360" y="333360"/>
            <a:ext cx="4600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ВОГИ  И  МЕЧТ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люди пытались толковать сновидения. Они видели в снах предзнаменования. У греков ни один военный поход не обходился без вещателей, по снам определяли его исход. Разгадыватели снов были в чести у королей. Уже тогда были особые книги – сонники, где давалось объяснение. «Ягоды или жемчуг – к слезам», «зуб выпал – к потере», «сборы в дорогу – к благополучию», «в зеркало глядеть – к свадьбе». Верить ли? Решает каждый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сны предупреждения вызывают действительно большой научный и практический интерес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68360" y="549360"/>
            <a:ext cx="37245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 Е  Щ  И  Е  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 Н  Ы 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336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спит, но глаза, уши, нос, кожа, мозг сохраняют связь с внешним миром, особенно сл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чью нет полной тишины – даже очень тихие влияют на мозг(шум ветра или моря – снится музыка; грохот мелких камешков, звук будильника – шумы во с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вление, холод, жара дают свои сны, т.е. сигналы внешнего мира отражаются во сн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95640" y="260280"/>
            <a:ext cx="4657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 Н Ы   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НЕШНИЙ МИР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8:00:29Z</dcterms:created>
  <dc:creator>LARA</dc:creator>
  <dc:description/>
  <dc:language>en-US</dc:language>
  <cp:lastModifiedBy>LARA</cp:lastModifiedBy>
  <dcterms:modified xsi:type="dcterms:W3CDTF">2006-04-20T12:52:23Z</dcterms:modified>
  <cp:revision>9</cp:revision>
  <dc:subject/>
  <dc:title>Слайд 1</dc:title>
</cp:coreProperties>
</file>