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12.png" ContentType="image/png"/>
  <Override PartName="/ppt/media/image11.gif" ContentType="image/gif"/>
  <Override PartName="/ppt/media/image7.jpeg" ContentType="image/jpeg"/>
  <Override PartName="/ppt/media/image8.png" ContentType="image/png"/>
  <Override PartName="/ppt/media/image19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.jpeg" ContentType="image/jpeg"/>
  <Override PartName="/ppt/media/image5.png" ContentType="image/png"/>
  <Override PartName="/ppt/media/image9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FBB-2951-4C0C-BABF-646474F2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7177-2893-4425-A39D-150A2F84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0113-88DD-4632-B3E7-2928E064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ABE-421C-4BC8-A716-6DB7C4B0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92F9-EC15-444C-A115-40A2956A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2BE4-7A3E-4DF1-8131-66C9BACB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03D1-CB55-4787-847C-FD51443F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657D-6FC9-4C56-A22E-6A824A05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A924-EFF9-44D1-A581-55886779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8C6B-0BB1-4332-A656-31F5C5C9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786A-1EA6-4095-A281-06E62922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17B-4DCC-4571-99AB-FF86EA7C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1B84-BB6B-4D7D-90D1-E1DD5638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EB04-755A-4EF1-8A88-15F8118A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B17C-182E-4D44-B83E-61BB3011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9C64-DA2A-4652-9EE4-E1648C56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21B2-80E4-4B1A-AC2E-998EF749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2AB0A-E500-4D39-9727-41A60859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B2532-B985-4D07-BD6D-C3F72ED9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A8415-2B95-4385-A619-ABCC15CA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3D3CB-AEB4-4768-B02D-3AA3262C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10245-74CF-4D59-9927-EA786B91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BD6-946B-4A88-9CF1-6068B731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488DA-E33A-4563-8ABE-AB240DAD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0712F-961D-4531-A895-FAA4D7F5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68035-5E13-4F3C-9F87-3EBDC05D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3330F-4EE6-4498-A58F-E0B96853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2A6E1-E663-4BAA-B23C-21462D9E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FF19E-C08E-4568-82A3-6DFC858D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51F95-60AE-4BB7-AE3B-AC780F89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7E726-F5DB-4D30-A610-22007529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1C803-6276-48F8-B71D-EAA5651C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739E9-86D9-4528-884A-76B4BC9B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F64B-FB5B-4BF4-9AB1-26E70712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D0554-CD9B-49AA-A8B0-168E9918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46777-ABFC-4DAF-BDD8-22975E64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A3DE3-6F84-42A3-9CDC-44D91AF0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395AE-6C0A-4CB1-ABA1-3B72C38F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89DAB-6D35-47DA-85BC-9018E69E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A2DF4-94CC-4951-8913-FD35B601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89122-0B32-4643-8F8E-F4A07ADC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DFE54-828F-4B9F-A68F-9F587C35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1E609-270F-4BC2-A0AB-F5C2FC16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7BA5-D218-4354-8B73-DB3D5BDD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336F-DBC2-4168-B583-38C9C61B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28E-0C28-4372-8E72-B12FB05C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EA4-36F9-4E36-9031-95E2DAC1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2647-73BB-4BF2-A7D6-F4345FA1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BE20-2834-42E3-AB38-A021EBB317C0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3705-8C5A-42D6-9685-B51354645D42}" type="slidenum">
              <a:rPr b="1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227B-8E1E-445D-8FBD-E468B03BF9B2}" type="slidenum">
              <a:rPr b="1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AB78-2C96-420F-AC66-B2BE1B1EF231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004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на нахождение целого или част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ласс Образовательная система «Школа 2100»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34286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ил: учитель начальных классов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БОУ-СОШ р.п. Советско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кимова Вера Юрьев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95280" y="765000"/>
            <a:ext cx="8424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жизни много интересного,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 пока нам неизвестного,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ем думать и считать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о многом узнавать</a:t>
            </a: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4"/>
          <p:cNvSpPr txBox="1"/>
          <p:nvPr/>
        </p:nvSpPr>
        <p:spPr>
          <a:xfrm>
            <a:off x="684360" y="549360"/>
            <a:ext cx="266364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8-2=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99" name="WordArt 5"/>
          <p:cNvSpPr txBox="1"/>
          <p:nvPr/>
        </p:nvSpPr>
        <p:spPr>
          <a:xfrm>
            <a:off x="755640" y="1773360"/>
            <a:ext cx="259236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6+2=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00" name="WordArt 6"/>
          <p:cNvSpPr txBox="1"/>
          <p:nvPr/>
        </p:nvSpPr>
        <p:spPr>
          <a:xfrm>
            <a:off x="684360" y="3141720"/>
            <a:ext cx="259236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5+2=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01" name="WordArt 8"/>
          <p:cNvSpPr txBox="1"/>
          <p:nvPr/>
        </p:nvSpPr>
        <p:spPr>
          <a:xfrm>
            <a:off x="642960" y="4500720"/>
            <a:ext cx="259236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8+2=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02" name="WordArt 9"/>
          <p:cNvSpPr txBox="1"/>
          <p:nvPr/>
        </p:nvSpPr>
        <p:spPr>
          <a:xfrm>
            <a:off x="5003640" y="549360"/>
            <a:ext cx="269244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7-3=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03" name="WordArt 10"/>
          <p:cNvSpPr txBox="1"/>
          <p:nvPr/>
        </p:nvSpPr>
        <p:spPr>
          <a:xfrm>
            <a:off x="5003640" y="1916280"/>
            <a:ext cx="26640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6-2=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04" name="WordArt 11"/>
          <p:cNvSpPr txBox="1"/>
          <p:nvPr/>
        </p:nvSpPr>
        <p:spPr>
          <a:xfrm>
            <a:off x="5076720" y="3284640"/>
            <a:ext cx="26640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9-4=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05" name="WordArt 12"/>
          <p:cNvSpPr txBox="1"/>
          <p:nvPr/>
        </p:nvSpPr>
        <p:spPr>
          <a:xfrm>
            <a:off x="5076720" y="4508640"/>
            <a:ext cx="26640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7+2=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206" name="WordArt 14"/>
          <p:cNvSpPr txBox="1"/>
          <p:nvPr/>
        </p:nvSpPr>
        <p:spPr>
          <a:xfrm>
            <a:off x="7740720" y="4365720"/>
            <a:ext cx="68904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07" name="WordArt 15"/>
          <p:cNvSpPr txBox="1"/>
          <p:nvPr/>
        </p:nvSpPr>
        <p:spPr>
          <a:xfrm>
            <a:off x="3419640" y="1773360"/>
            <a:ext cx="57600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08" name="WordArt 16"/>
          <p:cNvSpPr txBox="1"/>
          <p:nvPr/>
        </p:nvSpPr>
        <p:spPr>
          <a:xfrm>
            <a:off x="3357720" y="4500720"/>
            <a:ext cx="68868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10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09" name="WordArt 17"/>
          <p:cNvSpPr txBox="1"/>
          <p:nvPr/>
        </p:nvSpPr>
        <p:spPr>
          <a:xfrm>
            <a:off x="3348000" y="3141720"/>
            <a:ext cx="5763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10" name="WordArt 19"/>
          <p:cNvSpPr txBox="1"/>
          <p:nvPr/>
        </p:nvSpPr>
        <p:spPr>
          <a:xfrm>
            <a:off x="3492360" y="476280"/>
            <a:ext cx="5763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11" name="WordArt 22"/>
          <p:cNvSpPr txBox="1"/>
          <p:nvPr/>
        </p:nvSpPr>
        <p:spPr>
          <a:xfrm>
            <a:off x="7812000" y="3141720"/>
            <a:ext cx="5763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12" name="WordArt 25"/>
          <p:cNvSpPr txBox="1"/>
          <p:nvPr/>
        </p:nvSpPr>
        <p:spPr>
          <a:xfrm>
            <a:off x="7740720" y="1844640"/>
            <a:ext cx="5763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213" name="WordArt 26"/>
          <p:cNvSpPr txBox="1"/>
          <p:nvPr/>
        </p:nvSpPr>
        <p:spPr>
          <a:xfrm>
            <a:off x="7885080" y="476280"/>
            <a:ext cx="5763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pic>
        <p:nvPicPr>
          <p:cNvPr id="214" name="Picture 16" descr="0032"/>
          <p:cNvPicPr/>
          <p:nvPr/>
        </p:nvPicPr>
        <p:blipFill>
          <a:blip r:embed="rId1"/>
          <a:stretch/>
        </p:blipFill>
        <p:spPr>
          <a:xfrm>
            <a:off x="4000680" y="3714840"/>
            <a:ext cx="1428480" cy="2867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4" descr="0032"/>
          <p:cNvPicPr/>
          <p:nvPr/>
        </p:nvPicPr>
        <p:blipFill>
          <a:blip r:embed="rId2"/>
          <a:stretch/>
        </p:blipFill>
        <p:spPr>
          <a:xfrm>
            <a:off x="3500280" y="500040"/>
            <a:ext cx="1212840" cy="1368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0018"/>
          <p:cNvPicPr/>
          <p:nvPr/>
        </p:nvPicPr>
        <p:blipFill>
          <a:blip r:embed="rId3"/>
          <a:stretch/>
        </p:blipFill>
        <p:spPr>
          <a:xfrm>
            <a:off x="5786280" y="857160"/>
            <a:ext cx="1514520" cy="1646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6" descr="0032"/>
          <p:cNvPicPr/>
          <p:nvPr/>
        </p:nvPicPr>
        <p:blipFill>
          <a:blip r:embed="rId4"/>
          <a:stretch/>
        </p:blipFill>
        <p:spPr>
          <a:xfrm>
            <a:off x="7429680" y="214200"/>
            <a:ext cx="1196640" cy="1438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7" descr="0021"/>
          <p:cNvPicPr/>
          <p:nvPr/>
        </p:nvPicPr>
        <p:blipFill>
          <a:blip r:embed="rId5"/>
          <a:stretch/>
        </p:blipFill>
        <p:spPr>
          <a:xfrm>
            <a:off x="6929280" y="1500120"/>
            <a:ext cx="2214720" cy="22986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3"/>
          <p:cNvSpPr/>
          <p:nvPr/>
        </p:nvSpPr>
        <p:spPr>
          <a:xfrm>
            <a:off x="642960" y="4357800"/>
            <a:ext cx="14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4"/>
          <p:cNvSpPr/>
          <p:nvPr/>
        </p:nvSpPr>
        <p:spPr>
          <a:xfrm>
            <a:off x="2075040" y="485784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5"/>
          <p:cNvSpPr/>
          <p:nvPr/>
        </p:nvSpPr>
        <p:spPr>
          <a:xfrm>
            <a:off x="3437640" y="52862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6"/>
          <p:cNvSpPr/>
          <p:nvPr/>
        </p:nvSpPr>
        <p:spPr>
          <a:xfrm>
            <a:off x="5427720" y="57150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7" descr="0021"/>
          <p:cNvPicPr/>
          <p:nvPr/>
        </p:nvPicPr>
        <p:blipFill>
          <a:blip r:embed="rId6"/>
          <a:stretch/>
        </p:blipFill>
        <p:spPr>
          <a:xfrm>
            <a:off x="3000240" y="1500120"/>
            <a:ext cx="2071800" cy="2156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1500120" y="714240"/>
            <a:ext cx="635796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 :</a:t>
            </a:r>
            <a:r>
              <a:rPr b="1" lang="ru-RU" sz="36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На острове был 1 попугай, прилетело ещё 2 попугая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:</a:t>
            </a:r>
            <a:r>
              <a:rPr b="1" lang="ru-RU" sz="36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Сколько стало                     попугаев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r>
              <a:rPr b="1" lang="ru-RU" sz="36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+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r>
              <a:rPr b="1" lang="ru-RU" sz="36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    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8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4" descr="0007"/>
          <p:cNvPicPr/>
          <p:nvPr/>
        </p:nvPicPr>
        <p:blipFill>
          <a:blip r:embed="rId2"/>
          <a:stretch/>
        </p:blipFill>
        <p:spPr>
          <a:xfrm>
            <a:off x="6659640" y="5229360"/>
            <a:ext cx="704880" cy="618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0056"/>
          <p:cNvPicPr/>
          <p:nvPr/>
        </p:nvPicPr>
        <p:blipFill>
          <a:blip r:embed="rId3"/>
          <a:stretch/>
        </p:blipFill>
        <p:spPr>
          <a:xfrm>
            <a:off x="6804000" y="3284640"/>
            <a:ext cx="865080" cy="934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0056"/>
          <p:cNvPicPr/>
          <p:nvPr/>
        </p:nvPicPr>
        <p:blipFill>
          <a:blip r:embed="rId4"/>
          <a:stretch/>
        </p:blipFill>
        <p:spPr>
          <a:xfrm>
            <a:off x="7429680" y="2643120"/>
            <a:ext cx="865080" cy="935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0056"/>
          <p:cNvPicPr/>
          <p:nvPr/>
        </p:nvPicPr>
        <p:blipFill>
          <a:blip r:embed="rId5"/>
          <a:stretch/>
        </p:blipFill>
        <p:spPr>
          <a:xfrm>
            <a:off x="8278920" y="3429000"/>
            <a:ext cx="865080" cy="934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0056"/>
          <p:cNvPicPr/>
          <p:nvPr/>
        </p:nvPicPr>
        <p:blipFill>
          <a:blip r:embed="rId6"/>
          <a:stretch/>
        </p:blipFill>
        <p:spPr>
          <a:xfrm>
            <a:off x="7643880" y="5072040"/>
            <a:ext cx="865080" cy="934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0056"/>
          <p:cNvPicPr/>
          <p:nvPr/>
        </p:nvPicPr>
        <p:blipFill>
          <a:blip r:embed="rId7"/>
          <a:stretch/>
        </p:blipFill>
        <p:spPr>
          <a:xfrm>
            <a:off x="6715080" y="5072040"/>
            <a:ext cx="865080" cy="934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0056"/>
          <p:cNvPicPr/>
          <p:nvPr/>
        </p:nvPicPr>
        <p:blipFill>
          <a:blip r:embed="rId8"/>
          <a:stretch/>
        </p:blipFill>
        <p:spPr>
          <a:xfrm>
            <a:off x="5724360" y="2637000"/>
            <a:ext cx="865440" cy="934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0056"/>
          <p:cNvPicPr/>
          <p:nvPr/>
        </p:nvPicPr>
        <p:blipFill>
          <a:blip r:embed="rId9"/>
          <a:stretch/>
        </p:blipFill>
        <p:spPr>
          <a:xfrm>
            <a:off x="7093080" y="5923080"/>
            <a:ext cx="865080" cy="9349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6"/>
          <p:cNvSpPr/>
          <p:nvPr/>
        </p:nvSpPr>
        <p:spPr>
          <a:xfrm>
            <a:off x="1500120" y="1214280"/>
            <a:ext cx="4880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чке сидели 7 лягушек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лягушки прыгнули в воду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лягушат осталось на кочках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7"/>
          <p:cNvSpPr/>
          <p:nvPr/>
        </p:nvSpPr>
        <p:spPr>
          <a:xfrm>
            <a:off x="3796920" y="5072040"/>
            <a:ext cx="215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Arial"/>
              </a:rPr>
              <a:t>7-3=4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evt="end">
                                        <p:tn val="183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evt="end">
                                        <p:tn val="217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ttps://docs.google.com/viewer?url=http%3A%2F%2Fnsportal.ru%2Fsites%2Fdefault%2Ffiles%2F2012%2F8%2Fchisla_ot_1_do_100.ppt&amp;docid=5619ee1ba046e3f763f0303d4c36acda&amp;a=bi&amp;pagenumber=15&amp;w=5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1"/>
          <p:cNvPicPr/>
          <p:nvPr/>
        </p:nvPicPr>
        <p:blipFill>
          <a:blip r:embed="rId2"/>
          <a:stretch/>
        </p:blipFill>
        <p:spPr>
          <a:xfrm>
            <a:off x="826920" y="1484280"/>
            <a:ext cx="7561440" cy="1584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Рисунок5"/>
          <p:cNvPicPr/>
          <p:nvPr/>
        </p:nvPicPr>
        <p:blipFill>
          <a:blip r:embed="rId3"/>
          <a:stretch/>
        </p:blipFill>
        <p:spPr>
          <a:xfrm>
            <a:off x="684360" y="4005360"/>
            <a:ext cx="223200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3:04:23Z</dcterms:created>
  <dc:creator>ОЛЬГА</dc:creator>
  <dc:description/>
  <dc:language>en-US</dc:language>
  <cp:lastModifiedBy>Любовь</cp:lastModifiedBy>
  <dcterms:modified xsi:type="dcterms:W3CDTF">2012-12-19T18:30:57Z</dcterms:modified>
  <cp:revision>98</cp:revision>
  <dc:subject/>
  <dc:title>Слайд 1</dc:title>
</cp:coreProperties>
</file>