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C41-CFB4-44DC-89BC-0518EB05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507-7753-49CB-A254-11C3BFC7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5CC-CA6D-45DB-8967-F0B4CEF7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32B-BA3E-4B3B-AC1E-FF8CC9E1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851-47EA-4621-B329-06D4AA96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162-F265-4813-ADCA-28D76B6F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187-CE79-4FDB-BF17-9989CF44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957-59BA-4F86-A556-1D9BC248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48C-6691-4D00-9BFF-B19808A4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38B-3CCD-4ACC-A96C-77B34858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358-7F99-48EF-97C7-1781654A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71A3-CA2F-407C-812E-4B8B08BA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A993-ED4D-4F25-944E-2D7DBB7AA1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medicalherbs.sci-lib.com/images/medherb119.jpg&amp;pageurl=http://www.altmedic.ru%2Fmodules%2Fherb%2Findex.php%3Fnvar%3D24119&amp;id=36856651&amp;iid=3&amp;imgwidth=191&amp;imgheight=312&amp;imgsize=71137&amp;images_links=b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go.mail.ru/frame.html?imgurl=http://www.nmedik.ru/images/stories/travnik/descurainia_sophia1.jpg&amp;pageurl=http://www.nmedik.ru%2Fsredstva%2Ftravnik%2Ftranitsa-66.html&amp;id=93110184&amp;iid=3&amp;imgwidth=525&amp;imgheight=700&amp;imgsize=119820&amp;images_links=b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go.mail.ru/frame.html?imgurl=http://www.flor.ru/images/upload/71/ru/linnik.jpg&amp;pageurl=http://www.flor.ru%2Fredkie_tsvety%2Flunria_rediviva%2Findex.khtml&amp;id=3470271&amp;iid=7&amp;imgwidth=214&amp;imgheight=280&amp;imgsize=37316&amp;images_links=b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ovpushk.ru/wp-content/uploads/images/cabbage2.jpg&amp;pageurl=http://intermag.kz%2Fcultures%2Fcabbage%2F&amp;id=43674810&amp;iid=8&amp;imgwidth=704&amp;imgheight=528&amp;imgsize=138695&amp;images_links=b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go.mail.ru/frame.html?imgurl=http://travnik.homedr.ru/images/hren2.jpg&amp;pageurl=http://fitomedic.net%2Fherbs%2F68-khren-obyknovennyjj.html&amp;id=59219512&amp;iid=0&amp;imgwidth=300&amp;imgheight=225&amp;imgsize=15802&amp;images_links=b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go.mail.ru/frame.html?imgurl=http://www.dm-st.ru/userfiles/image/articles/gardens_lawns/rediska.jpg&amp;pageurl=http://www.dm-st.ru%2Farchive%2Fstory%2F1970%2Fparts_krot%3Fpage%3D22&amp;id=42783193&amp;iid=7&amp;imgwidth=100&amp;imgheight=75&amp;imgsize=124411&amp;images_links=b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go.mail.ru/frame.html?imgurl=http://www.kumushka.com/uploads/posts/2008-10/1223642959_rep.jpg&amp;pageurl=http://www.sem40.ru%2Frest%2Fcookery%2Findex.shtml%2Fpage_4&amp;id=1034053&amp;iid=4&amp;imgwidth=100&amp;imgheight=62&amp;imgsize=25789&amp;images_links=b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9040" y="768240"/>
            <a:ext cx="7772400" cy="160344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1279440" y="2541600"/>
            <a:ext cx="65898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14200" y="4287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В семействе насчитывается до 380 родов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около 32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785880" y="1214280"/>
            <a:ext cx="7072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omic Sans MS"/>
                <a:ea typeface="Mangal"/>
              </a:rPr>
              <a:t>Крестоцветные успешно приспосабливаются к самым разнообразным </a:t>
            </a:r>
            <a:r>
              <a:rPr b="1" lang="ru-RU" sz="2000" spc="-1" strike="noStrike">
                <a:solidFill>
                  <a:srgbClr val="e46c0a"/>
                </a:solidFill>
                <a:latin typeface="Comic Sans MS"/>
                <a:ea typeface="Mangal"/>
              </a:rPr>
              <a:t>местообитаниям</a:t>
            </a:r>
            <a:r>
              <a:rPr b="0" lang="ru-RU" sz="2000" spc="-1" strike="noStrike">
                <a:solidFill>
                  <a:srgbClr val="e46c0a"/>
                </a:solidFill>
                <a:latin typeface="Comic Sans MS"/>
                <a:ea typeface="Mangal"/>
              </a:rPr>
              <a:t>. Одни из них приурочены к крайним условиям высокогорий, достигая рубежей растительности (4500-5700 м над уровнем моря), где вместе с лишайниками являются пионерами растительного покров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omic Sans MS"/>
                <a:ea typeface="Mangal"/>
              </a:rPr>
              <a:t>другие произрастают по морским побережь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omic Sans MS"/>
                <a:ea typeface="Mangal"/>
              </a:rPr>
              <a:t>одни в своем распространении продвигаются далеко на север и характерны для арктических областей; другие являются обитателями пустынь, полупустынь и степ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omic Sans MS"/>
                <a:ea typeface="Mangal"/>
              </a:rPr>
              <a:t>Широко представлены крестоцветные также в лесах, среди степной растительности, на увлажненных местах и даже в воде, но все же определенно преобладают среди них растения засушливых и сухих местообитаний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85840" y="42876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стья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крестоцветных очередные, причем нижние часто образуют прикорневую розетку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1857240" y="17146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Цветки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обычно лишены как прицветников, так и прицветничков, не крупные, зачастую очень мелкие, невзрачные, но немало также красиво расцвеченных, придающих растению большую декоративнос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142920" y="3929040"/>
            <a:ext cx="671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рестоцветные приспособлены как к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ерекрестному опылению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, так и к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амоопылению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. Основными опылителями являются мухи, пчелы, шмели; некоторые виды опыляются в ночное время бабочками. Пчелы привлекаются запахом медоносных видов, а также наиболее яркими цве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520" y="2160"/>
            <a:ext cx="373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Arial"/>
                <a:ea typeface="Times New Roman"/>
              </a:rPr>
              <a:t>представ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i?id=36856651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285920"/>
            <a:ext cx="2428920" cy="442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i?id=93110184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1428840"/>
            <a:ext cx="2786040" cy="428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i?id=3470271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86080" y="1285920"/>
            <a:ext cx="25002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i?id=43674810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4000680"/>
            <a:ext cx="3286080" cy="219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i?id=59219512&amp;tov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4000680"/>
            <a:ext cx="3786480" cy="221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i?id=42783193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2960" y="428760"/>
            <a:ext cx="2571840" cy="221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?id=1034053&amp;tov=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86080" y="1857240"/>
            <a:ext cx="2571840" cy="200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?id=15405955&amp;tov=2"/>
          <p:cNvPicPr/>
          <p:nvPr/>
        </p:nvPicPr>
        <p:blipFill>
          <a:blip r:embed="rId9"/>
          <a:stretch/>
        </p:blipFill>
        <p:spPr>
          <a:xfrm>
            <a:off x="5857920" y="357120"/>
            <a:ext cx="2643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Вертикальный свиток 1" descr=""/>
          <p:cNvPicPr/>
          <p:nvPr/>
        </p:nvPicPr>
        <p:blipFill>
          <a:blip r:embed="rId1"/>
          <a:stretch/>
        </p:blipFill>
        <p:spPr>
          <a:xfrm>
            <a:off x="92160" y="55440"/>
            <a:ext cx="1528560" cy="66564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1500120" y="115920"/>
            <a:ext cx="1219320" cy="14572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3" descr=""/>
          <p:cNvPicPr/>
          <p:nvPr/>
        </p:nvPicPr>
        <p:blipFill>
          <a:blip r:embed="rId3"/>
          <a:stretch/>
        </p:blipFill>
        <p:spPr>
          <a:xfrm>
            <a:off x="1468440" y="2041560"/>
            <a:ext cx="1347840" cy="14572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4"/>
          <a:stretch/>
        </p:blipFill>
        <p:spPr>
          <a:xfrm>
            <a:off x="1530360" y="1116000"/>
            <a:ext cx="1219320" cy="14558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5" descr=""/>
          <p:cNvPicPr/>
          <p:nvPr/>
        </p:nvPicPr>
        <p:blipFill>
          <a:blip r:embed="rId5"/>
          <a:stretch/>
        </p:blipFill>
        <p:spPr>
          <a:xfrm>
            <a:off x="1523880" y="311472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6" descr=""/>
          <p:cNvPicPr/>
          <p:nvPr/>
        </p:nvPicPr>
        <p:blipFill>
          <a:blip r:embed="rId6"/>
          <a:stretch/>
        </p:blipFill>
        <p:spPr>
          <a:xfrm>
            <a:off x="1584360" y="4187880"/>
            <a:ext cx="1251000" cy="14572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7"/>
          <p:cNvSpPr/>
          <p:nvPr/>
        </p:nvSpPr>
        <p:spPr>
          <a:xfrm>
            <a:off x="2857680" y="285840"/>
            <a:ext cx="5572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крестоцветные приспособлены довольно разнообра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Это в основном виды с крылатыми , многие виды с мелкими легкими семенами, легко разносимыми ветром, или с семенами, отороченными кры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Есть среди крестоцветных также целый ряд видов, имеющих на плодах крючковидные выросты. Благодаря этому они цепляются за шерсть животных и разносятся ими. В некоторых случаях семена разбрасываются благодаря "усилиям" самого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b2-5[1]"/>
          <p:cNvPicPr/>
          <p:nvPr/>
        </p:nvPicPr>
        <p:blipFill>
          <a:blip r:embed="rId1"/>
          <a:stretch/>
        </p:blipFill>
        <p:spPr>
          <a:xfrm>
            <a:off x="0" y="214200"/>
            <a:ext cx="4714920" cy="6443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Сурепица, или сурепка обыкновенная — Barbarea vulgaris R. Br."/>
          <p:cNvPicPr/>
          <p:nvPr/>
        </p:nvPicPr>
        <p:blipFill>
          <a:blip r:embed="rId2"/>
          <a:stretch/>
        </p:blipFill>
        <p:spPr>
          <a:xfrm>
            <a:off x="4857840" y="952560"/>
            <a:ext cx="4143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3929040" y="612720"/>
            <a:ext cx="4286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Применение в медицине.</a:t>
            </a:r>
            <a:r>
              <a:rPr b="0" i="1" lang="ru-RU" sz="1800" spc="-1" strike="noStrike">
                <a:solidFill>
                  <a:srgbClr val="00b050"/>
                </a:solidFill>
                <a:latin typeface="Arial"/>
              </a:rPr>
              <a:t> Влияет на сократительную способность гладких мышц различных орган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b050"/>
                </a:solidFill>
                <a:latin typeface="Arial"/>
              </a:rPr>
              <a:t>Этим в большей мере определяется кровоостанавливающий эффект пастушьей сумки. Имеет значение и действие содержащегося в траве витамина К, повышающего свертываемость крови. </a:t>
            </a:r>
            <a:br>
              <a:rPr sz="1800"/>
            </a:br>
            <a:r>
              <a:rPr b="0" i="1" lang="ru-RU" sz="1800" spc="-1" strike="noStrike">
                <a:solidFill>
                  <a:srgbClr val="00b050"/>
                </a:solidFill>
                <a:latin typeface="Arial"/>
              </a:rPr>
              <a:t>Препараты пастушьей сумки вызывают некоторое снижение кровяного давления, стимулируют перистальтику кишеч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"/>
              </a:rPr>
              <a:t>Применяют при атонических маточных кровотечениях в гинекологической практике, а также при желудочнокищечных и иных кровотечениях. Имеются указания на применение травы при острых и хронических нефритах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Пастушья сумка, сумочник пастуший, сердечки, бабка, гречка полевая, кошелишка, белен"/>
          <p:cNvPicPr/>
          <p:nvPr/>
        </p:nvPicPr>
        <p:blipFill>
          <a:blip r:embed="rId1"/>
          <a:stretch/>
        </p:blipFill>
        <p:spPr>
          <a:xfrm>
            <a:off x="500040" y="500040"/>
            <a:ext cx="2928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285840" y="29160"/>
            <a:ext cx="714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перфолента 3"/>
          <p:cNvSpPr/>
          <p:nvPr/>
        </p:nvSpPr>
        <p:spPr>
          <a:xfrm rot="20105400">
            <a:off x="915840" y="1411200"/>
            <a:ext cx="7228080" cy="2403720"/>
          </a:xfrm>
          <a:prstGeom prst="flowChartPunchedTap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7694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6c0a"/>
                </a:solidFill>
                <a:latin typeface="Arial"/>
                <a:ea typeface="Times New Roman"/>
              </a:rPr>
              <a:t>      </a:t>
            </a:r>
            <a:r>
              <a:rPr b="0" lang="ru-RU" sz="5400" spc="-1" strike="noStrike">
                <a:solidFill>
                  <a:srgbClr val="e46c0a"/>
                </a:solidFill>
                <a:latin typeface="Arial"/>
                <a:ea typeface="Times New Roman"/>
              </a:rPr>
              <a:t>*  </a:t>
            </a:r>
            <a:r>
              <a:rPr b="0" lang="ru-RU" sz="4800" spc="-1" strike="noStrike">
                <a:solidFill>
                  <a:srgbClr val="e46c0a"/>
                </a:solidFill>
                <a:latin typeface="Arial"/>
                <a:ea typeface="Times New Roman"/>
              </a:rPr>
              <a:t>Ч </a:t>
            </a:r>
            <a:r>
              <a:rPr b="0" lang="ru-RU" sz="4800" spc="-1" strike="noStrike" baseline="-30000">
                <a:solidFill>
                  <a:srgbClr val="e46c0a"/>
                </a:solidFill>
                <a:latin typeface="Arial"/>
                <a:ea typeface="Times New Roman"/>
              </a:rPr>
              <a:t>4</a:t>
            </a:r>
            <a:r>
              <a:rPr b="0" lang="ru-RU" sz="4800" spc="-1" strike="noStrike">
                <a:solidFill>
                  <a:srgbClr val="e46c0a"/>
                </a:solidFill>
                <a:latin typeface="Arial"/>
                <a:ea typeface="Times New Roman"/>
              </a:rPr>
              <a:t> Л</a:t>
            </a:r>
            <a:r>
              <a:rPr b="0" lang="ru-RU" sz="4800" spc="-1" strike="noStrike" baseline="-30000">
                <a:solidFill>
                  <a:srgbClr val="e46c0a"/>
                </a:solidFill>
                <a:latin typeface="Arial"/>
                <a:ea typeface="Times New Roman"/>
              </a:rPr>
              <a:t> 4 </a:t>
            </a:r>
            <a:r>
              <a:rPr b="0" lang="ru-RU" sz="4800" spc="-1" strike="noStrike">
                <a:solidFill>
                  <a:srgbClr val="e46c0a"/>
                </a:solidFill>
                <a:latin typeface="Arial"/>
                <a:ea typeface="Times New Roman"/>
              </a:rPr>
              <a:t>Т </a:t>
            </a:r>
            <a:r>
              <a:rPr b="0" lang="ru-RU" sz="4800" spc="-1" strike="noStrike" baseline="-30000">
                <a:solidFill>
                  <a:srgbClr val="e46c0a"/>
                </a:solidFill>
                <a:latin typeface="Arial"/>
                <a:ea typeface="Times New Roman"/>
              </a:rPr>
              <a:t>4+2 </a:t>
            </a:r>
            <a:r>
              <a:rPr b="0" lang="ru-RU" sz="4800" spc="-1" strike="noStrike">
                <a:solidFill>
                  <a:srgbClr val="e46c0a"/>
                </a:solidFill>
                <a:latin typeface="Arial"/>
                <a:ea typeface="Times New Roman"/>
              </a:rPr>
              <a:t>П</a:t>
            </a:r>
            <a:r>
              <a:rPr b="0" lang="ru-RU" sz="4800" spc="-1" strike="noStrike" baseline="-30000">
                <a:solidFill>
                  <a:srgbClr val="e46c0a"/>
                </a:solidFill>
                <a:latin typeface="Arial"/>
                <a:ea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52280" y="152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i?id=83991675&amp;tov=2"/>
          <p:cNvPicPr/>
          <p:nvPr/>
        </p:nvPicPr>
        <p:blipFill>
          <a:blip r:embed="rId1"/>
          <a:stretch/>
        </p:blipFill>
        <p:spPr>
          <a:xfrm>
            <a:off x="4929120" y="3571920"/>
            <a:ext cx="3429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35:32Z</dcterms:created>
  <dc:creator>Admin</dc:creator>
  <dc:description/>
  <dc:language>en-US</dc:language>
  <cp:lastModifiedBy>Учитель-23</cp:lastModifiedBy>
  <dcterms:modified xsi:type="dcterms:W3CDTF">2012-12-19T18:52:22Z</dcterms:modified>
  <cp:revision>9</cp:revision>
  <dc:subject/>
  <dc:title>Слайд 1</dc:title>
</cp:coreProperties>
</file>