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B7B-ECF2-413F-8A95-F4FEADB5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DD5-2D20-4CEC-95E0-52A8FEB9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2D6-F5F1-4622-9CC2-A769B00C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D71-0236-43DE-BA2B-9083E0AD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C447-9913-4AA6-8E5C-516CAF9E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7D83-39ED-473A-951C-14384A0C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DCB4-C5D2-4CD6-8F5E-5EB363A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1DEF-606B-4F78-AA4B-1639487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205D-88AD-4650-826E-D4C0A11A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EDCF-9D65-4488-9EC8-DC746004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CBA-E9B0-4622-BF57-9EF37756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AE0-43EE-4A06-963B-5E734DD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2070-17A1-4F01-873A-7438CE1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8126-FCDB-4F2C-A8C3-5422436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5DD8-A657-4B90-BD2F-AF352C08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114B-A8A7-44F1-9D83-830B9AF6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B62E-B458-4C96-B6CA-90DA6F3E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2CC-6522-45DB-BF3D-1DAF76E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86C-A957-4D17-9B87-F68C42E5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F2F-756C-4B90-97A5-AD77E884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F1B-0073-4986-B374-27498EAC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EB3-9403-4F5B-8364-76DB6F0B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899-E5C1-47C4-8E06-0DA6E4E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958-2966-4301-B35D-E5BE31C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A64-081E-4B13-A5D6-8B176B5B2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38F-2E28-43B1-9E27-54FAAC0E6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Тема уро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оставное глагольное сказуемо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Научиться отличать составное глагольное сказуемое от простого глаго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Выяснить выражение лексического и грамматического значения СГ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помогательные слова выражают грамматическое значение сказуемого, неопределённая форма глагола- лексическое значение сказуем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6840" y="1773360"/>
            <a:ext cx="18478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ав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го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азуе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5800" y="20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1200" y="1916280"/>
            <a:ext cx="276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помога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о (сл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272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21360" y="1989000"/>
            <a:ext cx="2690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пределё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 глаг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) Выписать предложение с ПГ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Состав, загнанный по ветке в тупик, начали разгружать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Окно этой комнаты выходило на балк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Хозяин дома- ветерин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) Выписать предложения с СГ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Осенью он собирался выступить с докладом в научном круж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Скрипач начал игр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) Город наш древ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араграф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а) из главы 3 повести «Капитанская дочка» выписать 7 предложений с СГ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упражнение 138 (на выбор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одведение итогов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йте определение составного глагольного сказуем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ак выражается лексическое и грамматическое значения СГ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4:24:30Z</dcterms:created>
  <dc:creator>WiZaRd</dc:creator>
  <dc:description/>
  <dc:language>en-US</dc:language>
  <cp:lastModifiedBy>WiZaRd</cp:lastModifiedBy>
  <dcterms:modified xsi:type="dcterms:W3CDTF">2012-11-30T13:08:57Z</dcterms:modified>
  <cp:revision>5</cp:revision>
  <dc:subject/>
  <dc:title>Тема урока «Составное глагольное сказуемое»</dc:title>
</cp:coreProperties>
</file>