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590-335A-4B34-8CB8-B3381480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45A-F246-4AC1-AEB7-5A3E19AC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0E1-4C63-4655-A0F5-58A3F3E32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483-0792-4CEF-8D84-0D4E4CB9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ED7-BD03-4510-8A3B-FEF947B4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1AE8-4314-494C-A256-4E74055E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7C91-9167-46EE-AA8E-544ED1CD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D6A3-9DE1-4744-83F3-D296E4D3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5432-040E-4A4B-B48A-7F3DAD7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7B09-71CB-48C4-915C-2422B1C5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AF11-B70A-4892-A022-D8694F6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890-E69E-4779-A09C-3831486C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03BD-D3FC-42EB-B282-92D4269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C27F-7F81-45D0-8F76-A0B27EEF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AB3-DD1B-4AE0-B957-B860AFED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4574-C7CB-4443-B5FC-D3146893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73D6-9481-46E8-9E2A-CEC7EAFE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E18-7341-49EB-BB4C-D9DEF960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1F9-7E9C-4D4B-B57D-E48A237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5CE-208D-44F9-B517-016DB261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D79-8DCD-4DAB-B317-EF6659A0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17F-0119-416A-9D72-946AFE4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7CC-E423-40BB-93DD-4EFCFF4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8C2-16A7-4B29-BFE1-379AAFCD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FF01-DC72-4DAB-AC7E-DBA9F5B66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CCA9-4A2B-4970-BC1B-188675B35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Тема уро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Составное глагольное сказуемо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Цель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Научиться отличать составное глагольное сказуемое от простого глаголь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Выяснить выражение лексического и грамматического значения СГ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помогательные слова выражают грамматическое значение сказуемого, неопределённая форма глагола- лексическое значение сказуем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6840" y="1773360"/>
            <a:ext cx="18478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ав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го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азуем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5800" y="20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1200" y="1916280"/>
            <a:ext cx="276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помога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во (сл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5272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21360" y="1989000"/>
            <a:ext cx="26906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пределё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 глаг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) Выписать предложение с ПГ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Состав, загнанный по ветке в тупик, начали разгружать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Окно этой комнаты выходило на балк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Хозяин дома- ветерин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) Выписать предложения с СГ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Осенью он собирался выступить с докладом в научном круж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Скрипач начал игр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) Город наш древ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омашнее задани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араграф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а) из главы 3 повести «Капитанская дочка» выписать 7 предложений с СГ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упражнение 138 (на выбор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Подведение итогов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йте определение составного глагольного сказуем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ак выражается лексическое и грамматическое значения СГ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14:24:30Z</dcterms:created>
  <dc:creator>WiZaRd</dc:creator>
  <dc:description/>
  <dc:language>en-US</dc:language>
  <cp:lastModifiedBy>WiZaRd</cp:lastModifiedBy>
  <dcterms:modified xsi:type="dcterms:W3CDTF">2012-11-30T13:08:57Z</dcterms:modified>
  <cp:revision>5</cp:revision>
  <dc:subject/>
  <dc:title>Тема урока «Составное глагольное сказуемое»</dc:title>
</cp:coreProperties>
</file>