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62F3-8BEA-41BB-A265-015F8943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B023-7BF1-484D-8EB3-E41DBB81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923B-2C29-4CFE-BB01-9531A5B2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19DB-F60D-448E-BCB3-82303878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FF488-A48D-4965-A8D8-5484120D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63FE8-5147-4A22-8460-AE5D3B22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040C1-3C0C-44B1-97FB-DE4BE675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E68BA-299E-4596-8C8B-27036535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82A2D-2E7E-431D-902E-6EEDF82B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0AD92-F608-4C09-9C26-89A459BC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D7458-3CF6-4DD5-AD03-7D450306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85C1-46F5-4DCD-B90B-EBDDC279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8F730-4660-4D47-99D0-45375ADC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8216A-EAB7-4751-9CBC-9EE6D859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B643D-F771-47E7-8DC4-56F44CE5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66745-23AC-45D6-90A9-E53D2225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8FFE6-02DA-421C-8177-FE4B4CF2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14BC-4411-42DD-9488-D73145B8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68F7-4A1E-4C92-B9AC-F7ED7527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39F0-63EA-4578-BEB8-85864709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2BF4-7129-4B9A-A598-77D37687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0BB8-C965-43AF-A8CC-8D924A64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45F8-F306-440E-B16E-A559C6C2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7264-2058-4EAC-9F06-156FD93D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7D2E-ECCD-4EAD-86BA-9F0623BFD3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2662-2900-40E1-AE1A-3FE874CEFBF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file:///gm004.mid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1582560" y="836640"/>
            <a:ext cx="59770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dcebf5"/>
                    </a:gs>
                  </a:gsLst>
                  <a:lin ang="5400000"/>
                </a:gradFill>
                <a:latin typeface="Bookman Old Style"/>
              </a:rPr>
              <a:t>Государственные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dcebf5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dcebf5"/>
                    </a:gs>
                  </a:gsLst>
                  <a:lin ang="5400000"/>
                </a:gradFill>
                <a:latin typeface="Bookman Old Style"/>
              </a:rPr>
              <a:t>символы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dcebf5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dcebf5"/>
                    </a:gs>
                  </a:gsLst>
                  <a:lin ang="5400000"/>
                </a:gradFill>
                <a:latin typeface="Bookman Old Style"/>
              </a:rPr>
              <a:t>Великобритании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dcebf5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British Flag"/>
          <p:cNvPicPr/>
          <p:nvPr/>
        </p:nvPicPr>
        <p:blipFill>
          <a:blip r:embed="rId1"/>
          <a:stretch/>
        </p:blipFill>
        <p:spPr>
          <a:xfrm>
            <a:off x="2124000" y="1820880"/>
            <a:ext cx="5361120" cy="3216240"/>
          </a:xfrm>
          <a:prstGeom prst="rect">
            <a:avLst/>
          </a:prstGeom>
          <a:ln w="0">
            <a:noFill/>
          </a:ln>
        </p:spPr>
      </p:pic>
      <p:sp>
        <p:nvSpPr>
          <p:cNvPr id="114" name="WordArt 5"/>
          <p:cNvSpPr txBox="1"/>
          <p:nvPr/>
        </p:nvSpPr>
        <p:spPr>
          <a:xfrm>
            <a:off x="557280" y="765000"/>
            <a:ext cx="8028000" cy="338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890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101f9"/>
                    </a:gs>
                    <a:gs pos="100000">
                      <a:srgbClr val="ff3300"/>
                    </a:gs>
                  </a:gsLst>
                  <a:lin ang="18900000"/>
                </a:gradFill>
                <a:latin typeface="AdverGothic"/>
              </a:rPr>
              <a:t>БРИТАНСКИЙ ФЛАГ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101f9"/>
                  </a:gs>
                  <a:gs pos="100000">
                    <a:srgbClr val="ff3300"/>
                  </a:gs>
                </a:gsLst>
                <a:lin ang="18900000"/>
              </a:gradFill>
              <a:latin typeface="AdverGothic"/>
              <a:ea typeface="AdverGothic"/>
            </a:endParaRPr>
          </a:p>
        </p:txBody>
      </p:sp>
      <p:sp>
        <p:nvSpPr>
          <p:cNvPr id="115" name="WordArt 6"/>
          <p:cNvSpPr txBox="1"/>
          <p:nvPr/>
        </p:nvSpPr>
        <p:spPr>
          <a:xfrm>
            <a:off x="790560" y="3429000"/>
            <a:ext cx="7561440" cy="266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834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0101f9"/>
                    </a:gs>
                    <a:gs pos="100000">
                      <a:srgbClr val="ff3300"/>
                    </a:gs>
                  </a:gsLst>
                  <a:lin ang="2700000"/>
                </a:gradFill>
                <a:latin typeface="comic"/>
              </a:rPr>
              <a:t>UNION JACK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0101f9"/>
                  </a:gs>
                  <a:gs pos="100000">
                    <a:srgbClr val="ff3300"/>
                  </a:gs>
                </a:gsLst>
                <a:lin ang="2700000"/>
              </a:gradFill>
              <a:latin typeface="comic"/>
              <a:ea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coat_of_arms"/>
          <p:cNvPicPr/>
          <p:nvPr/>
        </p:nvPicPr>
        <p:blipFill>
          <a:blip r:embed="rId1"/>
          <a:stretch/>
        </p:blipFill>
        <p:spPr>
          <a:xfrm>
            <a:off x="255600" y="1112760"/>
            <a:ext cx="4316400" cy="4630680"/>
          </a:xfrm>
          <a:prstGeom prst="rect">
            <a:avLst/>
          </a:prstGeom>
          <a:ln w="0">
            <a:noFill/>
          </a:ln>
        </p:spPr>
      </p:pic>
      <p:sp>
        <p:nvSpPr>
          <p:cNvPr id="117" name="WordArt 7"/>
          <p:cNvSpPr txBox="1"/>
          <p:nvPr/>
        </p:nvSpPr>
        <p:spPr>
          <a:xfrm>
            <a:off x="1332000" y="404640"/>
            <a:ext cx="660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cc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AdverGothic"/>
              </a:rPr>
              <a:t>ГЕРБ ВЕЛИКОБРИТАНИ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cc00"/>
                  </a:gs>
                  <a:gs pos="100000">
                    <a:srgbClr val="ff3300"/>
                  </a:gs>
                </a:gsLst>
                <a:lin ang="5400000"/>
              </a:gradFill>
              <a:latin typeface="AdverGothic"/>
              <a:ea typeface="AdverGothic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4572000" y="126828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Внутри герба центральную часть занимает геральдический щит, разделенный на 4 части. Левый верхний и правый нижний углы представляют герб Англии – три золотисто-желтых леопарда на красном фоне. В правом верхнем углу основного герба расположен герб Шотландии – на золотисто-красном фоне красный лев, стоящий на задних лапах внутри красных полос. В левом нижнем углу – герб Ирландии – желтая арфа на небесно-голубом фоне. Повтор в противоположных углах герба Англии – это символ ведущей роли Англии в создании союза трех королевст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national anthem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f Great Britai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gm004.mid" descr=""/>
          <p:cNvPicPr/>
          <p:nvPr/>
        </p:nvPicPr>
        <p:blipFill>
          <a:blip r:embed="rId1"/>
          <a:stretch/>
        </p:blipFill>
        <p:spPr>
          <a:xfrm>
            <a:off x="4419720" y="2205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179280" y="4294080"/>
            <a:ext cx="439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d save our gracious Que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 live our noble Queen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d save the Queen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nd her victoriou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ppy and gloriou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 to reign over u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d save the Queen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 Lord our God arise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5364000" y="4843440"/>
            <a:ext cx="424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y choicest gifts in sto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 her be pleased to pou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 may she reig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y she defend our law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d ever give us ca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 sing with heart and vo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"God save the Queen!"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84360" y="141300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имн написал Генри Кэри, и был впервые исполнен в 1740 год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2951280" y="2924280"/>
            <a:ext cx="3240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rike down her enemie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d make them fall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found their politic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ustrate their knavish trick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 thee our hopes we fix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d save us all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128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4"/>
          <p:cNvSpPr txBox="1"/>
          <p:nvPr/>
        </p:nvSpPr>
        <p:spPr>
          <a:xfrm>
            <a:off x="2077920" y="333360"/>
            <a:ext cx="4988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"/>
              </a:rPr>
              <a:t>NATIONAL ANTHEM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"/>
              <a:ea typeface="comic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971640" y="126828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имн написал Генри Кэри, и был впервые исполнен в 1740 год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24000" y="1700280"/>
            <a:ext cx="36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d save our gracious Que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 live our noble Queen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d save the Queen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nd her victoriou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ppy and gloriou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 to reign over u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d save the Queen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4572000" y="1844640"/>
            <a:ext cx="352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 Lord our God arise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rike down her enemie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d make them fall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found their politic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ustrate their knavish trick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 thee our hopes we fix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od save us all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2610000" y="4149720"/>
            <a:ext cx="392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y choicest gifts in sto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 her be pleased to pou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 may she reig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y she defend our law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d ever give us ca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 sing with heart and vo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"God save the Queen!"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gm004.mid" descr=""/>
          <p:cNvPicPr/>
          <p:nvPr/>
        </p:nvPicPr>
        <p:blipFill>
          <a:blip r:embed="rId1"/>
          <a:stretch/>
        </p:blipFill>
        <p:spPr>
          <a:xfrm>
            <a:off x="6877080" y="486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/>
          <p:cNvSpPr/>
          <p:nvPr/>
        </p:nvSpPr>
        <p:spPr>
          <a:xfrm>
            <a:off x="5940360" y="4437000"/>
            <a:ext cx="244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ПОСЛУШАТЬ ГИМ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128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306828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 рабо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английского языка Тукманова Гульназ Загид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БОУ Исенбаевская СОШ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rose1"/>
          <p:cNvPicPr/>
          <p:nvPr/>
        </p:nvPicPr>
        <p:blipFill>
          <a:blip r:embed="rId1"/>
          <a:stretch/>
        </p:blipFill>
        <p:spPr>
          <a:xfrm>
            <a:off x="2666880" y="3789360"/>
            <a:ext cx="3810240" cy="2476440"/>
          </a:xfrm>
          <a:prstGeom prst="rect">
            <a:avLst/>
          </a:prstGeom>
          <a:ln w="0">
            <a:noFill/>
          </a:ln>
        </p:spPr>
      </p:pic>
      <p:sp>
        <p:nvSpPr>
          <p:cNvPr id="85" name="WordArt 6"/>
          <p:cNvSpPr txBox="1"/>
          <p:nvPr/>
        </p:nvSpPr>
        <p:spPr>
          <a:xfrm>
            <a:off x="2448000" y="333360"/>
            <a:ext cx="424800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Красная роз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6" name="WordArt 7"/>
          <p:cNvSpPr txBox="1"/>
          <p:nvPr/>
        </p:nvSpPr>
        <p:spPr>
          <a:xfrm>
            <a:off x="1289160" y="2779560"/>
            <a:ext cx="65642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мблема Ланкастеров</a:t>
            </a:r>
            <a:endParaRPr b="0" lang="en-US" sz="1800" spc="1" strike="noStrike">
              <a:ln w="3816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роза_белая"/>
          <p:cNvPicPr/>
          <p:nvPr/>
        </p:nvPicPr>
        <p:blipFill>
          <a:blip r:embed="rId1"/>
          <a:stretch/>
        </p:blipFill>
        <p:spPr>
          <a:xfrm>
            <a:off x="3137040" y="1989000"/>
            <a:ext cx="2868480" cy="4546800"/>
          </a:xfrm>
          <a:prstGeom prst="rect">
            <a:avLst/>
          </a:prstGeom>
          <a:ln w="0">
            <a:noFill/>
          </a:ln>
        </p:spPr>
      </p:pic>
      <p:sp>
        <p:nvSpPr>
          <p:cNvPr id="88" name="WordArt 6"/>
          <p:cNvSpPr txBox="1"/>
          <p:nvPr/>
        </p:nvSpPr>
        <p:spPr>
          <a:xfrm>
            <a:off x="1763640" y="0"/>
            <a:ext cx="5616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latin typeface="Courier New"/>
              </a:rPr>
              <a:t>Белая роза -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ffffff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latin typeface="Courier New"/>
              </a:rPr>
              <a:t>эмблема Йорков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ffffff"/>
              </a:solidFill>
              <a:latin typeface="Courier New"/>
              <a:ea typeface="Courier New"/>
            </a:endParaRPr>
          </a:p>
        </p:txBody>
      </p:sp>
      <p:pic>
        <p:nvPicPr>
          <p:cNvPr id="89" name="Picture 7" descr="BritishCrown"/>
          <p:cNvPicPr/>
          <p:nvPr/>
        </p:nvPicPr>
        <p:blipFill>
          <a:blip r:embed="rId2"/>
          <a:stretch/>
        </p:blipFill>
        <p:spPr>
          <a:xfrm>
            <a:off x="324000" y="2097000"/>
            <a:ext cx="2263680" cy="26622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90" name="Picture 8" descr="coat_of_arms"/>
          <p:cNvPicPr/>
          <p:nvPr/>
        </p:nvPicPr>
        <p:blipFill>
          <a:blip r:embed="rId3"/>
          <a:stretch/>
        </p:blipFill>
        <p:spPr>
          <a:xfrm>
            <a:off x="6372360" y="2085840"/>
            <a:ext cx="250344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thistle"/>
          <p:cNvPicPr/>
          <p:nvPr/>
        </p:nvPicPr>
        <p:blipFill>
          <a:blip r:embed="rId1"/>
          <a:stretch/>
        </p:blipFill>
        <p:spPr>
          <a:xfrm>
            <a:off x="250920" y="396720"/>
            <a:ext cx="3986280" cy="6062760"/>
          </a:xfrm>
          <a:prstGeom prst="rect">
            <a:avLst/>
          </a:prstGeom>
          <a:ln w="0">
            <a:noFill/>
          </a:ln>
        </p:spPr>
      </p:pic>
      <p:sp>
        <p:nvSpPr>
          <p:cNvPr id="92" name="WordArt 5"/>
          <p:cNvSpPr txBox="1"/>
          <p:nvPr/>
        </p:nvSpPr>
        <p:spPr>
          <a:xfrm>
            <a:off x="4971960" y="404640"/>
            <a:ext cx="417204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Эмблем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Шотландии -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чертополох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859280" y="386064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мблема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Шотланди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чертополох, по преданию, спас страну от вражеского нашеств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lukporei"/>
          <p:cNvPicPr/>
          <p:nvPr/>
        </p:nvPicPr>
        <p:blipFill>
          <a:blip r:embed="rId1"/>
          <a:stretch/>
        </p:blipFill>
        <p:spPr>
          <a:xfrm>
            <a:off x="5435640" y="2565360"/>
            <a:ext cx="3292560" cy="3801960"/>
          </a:xfrm>
          <a:prstGeom prst="rect">
            <a:avLst/>
          </a:prstGeom>
          <a:ln w="0">
            <a:noFill/>
          </a:ln>
        </p:spPr>
      </p:pic>
      <p:sp>
        <p:nvSpPr>
          <p:cNvPr id="95" name="WordArt 5"/>
          <p:cNvSpPr txBox="1"/>
          <p:nvPr/>
        </p:nvSpPr>
        <p:spPr>
          <a:xfrm>
            <a:off x="2050920" y="404640"/>
            <a:ext cx="6193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808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Символ Уэльса</a:t>
            </a:r>
            <a:endParaRPr b="1" lang="en-US" sz="1800" spc="1" strike="noStrike">
              <a:ln w="31680">
                <a:solidFill>
                  <a:srgbClr val="808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808000"/>
                  </a:solidFill>
                  <a:miter/>
                </a:ln>
                <a:solidFill>
                  <a:srgbClr val="00ff00"/>
                </a:solidFill>
                <a:latin typeface="Comic Sans MS"/>
              </a:rPr>
              <a:t>лук-порей</a:t>
            </a:r>
            <a:endParaRPr b="1" lang="en-US" sz="1800" spc="1" strike="noStrike">
              <a:ln w="31680">
                <a:solidFill>
                  <a:srgbClr val="808000"/>
                </a:solidFill>
                <a:miter/>
              </a:ln>
              <a:solidFill>
                <a:srgbClr val="00ff00"/>
              </a:solidFill>
              <a:latin typeface="Comic Sans MS"/>
              <a:ea typeface="Comic Sans MS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755640" y="2276640"/>
            <a:ext cx="4176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66"/>
                </a:solidFill>
                <a:latin typeface="Tahoma"/>
              </a:rPr>
              <a:t>Для жителей </a:t>
            </a:r>
            <a:r>
              <a:rPr b="1" lang="ru-RU" sz="2800" spc="-1" strike="noStrike">
                <a:solidFill>
                  <a:srgbClr val="ccff66"/>
                </a:solidFill>
                <a:latin typeface="Tahoma"/>
              </a:rPr>
              <a:t>Уэльса</a:t>
            </a:r>
            <a:r>
              <a:rPr b="0" lang="ru-RU" sz="2800" spc="-1" strike="noStrike">
                <a:solidFill>
                  <a:srgbClr val="ccff66"/>
                </a:solidFill>
                <a:latin typeface="Tahoma"/>
              </a:rPr>
              <a:t> эмблема их страны – лук-порей – напрямую связан с легендами о св. Давиде. Этот христианский подвижник, по легенде, питался лишь хлебом, да этим растени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narkiss"/>
          <p:cNvPicPr/>
          <p:nvPr/>
        </p:nvPicPr>
        <p:blipFill>
          <a:blip r:embed="rId1"/>
          <a:stretch/>
        </p:blipFill>
        <p:spPr>
          <a:xfrm>
            <a:off x="539640" y="2492280"/>
            <a:ext cx="3214800" cy="3861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narciss"/>
          <p:cNvPicPr/>
          <p:nvPr/>
        </p:nvPicPr>
        <p:blipFill>
          <a:blip r:embed="rId2"/>
          <a:stretch/>
        </p:blipFill>
        <p:spPr>
          <a:xfrm>
            <a:off x="6372360" y="333360"/>
            <a:ext cx="2000160" cy="22575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4572000" y="2637000"/>
            <a:ext cx="424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аллийц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убеждены, что желтые нарциссы, ранние весенние цветы, распускаются специально к празднику их любимого святого, поэтому они также считают символом Уэльса и этот цветок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WordArt 7"/>
          <p:cNvSpPr txBox="1"/>
          <p:nvPr/>
        </p:nvSpPr>
        <p:spPr>
          <a:xfrm>
            <a:off x="826920" y="333360"/>
            <a:ext cx="52578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66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рцисс</a:t>
            </a:r>
            <a:endParaRPr b="0" lang="en-US" sz="1800" spc="1" strike="noStrike">
              <a:ln w="15840">
                <a:solidFill>
                  <a:srgbClr val="993366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993366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мблема Валлийцев</a:t>
            </a:r>
            <a:endParaRPr b="0" lang="en-US" sz="1800" spc="1" strike="noStrike">
              <a:ln w="15840">
                <a:solidFill>
                  <a:srgbClr val="993366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georges_flag"/>
          <p:cNvPicPr/>
          <p:nvPr/>
        </p:nvPicPr>
        <p:blipFill>
          <a:blip r:embed="rId1"/>
          <a:stretch/>
        </p:blipFill>
        <p:spPr>
          <a:xfrm>
            <a:off x="3708360" y="1844640"/>
            <a:ext cx="4946760" cy="24732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5"/>
          <p:cNvSpPr txBox="1"/>
          <p:nvPr/>
        </p:nvSpPr>
        <p:spPr>
          <a:xfrm>
            <a:off x="431640" y="404640"/>
            <a:ext cx="828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Haettenschweiler"/>
              </a:rPr>
              <a:t>Флаг святого Георгия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Haettenschweiler"/>
              <a:ea typeface="Haettenschweiler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11280" y="4581360"/>
            <a:ext cx="7920000" cy="180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Первым флагом Англии был флаг св. Георга – красный крест на белом фоне. Св. Георг – покровитель Англии, известен, прежде всего как победитель драко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7" descr="saintgeorge"/>
          <p:cNvPicPr/>
          <p:nvPr/>
        </p:nvPicPr>
        <p:blipFill>
          <a:blip r:embed="rId3"/>
          <a:stretch/>
        </p:blipFill>
        <p:spPr>
          <a:xfrm>
            <a:off x="1332000" y="1844640"/>
            <a:ext cx="1622160" cy="2376360"/>
          </a:xfrm>
          <a:prstGeom prst="rect">
            <a:avLst/>
          </a:prstGeom>
          <a:ln w="12708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e6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andrew_flag"/>
          <p:cNvPicPr/>
          <p:nvPr/>
        </p:nvPicPr>
        <p:blipFill>
          <a:blip r:embed="rId1"/>
          <a:stretch/>
        </p:blipFill>
        <p:spPr>
          <a:xfrm>
            <a:off x="2679840" y="4508640"/>
            <a:ext cx="3782880" cy="2093760"/>
          </a:xfrm>
          <a:prstGeom prst="rect">
            <a:avLst/>
          </a:prstGeom>
          <a:ln w="123840">
            <a:solidFill>
              <a:srgbClr val="ffff00"/>
            </a:solidFill>
            <a:miter/>
          </a:ln>
        </p:spPr>
      </p:pic>
      <p:sp>
        <p:nvSpPr>
          <p:cNvPr id="106" name="WordArt 5"/>
          <p:cNvSpPr txBox="1"/>
          <p:nvPr/>
        </p:nvSpPr>
        <p:spPr>
          <a:xfrm>
            <a:off x="539640" y="404640"/>
            <a:ext cx="806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asper"/>
              </a:rPr>
              <a:t>ФЛАГ СВЯТОГО АНДРЕЯ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asper"/>
              <a:ea typeface="Casper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95280" y="1413000"/>
            <a:ext cx="6337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елый крест на синем фоне – символ святого Андрея, одного из 12 апостолов, который считается покровителем Шотланд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вятой Андрей проповедовал христианство, за что и был распят в греческом городе Патры. Крест имел форму буквы Х, отсюда, видимо, и ведет историю форма диагонального креста св. Андрея, так называемого андреевского крес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7" descr="Topleft St Andrew Logo"/>
          <p:cNvPicPr/>
          <p:nvPr/>
        </p:nvPicPr>
        <p:blipFill>
          <a:blip r:embed="rId4"/>
          <a:stretch/>
        </p:blipFill>
        <p:spPr>
          <a:xfrm>
            <a:off x="6948360" y="1484280"/>
            <a:ext cx="19051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4"/>
          <p:cNvSpPr txBox="1"/>
          <p:nvPr/>
        </p:nvSpPr>
        <p:spPr>
          <a:xfrm>
            <a:off x="1092240" y="620640"/>
            <a:ext cx="6958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ЛАГ СВЯТОГО ПАТРИКА</a:t>
            </a:r>
            <a:endParaRPr b="0" lang="en-US" sz="1800" spc="1" strike="noStrike">
              <a:ln w="3816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Picture 5" descr="160_nothern_ireland_flag"/>
          <p:cNvPicPr/>
          <p:nvPr/>
        </p:nvPicPr>
        <p:blipFill>
          <a:blip r:embed="rId1"/>
          <a:stretch/>
        </p:blipFill>
        <p:spPr>
          <a:xfrm>
            <a:off x="395280" y="1628640"/>
            <a:ext cx="3382920" cy="26766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790560" y="443700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го же представлял белый флаг с красным крестом? Он был символом св. Патрика – полулегендарного основателя и первого епископа ирландской христианской церкв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едполагают, что он жил в конце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– середине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вв. Он почитается как святой заступник Ирландии, а красный диагональный крест является «частичкой», представляющей собой Ирландию на флаге Соединенного Королев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7" descr="stpatflg"/>
          <p:cNvPicPr/>
          <p:nvPr/>
        </p:nvPicPr>
        <p:blipFill>
          <a:blip r:embed="rId2"/>
          <a:stretch/>
        </p:blipFill>
        <p:spPr>
          <a:xfrm>
            <a:off x="4788000" y="1700280"/>
            <a:ext cx="40240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15:14:40Z</dcterms:created>
  <dc:creator>Шачков Вячеслав Владимирович</dc:creator>
  <dc:description/>
  <cp:keywords>символика британии</cp:keywords>
  <dc:language>en-US</dc:language>
  <cp:lastModifiedBy>Гульназ</cp:lastModifiedBy>
  <dcterms:modified xsi:type="dcterms:W3CDTF">2012-12-19T13:52:24Z</dcterms:modified>
  <cp:revision>14</cp:revision>
  <dc:subject>презентация к уроку</dc:subject>
  <dc:title>символы великобритании</dc:title>
</cp:coreProperties>
</file>