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8E2-ACE5-4F88-AD8F-953A6CCD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FD0-BBB6-4DFE-92D2-508B2C23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0BE-7A13-4C21-B55E-C1327222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E75-7119-4C6A-999B-6FAFA197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10911-929E-4276-8FB6-82B3B87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1A247-51BA-41A4-AD43-4E48963C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C71B7-5DCB-4186-AA74-E0896629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8E549-CECC-4CC3-A6A3-B30F8B5D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51B21-099F-4BF2-A0C2-98EA9911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A78B0-DBC5-46AD-83F9-EE5AD607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E7AC-0521-4341-A4F5-22C0AC5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BB5-3335-4F63-A0BD-7E8FEE53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5B376-2F43-4150-B23B-5A249CA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595A-A6B1-44F1-A6A3-9A26228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CBCFC-D9FD-4945-8700-913AD161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CC63-510A-496E-86DC-6B612E04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E887D-948A-4462-91B3-C8EACA9C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3EF-7D6E-4E93-9C24-7DCA3A19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7C7-165D-47D6-8B97-A0A730CC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48A-F748-4C9B-91C7-A916C25B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543-3EC7-4F7E-B4BD-455F716B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D89-A880-488F-B21D-A6E22DAF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499-CA48-491F-95C0-985E324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170-15EC-4185-AC27-DCA2642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E6B-522F-4D69-94E2-84C8FEFEC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4FB-8309-451C-AE3D-3B083024A6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gm004.mid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582560" y="836640"/>
            <a:ext cx="597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Государственны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символ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Великобритании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British Flag"/>
          <p:cNvPicPr/>
          <p:nvPr/>
        </p:nvPicPr>
        <p:blipFill>
          <a:blip r:embed="rId1"/>
          <a:stretch/>
        </p:blipFill>
        <p:spPr>
          <a:xfrm>
            <a:off x="2124000" y="1820880"/>
            <a:ext cx="5361120" cy="32162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557280" y="765000"/>
            <a:ext cx="802800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9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9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dverGothic"/>
              </a:rPr>
              <a:t>БРИТАНСКИЙ ФЛА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9"/>
                  </a:gs>
                  <a:gs pos="100000">
                    <a:srgbClr val="ff3300"/>
                  </a:gs>
                </a:gsLst>
                <a:lin ang="18900000"/>
              </a:gradFill>
              <a:latin typeface="AdverGothic"/>
              <a:ea typeface="AdverGothic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790560" y="3429000"/>
            <a:ext cx="756144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834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101f9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comic"/>
              </a:rPr>
              <a:t>UNION JA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101f9"/>
                  </a:gs>
                  <a:gs pos="100000">
                    <a:srgbClr val="ff3300"/>
                  </a:gs>
                </a:gsLst>
                <a:lin ang="2700000"/>
              </a:gra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oat_of_arms"/>
          <p:cNvPicPr/>
          <p:nvPr/>
        </p:nvPicPr>
        <p:blipFill>
          <a:blip r:embed="rId1"/>
          <a:stretch/>
        </p:blipFill>
        <p:spPr>
          <a:xfrm>
            <a:off x="255600" y="1112760"/>
            <a:ext cx="4316400" cy="4630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1332000" y="404640"/>
            <a:ext cx="660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dverGothic"/>
              </a:rPr>
              <a:t>ГЕРБ ВЕЛИКОБРИТАН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AdverGothic"/>
              <a:ea typeface="AdverGothic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572000" y="12682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Внутри герба центральную часть занимает геральдический щит, разделенный на 4 части. Левый верхний и правый нижний углы представляют герб Англии – три золотисто-желтых леопарда на красном фоне. В правом верхнем углу основного герба расположен герб Шотландии – на золотисто-красном фоне красный лев, стоящий на задних лапах внутри красных полос. В левом нижнем углу – герб Ирландии – желтая арфа на небесно-голубом фоне. Повтор в противоположных углах герба Англии – это символ ведущей роли Англии в создании союза трех королев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ational anthe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Great Bri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gm004.mid" descr=""/>
          <p:cNvPicPr/>
          <p:nvPr/>
        </p:nvPicPr>
        <p:blipFill>
          <a:blip r:embed="rId1"/>
          <a:stretch/>
        </p:blipFill>
        <p:spPr>
          <a:xfrm>
            <a:off x="4419720" y="220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9280" y="429408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our gracious Qu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live our noble Quee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her vict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ppy and gl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to reign over 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Lord our God ari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64000" y="4843440"/>
            <a:ext cx="42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y choicest gifts in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her be pleased to pou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may she reig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she defend our law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ever give us c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sing with heart and v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save the Queen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4360" y="1413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 написал Генри Кэри, и был впервые исполнен в 1740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51280" y="2924280"/>
            <a:ext cx="3240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ike down her enemi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make them fal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ound their politic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strate their knavish trick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thee our hopes we fix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us al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28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077920" y="333360"/>
            <a:ext cx="498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NATIONAL ANTH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71640" y="12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 написал Генри Кэри, и был впервые исполнен в 1740 год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24000" y="1700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our gracious Qu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live our noble Quee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her vict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ppy and gl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to reign over 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572000" y="184464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Lord our God ari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ike down her enemi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make them fal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ound their politic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strate their knavish trick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thee our hopes we fix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us al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610000" y="4149720"/>
            <a:ext cx="392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y choicest gifts in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her be pleased to pou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may she reig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she defend our law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ever give us c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sing with heart and v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save the Queen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gm004.mid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5940360" y="443700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СЛУШАТЬ ГИМ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28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английского языка Тукманова Гульназ Загид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БОУ Исенбаевская СО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rose1"/>
          <p:cNvPicPr/>
          <p:nvPr/>
        </p:nvPicPr>
        <p:blipFill>
          <a:blip r:embed="rId1"/>
          <a:stretch/>
        </p:blipFill>
        <p:spPr>
          <a:xfrm>
            <a:off x="2666880" y="3789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2448000" y="333360"/>
            <a:ext cx="42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Красная ро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1289160" y="2779560"/>
            <a:ext cx="6564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блема Ланкастеров</a:t>
            </a:r>
            <a:endParaRPr b="0" lang="en-US" sz="1800" spc="1" strike="noStrike">
              <a:ln w="381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оза_белая"/>
          <p:cNvPicPr/>
          <p:nvPr/>
        </p:nvPicPr>
        <p:blipFill>
          <a:blip r:embed="rId1"/>
          <a:stretch/>
        </p:blipFill>
        <p:spPr>
          <a:xfrm>
            <a:off x="3137040" y="1989000"/>
            <a:ext cx="2868480" cy="45468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763640" y="0"/>
            <a:ext cx="56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Белая роза -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эмблема Йорков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pic>
        <p:nvPicPr>
          <p:cNvPr id="89" name="Picture 7" descr="BritishCrown"/>
          <p:cNvPicPr/>
          <p:nvPr/>
        </p:nvPicPr>
        <p:blipFill>
          <a:blip r:embed="rId2"/>
          <a:stretch/>
        </p:blipFill>
        <p:spPr>
          <a:xfrm>
            <a:off x="324000" y="2097000"/>
            <a:ext cx="2263680" cy="2662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0" name="Picture 8" descr="coat_of_arms"/>
          <p:cNvPicPr/>
          <p:nvPr/>
        </p:nvPicPr>
        <p:blipFill>
          <a:blip r:embed="rId3"/>
          <a:stretch/>
        </p:blipFill>
        <p:spPr>
          <a:xfrm>
            <a:off x="6372360" y="2085840"/>
            <a:ext cx="250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istle"/>
          <p:cNvPicPr/>
          <p:nvPr/>
        </p:nvPicPr>
        <p:blipFill>
          <a:blip r:embed="rId1"/>
          <a:stretch/>
        </p:blipFill>
        <p:spPr>
          <a:xfrm>
            <a:off x="250920" y="396720"/>
            <a:ext cx="3986280" cy="6062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4971960" y="404640"/>
            <a:ext cx="41720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Эмбле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Шотландии -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чертополо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859280" y="386064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мблем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отланд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чертополох, по преданию, спас страну от вражеского наше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ukporei"/>
          <p:cNvPicPr/>
          <p:nvPr/>
        </p:nvPicPr>
        <p:blipFill>
          <a:blip r:embed="rId1"/>
          <a:stretch/>
        </p:blipFill>
        <p:spPr>
          <a:xfrm>
            <a:off x="5435640" y="2565360"/>
            <a:ext cx="329256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2050920" y="40464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имвол Уэльса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лук-порей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2276640"/>
            <a:ext cx="417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Tahoma"/>
              </a:rPr>
              <a:t>Для жителей </a:t>
            </a:r>
            <a:r>
              <a:rPr b="1" lang="ru-RU" sz="2800" spc="-1" strike="noStrike">
                <a:solidFill>
                  <a:srgbClr val="ccff66"/>
                </a:solidFill>
                <a:latin typeface="Tahoma"/>
              </a:rPr>
              <a:t>Уэльса</a:t>
            </a:r>
            <a:r>
              <a:rPr b="0" lang="ru-RU" sz="2800" spc="-1" strike="noStrike">
                <a:solidFill>
                  <a:srgbClr val="ccff66"/>
                </a:solidFill>
                <a:latin typeface="Tahoma"/>
              </a:rPr>
              <a:t> эмблема их страны – лук-порей – напрямую связан с легендами о св. Давиде. Этот христианский подвижник, по легенде, питался лишь хлебом, да этим раст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narkiss"/>
          <p:cNvPicPr/>
          <p:nvPr/>
        </p:nvPicPr>
        <p:blipFill>
          <a:blip r:embed="rId1"/>
          <a:stretch/>
        </p:blipFill>
        <p:spPr>
          <a:xfrm>
            <a:off x="539640" y="2492280"/>
            <a:ext cx="3214800" cy="386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narciss"/>
          <p:cNvPicPr/>
          <p:nvPr/>
        </p:nvPicPr>
        <p:blipFill>
          <a:blip r:embed="rId2"/>
          <a:stretch/>
        </p:blipFill>
        <p:spPr>
          <a:xfrm>
            <a:off x="6372360" y="333360"/>
            <a:ext cx="2000160" cy="2257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572000" y="2637000"/>
            <a:ext cx="424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аллийц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беждены, что желтые нарциссы, ранние весенние цветы, распускаются специально к празднику их любимого святого, поэтому они также считают символом Уэльса и этот цвет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826920" y="333360"/>
            <a:ext cx="525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цисс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блема Валлийцев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georges_flag"/>
          <p:cNvPicPr/>
          <p:nvPr/>
        </p:nvPicPr>
        <p:blipFill>
          <a:blip r:embed="rId1"/>
          <a:stretch/>
        </p:blipFill>
        <p:spPr>
          <a:xfrm>
            <a:off x="3708360" y="1844640"/>
            <a:ext cx="4946760" cy="2473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431640" y="404640"/>
            <a:ext cx="828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Haettenschweiler"/>
              </a:rPr>
              <a:t>Флаг святого Георг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11280" y="4581360"/>
            <a:ext cx="792000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Первым флагом Англии был флаг св. Георга – красный крест на белом фоне. Св. Георг – покровитель Англии, известен, прежде всего как победитель др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saintgeorge"/>
          <p:cNvPicPr/>
          <p:nvPr/>
        </p:nvPicPr>
        <p:blipFill>
          <a:blip r:embed="rId3"/>
          <a:stretch/>
        </p:blipFill>
        <p:spPr>
          <a:xfrm>
            <a:off x="1332000" y="1844640"/>
            <a:ext cx="1622160" cy="2376360"/>
          </a:xfrm>
          <a:prstGeom prst="rect">
            <a:avLst/>
          </a:prstGeom>
          <a:ln w="127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e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andrew_flag"/>
          <p:cNvPicPr/>
          <p:nvPr/>
        </p:nvPicPr>
        <p:blipFill>
          <a:blip r:embed="rId1"/>
          <a:stretch/>
        </p:blipFill>
        <p:spPr>
          <a:xfrm>
            <a:off x="2679840" y="4508640"/>
            <a:ext cx="3782880" cy="2093760"/>
          </a:xfrm>
          <a:prstGeom prst="rect">
            <a:avLst/>
          </a:prstGeom>
          <a:ln w="123840">
            <a:solidFill>
              <a:srgbClr val="ffff00"/>
            </a:solidFill>
            <a:miter/>
          </a:ln>
        </p:spPr>
      </p:pic>
      <p:sp>
        <p:nvSpPr>
          <p:cNvPr id="106" name="WordArt 5"/>
          <p:cNvSpPr txBox="1"/>
          <p:nvPr/>
        </p:nvSpPr>
        <p:spPr>
          <a:xfrm>
            <a:off x="539640" y="404640"/>
            <a:ext cx="806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sper"/>
              </a:rPr>
              <a:t>ФЛАГ СВЯТОГО АНДРЕ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sper"/>
              <a:ea typeface="Casper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1413000"/>
            <a:ext cx="63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ый крест на синем фоне – символ святого Андрея, одного из 12 апостолов, который считается покровителем Шотлан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вятой Андрей проповедовал христианство, за что и был распят в греческом городе Патры. Крест имел форму буквы Х, отсюда, видимо, и ведет историю форма диагонального креста св. Андрея, так называемого андреевского кр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Topleft St Andrew Logo"/>
          <p:cNvPicPr/>
          <p:nvPr/>
        </p:nvPicPr>
        <p:blipFill>
          <a:blip r:embed="rId4"/>
          <a:stretch/>
        </p:blipFill>
        <p:spPr>
          <a:xfrm>
            <a:off x="6948360" y="148428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092240" y="620640"/>
            <a:ext cx="6958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ЛАГ СВЯТОГО ПАТРИКА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5" descr="160_nothern_ireland_flag"/>
          <p:cNvPicPr/>
          <p:nvPr/>
        </p:nvPicPr>
        <p:blipFill>
          <a:blip r:embed="rId1"/>
          <a:stretch/>
        </p:blipFill>
        <p:spPr>
          <a:xfrm>
            <a:off x="395280" y="1628640"/>
            <a:ext cx="3382920" cy="2676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90560" y="4437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го же представлял белый флаг с красным крестом? Он был символом св. Патрика – полулегендарного основателя и первого епископа ирландской христианской церк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полагают, что он жил в конце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середине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в. Он почитается как святой заступник Ирландии, а красный диагональный крест является «частичкой», представляющей собой Ирландию на флаге Соединенного Королев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stpatflg"/>
          <p:cNvPicPr/>
          <p:nvPr/>
        </p:nvPicPr>
        <p:blipFill>
          <a:blip r:embed="rId2"/>
          <a:stretch/>
        </p:blipFill>
        <p:spPr>
          <a:xfrm>
            <a:off x="4788000" y="1700280"/>
            <a:ext cx="4024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5:14:40Z</dcterms:created>
  <dc:creator>Шачков Вячеслав Владимирович</dc:creator>
  <dc:description/>
  <cp:keywords>символика британии</cp:keywords>
  <dc:language>en-US</dc:language>
  <cp:lastModifiedBy>Гульназ</cp:lastModifiedBy>
  <dcterms:modified xsi:type="dcterms:W3CDTF">2012-12-19T13:52:24Z</dcterms:modified>
  <cp:revision>14</cp:revision>
  <dc:subject>презентация к уроку</dc:subject>
  <dc:title>символы великобритании</dc:title>
</cp:coreProperties>
</file>