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png" ContentType="image/png"/>
  <Override PartName="/ppt/media/image44.jpeg" ContentType="image/jpeg"/>
  <Override PartName="/ppt/media/image43.jpeg" ContentType="image/jpeg"/>
  <Override PartName="/ppt/media/image2.jpeg" ContentType="image/jpeg"/>
  <Override PartName="/ppt/media/image23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9.png" ContentType="image/png"/>
  <Override PartName="/ppt/media/image16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11.png" ContentType="image/png"/>
  <Override PartName="/ppt/media/image70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6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63.jpeg" ContentType="image/jpeg"/>
  <Override PartName="/ppt/media/image6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17.jpeg" ContentType="image/jpeg"/>
  <Override PartName="/ppt/media/image61.jpeg" ContentType="image/jpeg"/>
  <Override PartName="/ppt/media/image4.jpeg" ContentType="image/jpeg"/>
  <Override PartName="/ppt/media/image25.jpeg" ContentType="image/jpeg"/>
  <Override PartName="/ppt/media/image26.jpeg" ContentType="image/jpeg"/>
  <Override PartName="/ppt/media/image28.jpeg" ContentType="image/jpeg"/>
  <Override PartName="/ppt/media/image51.jpeg" ContentType="image/jpeg"/>
  <Override PartName="/ppt/media/image19.jpeg" ContentType="image/jpeg"/>
  <Override PartName="/ppt/media/image54.jpeg" ContentType="image/jpeg"/>
  <Override PartName="/ppt/media/image12.jpeg" ContentType="image/jpeg"/>
  <Override PartName="/ppt/media/image29.jpeg" ContentType="image/jpeg"/>
  <Override PartName="/ppt/media/image1.png" ContentType="image/png"/>
  <Override PartName="/ppt/media/image13.png" ContentType="image/png"/>
  <Override PartName="/ppt/media/image52.jpeg" ContentType="image/jpeg"/>
  <Override PartName="/ppt/media/image27.jpeg" ContentType="image/jpeg"/>
  <Override PartName="/ppt/media/image50.jpeg" ContentType="image/jpeg"/>
  <Override PartName="/ppt/media/image36.jpeg" ContentType="image/jpeg"/>
  <Override PartName="/ppt/media/image10.png" ContentType="image/png"/>
  <Override PartName="/ppt/media/image35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FB5B-61C7-4937-8F9C-188198381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1E01-0D98-4592-AD1B-5D0C8C0CB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A584-B152-42DB-9830-30983BC9B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D469-887A-49DA-90D6-B102874D1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800B5-0C2E-4DE2-9C37-41D2867FA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EF8FF-0324-4E02-BCBF-549163979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0CFE6-31DE-48F5-80A4-53377D12F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D78AE-F794-44F2-AF16-EF35AC7E8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D23E5-17EE-4C6B-8BE7-F4F4F8B56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7F9A6-9E68-41E2-8B35-DB1898D8C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85644-B6A9-4922-AAE9-38633EE2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381D-BCB7-498B-9C4B-D207D3E7A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B7FE6-685F-440E-A891-D62C6D87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6369F-BDC3-4348-BCEB-F9D1F22D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0368C-A3EF-4BC6-8DC9-B6DEB0732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EE0B3-F9A3-4C55-861E-5A658F0B8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A61F2-DFC1-4BD9-AF97-151B5DF9B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1F8A-55A2-47E9-B4EE-7C30F45A2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D536-3A86-400B-BFEF-B3DB52BDD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0736-5606-4095-AC5F-7999AE21F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3CCC-5FBD-4C36-945E-35659B244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8BF3-D55B-4B47-99AE-2DAB1BD1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2BDB-23B2-4485-8E1B-FEE74A6C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8CB1-EB6B-44C8-9108-74D24ED9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AD4BF-40AF-460B-A974-7597CD1F057B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843BE-2F51-44E5-97B6-2B464BFF969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image" Target="../media/image39.jpeg"/><Relationship Id="rId8" Type="http://schemas.openxmlformats.org/officeDocument/2006/relationships/image" Target="../media/image40.jpeg"/><Relationship Id="rId9" Type="http://schemas.openxmlformats.org/officeDocument/2006/relationships/image" Target="../media/image41.jpeg"/><Relationship Id="rId10" Type="http://schemas.openxmlformats.org/officeDocument/2006/relationships/image" Target="../media/image42.jpeg"/><Relationship Id="rId11" Type="http://schemas.openxmlformats.org/officeDocument/2006/relationships/image" Target="../media/image43.jpeg"/><Relationship Id="rId12" Type="http://schemas.openxmlformats.org/officeDocument/2006/relationships/image" Target="../media/image44.jpeg"/><Relationship Id="rId13" Type="http://schemas.openxmlformats.org/officeDocument/2006/relationships/slide" Target="slide3.xml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image" Target="../media/image51.jpeg"/><Relationship Id="rId7" Type="http://schemas.openxmlformats.org/officeDocument/2006/relationships/image" Target="../media/image52.jpeg"/><Relationship Id="rId8" Type="http://schemas.openxmlformats.org/officeDocument/2006/relationships/image" Target="../media/image53.jpeg"/><Relationship Id="rId9" Type="http://schemas.openxmlformats.org/officeDocument/2006/relationships/image" Target="../media/image54.jpeg"/><Relationship Id="rId10" Type="http://schemas.openxmlformats.org/officeDocument/2006/relationships/image" Target="../media/image55.jpeg"/><Relationship Id="rId11" Type="http://schemas.openxmlformats.org/officeDocument/2006/relationships/image" Target="../media/image56.jpeg"/><Relationship Id="rId12" Type="http://schemas.openxmlformats.org/officeDocument/2006/relationships/image" Target="../media/image57.jpeg"/><Relationship Id="rId13" Type="http://schemas.openxmlformats.org/officeDocument/2006/relationships/image" Target="../media/image58.jpeg"/><Relationship Id="rId14" Type="http://schemas.openxmlformats.org/officeDocument/2006/relationships/image" Target="../media/image59.jpeg"/><Relationship Id="rId15" Type="http://schemas.openxmlformats.org/officeDocument/2006/relationships/image" Target="../media/image60.jpeg"/><Relationship Id="rId16" Type="http://schemas.openxmlformats.org/officeDocument/2006/relationships/image" Target="../media/image61.jpeg"/><Relationship Id="rId17" Type="http://schemas.openxmlformats.org/officeDocument/2006/relationships/image" Target="../media/image62.jpeg"/><Relationship Id="rId18" Type="http://schemas.openxmlformats.org/officeDocument/2006/relationships/image" Target="../media/image63.jpeg"/><Relationship Id="rId19" Type="http://schemas.openxmlformats.org/officeDocument/2006/relationships/image" Target="../media/image64.jpeg"/><Relationship Id="rId20" Type="http://schemas.openxmlformats.org/officeDocument/2006/relationships/image" Target="../media/image65.jpeg"/><Relationship Id="rId21" Type="http://schemas.openxmlformats.org/officeDocument/2006/relationships/image" Target="../media/image66.jpeg"/><Relationship Id="rId22" Type="http://schemas.openxmlformats.org/officeDocument/2006/relationships/image" Target="../media/image67.jpeg"/><Relationship Id="rId23" Type="http://schemas.openxmlformats.org/officeDocument/2006/relationships/image" Target="../media/image68.jpeg"/><Relationship Id="rId24" Type="http://schemas.openxmlformats.org/officeDocument/2006/relationships/image" Target="../media/image69.jpeg"/><Relationship Id="rId25" Type="http://schemas.openxmlformats.org/officeDocument/2006/relationships/image" Target="../media/image70.jpeg"/><Relationship Id="rId26" Type="http://schemas.openxmlformats.org/officeDocument/2006/relationships/image" Target="../media/image71.jpeg"/><Relationship Id="rId27" Type="http://schemas.openxmlformats.org/officeDocument/2006/relationships/image" Target="../media/image72.jpeg"/><Relationship Id="rId28" Type="http://schemas.openxmlformats.org/officeDocument/2006/relationships/image" Target="../media/image73.jpeg"/><Relationship Id="rId29" Type="http://schemas.openxmlformats.org/officeDocument/2006/relationships/slide" Target="slide3.xml"/><Relationship Id="rId3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" Target="slide12.xml"/><Relationship Id="rId8" Type="http://schemas.openxmlformats.org/officeDocument/2006/relationships/slide" Target="slide13.xml"/><Relationship Id="rId9" Type="http://schemas.openxmlformats.org/officeDocument/2006/relationships/slide" Target="slide14.xml"/><Relationship Id="rId10" Type="http://schemas.openxmlformats.org/officeDocument/2006/relationships/slide" Target="slide15.xml"/><Relationship Id="rId1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" Target="slide3.xm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image" Target="../media/image25.jpeg"/><Relationship Id="rId10" Type="http://schemas.openxmlformats.org/officeDocument/2006/relationships/image" Target="../media/image26.jpeg"/><Relationship Id="rId11" Type="http://schemas.openxmlformats.org/officeDocument/2006/relationships/image" Target="../media/image27.jpeg"/><Relationship Id="rId12" Type="http://schemas.openxmlformats.org/officeDocument/2006/relationships/image" Target="../media/image28.jpeg"/><Relationship Id="rId13" Type="http://schemas.openxmlformats.org/officeDocument/2006/relationships/image" Target="../media/image29.jpeg"/><Relationship Id="rId14" Type="http://schemas.openxmlformats.org/officeDocument/2006/relationships/image" Target="../media/image30.jpeg"/><Relationship Id="rId15" Type="http://schemas.openxmlformats.org/officeDocument/2006/relationships/image" Target="../media/image31.jpeg"/><Relationship Id="rId16" Type="http://schemas.openxmlformats.org/officeDocument/2006/relationships/image" Target="../media/image32.jpeg"/><Relationship Id="rId17" Type="http://schemas.openxmlformats.org/officeDocument/2006/relationships/slide" Target="slide3.xml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WordArt 4"/>
          <p:cNvSpPr txBox="1"/>
          <p:nvPr/>
        </p:nvSpPr>
        <p:spPr>
          <a:xfrm>
            <a:off x="468360" y="1125360"/>
            <a:ext cx="813600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Двоичная система счисления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Impact"/>
              </a:rPr>
              <a:t>9 класс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53" name="TextBox 4"/>
          <p:cNvSpPr/>
          <p:nvPr/>
        </p:nvSpPr>
        <p:spPr>
          <a:xfrm>
            <a:off x="4357800" y="5143680"/>
            <a:ext cx="47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тепанова М.М.,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читель информатики и математики,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торая квалификационная категория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ОУ «Гимназия №52»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1026"/>
          <p:cNvSpPr/>
          <p:nvPr/>
        </p:nvSpPr>
        <p:spPr>
          <a:xfrm>
            <a:off x="2432520" y="472320"/>
            <a:ext cx="377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итайская нумерация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Picture 1027" descr="1ch"/>
          <p:cNvPicPr/>
          <p:nvPr/>
        </p:nvPicPr>
        <p:blipFill>
          <a:blip r:embed="rId1"/>
          <a:stretch/>
        </p:blipFill>
        <p:spPr>
          <a:xfrm>
            <a:off x="900000" y="1484280"/>
            <a:ext cx="619200" cy="5716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028" descr="2ch"/>
          <p:cNvPicPr/>
          <p:nvPr/>
        </p:nvPicPr>
        <p:blipFill>
          <a:blip r:embed="rId2"/>
          <a:stretch/>
        </p:blipFill>
        <p:spPr>
          <a:xfrm>
            <a:off x="900000" y="2133720"/>
            <a:ext cx="619200" cy="5713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029" descr="3ch"/>
          <p:cNvPicPr/>
          <p:nvPr/>
        </p:nvPicPr>
        <p:blipFill>
          <a:blip r:embed="rId3"/>
          <a:stretch/>
        </p:blipFill>
        <p:spPr>
          <a:xfrm>
            <a:off x="900000" y="2852640"/>
            <a:ext cx="619200" cy="5716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030" descr="4ch"/>
          <p:cNvPicPr/>
          <p:nvPr/>
        </p:nvPicPr>
        <p:blipFill>
          <a:blip r:embed="rId4"/>
          <a:stretch/>
        </p:blipFill>
        <p:spPr>
          <a:xfrm>
            <a:off x="900000" y="3573360"/>
            <a:ext cx="619200" cy="5716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031" descr="5ch"/>
          <p:cNvPicPr/>
          <p:nvPr/>
        </p:nvPicPr>
        <p:blipFill>
          <a:blip r:embed="rId5"/>
          <a:stretch/>
        </p:blipFill>
        <p:spPr>
          <a:xfrm>
            <a:off x="900000" y="4292640"/>
            <a:ext cx="619200" cy="5713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032" descr="6ch"/>
          <p:cNvPicPr/>
          <p:nvPr/>
        </p:nvPicPr>
        <p:blipFill>
          <a:blip r:embed="rId6"/>
          <a:stretch/>
        </p:blipFill>
        <p:spPr>
          <a:xfrm>
            <a:off x="4211640" y="1628640"/>
            <a:ext cx="619200" cy="5716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33" descr="7ch"/>
          <p:cNvPicPr/>
          <p:nvPr/>
        </p:nvPicPr>
        <p:blipFill>
          <a:blip r:embed="rId7"/>
          <a:stretch/>
        </p:blipFill>
        <p:spPr>
          <a:xfrm>
            <a:off x="4211640" y="2349360"/>
            <a:ext cx="619200" cy="5716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034" descr="8ch"/>
          <p:cNvPicPr/>
          <p:nvPr/>
        </p:nvPicPr>
        <p:blipFill>
          <a:blip r:embed="rId8"/>
          <a:stretch/>
        </p:blipFill>
        <p:spPr>
          <a:xfrm>
            <a:off x="4211640" y="3141720"/>
            <a:ext cx="743040" cy="5713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035" descr="9ch"/>
          <p:cNvPicPr/>
          <p:nvPr/>
        </p:nvPicPr>
        <p:blipFill>
          <a:blip r:embed="rId9"/>
          <a:stretch/>
        </p:blipFill>
        <p:spPr>
          <a:xfrm>
            <a:off x="4211640" y="3860640"/>
            <a:ext cx="619200" cy="57168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1036"/>
          <p:cNvSpPr/>
          <p:nvPr/>
        </p:nvSpPr>
        <p:spPr>
          <a:xfrm>
            <a:off x="4383360" y="4580640"/>
            <a:ext cx="45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°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Text Box 1037"/>
          <p:cNvSpPr/>
          <p:nvPr/>
        </p:nvSpPr>
        <p:spPr>
          <a:xfrm>
            <a:off x="2627280" y="1557360"/>
            <a:ext cx="1008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ext Box 1038"/>
          <p:cNvSpPr/>
          <p:nvPr/>
        </p:nvSpPr>
        <p:spPr>
          <a:xfrm>
            <a:off x="5580000" y="1628640"/>
            <a:ext cx="11527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2" name="Picture 1039" descr="10ch"/>
          <p:cNvPicPr/>
          <p:nvPr/>
        </p:nvPicPr>
        <p:blipFill>
          <a:blip r:embed="rId10"/>
          <a:stretch/>
        </p:blipFill>
        <p:spPr>
          <a:xfrm>
            <a:off x="6804000" y="1628640"/>
            <a:ext cx="619200" cy="5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040" descr="100ch"/>
          <p:cNvPicPr/>
          <p:nvPr/>
        </p:nvPicPr>
        <p:blipFill>
          <a:blip r:embed="rId11"/>
          <a:stretch/>
        </p:blipFill>
        <p:spPr>
          <a:xfrm>
            <a:off x="6804000" y="2924280"/>
            <a:ext cx="619200" cy="5713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041" descr="10_3ch"/>
          <p:cNvPicPr/>
          <p:nvPr/>
        </p:nvPicPr>
        <p:blipFill>
          <a:blip r:embed="rId12"/>
          <a:stretch/>
        </p:blipFill>
        <p:spPr>
          <a:xfrm>
            <a:off x="6804000" y="4221000"/>
            <a:ext cx="619200" cy="57168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1042"/>
          <p:cNvSpPr/>
          <p:nvPr/>
        </p:nvSpPr>
        <p:spPr>
          <a:xfrm>
            <a:off x="7812000" y="1628640"/>
            <a:ext cx="9367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00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6" name="Group 1043"/>
          <p:cNvGrpSpPr/>
          <p:nvPr/>
        </p:nvGrpSpPr>
        <p:grpSpPr>
          <a:xfrm>
            <a:off x="6048360" y="6354720"/>
            <a:ext cx="3095640" cy="503280"/>
            <a:chOff x="6048360" y="6354720"/>
            <a:chExt cx="3095640" cy="503280"/>
          </a:xfrm>
        </p:grpSpPr>
        <p:sp>
          <p:nvSpPr>
            <p:cNvPr id="257" name="AutoShape 1044">
              <a:hlinkClick r:id="" action="ppaction://hlinkshowjump?jump=nextslide"/>
            </p:cNvPr>
            <p:cNvSpPr/>
            <p:nvPr/>
          </p:nvSpPr>
          <p:spPr>
            <a:xfrm>
              <a:off x="8209080" y="6354720"/>
              <a:ext cx="934920" cy="503280"/>
            </a:xfrm>
            <a:custGeom>
              <a:avLst/>
              <a:gdLst>
                <a:gd name="textAreaLeft" fmla="*/ 32400 w 934920"/>
                <a:gd name="textAreaRight" fmla="*/ 902520 w 934920"/>
                <a:gd name="textAreaTop" fmla="*/ 32400 h 503280"/>
                <a:gd name="textAreaBottom" fmla="*/ 470880 h 503280"/>
              </a:gdLst>
              <a:ahLst/>
              <a:rect l="textAreaLeft" t="textAreaTop" r="textAreaRight" b="textAreaBottom"/>
              <a:pathLst>
                <a:path w="40112" h="21600">
                  <a:moveTo>
                    <a:pt x="0" y="0"/>
                  </a:moveTo>
                  <a:lnTo>
                    <a:pt x="40112" y="0"/>
                  </a:lnTo>
                  <a:lnTo>
                    <a:pt x="40112" y="21600"/>
                  </a:lnTo>
                  <a:lnTo>
                    <a:pt x="0" y="21600"/>
                  </a:lnTo>
                  <a:close/>
                </a:path>
                <a:path fill="lightenLess" w="40112" h="21600">
                  <a:moveTo>
                    <a:pt x="0" y="0"/>
                  </a:moveTo>
                  <a:lnTo>
                    <a:pt x="40112" y="0"/>
                  </a:lnTo>
                  <a:lnTo>
                    <a:pt x="38712" y="1400"/>
                  </a:lnTo>
                  <a:lnTo>
                    <a:pt x="1400" y="1400"/>
                  </a:lnTo>
                  <a:close/>
                </a:path>
                <a:path fill="darken" w="40112" h="21600">
                  <a:moveTo>
                    <a:pt x="40112" y="0"/>
                  </a:moveTo>
                  <a:lnTo>
                    <a:pt x="40112" y="21600"/>
                  </a:lnTo>
                  <a:lnTo>
                    <a:pt x="38712" y="20200"/>
                  </a:lnTo>
                  <a:lnTo>
                    <a:pt x="38712" y="1400"/>
                  </a:lnTo>
                  <a:close/>
                </a:path>
                <a:path fill="darkenLess" w="40112" h="21600">
                  <a:moveTo>
                    <a:pt x="401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712" y="20200"/>
                  </a:lnTo>
                  <a:close/>
                </a:path>
                <a:path fill="lighten" w="401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0112" h="21600">
                  <a:moveTo>
                    <a:pt x="13050" y="3794"/>
                  </a:moveTo>
                  <a:lnTo>
                    <a:pt x="27063" y="10800"/>
                  </a:lnTo>
                  <a:lnTo>
                    <a:pt x="13050" y="17806"/>
                  </a:lnTo>
                  <a:close/>
                </a:path>
              </a:pathLst>
            </a:custGeom>
            <a:solidFill>
              <a:srgbClr val="f8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8" name="Group 1045"/>
            <p:cNvGrpSpPr/>
            <p:nvPr/>
          </p:nvGrpSpPr>
          <p:grpSpPr>
            <a:xfrm>
              <a:off x="6048360" y="6354720"/>
              <a:ext cx="2016000" cy="503280"/>
              <a:chOff x="6048360" y="6354720"/>
              <a:chExt cx="2016000" cy="503280"/>
            </a:xfrm>
          </p:grpSpPr>
          <p:sp>
            <p:nvSpPr>
              <p:cNvPr id="259" name="AutoShape 1046">
                <a:hlinkClick r:id="" action="ppaction://hlinkshowjump?jump=previousslide"/>
              </p:cNvPr>
              <p:cNvSpPr/>
              <p:nvPr/>
            </p:nvSpPr>
            <p:spPr>
              <a:xfrm>
                <a:off x="6048360" y="6354720"/>
                <a:ext cx="934920" cy="503280"/>
              </a:xfrm>
              <a:custGeom>
                <a:avLst/>
                <a:gdLst>
                  <a:gd name="textAreaLeft" fmla="*/ 32400 w 934920"/>
                  <a:gd name="textAreaRight" fmla="*/ 902520 w 934920"/>
                  <a:gd name="textAreaTop" fmla="*/ 32400 h 503280"/>
                  <a:gd name="textAreaBottom" fmla="*/ 470880 h 503280"/>
                </a:gdLst>
                <a:ahLst/>
                <a:rect l="textAreaLeft" t="textAreaTop" r="textAreaRight" b="textAreaBottom"/>
                <a:pathLst>
                  <a:path w="40112" h="21600">
                    <a:moveTo>
                      <a:pt x="0" y="0"/>
                    </a:moveTo>
                    <a:lnTo>
                      <a:pt x="40112" y="0"/>
                    </a:lnTo>
                    <a:lnTo>
                      <a:pt x="40112" y="21600"/>
                    </a:lnTo>
                    <a:lnTo>
                      <a:pt x="0" y="21600"/>
                    </a:lnTo>
                    <a:close/>
                  </a:path>
                  <a:path fill="lightenLess" w="40112" h="21600">
                    <a:moveTo>
                      <a:pt x="0" y="0"/>
                    </a:moveTo>
                    <a:lnTo>
                      <a:pt x="40112" y="0"/>
                    </a:lnTo>
                    <a:lnTo>
                      <a:pt x="38712" y="1400"/>
                    </a:lnTo>
                    <a:lnTo>
                      <a:pt x="1400" y="1400"/>
                    </a:lnTo>
                    <a:close/>
                  </a:path>
                  <a:path fill="darken" w="40112" h="21600">
                    <a:moveTo>
                      <a:pt x="40112" y="0"/>
                    </a:moveTo>
                    <a:lnTo>
                      <a:pt x="40112" y="21600"/>
                    </a:lnTo>
                    <a:lnTo>
                      <a:pt x="38712" y="20200"/>
                    </a:lnTo>
                    <a:lnTo>
                      <a:pt x="38712" y="1400"/>
                    </a:lnTo>
                    <a:close/>
                  </a:path>
                  <a:path fill="darkenLess" w="40112" h="21600">
                    <a:moveTo>
                      <a:pt x="40112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38712" y="20200"/>
                    </a:lnTo>
                    <a:close/>
                  </a:path>
                  <a:path fill="lighten" w="40112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40112" h="21600">
                    <a:moveTo>
                      <a:pt x="13050" y="10800"/>
                    </a:moveTo>
                    <a:lnTo>
                      <a:pt x="27063" y="3794"/>
                    </a:lnTo>
                    <a:lnTo>
                      <a:pt x="27063" y="17806"/>
                    </a:lnTo>
                    <a:close/>
                  </a:path>
                </a:pathLst>
              </a:custGeom>
              <a:solidFill>
                <a:srgbClr val="f8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AutoShape 1047">
                <a:hlinkClick r:id="rId13" action="ppaction://hlinksldjump"/>
              </p:cNvPr>
              <p:cNvSpPr/>
              <p:nvPr/>
            </p:nvSpPr>
            <p:spPr>
              <a:xfrm>
                <a:off x="7129440" y="6354720"/>
                <a:ext cx="934920" cy="503280"/>
              </a:xfrm>
              <a:custGeom>
                <a:avLst/>
                <a:gdLst>
                  <a:gd name="textAreaLeft" fmla="*/ 32400 w 934920"/>
                  <a:gd name="textAreaRight" fmla="*/ 902520 w 934920"/>
                  <a:gd name="textAreaTop" fmla="*/ 32400 h 503280"/>
                  <a:gd name="textAreaBottom" fmla="*/ 470880 h 503280"/>
                </a:gdLst>
                <a:ahLst/>
                <a:rect l="textAreaLeft" t="textAreaTop" r="textAreaRight" b="textAreaBottom"/>
                <a:pathLst>
                  <a:path w="40112" h="21600">
                    <a:moveTo>
                      <a:pt x="0" y="0"/>
                    </a:moveTo>
                    <a:lnTo>
                      <a:pt x="40112" y="0"/>
                    </a:lnTo>
                    <a:lnTo>
                      <a:pt x="40112" y="21600"/>
                    </a:lnTo>
                    <a:lnTo>
                      <a:pt x="0" y="21600"/>
                    </a:lnTo>
                    <a:close/>
                  </a:path>
                  <a:path fill="lightenLess" w="40112" h="21600">
                    <a:moveTo>
                      <a:pt x="0" y="0"/>
                    </a:moveTo>
                    <a:lnTo>
                      <a:pt x="40112" y="0"/>
                    </a:lnTo>
                    <a:lnTo>
                      <a:pt x="38712" y="1400"/>
                    </a:lnTo>
                    <a:lnTo>
                      <a:pt x="1400" y="1400"/>
                    </a:lnTo>
                    <a:close/>
                  </a:path>
                  <a:path fill="darken" w="40112" h="21600">
                    <a:moveTo>
                      <a:pt x="40112" y="0"/>
                    </a:moveTo>
                    <a:lnTo>
                      <a:pt x="40112" y="21600"/>
                    </a:lnTo>
                    <a:lnTo>
                      <a:pt x="38712" y="20200"/>
                    </a:lnTo>
                    <a:lnTo>
                      <a:pt x="38712" y="1400"/>
                    </a:lnTo>
                    <a:close/>
                  </a:path>
                  <a:path fill="darkenLess" w="40112" h="21600">
                    <a:moveTo>
                      <a:pt x="40112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38712" y="20200"/>
                    </a:lnTo>
                    <a:close/>
                  </a:path>
                  <a:path fill="lighten" w="40112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40112" h="21600">
                    <a:moveTo>
                      <a:pt x="20056" y="3837"/>
                    </a:moveTo>
                    <a:lnTo>
                      <a:pt x="22632" y="6448"/>
                    </a:lnTo>
                    <a:lnTo>
                      <a:pt x="22632" y="4707"/>
                    </a:lnTo>
                    <a:lnTo>
                      <a:pt x="24408" y="4707"/>
                    </a:lnTo>
                    <a:lnTo>
                      <a:pt x="24408" y="8224"/>
                    </a:lnTo>
                    <a:lnTo>
                      <a:pt x="27019" y="10800"/>
                    </a:lnTo>
                    <a:lnTo>
                      <a:pt x="25365" y="10800"/>
                    </a:lnTo>
                    <a:lnTo>
                      <a:pt x="25365" y="17989"/>
                    </a:lnTo>
                    <a:lnTo>
                      <a:pt x="14747" y="17989"/>
                    </a:lnTo>
                    <a:lnTo>
                      <a:pt x="14747" y="10800"/>
                    </a:lnTo>
                    <a:lnTo>
                      <a:pt x="13093" y="10800"/>
                    </a:lnTo>
                    <a:close/>
                  </a:path>
                  <a:path fill="darkenLess" w="40112" h="21600">
                    <a:moveTo>
                      <a:pt x="22632" y="6448"/>
                    </a:moveTo>
                    <a:lnTo>
                      <a:pt x="22632" y="4707"/>
                    </a:lnTo>
                    <a:lnTo>
                      <a:pt x="24408" y="4707"/>
                    </a:lnTo>
                    <a:lnTo>
                      <a:pt x="24408" y="8224"/>
                    </a:lnTo>
                    <a:close/>
                  </a:path>
                  <a:path fill="darkenLess" w="40112" h="21600">
                    <a:moveTo>
                      <a:pt x="19133" y="14299"/>
                    </a:moveTo>
                    <a:lnTo>
                      <a:pt x="20979" y="14299"/>
                    </a:lnTo>
                    <a:lnTo>
                      <a:pt x="20979" y="17989"/>
                    </a:lnTo>
                    <a:lnTo>
                      <a:pt x="25365" y="17989"/>
                    </a:lnTo>
                    <a:lnTo>
                      <a:pt x="25365" y="10800"/>
                    </a:lnTo>
                    <a:lnTo>
                      <a:pt x="14747" y="10800"/>
                    </a:lnTo>
                    <a:lnTo>
                      <a:pt x="14747" y="17989"/>
                    </a:lnTo>
                    <a:lnTo>
                      <a:pt x="19133" y="17989"/>
                    </a:lnTo>
                    <a:close/>
                  </a:path>
                </a:pathLst>
              </a:custGeom>
              <a:solidFill>
                <a:srgbClr val="f8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026"/>
          <p:cNvSpPr/>
          <p:nvPr/>
        </p:nvSpPr>
        <p:spPr>
          <a:xfrm>
            <a:off x="1344240" y="543960"/>
            <a:ext cx="657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лавянская кириллическая нумерация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2" name="Picture 1027" descr="kiril"/>
          <p:cNvPicPr/>
          <p:nvPr/>
        </p:nvPicPr>
        <p:blipFill>
          <a:blip r:embed="rId1"/>
          <a:stretch/>
        </p:blipFill>
        <p:spPr>
          <a:xfrm>
            <a:off x="1692360" y="1413000"/>
            <a:ext cx="5832360" cy="4819680"/>
          </a:xfrm>
          <a:prstGeom prst="rect">
            <a:avLst/>
          </a:prstGeom>
          <a:ln w="0">
            <a:noFill/>
          </a:ln>
        </p:spPr>
      </p:pic>
      <p:grpSp>
        <p:nvGrpSpPr>
          <p:cNvPr id="263" name="Group 1028"/>
          <p:cNvGrpSpPr/>
          <p:nvPr/>
        </p:nvGrpSpPr>
        <p:grpSpPr>
          <a:xfrm>
            <a:off x="6048360" y="6354720"/>
            <a:ext cx="3095640" cy="503280"/>
            <a:chOff x="6048360" y="6354720"/>
            <a:chExt cx="3095640" cy="503280"/>
          </a:xfrm>
        </p:grpSpPr>
        <p:sp>
          <p:nvSpPr>
            <p:cNvPr id="264" name="AutoShape 1029">
              <a:hlinkClick r:id="" action="ppaction://hlinkshowjump?jump=nextslide"/>
            </p:cNvPr>
            <p:cNvSpPr/>
            <p:nvPr/>
          </p:nvSpPr>
          <p:spPr>
            <a:xfrm>
              <a:off x="8209080" y="6354720"/>
              <a:ext cx="934920" cy="503280"/>
            </a:xfrm>
            <a:custGeom>
              <a:avLst/>
              <a:gdLst>
                <a:gd name="textAreaLeft" fmla="*/ 32400 w 934920"/>
                <a:gd name="textAreaRight" fmla="*/ 902520 w 934920"/>
                <a:gd name="textAreaTop" fmla="*/ 32400 h 503280"/>
                <a:gd name="textAreaBottom" fmla="*/ 470880 h 503280"/>
              </a:gdLst>
              <a:ahLst/>
              <a:rect l="textAreaLeft" t="textAreaTop" r="textAreaRight" b="textAreaBottom"/>
              <a:pathLst>
                <a:path w="40112" h="21600">
                  <a:moveTo>
                    <a:pt x="0" y="0"/>
                  </a:moveTo>
                  <a:lnTo>
                    <a:pt x="40112" y="0"/>
                  </a:lnTo>
                  <a:lnTo>
                    <a:pt x="40112" y="21600"/>
                  </a:lnTo>
                  <a:lnTo>
                    <a:pt x="0" y="21600"/>
                  </a:lnTo>
                  <a:close/>
                </a:path>
                <a:path fill="lightenLess" w="40112" h="21600">
                  <a:moveTo>
                    <a:pt x="0" y="0"/>
                  </a:moveTo>
                  <a:lnTo>
                    <a:pt x="40112" y="0"/>
                  </a:lnTo>
                  <a:lnTo>
                    <a:pt x="38712" y="1400"/>
                  </a:lnTo>
                  <a:lnTo>
                    <a:pt x="1400" y="1400"/>
                  </a:lnTo>
                  <a:close/>
                </a:path>
                <a:path fill="darken" w="40112" h="21600">
                  <a:moveTo>
                    <a:pt x="40112" y="0"/>
                  </a:moveTo>
                  <a:lnTo>
                    <a:pt x="40112" y="21600"/>
                  </a:lnTo>
                  <a:lnTo>
                    <a:pt x="38712" y="20200"/>
                  </a:lnTo>
                  <a:lnTo>
                    <a:pt x="38712" y="1400"/>
                  </a:lnTo>
                  <a:close/>
                </a:path>
                <a:path fill="darkenLess" w="40112" h="21600">
                  <a:moveTo>
                    <a:pt x="401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712" y="20200"/>
                  </a:lnTo>
                  <a:close/>
                </a:path>
                <a:path fill="lighten" w="401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0112" h="21600">
                  <a:moveTo>
                    <a:pt x="13050" y="3794"/>
                  </a:moveTo>
                  <a:lnTo>
                    <a:pt x="27063" y="10800"/>
                  </a:lnTo>
                  <a:lnTo>
                    <a:pt x="13050" y="17806"/>
                  </a:lnTo>
                  <a:close/>
                </a:path>
              </a:pathLst>
            </a:custGeom>
            <a:solidFill>
              <a:srgbClr val="f8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5" name="Group 1030"/>
            <p:cNvGrpSpPr/>
            <p:nvPr/>
          </p:nvGrpSpPr>
          <p:grpSpPr>
            <a:xfrm>
              <a:off x="6048360" y="6354720"/>
              <a:ext cx="2016000" cy="503280"/>
              <a:chOff x="6048360" y="6354720"/>
              <a:chExt cx="2016000" cy="503280"/>
            </a:xfrm>
          </p:grpSpPr>
          <p:sp>
            <p:nvSpPr>
              <p:cNvPr id="266" name="AutoShape 1031">
                <a:hlinkClick r:id="" action="ppaction://hlinkshowjump?jump=previousslide"/>
              </p:cNvPr>
              <p:cNvSpPr/>
              <p:nvPr/>
            </p:nvSpPr>
            <p:spPr>
              <a:xfrm>
                <a:off x="6048360" y="6354720"/>
                <a:ext cx="934920" cy="503280"/>
              </a:xfrm>
              <a:custGeom>
                <a:avLst/>
                <a:gdLst>
                  <a:gd name="textAreaLeft" fmla="*/ 32400 w 934920"/>
                  <a:gd name="textAreaRight" fmla="*/ 902520 w 934920"/>
                  <a:gd name="textAreaTop" fmla="*/ 32400 h 503280"/>
                  <a:gd name="textAreaBottom" fmla="*/ 470880 h 503280"/>
                </a:gdLst>
                <a:ahLst/>
                <a:rect l="textAreaLeft" t="textAreaTop" r="textAreaRight" b="textAreaBottom"/>
                <a:pathLst>
                  <a:path w="40112" h="21600">
                    <a:moveTo>
                      <a:pt x="0" y="0"/>
                    </a:moveTo>
                    <a:lnTo>
                      <a:pt x="40112" y="0"/>
                    </a:lnTo>
                    <a:lnTo>
                      <a:pt x="40112" y="21600"/>
                    </a:lnTo>
                    <a:lnTo>
                      <a:pt x="0" y="21600"/>
                    </a:lnTo>
                    <a:close/>
                  </a:path>
                  <a:path fill="lightenLess" w="40112" h="21600">
                    <a:moveTo>
                      <a:pt x="0" y="0"/>
                    </a:moveTo>
                    <a:lnTo>
                      <a:pt x="40112" y="0"/>
                    </a:lnTo>
                    <a:lnTo>
                      <a:pt x="38712" y="1400"/>
                    </a:lnTo>
                    <a:lnTo>
                      <a:pt x="1400" y="1400"/>
                    </a:lnTo>
                    <a:close/>
                  </a:path>
                  <a:path fill="darken" w="40112" h="21600">
                    <a:moveTo>
                      <a:pt x="40112" y="0"/>
                    </a:moveTo>
                    <a:lnTo>
                      <a:pt x="40112" y="21600"/>
                    </a:lnTo>
                    <a:lnTo>
                      <a:pt x="38712" y="20200"/>
                    </a:lnTo>
                    <a:lnTo>
                      <a:pt x="38712" y="1400"/>
                    </a:lnTo>
                    <a:close/>
                  </a:path>
                  <a:path fill="darkenLess" w="40112" h="21600">
                    <a:moveTo>
                      <a:pt x="40112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38712" y="20200"/>
                    </a:lnTo>
                    <a:close/>
                  </a:path>
                  <a:path fill="lighten" w="40112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40112" h="21600">
                    <a:moveTo>
                      <a:pt x="13050" y="10800"/>
                    </a:moveTo>
                    <a:lnTo>
                      <a:pt x="27063" y="3794"/>
                    </a:lnTo>
                    <a:lnTo>
                      <a:pt x="27063" y="17806"/>
                    </a:lnTo>
                    <a:close/>
                  </a:path>
                </a:pathLst>
              </a:custGeom>
              <a:solidFill>
                <a:srgbClr val="f8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AutoShape 1032">
                <a:hlinkClick r:id="rId2" action="ppaction://hlinksldjump"/>
              </p:cNvPr>
              <p:cNvSpPr/>
              <p:nvPr/>
            </p:nvSpPr>
            <p:spPr>
              <a:xfrm>
                <a:off x="7129440" y="6354720"/>
                <a:ext cx="934920" cy="503280"/>
              </a:xfrm>
              <a:custGeom>
                <a:avLst/>
                <a:gdLst>
                  <a:gd name="textAreaLeft" fmla="*/ 32400 w 934920"/>
                  <a:gd name="textAreaRight" fmla="*/ 902520 w 934920"/>
                  <a:gd name="textAreaTop" fmla="*/ 32400 h 503280"/>
                  <a:gd name="textAreaBottom" fmla="*/ 470880 h 503280"/>
                </a:gdLst>
                <a:ahLst/>
                <a:rect l="textAreaLeft" t="textAreaTop" r="textAreaRight" b="textAreaBottom"/>
                <a:pathLst>
                  <a:path w="40112" h="21600">
                    <a:moveTo>
                      <a:pt x="0" y="0"/>
                    </a:moveTo>
                    <a:lnTo>
                      <a:pt x="40112" y="0"/>
                    </a:lnTo>
                    <a:lnTo>
                      <a:pt x="40112" y="21600"/>
                    </a:lnTo>
                    <a:lnTo>
                      <a:pt x="0" y="21600"/>
                    </a:lnTo>
                    <a:close/>
                  </a:path>
                  <a:path fill="lightenLess" w="40112" h="21600">
                    <a:moveTo>
                      <a:pt x="0" y="0"/>
                    </a:moveTo>
                    <a:lnTo>
                      <a:pt x="40112" y="0"/>
                    </a:lnTo>
                    <a:lnTo>
                      <a:pt x="38712" y="1400"/>
                    </a:lnTo>
                    <a:lnTo>
                      <a:pt x="1400" y="1400"/>
                    </a:lnTo>
                    <a:close/>
                  </a:path>
                  <a:path fill="darken" w="40112" h="21600">
                    <a:moveTo>
                      <a:pt x="40112" y="0"/>
                    </a:moveTo>
                    <a:lnTo>
                      <a:pt x="40112" y="21600"/>
                    </a:lnTo>
                    <a:lnTo>
                      <a:pt x="38712" y="20200"/>
                    </a:lnTo>
                    <a:lnTo>
                      <a:pt x="38712" y="1400"/>
                    </a:lnTo>
                    <a:close/>
                  </a:path>
                  <a:path fill="darkenLess" w="40112" h="21600">
                    <a:moveTo>
                      <a:pt x="40112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38712" y="20200"/>
                    </a:lnTo>
                    <a:close/>
                  </a:path>
                  <a:path fill="lighten" w="40112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40112" h="21600">
                    <a:moveTo>
                      <a:pt x="20056" y="3837"/>
                    </a:moveTo>
                    <a:lnTo>
                      <a:pt x="22632" y="6448"/>
                    </a:lnTo>
                    <a:lnTo>
                      <a:pt x="22632" y="4707"/>
                    </a:lnTo>
                    <a:lnTo>
                      <a:pt x="24408" y="4707"/>
                    </a:lnTo>
                    <a:lnTo>
                      <a:pt x="24408" y="8224"/>
                    </a:lnTo>
                    <a:lnTo>
                      <a:pt x="27019" y="10800"/>
                    </a:lnTo>
                    <a:lnTo>
                      <a:pt x="25365" y="10800"/>
                    </a:lnTo>
                    <a:lnTo>
                      <a:pt x="25365" y="17989"/>
                    </a:lnTo>
                    <a:lnTo>
                      <a:pt x="14747" y="17989"/>
                    </a:lnTo>
                    <a:lnTo>
                      <a:pt x="14747" y="10800"/>
                    </a:lnTo>
                    <a:lnTo>
                      <a:pt x="13093" y="10800"/>
                    </a:lnTo>
                    <a:close/>
                  </a:path>
                  <a:path fill="darkenLess" w="40112" h="21600">
                    <a:moveTo>
                      <a:pt x="22632" y="6448"/>
                    </a:moveTo>
                    <a:lnTo>
                      <a:pt x="22632" y="4707"/>
                    </a:lnTo>
                    <a:lnTo>
                      <a:pt x="24408" y="4707"/>
                    </a:lnTo>
                    <a:lnTo>
                      <a:pt x="24408" y="8224"/>
                    </a:lnTo>
                    <a:close/>
                  </a:path>
                  <a:path fill="darkenLess" w="40112" h="21600">
                    <a:moveTo>
                      <a:pt x="19133" y="14299"/>
                    </a:moveTo>
                    <a:lnTo>
                      <a:pt x="20979" y="14299"/>
                    </a:lnTo>
                    <a:lnTo>
                      <a:pt x="20979" y="17989"/>
                    </a:lnTo>
                    <a:lnTo>
                      <a:pt x="25365" y="17989"/>
                    </a:lnTo>
                    <a:lnTo>
                      <a:pt x="25365" y="10800"/>
                    </a:lnTo>
                    <a:lnTo>
                      <a:pt x="14747" y="10800"/>
                    </a:lnTo>
                    <a:lnTo>
                      <a:pt x="14747" y="17989"/>
                    </a:lnTo>
                    <a:lnTo>
                      <a:pt x="19133" y="17989"/>
                    </a:lnTo>
                    <a:close/>
                  </a:path>
                </a:pathLst>
              </a:custGeom>
              <a:solidFill>
                <a:srgbClr val="f8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26"/>
          <p:cNvSpPr/>
          <p:nvPr/>
        </p:nvSpPr>
        <p:spPr>
          <a:xfrm>
            <a:off x="1263960" y="332640"/>
            <a:ext cx="644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лавянская глаголическая нумерация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Picture 1027" descr="1gl"/>
          <p:cNvPicPr/>
          <p:nvPr/>
        </p:nvPicPr>
        <p:blipFill>
          <a:blip r:embed="rId1"/>
          <a:stretch/>
        </p:blipFill>
        <p:spPr>
          <a:xfrm>
            <a:off x="468360" y="981000"/>
            <a:ext cx="595440" cy="5763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028" descr="2gl"/>
          <p:cNvPicPr/>
          <p:nvPr/>
        </p:nvPicPr>
        <p:blipFill>
          <a:blip r:embed="rId2"/>
          <a:stretch/>
        </p:blipFill>
        <p:spPr>
          <a:xfrm>
            <a:off x="468360" y="1628640"/>
            <a:ext cx="595440" cy="6494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029" descr="3gl"/>
          <p:cNvPicPr/>
          <p:nvPr/>
        </p:nvPicPr>
        <p:blipFill>
          <a:blip r:embed="rId3"/>
          <a:stretch/>
        </p:blipFill>
        <p:spPr>
          <a:xfrm>
            <a:off x="468360" y="2349360"/>
            <a:ext cx="574560" cy="5288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30" descr="4gl"/>
          <p:cNvPicPr/>
          <p:nvPr/>
        </p:nvPicPr>
        <p:blipFill>
          <a:blip r:embed="rId4"/>
          <a:stretch/>
        </p:blipFill>
        <p:spPr>
          <a:xfrm>
            <a:off x="468360" y="2924280"/>
            <a:ext cx="574560" cy="5284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031" descr="5gl"/>
          <p:cNvPicPr/>
          <p:nvPr/>
        </p:nvPicPr>
        <p:blipFill>
          <a:blip r:embed="rId5"/>
          <a:stretch/>
        </p:blipFill>
        <p:spPr>
          <a:xfrm>
            <a:off x="468360" y="3500280"/>
            <a:ext cx="574560" cy="5288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032" descr="6gl"/>
          <p:cNvPicPr/>
          <p:nvPr/>
        </p:nvPicPr>
        <p:blipFill>
          <a:blip r:embed="rId6"/>
          <a:stretch/>
        </p:blipFill>
        <p:spPr>
          <a:xfrm>
            <a:off x="468360" y="4076640"/>
            <a:ext cx="595440" cy="5745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033" descr="10gl"/>
          <p:cNvPicPr/>
          <p:nvPr/>
        </p:nvPicPr>
        <p:blipFill>
          <a:blip r:embed="rId7"/>
          <a:stretch/>
        </p:blipFill>
        <p:spPr>
          <a:xfrm>
            <a:off x="3059280" y="981000"/>
            <a:ext cx="649080" cy="5968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034" descr="20gl"/>
          <p:cNvPicPr/>
          <p:nvPr/>
        </p:nvPicPr>
        <p:blipFill>
          <a:blip r:embed="rId8"/>
          <a:stretch/>
        </p:blipFill>
        <p:spPr>
          <a:xfrm>
            <a:off x="3059280" y="1628640"/>
            <a:ext cx="655560" cy="6480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035" descr="30gl"/>
          <p:cNvPicPr/>
          <p:nvPr/>
        </p:nvPicPr>
        <p:blipFill>
          <a:blip r:embed="rId9"/>
          <a:stretch/>
        </p:blipFill>
        <p:spPr>
          <a:xfrm>
            <a:off x="3059280" y="2349360"/>
            <a:ext cx="647640" cy="5954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036" descr="40gl"/>
          <p:cNvPicPr/>
          <p:nvPr/>
        </p:nvPicPr>
        <p:blipFill>
          <a:blip r:embed="rId10"/>
          <a:stretch/>
        </p:blipFill>
        <p:spPr>
          <a:xfrm>
            <a:off x="3059280" y="2997360"/>
            <a:ext cx="647640" cy="5968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037" descr="50gl"/>
          <p:cNvPicPr/>
          <p:nvPr/>
        </p:nvPicPr>
        <p:blipFill>
          <a:blip r:embed="rId11"/>
          <a:stretch/>
        </p:blipFill>
        <p:spPr>
          <a:xfrm>
            <a:off x="3059280" y="3645000"/>
            <a:ext cx="647640" cy="5968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038" descr="60gl"/>
          <p:cNvPicPr/>
          <p:nvPr/>
        </p:nvPicPr>
        <p:blipFill>
          <a:blip r:embed="rId12"/>
          <a:stretch/>
        </p:blipFill>
        <p:spPr>
          <a:xfrm>
            <a:off x="3059280" y="4292640"/>
            <a:ext cx="647640" cy="5968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039" descr="100gl"/>
          <p:cNvPicPr/>
          <p:nvPr/>
        </p:nvPicPr>
        <p:blipFill>
          <a:blip r:embed="rId13"/>
          <a:stretch/>
        </p:blipFill>
        <p:spPr>
          <a:xfrm>
            <a:off x="5580000" y="981000"/>
            <a:ext cx="576360" cy="6224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040" descr="200gl"/>
          <p:cNvPicPr/>
          <p:nvPr/>
        </p:nvPicPr>
        <p:blipFill>
          <a:blip r:embed="rId14"/>
          <a:stretch/>
        </p:blipFill>
        <p:spPr>
          <a:xfrm>
            <a:off x="5580000" y="1700280"/>
            <a:ext cx="555840" cy="6476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041" descr="300gl"/>
          <p:cNvPicPr/>
          <p:nvPr/>
        </p:nvPicPr>
        <p:blipFill>
          <a:blip r:embed="rId15"/>
          <a:stretch/>
        </p:blipFill>
        <p:spPr>
          <a:xfrm>
            <a:off x="5580000" y="2421000"/>
            <a:ext cx="576360" cy="530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042" descr="400gl"/>
          <p:cNvPicPr/>
          <p:nvPr/>
        </p:nvPicPr>
        <p:blipFill>
          <a:blip r:embed="rId16"/>
          <a:stretch/>
        </p:blipFill>
        <p:spPr>
          <a:xfrm>
            <a:off x="5580000" y="2997360"/>
            <a:ext cx="576360" cy="5299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043" descr="500gl"/>
          <p:cNvPicPr/>
          <p:nvPr/>
        </p:nvPicPr>
        <p:blipFill>
          <a:blip r:embed="rId17"/>
          <a:stretch/>
        </p:blipFill>
        <p:spPr>
          <a:xfrm>
            <a:off x="5580000" y="3573360"/>
            <a:ext cx="557280" cy="6494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044" descr="600gl"/>
          <p:cNvPicPr/>
          <p:nvPr/>
        </p:nvPicPr>
        <p:blipFill>
          <a:blip r:embed="rId18"/>
          <a:stretch/>
        </p:blipFill>
        <p:spPr>
          <a:xfrm>
            <a:off x="5580000" y="4292640"/>
            <a:ext cx="576360" cy="5302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045" descr="1000gl"/>
          <p:cNvPicPr/>
          <p:nvPr/>
        </p:nvPicPr>
        <p:blipFill>
          <a:blip r:embed="rId19"/>
          <a:stretch/>
        </p:blipFill>
        <p:spPr>
          <a:xfrm>
            <a:off x="7956720" y="2349360"/>
            <a:ext cx="718920" cy="66204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1046"/>
          <p:cNvSpPr/>
          <p:nvPr/>
        </p:nvSpPr>
        <p:spPr>
          <a:xfrm>
            <a:off x="1403280" y="981000"/>
            <a:ext cx="86364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Text Box 1047"/>
          <p:cNvSpPr/>
          <p:nvPr/>
        </p:nvSpPr>
        <p:spPr>
          <a:xfrm>
            <a:off x="3924360" y="1052640"/>
            <a:ext cx="79200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5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6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7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8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9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Text Box 1048"/>
          <p:cNvSpPr/>
          <p:nvPr/>
        </p:nvSpPr>
        <p:spPr>
          <a:xfrm>
            <a:off x="6516720" y="1052640"/>
            <a:ext cx="79200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60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70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80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90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Text Box 1049"/>
          <p:cNvSpPr/>
          <p:nvPr/>
        </p:nvSpPr>
        <p:spPr>
          <a:xfrm>
            <a:off x="7956720" y="33577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00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2" name="Picture 1050" descr="7gl"/>
          <p:cNvPicPr/>
          <p:nvPr/>
        </p:nvPicPr>
        <p:blipFill>
          <a:blip r:embed="rId20"/>
          <a:stretch/>
        </p:blipFill>
        <p:spPr>
          <a:xfrm>
            <a:off x="468360" y="4724280"/>
            <a:ext cx="574560" cy="5288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051" descr="8gl"/>
          <p:cNvPicPr/>
          <p:nvPr/>
        </p:nvPicPr>
        <p:blipFill>
          <a:blip r:embed="rId21"/>
          <a:stretch/>
        </p:blipFill>
        <p:spPr>
          <a:xfrm>
            <a:off x="468360" y="5300640"/>
            <a:ext cx="557280" cy="5763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052" descr="9gl"/>
          <p:cNvPicPr/>
          <p:nvPr/>
        </p:nvPicPr>
        <p:blipFill>
          <a:blip r:embed="rId22"/>
          <a:stretch/>
        </p:blipFill>
        <p:spPr>
          <a:xfrm>
            <a:off x="468360" y="5950080"/>
            <a:ext cx="574560" cy="5284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053" descr="70gl"/>
          <p:cNvPicPr/>
          <p:nvPr/>
        </p:nvPicPr>
        <p:blipFill>
          <a:blip r:embed="rId23"/>
          <a:stretch/>
        </p:blipFill>
        <p:spPr>
          <a:xfrm>
            <a:off x="3059280" y="4941720"/>
            <a:ext cx="617400" cy="5749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054" descr="80gl"/>
          <p:cNvPicPr/>
          <p:nvPr/>
        </p:nvPicPr>
        <p:blipFill>
          <a:blip r:embed="rId24"/>
          <a:stretch/>
        </p:blipFill>
        <p:spPr>
          <a:xfrm>
            <a:off x="3059280" y="5589720"/>
            <a:ext cx="649080" cy="5760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055" descr="90gl"/>
          <p:cNvPicPr/>
          <p:nvPr/>
        </p:nvPicPr>
        <p:blipFill>
          <a:blip r:embed="rId25"/>
          <a:stretch/>
        </p:blipFill>
        <p:spPr>
          <a:xfrm>
            <a:off x="3059280" y="6237360"/>
            <a:ext cx="649080" cy="6206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056" descr="700gl"/>
          <p:cNvPicPr/>
          <p:nvPr/>
        </p:nvPicPr>
        <p:blipFill>
          <a:blip r:embed="rId26"/>
          <a:stretch/>
        </p:blipFill>
        <p:spPr>
          <a:xfrm>
            <a:off x="5580000" y="4869000"/>
            <a:ext cx="550800" cy="6476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057" descr="800gl"/>
          <p:cNvPicPr/>
          <p:nvPr/>
        </p:nvPicPr>
        <p:blipFill>
          <a:blip r:embed="rId27"/>
          <a:stretch/>
        </p:blipFill>
        <p:spPr>
          <a:xfrm>
            <a:off x="5580000" y="5589720"/>
            <a:ext cx="555840" cy="6476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058" descr="900gl"/>
          <p:cNvPicPr/>
          <p:nvPr/>
        </p:nvPicPr>
        <p:blipFill>
          <a:blip r:embed="rId28"/>
          <a:stretch/>
        </p:blipFill>
        <p:spPr>
          <a:xfrm>
            <a:off x="5580000" y="6308640"/>
            <a:ext cx="576360" cy="549360"/>
          </a:xfrm>
          <a:prstGeom prst="rect">
            <a:avLst/>
          </a:prstGeom>
          <a:ln w="0">
            <a:noFill/>
          </a:ln>
        </p:spPr>
      </p:pic>
      <p:grpSp>
        <p:nvGrpSpPr>
          <p:cNvPr id="301" name="Group 1059"/>
          <p:cNvGrpSpPr/>
          <p:nvPr/>
        </p:nvGrpSpPr>
        <p:grpSpPr>
          <a:xfrm>
            <a:off x="6048360" y="0"/>
            <a:ext cx="3095640" cy="503280"/>
            <a:chOff x="6048360" y="0"/>
            <a:chExt cx="3095640" cy="503280"/>
          </a:xfrm>
        </p:grpSpPr>
        <p:sp>
          <p:nvSpPr>
            <p:cNvPr id="302" name="AutoShape 1060">
              <a:hlinkClick r:id="" action="ppaction://hlinkshowjump?jump=nextslide"/>
            </p:cNvPr>
            <p:cNvSpPr/>
            <p:nvPr/>
          </p:nvSpPr>
          <p:spPr>
            <a:xfrm>
              <a:off x="8209080" y="0"/>
              <a:ext cx="934920" cy="503280"/>
            </a:xfrm>
            <a:custGeom>
              <a:avLst/>
              <a:gdLst>
                <a:gd name="textAreaLeft" fmla="*/ 32400 w 934920"/>
                <a:gd name="textAreaRight" fmla="*/ 902520 w 934920"/>
                <a:gd name="textAreaTop" fmla="*/ 32400 h 503280"/>
                <a:gd name="textAreaBottom" fmla="*/ 470880 h 503280"/>
              </a:gdLst>
              <a:ahLst/>
              <a:rect l="textAreaLeft" t="textAreaTop" r="textAreaRight" b="textAreaBottom"/>
              <a:pathLst>
                <a:path w="40112" h="21600">
                  <a:moveTo>
                    <a:pt x="0" y="0"/>
                  </a:moveTo>
                  <a:lnTo>
                    <a:pt x="40112" y="0"/>
                  </a:lnTo>
                  <a:lnTo>
                    <a:pt x="40112" y="21600"/>
                  </a:lnTo>
                  <a:lnTo>
                    <a:pt x="0" y="21600"/>
                  </a:lnTo>
                  <a:close/>
                </a:path>
                <a:path fill="lightenLess" w="40112" h="21600">
                  <a:moveTo>
                    <a:pt x="0" y="0"/>
                  </a:moveTo>
                  <a:lnTo>
                    <a:pt x="40112" y="0"/>
                  </a:lnTo>
                  <a:lnTo>
                    <a:pt x="38712" y="1400"/>
                  </a:lnTo>
                  <a:lnTo>
                    <a:pt x="1400" y="1400"/>
                  </a:lnTo>
                  <a:close/>
                </a:path>
                <a:path fill="darken" w="40112" h="21600">
                  <a:moveTo>
                    <a:pt x="40112" y="0"/>
                  </a:moveTo>
                  <a:lnTo>
                    <a:pt x="40112" y="21600"/>
                  </a:lnTo>
                  <a:lnTo>
                    <a:pt x="38712" y="20200"/>
                  </a:lnTo>
                  <a:lnTo>
                    <a:pt x="38712" y="1400"/>
                  </a:lnTo>
                  <a:close/>
                </a:path>
                <a:path fill="darkenLess" w="40112" h="21600">
                  <a:moveTo>
                    <a:pt x="401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712" y="20200"/>
                  </a:lnTo>
                  <a:close/>
                </a:path>
                <a:path fill="lighten" w="401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0112" h="21600">
                  <a:moveTo>
                    <a:pt x="13050" y="3794"/>
                  </a:moveTo>
                  <a:lnTo>
                    <a:pt x="27063" y="10800"/>
                  </a:lnTo>
                  <a:lnTo>
                    <a:pt x="13050" y="17806"/>
                  </a:lnTo>
                  <a:close/>
                </a:path>
              </a:pathLst>
            </a:custGeom>
            <a:solidFill>
              <a:srgbClr val="f8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3" name="Group 1061"/>
            <p:cNvGrpSpPr/>
            <p:nvPr/>
          </p:nvGrpSpPr>
          <p:grpSpPr>
            <a:xfrm>
              <a:off x="6048360" y="0"/>
              <a:ext cx="2016000" cy="503280"/>
              <a:chOff x="6048360" y="0"/>
              <a:chExt cx="2016000" cy="503280"/>
            </a:xfrm>
          </p:grpSpPr>
          <p:sp>
            <p:nvSpPr>
              <p:cNvPr id="304" name="AutoShape 1062">
                <a:hlinkClick r:id="" action="ppaction://hlinkshowjump?jump=previousslide"/>
              </p:cNvPr>
              <p:cNvSpPr/>
              <p:nvPr/>
            </p:nvSpPr>
            <p:spPr>
              <a:xfrm>
                <a:off x="6048360" y="0"/>
                <a:ext cx="934920" cy="503280"/>
              </a:xfrm>
              <a:custGeom>
                <a:avLst/>
                <a:gdLst>
                  <a:gd name="textAreaLeft" fmla="*/ 32400 w 934920"/>
                  <a:gd name="textAreaRight" fmla="*/ 902520 w 934920"/>
                  <a:gd name="textAreaTop" fmla="*/ 32400 h 503280"/>
                  <a:gd name="textAreaBottom" fmla="*/ 470880 h 503280"/>
                </a:gdLst>
                <a:ahLst/>
                <a:rect l="textAreaLeft" t="textAreaTop" r="textAreaRight" b="textAreaBottom"/>
                <a:pathLst>
                  <a:path w="40112" h="21600">
                    <a:moveTo>
                      <a:pt x="0" y="0"/>
                    </a:moveTo>
                    <a:lnTo>
                      <a:pt x="40112" y="0"/>
                    </a:lnTo>
                    <a:lnTo>
                      <a:pt x="40112" y="21600"/>
                    </a:lnTo>
                    <a:lnTo>
                      <a:pt x="0" y="21600"/>
                    </a:lnTo>
                    <a:close/>
                  </a:path>
                  <a:path fill="lightenLess" w="40112" h="21600">
                    <a:moveTo>
                      <a:pt x="0" y="0"/>
                    </a:moveTo>
                    <a:lnTo>
                      <a:pt x="40112" y="0"/>
                    </a:lnTo>
                    <a:lnTo>
                      <a:pt x="38712" y="1400"/>
                    </a:lnTo>
                    <a:lnTo>
                      <a:pt x="1400" y="1400"/>
                    </a:lnTo>
                    <a:close/>
                  </a:path>
                  <a:path fill="darken" w="40112" h="21600">
                    <a:moveTo>
                      <a:pt x="40112" y="0"/>
                    </a:moveTo>
                    <a:lnTo>
                      <a:pt x="40112" y="21600"/>
                    </a:lnTo>
                    <a:lnTo>
                      <a:pt x="38712" y="20200"/>
                    </a:lnTo>
                    <a:lnTo>
                      <a:pt x="38712" y="1400"/>
                    </a:lnTo>
                    <a:close/>
                  </a:path>
                  <a:path fill="darkenLess" w="40112" h="21600">
                    <a:moveTo>
                      <a:pt x="40112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38712" y="20200"/>
                    </a:lnTo>
                    <a:close/>
                  </a:path>
                  <a:path fill="lighten" w="40112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40112" h="21600">
                    <a:moveTo>
                      <a:pt x="13050" y="10800"/>
                    </a:moveTo>
                    <a:lnTo>
                      <a:pt x="27063" y="3794"/>
                    </a:lnTo>
                    <a:lnTo>
                      <a:pt x="27063" y="17806"/>
                    </a:lnTo>
                    <a:close/>
                  </a:path>
                </a:pathLst>
              </a:custGeom>
              <a:solidFill>
                <a:srgbClr val="f8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AutoShape 1063">
                <a:hlinkClick r:id="rId29" action="ppaction://hlinksldjump"/>
              </p:cNvPr>
              <p:cNvSpPr/>
              <p:nvPr/>
            </p:nvSpPr>
            <p:spPr>
              <a:xfrm>
                <a:off x="7129440" y="0"/>
                <a:ext cx="934920" cy="503280"/>
              </a:xfrm>
              <a:custGeom>
                <a:avLst/>
                <a:gdLst>
                  <a:gd name="textAreaLeft" fmla="*/ 32400 w 934920"/>
                  <a:gd name="textAreaRight" fmla="*/ 902520 w 934920"/>
                  <a:gd name="textAreaTop" fmla="*/ 32400 h 503280"/>
                  <a:gd name="textAreaBottom" fmla="*/ 470880 h 503280"/>
                </a:gdLst>
                <a:ahLst/>
                <a:rect l="textAreaLeft" t="textAreaTop" r="textAreaRight" b="textAreaBottom"/>
                <a:pathLst>
                  <a:path w="40112" h="21600">
                    <a:moveTo>
                      <a:pt x="0" y="0"/>
                    </a:moveTo>
                    <a:lnTo>
                      <a:pt x="40112" y="0"/>
                    </a:lnTo>
                    <a:lnTo>
                      <a:pt x="40112" y="21600"/>
                    </a:lnTo>
                    <a:lnTo>
                      <a:pt x="0" y="21600"/>
                    </a:lnTo>
                    <a:close/>
                  </a:path>
                  <a:path fill="lightenLess" w="40112" h="21600">
                    <a:moveTo>
                      <a:pt x="0" y="0"/>
                    </a:moveTo>
                    <a:lnTo>
                      <a:pt x="40112" y="0"/>
                    </a:lnTo>
                    <a:lnTo>
                      <a:pt x="38712" y="1400"/>
                    </a:lnTo>
                    <a:lnTo>
                      <a:pt x="1400" y="1400"/>
                    </a:lnTo>
                    <a:close/>
                  </a:path>
                  <a:path fill="darken" w="40112" h="21600">
                    <a:moveTo>
                      <a:pt x="40112" y="0"/>
                    </a:moveTo>
                    <a:lnTo>
                      <a:pt x="40112" y="21600"/>
                    </a:lnTo>
                    <a:lnTo>
                      <a:pt x="38712" y="20200"/>
                    </a:lnTo>
                    <a:lnTo>
                      <a:pt x="38712" y="1400"/>
                    </a:lnTo>
                    <a:close/>
                  </a:path>
                  <a:path fill="darkenLess" w="40112" h="21600">
                    <a:moveTo>
                      <a:pt x="40112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38712" y="20200"/>
                    </a:lnTo>
                    <a:close/>
                  </a:path>
                  <a:path fill="lighten" w="40112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40112" h="21600">
                    <a:moveTo>
                      <a:pt x="20056" y="3837"/>
                    </a:moveTo>
                    <a:lnTo>
                      <a:pt x="22632" y="6448"/>
                    </a:lnTo>
                    <a:lnTo>
                      <a:pt x="22632" y="4707"/>
                    </a:lnTo>
                    <a:lnTo>
                      <a:pt x="24408" y="4707"/>
                    </a:lnTo>
                    <a:lnTo>
                      <a:pt x="24408" y="8224"/>
                    </a:lnTo>
                    <a:lnTo>
                      <a:pt x="27019" y="10800"/>
                    </a:lnTo>
                    <a:lnTo>
                      <a:pt x="25365" y="10800"/>
                    </a:lnTo>
                    <a:lnTo>
                      <a:pt x="25365" y="17989"/>
                    </a:lnTo>
                    <a:lnTo>
                      <a:pt x="14747" y="17989"/>
                    </a:lnTo>
                    <a:lnTo>
                      <a:pt x="14747" y="10800"/>
                    </a:lnTo>
                    <a:lnTo>
                      <a:pt x="13093" y="10800"/>
                    </a:lnTo>
                    <a:close/>
                  </a:path>
                  <a:path fill="darkenLess" w="40112" h="21600">
                    <a:moveTo>
                      <a:pt x="22632" y="6448"/>
                    </a:moveTo>
                    <a:lnTo>
                      <a:pt x="22632" y="4707"/>
                    </a:lnTo>
                    <a:lnTo>
                      <a:pt x="24408" y="4707"/>
                    </a:lnTo>
                    <a:lnTo>
                      <a:pt x="24408" y="8224"/>
                    </a:lnTo>
                    <a:close/>
                  </a:path>
                  <a:path fill="darkenLess" w="40112" h="21600">
                    <a:moveTo>
                      <a:pt x="19133" y="14299"/>
                    </a:moveTo>
                    <a:lnTo>
                      <a:pt x="20979" y="14299"/>
                    </a:lnTo>
                    <a:lnTo>
                      <a:pt x="20979" y="17989"/>
                    </a:lnTo>
                    <a:lnTo>
                      <a:pt x="25365" y="17989"/>
                    </a:lnTo>
                    <a:lnTo>
                      <a:pt x="25365" y="10800"/>
                    </a:lnTo>
                    <a:lnTo>
                      <a:pt x="14747" y="10800"/>
                    </a:lnTo>
                    <a:lnTo>
                      <a:pt x="14747" y="17989"/>
                    </a:lnTo>
                    <a:lnTo>
                      <a:pt x="19133" y="17989"/>
                    </a:lnTo>
                    <a:close/>
                  </a:path>
                </a:pathLst>
              </a:custGeom>
              <a:solidFill>
                <a:srgbClr val="f8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26"/>
          <p:cNvSpPr/>
          <p:nvPr/>
        </p:nvSpPr>
        <p:spPr>
          <a:xfrm>
            <a:off x="1697760" y="475560"/>
            <a:ext cx="550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Латинская (Римская) нумерация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Text Box 1027"/>
          <p:cNvSpPr/>
          <p:nvPr/>
        </p:nvSpPr>
        <p:spPr>
          <a:xfrm>
            <a:off x="2771640" y="1484280"/>
            <a:ext cx="280836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00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8" name="Group 1029"/>
          <p:cNvGrpSpPr/>
          <p:nvPr/>
        </p:nvGrpSpPr>
        <p:grpSpPr>
          <a:xfrm>
            <a:off x="6048360" y="6354720"/>
            <a:ext cx="3095640" cy="503280"/>
            <a:chOff x="6048360" y="6354720"/>
            <a:chExt cx="3095640" cy="503280"/>
          </a:xfrm>
        </p:grpSpPr>
        <p:sp>
          <p:nvSpPr>
            <p:cNvPr id="309" name="AutoShape 1030">
              <a:hlinkClick r:id="" action="ppaction://hlinkshowjump?jump=nextslide"/>
            </p:cNvPr>
            <p:cNvSpPr/>
            <p:nvPr/>
          </p:nvSpPr>
          <p:spPr>
            <a:xfrm>
              <a:off x="8209080" y="6354720"/>
              <a:ext cx="934920" cy="503280"/>
            </a:xfrm>
            <a:custGeom>
              <a:avLst/>
              <a:gdLst>
                <a:gd name="textAreaLeft" fmla="*/ 32400 w 934920"/>
                <a:gd name="textAreaRight" fmla="*/ 902520 w 934920"/>
                <a:gd name="textAreaTop" fmla="*/ 32400 h 503280"/>
                <a:gd name="textAreaBottom" fmla="*/ 470880 h 503280"/>
              </a:gdLst>
              <a:ahLst/>
              <a:rect l="textAreaLeft" t="textAreaTop" r="textAreaRight" b="textAreaBottom"/>
              <a:pathLst>
                <a:path w="40112" h="21600">
                  <a:moveTo>
                    <a:pt x="0" y="0"/>
                  </a:moveTo>
                  <a:lnTo>
                    <a:pt x="40112" y="0"/>
                  </a:lnTo>
                  <a:lnTo>
                    <a:pt x="40112" y="21600"/>
                  </a:lnTo>
                  <a:lnTo>
                    <a:pt x="0" y="21600"/>
                  </a:lnTo>
                  <a:close/>
                </a:path>
                <a:path fill="lightenLess" w="40112" h="21600">
                  <a:moveTo>
                    <a:pt x="0" y="0"/>
                  </a:moveTo>
                  <a:lnTo>
                    <a:pt x="40112" y="0"/>
                  </a:lnTo>
                  <a:lnTo>
                    <a:pt x="38712" y="1400"/>
                  </a:lnTo>
                  <a:lnTo>
                    <a:pt x="1400" y="1400"/>
                  </a:lnTo>
                  <a:close/>
                </a:path>
                <a:path fill="darken" w="40112" h="21600">
                  <a:moveTo>
                    <a:pt x="40112" y="0"/>
                  </a:moveTo>
                  <a:lnTo>
                    <a:pt x="40112" y="21600"/>
                  </a:lnTo>
                  <a:lnTo>
                    <a:pt x="38712" y="20200"/>
                  </a:lnTo>
                  <a:lnTo>
                    <a:pt x="38712" y="1400"/>
                  </a:lnTo>
                  <a:close/>
                </a:path>
                <a:path fill="darkenLess" w="40112" h="21600">
                  <a:moveTo>
                    <a:pt x="401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712" y="20200"/>
                  </a:lnTo>
                  <a:close/>
                </a:path>
                <a:path fill="lighten" w="401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0112" h="21600">
                  <a:moveTo>
                    <a:pt x="13050" y="3794"/>
                  </a:moveTo>
                  <a:lnTo>
                    <a:pt x="27063" y="10800"/>
                  </a:lnTo>
                  <a:lnTo>
                    <a:pt x="13050" y="17806"/>
                  </a:lnTo>
                  <a:close/>
                </a:path>
              </a:pathLst>
            </a:custGeom>
            <a:solidFill>
              <a:srgbClr val="f8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0" name="Group 1031"/>
            <p:cNvGrpSpPr/>
            <p:nvPr/>
          </p:nvGrpSpPr>
          <p:grpSpPr>
            <a:xfrm>
              <a:off x="6048360" y="6354720"/>
              <a:ext cx="2016000" cy="503280"/>
              <a:chOff x="6048360" y="6354720"/>
              <a:chExt cx="2016000" cy="503280"/>
            </a:xfrm>
          </p:grpSpPr>
          <p:sp>
            <p:nvSpPr>
              <p:cNvPr id="311" name="AutoShape 1032">
                <a:hlinkClick r:id="" action="ppaction://hlinkshowjump?jump=previousslide"/>
              </p:cNvPr>
              <p:cNvSpPr/>
              <p:nvPr/>
            </p:nvSpPr>
            <p:spPr>
              <a:xfrm>
                <a:off x="6048360" y="6354720"/>
                <a:ext cx="934920" cy="503280"/>
              </a:xfrm>
              <a:custGeom>
                <a:avLst/>
                <a:gdLst>
                  <a:gd name="textAreaLeft" fmla="*/ 32400 w 934920"/>
                  <a:gd name="textAreaRight" fmla="*/ 902520 w 934920"/>
                  <a:gd name="textAreaTop" fmla="*/ 32400 h 503280"/>
                  <a:gd name="textAreaBottom" fmla="*/ 470880 h 503280"/>
                </a:gdLst>
                <a:ahLst/>
                <a:rect l="textAreaLeft" t="textAreaTop" r="textAreaRight" b="textAreaBottom"/>
                <a:pathLst>
                  <a:path w="40112" h="21600">
                    <a:moveTo>
                      <a:pt x="0" y="0"/>
                    </a:moveTo>
                    <a:lnTo>
                      <a:pt x="40112" y="0"/>
                    </a:lnTo>
                    <a:lnTo>
                      <a:pt x="40112" y="21600"/>
                    </a:lnTo>
                    <a:lnTo>
                      <a:pt x="0" y="21600"/>
                    </a:lnTo>
                    <a:close/>
                  </a:path>
                  <a:path fill="lightenLess" w="40112" h="21600">
                    <a:moveTo>
                      <a:pt x="0" y="0"/>
                    </a:moveTo>
                    <a:lnTo>
                      <a:pt x="40112" y="0"/>
                    </a:lnTo>
                    <a:lnTo>
                      <a:pt x="38712" y="1400"/>
                    </a:lnTo>
                    <a:lnTo>
                      <a:pt x="1400" y="1400"/>
                    </a:lnTo>
                    <a:close/>
                  </a:path>
                  <a:path fill="darken" w="40112" h="21600">
                    <a:moveTo>
                      <a:pt x="40112" y="0"/>
                    </a:moveTo>
                    <a:lnTo>
                      <a:pt x="40112" y="21600"/>
                    </a:lnTo>
                    <a:lnTo>
                      <a:pt x="38712" y="20200"/>
                    </a:lnTo>
                    <a:lnTo>
                      <a:pt x="38712" y="1400"/>
                    </a:lnTo>
                    <a:close/>
                  </a:path>
                  <a:path fill="darkenLess" w="40112" h="21600">
                    <a:moveTo>
                      <a:pt x="40112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38712" y="20200"/>
                    </a:lnTo>
                    <a:close/>
                  </a:path>
                  <a:path fill="lighten" w="40112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40112" h="21600">
                    <a:moveTo>
                      <a:pt x="13050" y="10800"/>
                    </a:moveTo>
                    <a:lnTo>
                      <a:pt x="27063" y="3794"/>
                    </a:lnTo>
                    <a:lnTo>
                      <a:pt x="27063" y="17806"/>
                    </a:lnTo>
                    <a:close/>
                  </a:path>
                </a:pathLst>
              </a:custGeom>
              <a:solidFill>
                <a:srgbClr val="f8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AutoShape 1033"/>
              <p:cNvSpPr/>
              <p:nvPr/>
            </p:nvSpPr>
            <p:spPr>
              <a:xfrm>
                <a:off x="7129440" y="6354720"/>
                <a:ext cx="934920" cy="503280"/>
              </a:xfrm>
              <a:custGeom>
                <a:avLst/>
                <a:gdLst>
                  <a:gd name="textAreaLeft" fmla="*/ 32400 w 934920"/>
                  <a:gd name="textAreaRight" fmla="*/ 902520 w 934920"/>
                  <a:gd name="textAreaTop" fmla="*/ 32400 h 503280"/>
                  <a:gd name="textAreaBottom" fmla="*/ 470880 h 503280"/>
                </a:gdLst>
                <a:ahLst/>
                <a:rect l="textAreaLeft" t="textAreaTop" r="textAreaRight" b="textAreaBottom"/>
                <a:pathLst>
                  <a:path w="40112" h="21600">
                    <a:moveTo>
                      <a:pt x="0" y="0"/>
                    </a:moveTo>
                    <a:lnTo>
                      <a:pt x="40112" y="0"/>
                    </a:lnTo>
                    <a:lnTo>
                      <a:pt x="40112" y="21600"/>
                    </a:lnTo>
                    <a:lnTo>
                      <a:pt x="0" y="21600"/>
                    </a:lnTo>
                    <a:close/>
                  </a:path>
                  <a:path fill="lightenLess" w="40112" h="21600">
                    <a:moveTo>
                      <a:pt x="0" y="0"/>
                    </a:moveTo>
                    <a:lnTo>
                      <a:pt x="40112" y="0"/>
                    </a:lnTo>
                    <a:lnTo>
                      <a:pt x="38712" y="1400"/>
                    </a:lnTo>
                    <a:lnTo>
                      <a:pt x="1400" y="1400"/>
                    </a:lnTo>
                    <a:close/>
                  </a:path>
                  <a:path fill="darken" w="40112" h="21600">
                    <a:moveTo>
                      <a:pt x="40112" y="0"/>
                    </a:moveTo>
                    <a:lnTo>
                      <a:pt x="40112" y="21600"/>
                    </a:lnTo>
                    <a:lnTo>
                      <a:pt x="38712" y="20200"/>
                    </a:lnTo>
                    <a:lnTo>
                      <a:pt x="38712" y="1400"/>
                    </a:lnTo>
                    <a:close/>
                  </a:path>
                  <a:path fill="darkenLess" w="40112" h="21600">
                    <a:moveTo>
                      <a:pt x="40112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38712" y="20200"/>
                    </a:lnTo>
                    <a:close/>
                  </a:path>
                  <a:path fill="lighten" w="40112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40112" h="21600">
                    <a:moveTo>
                      <a:pt x="20056" y="3837"/>
                    </a:moveTo>
                    <a:lnTo>
                      <a:pt x="22632" y="6448"/>
                    </a:lnTo>
                    <a:lnTo>
                      <a:pt x="22632" y="4707"/>
                    </a:lnTo>
                    <a:lnTo>
                      <a:pt x="24408" y="4707"/>
                    </a:lnTo>
                    <a:lnTo>
                      <a:pt x="24408" y="8224"/>
                    </a:lnTo>
                    <a:lnTo>
                      <a:pt x="27019" y="10800"/>
                    </a:lnTo>
                    <a:lnTo>
                      <a:pt x="25365" y="10800"/>
                    </a:lnTo>
                    <a:lnTo>
                      <a:pt x="25365" y="17989"/>
                    </a:lnTo>
                    <a:lnTo>
                      <a:pt x="14747" y="17989"/>
                    </a:lnTo>
                    <a:lnTo>
                      <a:pt x="14747" y="10800"/>
                    </a:lnTo>
                    <a:lnTo>
                      <a:pt x="13093" y="10800"/>
                    </a:lnTo>
                    <a:close/>
                  </a:path>
                  <a:path fill="darkenLess" w="40112" h="21600">
                    <a:moveTo>
                      <a:pt x="22632" y="6448"/>
                    </a:moveTo>
                    <a:lnTo>
                      <a:pt x="22632" y="4707"/>
                    </a:lnTo>
                    <a:lnTo>
                      <a:pt x="24408" y="4707"/>
                    </a:lnTo>
                    <a:lnTo>
                      <a:pt x="24408" y="8224"/>
                    </a:lnTo>
                    <a:close/>
                  </a:path>
                  <a:path fill="darkenLess" w="40112" h="21600">
                    <a:moveTo>
                      <a:pt x="19133" y="14299"/>
                    </a:moveTo>
                    <a:lnTo>
                      <a:pt x="20979" y="14299"/>
                    </a:lnTo>
                    <a:lnTo>
                      <a:pt x="20979" y="17989"/>
                    </a:lnTo>
                    <a:lnTo>
                      <a:pt x="25365" y="17989"/>
                    </a:lnTo>
                    <a:lnTo>
                      <a:pt x="25365" y="10800"/>
                    </a:lnTo>
                    <a:lnTo>
                      <a:pt x="14747" y="10800"/>
                    </a:lnTo>
                    <a:lnTo>
                      <a:pt x="14747" y="17989"/>
                    </a:lnTo>
                    <a:lnTo>
                      <a:pt x="19133" y="17989"/>
                    </a:lnTo>
                    <a:close/>
                  </a:path>
                </a:pathLst>
              </a:custGeom>
              <a:solidFill>
                <a:srgbClr val="f8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026"/>
          <p:cNvSpPr/>
          <p:nvPr/>
        </p:nvSpPr>
        <p:spPr>
          <a:xfrm>
            <a:off x="2086920" y="691560"/>
            <a:ext cx="494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Арабская системы счисления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Rectangle 1027"/>
          <p:cNvSpPr/>
          <p:nvPr/>
        </p:nvSpPr>
        <p:spPr>
          <a:xfrm>
            <a:off x="468360" y="1774080"/>
            <a:ext cx="8136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первые такая система, вернее ее зачатки появилась в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Древнем Вавилон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почти в то же время она была изобретена в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Кита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потом в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Инди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откуда перекочевала на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Аравийский полуостров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а затем и в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Европу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Здесь эту систему счисления назвали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Арабской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и под этим именем она разошлась по всему миру. Так что, говоря "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арабские числ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" надо иметь в виду, ну, хотя бы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ндийские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5" name="Group 1028"/>
          <p:cNvGrpSpPr/>
          <p:nvPr/>
        </p:nvGrpSpPr>
        <p:grpSpPr>
          <a:xfrm>
            <a:off x="6048360" y="6354720"/>
            <a:ext cx="3095640" cy="503280"/>
            <a:chOff x="6048360" y="6354720"/>
            <a:chExt cx="3095640" cy="503280"/>
          </a:xfrm>
        </p:grpSpPr>
        <p:sp>
          <p:nvSpPr>
            <p:cNvPr id="316" name="AutoShape 1029">
              <a:hlinkClick r:id="" action="ppaction://hlinkshowjump?jump=nextslide"/>
            </p:cNvPr>
            <p:cNvSpPr/>
            <p:nvPr/>
          </p:nvSpPr>
          <p:spPr>
            <a:xfrm>
              <a:off x="8209080" y="6354720"/>
              <a:ext cx="934920" cy="503280"/>
            </a:xfrm>
            <a:custGeom>
              <a:avLst/>
              <a:gdLst>
                <a:gd name="textAreaLeft" fmla="*/ 32400 w 934920"/>
                <a:gd name="textAreaRight" fmla="*/ 902520 w 934920"/>
                <a:gd name="textAreaTop" fmla="*/ 32400 h 503280"/>
                <a:gd name="textAreaBottom" fmla="*/ 470880 h 503280"/>
              </a:gdLst>
              <a:ahLst/>
              <a:rect l="textAreaLeft" t="textAreaTop" r="textAreaRight" b="textAreaBottom"/>
              <a:pathLst>
                <a:path w="40112" h="21600">
                  <a:moveTo>
                    <a:pt x="0" y="0"/>
                  </a:moveTo>
                  <a:lnTo>
                    <a:pt x="40112" y="0"/>
                  </a:lnTo>
                  <a:lnTo>
                    <a:pt x="40112" y="21600"/>
                  </a:lnTo>
                  <a:lnTo>
                    <a:pt x="0" y="21600"/>
                  </a:lnTo>
                  <a:close/>
                </a:path>
                <a:path fill="lightenLess" w="40112" h="21600">
                  <a:moveTo>
                    <a:pt x="0" y="0"/>
                  </a:moveTo>
                  <a:lnTo>
                    <a:pt x="40112" y="0"/>
                  </a:lnTo>
                  <a:lnTo>
                    <a:pt x="38712" y="1400"/>
                  </a:lnTo>
                  <a:lnTo>
                    <a:pt x="1400" y="1400"/>
                  </a:lnTo>
                  <a:close/>
                </a:path>
                <a:path fill="darken" w="40112" h="21600">
                  <a:moveTo>
                    <a:pt x="40112" y="0"/>
                  </a:moveTo>
                  <a:lnTo>
                    <a:pt x="40112" y="21600"/>
                  </a:lnTo>
                  <a:lnTo>
                    <a:pt x="38712" y="20200"/>
                  </a:lnTo>
                  <a:lnTo>
                    <a:pt x="38712" y="1400"/>
                  </a:lnTo>
                  <a:close/>
                </a:path>
                <a:path fill="darkenLess" w="40112" h="21600">
                  <a:moveTo>
                    <a:pt x="401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712" y="20200"/>
                  </a:lnTo>
                  <a:close/>
                </a:path>
                <a:path fill="lighten" w="401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0112" h="21600">
                  <a:moveTo>
                    <a:pt x="13050" y="3794"/>
                  </a:moveTo>
                  <a:lnTo>
                    <a:pt x="27063" y="10800"/>
                  </a:lnTo>
                  <a:lnTo>
                    <a:pt x="13050" y="17806"/>
                  </a:lnTo>
                  <a:close/>
                </a:path>
              </a:pathLst>
            </a:custGeom>
            <a:solidFill>
              <a:srgbClr val="f8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7" name="Group 1030"/>
            <p:cNvGrpSpPr/>
            <p:nvPr/>
          </p:nvGrpSpPr>
          <p:grpSpPr>
            <a:xfrm>
              <a:off x="6048360" y="6354720"/>
              <a:ext cx="2016000" cy="503280"/>
              <a:chOff x="6048360" y="6354720"/>
              <a:chExt cx="2016000" cy="503280"/>
            </a:xfrm>
          </p:grpSpPr>
          <p:sp>
            <p:nvSpPr>
              <p:cNvPr id="318" name="AutoShape 1031">
                <a:hlinkClick r:id="" action="ppaction://hlinkshowjump?jump=previousslide"/>
              </p:cNvPr>
              <p:cNvSpPr/>
              <p:nvPr/>
            </p:nvSpPr>
            <p:spPr>
              <a:xfrm>
                <a:off x="6048360" y="6354720"/>
                <a:ext cx="934920" cy="503280"/>
              </a:xfrm>
              <a:custGeom>
                <a:avLst/>
                <a:gdLst>
                  <a:gd name="textAreaLeft" fmla="*/ 32400 w 934920"/>
                  <a:gd name="textAreaRight" fmla="*/ 902520 w 934920"/>
                  <a:gd name="textAreaTop" fmla="*/ 32400 h 503280"/>
                  <a:gd name="textAreaBottom" fmla="*/ 470880 h 503280"/>
                </a:gdLst>
                <a:ahLst/>
                <a:rect l="textAreaLeft" t="textAreaTop" r="textAreaRight" b="textAreaBottom"/>
                <a:pathLst>
                  <a:path w="40112" h="21600">
                    <a:moveTo>
                      <a:pt x="0" y="0"/>
                    </a:moveTo>
                    <a:lnTo>
                      <a:pt x="40112" y="0"/>
                    </a:lnTo>
                    <a:lnTo>
                      <a:pt x="40112" y="21600"/>
                    </a:lnTo>
                    <a:lnTo>
                      <a:pt x="0" y="21600"/>
                    </a:lnTo>
                    <a:close/>
                  </a:path>
                  <a:path fill="lightenLess" w="40112" h="21600">
                    <a:moveTo>
                      <a:pt x="0" y="0"/>
                    </a:moveTo>
                    <a:lnTo>
                      <a:pt x="40112" y="0"/>
                    </a:lnTo>
                    <a:lnTo>
                      <a:pt x="38712" y="1400"/>
                    </a:lnTo>
                    <a:lnTo>
                      <a:pt x="1400" y="1400"/>
                    </a:lnTo>
                    <a:close/>
                  </a:path>
                  <a:path fill="darken" w="40112" h="21600">
                    <a:moveTo>
                      <a:pt x="40112" y="0"/>
                    </a:moveTo>
                    <a:lnTo>
                      <a:pt x="40112" y="21600"/>
                    </a:lnTo>
                    <a:lnTo>
                      <a:pt x="38712" y="20200"/>
                    </a:lnTo>
                    <a:lnTo>
                      <a:pt x="38712" y="1400"/>
                    </a:lnTo>
                    <a:close/>
                  </a:path>
                  <a:path fill="darkenLess" w="40112" h="21600">
                    <a:moveTo>
                      <a:pt x="40112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38712" y="20200"/>
                    </a:lnTo>
                    <a:close/>
                  </a:path>
                  <a:path fill="lighten" w="40112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40112" h="21600">
                    <a:moveTo>
                      <a:pt x="13050" y="10800"/>
                    </a:moveTo>
                    <a:lnTo>
                      <a:pt x="27063" y="3794"/>
                    </a:lnTo>
                    <a:lnTo>
                      <a:pt x="27063" y="17806"/>
                    </a:lnTo>
                    <a:close/>
                  </a:path>
                </a:pathLst>
              </a:custGeom>
              <a:solidFill>
                <a:srgbClr val="f8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AutoShape 1032"/>
              <p:cNvSpPr/>
              <p:nvPr/>
            </p:nvSpPr>
            <p:spPr>
              <a:xfrm>
                <a:off x="7129440" y="6354720"/>
                <a:ext cx="934920" cy="503280"/>
              </a:xfrm>
              <a:custGeom>
                <a:avLst/>
                <a:gdLst>
                  <a:gd name="textAreaLeft" fmla="*/ 32400 w 934920"/>
                  <a:gd name="textAreaRight" fmla="*/ 902520 w 934920"/>
                  <a:gd name="textAreaTop" fmla="*/ 32400 h 503280"/>
                  <a:gd name="textAreaBottom" fmla="*/ 470880 h 503280"/>
                </a:gdLst>
                <a:ahLst/>
                <a:rect l="textAreaLeft" t="textAreaTop" r="textAreaRight" b="textAreaBottom"/>
                <a:pathLst>
                  <a:path w="40112" h="21600">
                    <a:moveTo>
                      <a:pt x="0" y="0"/>
                    </a:moveTo>
                    <a:lnTo>
                      <a:pt x="40112" y="0"/>
                    </a:lnTo>
                    <a:lnTo>
                      <a:pt x="40112" y="21600"/>
                    </a:lnTo>
                    <a:lnTo>
                      <a:pt x="0" y="21600"/>
                    </a:lnTo>
                    <a:close/>
                  </a:path>
                  <a:path fill="lightenLess" w="40112" h="21600">
                    <a:moveTo>
                      <a:pt x="0" y="0"/>
                    </a:moveTo>
                    <a:lnTo>
                      <a:pt x="40112" y="0"/>
                    </a:lnTo>
                    <a:lnTo>
                      <a:pt x="38712" y="1400"/>
                    </a:lnTo>
                    <a:lnTo>
                      <a:pt x="1400" y="1400"/>
                    </a:lnTo>
                    <a:close/>
                  </a:path>
                  <a:path fill="darken" w="40112" h="21600">
                    <a:moveTo>
                      <a:pt x="40112" y="0"/>
                    </a:moveTo>
                    <a:lnTo>
                      <a:pt x="40112" y="21600"/>
                    </a:lnTo>
                    <a:lnTo>
                      <a:pt x="38712" y="20200"/>
                    </a:lnTo>
                    <a:lnTo>
                      <a:pt x="38712" y="1400"/>
                    </a:lnTo>
                    <a:close/>
                  </a:path>
                  <a:path fill="darkenLess" w="40112" h="21600">
                    <a:moveTo>
                      <a:pt x="40112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38712" y="20200"/>
                    </a:lnTo>
                    <a:close/>
                  </a:path>
                  <a:path fill="lighten" w="40112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40112" h="21600">
                    <a:moveTo>
                      <a:pt x="20056" y="3837"/>
                    </a:moveTo>
                    <a:lnTo>
                      <a:pt x="22632" y="6448"/>
                    </a:lnTo>
                    <a:lnTo>
                      <a:pt x="22632" y="4707"/>
                    </a:lnTo>
                    <a:lnTo>
                      <a:pt x="24408" y="4707"/>
                    </a:lnTo>
                    <a:lnTo>
                      <a:pt x="24408" y="8224"/>
                    </a:lnTo>
                    <a:lnTo>
                      <a:pt x="27019" y="10800"/>
                    </a:lnTo>
                    <a:lnTo>
                      <a:pt x="25365" y="10800"/>
                    </a:lnTo>
                    <a:lnTo>
                      <a:pt x="25365" y="17989"/>
                    </a:lnTo>
                    <a:lnTo>
                      <a:pt x="14747" y="17989"/>
                    </a:lnTo>
                    <a:lnTo>
                      <a:pt x="14747" y="10800"/>
                    </a:lnTo>
                    <a:lnTo>
                      <a:pt x="13093" y="10800"/>
                    </a:lnTo>
                    <a:close/>
                  </a:path>
                  <a:path fill="darkenLess" w="40112" h="21600">
                    <a:moveTo>
                      <a:pt x="22632" y="6448"/>
                    </a:moveTo>
                    <a:lnTo>
                      <a:pt x="22632" y="4707"/>
                    </a:lnTo>
                    <a:lnTo>
                      <a:pt x="24408" y="4707"/>
                    </a:lnTo>
                    <a:lnTo>
                      <a:pt x="24408" y="8224"/>
                    </a:lnTo>
                    <a:close/>
                  </a:path>
                  <a:path fill="darkenLess" w="40112" h="21600">
                    <a:moveTo>
                      <a:pt x="19133" y="14299"/>
                    </a:moveTo>
                    <a:lnTo>
                      <a:pt x="20979" y="14299"/>
                    </a:lnTo>
                    <a:lnTo>
                      <a:pt x="20979" y="17989"/>
                    </a:lnTo>
                    <a:lnTo>
                      <a:pt x="25365" y="17989"/>
                    </a:lnTo>
                    <a:lnTo>
                      <a:pt x="25365" y="10800"/>
                    </a:lnTo>
                    <a:lnTo>
                      <a:pt x="14747" y="10800"/>
                    </a:lnTo>
                    <a:lnTo>
                      <a:pt x="14747" y="17989"/>
                    </a:lnTo>
                    <a:lnTo>
                      <a:pt x="19133" y="17989"/>
                    </a:lnTo>
                    <a:close/>
                  </a:path>
                </a:pathLst>
              </a:custGeom>
              <a:solidFill>
                <a:srgbClr val="f8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1026"/>
          <p:cNvSpPr/>
          <p:nvPr/>
        </p:nvSpPr>
        <p:spPr>
          <a:xfrm>
            <a:off x="1547640" y="333360"/>
            <a:ext cx="64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зиционные системы счисления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468360" y="1397160"/>
          <a:ext cx="8496360" cy="4622760"/>
        </p:xfrm>
        <a:graphic>
          <a:graphicData uri="http://schemas.openxmlformats.org/drawingml/2006/table">
            <a:tbl>
              <a:tblPr/>
              <a:tblGrid>
                <a:gridCol w="3532320"/>
                <a:gridCol w="496404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истема счисления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лфавит языка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сятичная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 1, 2, 3, 4, 5, 6, 7, 8, 9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воичная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 1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осьмеричная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 1, 2, 3, 4, 5, 6, 7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естнадцатеричная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 1, 2, 3, 4, 5, 6, 7, 8, 9,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10)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,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11)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,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12)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,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13)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,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14)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,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15)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1026"/>
          <p:cNvSpPr/>
          <p:nvPr/>
        </p:nvSpPr>
        <p:spPr>
          <a:xfrm>
            <a:off x="684360" y="1125360"/>
            <a:ext cx="792000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Правило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ля перевода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целого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числа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N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в систему счисления с основанием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еобходимо разделить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N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на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q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с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остатком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. Затем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неполное частное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, полученное от этого деления снова разделить на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q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с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остатком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и т.д., пока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последнее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частное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не станет равным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нулю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. Получившиеся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остатки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выписать в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обратном порядке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4"/>
          <p:cNvSpPr/>
          <p:nvPr/>
        </p:nvSpPr>
        <p:spPr>
          <a:xfrm>
            <a:off x="611280" y="1052640"/>
            <a:ext cx="61927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Примеры: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ереведем числа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75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12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из десятичной системы счисления в двоичную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AutoShape 8"/>
          <p:cNvSpPr/>
          <p:nvPr/>
        </p:nvSpPr>
        <p:spPr>
          <a:xfrm>
            <a:off x="8209080" y="6354720"/>
            <a:ext cx="934920" cy="503280"/>
          </a:xfrm>
          <a:custGeom>
            <a:avLst/>
            <a:gdLst>
              <a:gd name="textAreaLeft" fmla="*/ 32400 w 934920"/>
              <a:gd name="textAreaRight" fmla="*/ 902520 w 934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0112" h="21600">
                <a:moveTo>
                  <a:pt x="0" y="0"/>
                </a:moveTo>
                <a:lnTo>
                  <a:pt x="40112" y="0"/>
                </a:lnTo>
                <a:lnTo>
                  <a:pt x="40112" y="21600"/>
                </a:lnTo>
                <a:lnTo>
                  <a:pt x="0" y="21600"/>
                </a:lnTo>
                <a:close/>
              </a:path>
              <a:path fill="lightenLess" w="40112" h="21600">
                <a:moveTo>
                  <a:pt x="0" y="0"/>
                </a:moveTo>
                <a:lnTo>
                  <a:pt x="40112" y="0"/>
                </a:lnTo>
                <a:lnTo>
                  <a:pt x="38712" y="1400"/>
                </a:lnTo>
                <a:lnTo>
                  <a:pt x="1400" y="1400"/>
                </a:lnTo>
                <a:close/>
              </a:path>
              <a:path fill="darken" w="40112" h="21600">
                <a:moveTo>
                  <a:pt x="40112" y="0"/>
                </a:moveTo>
                <a:lnTo>
                  <a:pt x="40112" y="21600"/>
                </a:lnTo>
                <a:lnTo>
                  <a:pt x="38712" y="20200"/>
                </a:lnTo>
                <a:lnTo>
                  <a:pt x="38712" y="1400"/>
                </a:lnTo>
                <a:close/>
              </a:path>
              <a:path fill="darkenLess" w="40112" h="21600">
                <a:moveTo>
                  <a:pt x="401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12" y="20200"/>
                </a:lnTo>
                <a:close/>
              </a:path>
              <a:path fill="lighten" w="401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112" h="21600">
                <a:moveTo>
                  <a:pt x="13050" y="3794"/>
                </a:moveTo>
                <a:lnTo>
                  <a:pt x="27063" y="10800"/>
                </a:lnTo>
                <a:lnTo>
                  <a:pt x="13050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4"/>
          <p:cNvSpPr/>
          <p:nvPr/>
        </p:nvSpPr>
        <p:spPr>
          <a:xfrm>
            <a:off x="755640" y="692280"/>
            <a:ext cx="475308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Times New Roman"/>
              <a:buAutoNum type="arabicPlain" startAt="7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    37   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    18   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0     9   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    4    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0    2    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0   1    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    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Line 6"/>
          <p:cNvSpPr/>
          <p:nvPr/>
        </p:nvSpPr>
        <p:spPr>
          <a:xfrm>
            <a:off x="1332000" y="836640"/>
            <a:ext cx="0" cy="86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Line 7"/>
          <p:cNvSpPr/>
          <p:nvPr/>
        </p:nvSpPr>
        <p:spPr>
          <a:xfrm>
            <a:off x="826920" y="1268280"/>
            <a:ext cx="100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Line 8"/>
          <p:cNvSpPr/>
          <p:nvPr/>
        </p:nvSpPr>
        <p:spPr>
          <a:xfrm>
            <a:off x="1979640" y="148428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Line 9"/>
          <p:cNvSpPr/>
          <p:nvPr/>
        </p:nvSpPr>
        <p:spPr>
          <a:xfrm>
            <a:off x="1547640" y="184464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Line 10"/>
          <p:cNvSpPr/>
          <p:nvPr/>
        </p:nvSpPr>
        <p:spPr>
          <a:xfrm>
            <a:off x="2484360" y="2060640"/>
            <a:ext cx="0" cy="86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Line 11"/>
          <p:cNvSpPr/>
          <p:nvPr/>
        </p:nvSpPr>
        <p:spPr>
          <a:xfrm>
            <a:off x="1979640" y="249228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Line 12"/>
          <p:cNvSpPr/>
          <p:nvPr/>
        </p:nvSpPr>
        <p:spPr>
          <a:xfrm>
            <a:off x="3059280" y="2781360"/>
            <a:ext cx="0" cy="86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Line 13"/>
          <p:cNvSpPr/>
          <p:nvPr/>
        </p:nvSpPr>
        <p:spPr>
          <a:xfrm>
            <a:off x="2627280" y="314172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Line 14"/>
          <p:cNvSpPr/>
          <p:nvPr/>
        </p:nvSpPr>
        <p:spPr>
          <a:xfrm>
            <a:off x="3635280" y="342900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Line 15"/>
          <p:cNvSpPr/>
          <p:nvPr/>
        </p:nvSpPr>
        <p:spPr>
          <a:xfrm>
            <a:off x="3203640" y="378936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Line 16"/>
          <p:cNvSpPr/>
          <p:nvPr/>
        </p:nvSpPr>
        <p:spPr>
          <a:xfrm>
            <a:off x="4211640" y="4076640"/>
            <a:ext cx="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Line 17"/>
          <p:cNvSpPr/>
          <p:nvPr/>
        </p:nvSpPr>
        <p:spPr>
          <a:xfrm>
            <a:off x="3708360" y="436572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Line 18"/>
          <p:cNvSpPr/>
          <p:nvPr/>
        </p:nvSpPr>
        <p:spPr>
          <a:xfrm>
            <a:off x="4716360" y="4724280"/>
            <a:ext cx="0" cy="7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Line 19"/>
          <p:cNvSpPr/>
          <p:nvPr/>
        </p:nvSpPr>
        <p:spPr>
          <a:xfrm>
            <a:off x="4356000" y="508464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0" name="Group 31"/>
          <p:cNvGrpSpPr/>
          <p:nvPr/>
        </p:nvGrpSpPr>
        <p:grpSpPr>
          <a:xfrm>
            <a:off x="539280" y="1988640"/>
            <a:ext cx="3959280" cy="3888000"/>
            <a:chOff x="539280" y="1988640"/>
            <a:chExt cx="3959280" cy="3888000"/>
          </a:xfrm>
        </p:grpSpPr>
        <p:sp>
          <p:nvSpPr>
            <p:cNvPr id="341" name="Line 20"/>
            <p:cNvSpPr/>
            <p:nvPr/>
          </p:nvSpPr>
          <p:spPr>
            <a:xfrm flipH="1" flipV="1">
              <a:off x="539280" y="1988640"/>
              <a:ext cx="3600360" cy="388764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Line 22"/>
            <p:cNvSpPr/>
            <p:nvPr/>
          </p:nvSpPr>
          <p:spPr>
            <a:xfrm>
              <a:off x="4140000" y="5876640"/>
              <a:ext cx="35856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3" name="Text Box 23"/>
          <p:cNvSpPr/>
          <p:nvPr/>
        </p:nvSpPr>
        <p:spPr>
          <a:xfrm>
            <a:off x="684360" y="6021360"/>
            <a:ext cx="3744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Ответ: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75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Times New Roman"/>
              </a:rPr>
              <a:t>10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= 1001011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Oval 24"/>
          <p:cNvSpPr/>
          <p:nvPr/>
        </p:nvSpPr>
        <p:spPr>
          <a:xfrm>
            <a:off x="826920" y="1413000"/>
            <a:ext cx="430560" cy="431640"/>
          </a:xfrm>
          <a:prstGeom prst="ellipse">
            <a:avLst/>
          </a:prstGeom>
          <a:noFill/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Oval 25"/>
          <p:cNvSpPr/>
          <p:nvPr/>
        </p:nvSpPr>
        <p:spPr>
          <a:xfrm>
            <a:off x="1332000" y="2060640"/>
            <a:ext cx="430200" cy="431640"/>
          </a:xfrm>
          <a:prstGeom prst="ellipse">
            <a:avLst/>
          </a:prstGeom>
          <a:noFill/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Oval 26"/>
          <p:cNvSpPr/>
          <p:nvPr/>
        </p:nvSpPr>
        <p:spPr>
          <a:xfrm>
            <a:off x="1908000" y="2708280"/>
            <a:ext cx="430560" cy="431640"/>
          </a:xfrm>
          <a:prstGeom prst="ellipse">
            <a:avLst/>
          </a:prstGeom>
          <a:noFill/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Oval 27"/>
          <p:cNvSpPr/>
          <p:nvPr/>
        </p:nvSpPr>
        <p:spPr>
          <a:xfrm>
            <a:off x="4284720" y="5229360"/>
            <a:ext cx="430200" cy="431640"/>
          </a:xfrm>
          <a:prstGeom prst="ellipse">
            <a:avLst/>
          </a:prstGeom>
          <a:noFill/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Oval 28"/>
          <p:cNvSpPr/>
          <p:nvPr/>
        </p:nvSpPr>
        <p:spPr>
          <a:xfrm>
            <a:off x="3708360" y="4581360"/>
            <a:ext cx="430200" cy="432000"/>
          </a:xfrm>
          <a:prstGeom prst="ellipse">
            <a:avLst/>
          </a:prstGeom>
          <a:noFill/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Oval 29"/>
          <p:cNvSpPr/>
          <p:nvPr/>
        </p:nvSpPr>
        <p:spPr>
          <a:xfrm>
            <a:off x="3132000" y="3933720"/>
            <a:ext cx="430200" cy="432000"/>
          </a:xfrm>
          <a:prstGeom prst="ellipse">
            <a:avLst/>
          </a:prstGeom>
          <a:noFill/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Oval 30"/>
          <p:cNvSpPr/>
          <p:nvPr/>
        </p:nvSpPr>
        <p:spPr>
          <a:xfrm>
            <a:off x="2556000" y="3357720"/>
            <a:ext cx="430200" cy="431640"/>
          </a:xfrm>
          <a:prstGeom prst="ellipse">
            <a:avLst/>
          </a:prstGeom>
          <a:noFill/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Text Box 32"/>
          <p:cNvSpPr/>
          <p:nvPr/>
        </p:nvSpPr>
        <p:spPr>
          <a:xfrm>
            <a:off x="5651640" y="836640"/>
            <a:ext cx="3024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2    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0     6    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0    3    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    1    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    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Line 33"/>
          <p:cNvSpPr/>
          <p:nvPr/>
        </p:nvSpPr>
        <p:spPr>
          <a:xfrm>
            <a:off x="6516720" y="981000"/>
            <a:ext cx="0" cy="86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Line 34"/>
          <p:cNvSpPr/>
          <p:nvPr/>
        </p:nvSpPr>
        <p:spPr>
          <a:xfrm>
            <a:off x="7093080" y="1628640"/>
            <a:ext cx="0" cy="7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Line 35"/>
          <p:cNvSpPr/>
          <p:nvPr/>
        </p:nvSpPr>
        <p:spPr>
          <a:xfrm>
            <a:off x="7596360" y="2276640"/>
            <a:ext cx="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Line 36"/>
          <p:cNvSpPr/>
          <p:nvPr/>
        </p:nvSpPr>
        <p:spPr>
          <a:xfrm>
            <a:off x="8172360" y="2924280"/>
            <a:ext cx="0" cy="93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Line 37"/>
          <p:cNvSpPr/>
          <p:nvPr/>
        </p:nvSpPr>
        <p:spPr>
          <a:xfrm>
            <a:off x="5867280" y="1413000"/>
            <a:ext cx="1009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Line 38"/>
          <p:cNvSpPr/>
          <p:nvPr/>
        </p:nvSpPr>
        <p:spPr>
          <a:xfrm>
            <a:off x="6659640" y="2060640"/>
            <a:ext cx="1009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Line 39"/>
          <p:cNvSpPr/>
          <p:nvPr/>
        </p:nvSpPr>
        <p:spPr>
          <a:xfrm>
            <a:off x="7093080" y="2708280"/>
            <a:ext cx="1009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Line 40"/>
          <p:cNvSpPr/>
          <p:nvPr/>
        </p:nvSpPr>
        <p:spPr>
          <a:xfrm>
            <a:off x="7667640" y="3357720"/>
            <a:ext cx="1009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Oval 41"/>
          <p:cNvSpPr/>
          <p:nvPr/>
        </p:nvSpPr>
        <p:spPr>
          <a:xfrm>
            <a:off x="7524720" y="3429000"/>
            <a:ext cx="430200" cy="431640"/>
          </a:xfrm>
          <a:prstGeom prst="ellipse">
            <a:avLst/>
          </a:prstGeom>
          <a:noFill/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Oval 42"/>
          <p:cNvSpPr/>
          <p:nvPr/>
        </p:nvSpPr>
        <p:spPr>
          <a:xfrm>
            <a:off x="7020000" y="2852640"/>
            <a:ext cx="430200" cy="432000"/>
          </a:xfrm>
          <a:prstGeom prst="ellipse">
            <a:avLst/>
          </a:prstGeom>
          <a:noFill/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Oval 43"/>
          <p:cNvSpPr/>
          <p:nvPr/>
        </p:nvSpPr>
        <p:spPr>
          <a:xfrm>
            <a:off x="6516720" y="2205000"/>
            <a:ext cx="430200" cy="432000"/>
          </a:xfrm>
          <a:prstGeom prst="ellipse">
            <a:avLst/>
          </a:prstGeom>
          <a:noFill/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Oval 44"/>
          <p:cNvSpPr/>
          <p:nvPr/>
        </p:nvSpPr>
        <p:spPr>
          <a:xfrm>
            <a:off x="5867280" y="1557360"/>
            <a:ext cx="430200" cy="431640"/>
          </a:xfrm>
          <a:prstGeom prst="ellipse">
            <a:avLst/>
          </a:prstGeom>
          <a:noFill/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4" name="Group 45"/>
          <p:cNvGrpSpPr/>
          <p:nvPr/>
        </p:nvGrpSpPr>
        <p:grpSpPr>
          <a:xfrm>
            <a:off x="5508720" y="1988640"/>
            <a:ext cx="2233080" cy="2088000"/>
            <a:chOff x="5508720" y="1988640"/>
            <a:chExt cx="2233080" cy="2088000"/>
          </a:xfrm>
        </p:grpSpPr>
        <p:sp>
          <p:nvSpPr>
            <p:cNvPr id="365" name="Line 46"/>
            <p:cNvSpPr/>
            <p:nvPr/>
          </p:nvSpPr>
          <p:spPr>
            <a:xfrm flipH="1" flipV="1">
              <a:off x="5508720" y="1988640"/>
              <a:ext cx="2031120" cy="208764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Line 47"/>
            <p:cNvSpPr/>
            <p:nvPr/>
          </p:nvSpPr>
          <p:spPr>
            <a:xfrm>
              <a:off x="7539840" y="4076640"/>
              <a:ext cx="20196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7" name="Rectangle 48"/>
          <p:cNvSpPr/>
          <p:nvPr/>
        </p:nvSpPr>
        <p:spPr>
          <a:xfrm>
            <a:off x="5536440" y="4724280"/>
            <a:ext cx="3120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Ответ: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Times New Roman"/>
              </a:rPr>
              <a:t>10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= 1100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8" name="Group 55"/>
          <p:cNvGrpSpPr/>
          <p:nvPr/>
        </p:nvGrpSpPr>
        <p:grpSpPr>
          <a:xfrm>
            <a:off x="7129440" y="6354720"/>
            <a:ext cx="2014560" cy="503280"/>
            <a:chOff x="7129440" y="6354720"/>
            <a:chExt cx="2014560" cy="503280"/>
          </a:xfrm>
        </p:grpSpPr>
        <p:sp>
          <p:nvSpPr>
            <p:cNvPr id="369" name="AutoShape 50">
              <a:hlinkClick r:id="" action="ppaction://hlinkshowjump?jump=nextslide"/>
            </p:cNvPr>
            <p:cNvSpPr/>
            <p:nvPr/>
          </p:nvSpPr>
          <p:spPr>
            <a:xfrm>
              <a:off x="8209080" y="6354720"/>
              <a:ext cx="934920" cy="503280"/>
            </a:xfrm>
            <a:custGeom>
              <a:avLst/>
              <a:gdLst>
                <a:gd name="textAreaLeft" fmla="*/ 32400 w 934920"/>
                <a:gd name="textAreaRight" fmla="*/ 902520 w 934920"/>
                <a:gd name="textAreaTop" fmla="*/ 32400 h 503280"/>
                <a:gd name="textAreaBottom" fmla="*/ 470880 h 503280"/>
              </a:gdLst>
              <a:ahLst/>
              <a:rect l="textAreaLeft" t="textAreaTop" r="textAreaRight" b="textAreaBottom"/>
              <a:pathLst>
                <a:path w="40112" h="21600">
                  <a:moveTo>
                    <a:pt x="0" y="0"/>
                  </a:moveTo>
                  <a:lnTo>
                    <a:pt x="40112" y="0"/>
                  </a:lnTo>
                  <a:lnTo>
                    <a:pt x="40112" y="21600"/>
                  </a:lnTo>
                  <a:lnTo>
                    <a:pt x="0" y="21600"/>
                  </a:lnTo>
                  <a:close/>
                </a:path>
                <a:path fill="lightenLess" w="40112" h="21600">
                  <a:moveTo>
                    <a:pt x="0" y="0"/>
                  </a:moveTo>
                  <a:lnTo>
                    <a:pt x="40112" y="0"/>
                  </a:lnTo>
                  <a:lnTo>
                    <a:pt x="38712" y="1400"/>
                  </a:lnTo>
                  <a:lnTo>
                    <a:pt x="1400" y="1400"/>
                  </a:lnTo>
                  <a:close/>
                </a:path>
                <a:path fill="darken" w="40112" h="21600">
                  <a:moveTo>
                    <a:pt x="40112" y="0"/>
                  </a:moveTo>
                  <a:lnTo>
                    <a:pt x="40112" y="21600"/>
                  </a:lnTo>
                  <a:lnTo>
                    <a:pt x="38712" y="20200"/>
                  </a:lnTo>
                  <a:lnTo>
                    <a:pt x="38712" y="1400"/>
                  </a:lnTo>
                  <a:close/>
                </a:path>
                <a:path fill="darkenLess" w="40112" h="21600">
                  <a:moveTo>
                    <a:pt x="401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712" y="20200"/>
                  </a:lnTo>
                  <a:close/>
                </a:path>
                <a:path fill="lighten" w="401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0112" h="21600">
                  <a:moveTo>
                    <a:pt x="13050" y="3794"/>
                  </a:moveTo>
                  <a:lnTo>
                    <a:pt x="27063" y="10800"/>
                  </a:lnTo>
                  <a:lnTo>
                    <a:pt x="13050" y="17806"/>
                  </a:lnTo>
                  <a:close/>
                </a:path>
              </a:pathLst>
            </a:custGeom>
            <a:solidFill>
              <a:srgbClr val="f8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AutoShape 53"/>
            <p:cNvSpPr/>
            <p:nvPr/>
          </p:nvSpPr>
          <p:spPr>
            <a:xfrm>
              <a:off x="7129440" y="6354720"/>
              <a:ext cx="934920" cy="503280"/>
            </a:xfrm>
            <a:custGeom>
              <a:avLst/>
              <a:gdLst>
                <a:gd name="textAreaLeft" fmla="*/ 32400 w 934920"/>
                <a:gd name="textAreaRight" fmla="*/ 902520 w 934920"/>
                <a:gd name="textAreaTop" fmla="*/ 32400 h 503280"/>
                <a:gd name="textAreaBottom" fmla="*/ 470880 h 503280"/>
              </a:gdLst>
              <a:ahLst/>
              <a:rect l="textAreaLeft" t="textAreaTop" r="textAreaRight" b="textAreaBottom"/>
              <a:pathLst>
                <a:path w="40112" h="21600">
                  <a:moveTo>
                    <a:pt x="0" y="0"/>
                  </a:moveTo>
                  <a:lnTo>
                    <a:pt x="40112" y="0"/>
                  </a:lnTo>
                  <a:lnTo>
                    <a:pt x="40112" y="21600"/>
                  </a:lnTo>
                  <a:lnTo>
                    <a:pt x="0" y="21600"/>
                  </a:lnTo>
                  <a:close/>
                </a:path>
                <a:path fill="lightenLess" w="40112" h="21600">
                  <a:moveTo>
                    <a:pt x="0" y="0"/>
                  </a:moveTo>
                  <a:lnTo>
                    <a:pt x="40112" y="0"/>
                  </a:lnTo>
                  <a:lnTo>
                    <a:pt x="38712" y="1400"/>
                  </a:lnTo>
                  <a:lnTo>
                    <a:pt x="1400" y="1400"/>
                  </a:lnTo>
                  <a:close/>
                </a:path>
                <a:path fill="darken" w="40112" h="21600">
                  <a:moveTo>
                    <a:pt x="40112" y="0"/>
                  </a:moveTo>
                  <a:lnTo>
                    <a:pt x="40112" y="21600"/>
                  </a:lnTo>
                  <a:lnTo>
                    <a:pt x="38712" y="20200"/>
                  </a:lnTo>
                  <a:lnTo>
                    <a:pt x="38712" y="1400"/>
                  </a:lnTo>
                  <a:close/>
                </a:path>
                <a:path fill="darkenLess" w="40112" h="21600">
                  <a:moveTo>
                    <a:pt x="401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712" y="20200"/>
                  </a:lnTo>
                  <a:close/>
                </a:path>
                <a:path fill="lighten" w="401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0112" h="21600">
                  <a:moveTo>
                    <a:pt x="20056" y="3837"/>
                  </a:moveTo>
                  <a:lnTo>
                    <a:pt x="22632" y="6448"/>
                  </a:lnTo>
                  <a:lnTo>
                    <a:pt x="22632" y="4707"/>
                  </a:lnTo>
                  <a:lnTo>
                    <a:pt x="24408" y="4707"/>
                  </a:lnTo>
                  <a:lnTo>
                    <a:pt x="24408" y="8224"/>
                  </a:lnTo>
                  <a:lnTo>
                    <a:pt x="27019" y="10800"/>
                  </a:lnTo>
                  <a:lnTo>
                    <a:pt x="25365" y="10800"/>
                  </a:lnTo>
                  <a:lnTo>
                    <a:pt x="25365" y="17989"/>
                  </a:lnTo>
                  <a:lnTo>
                    <a:pt x="14747" y="17989"/>
                  </a:lnTo>
                  <a:lnTo>
                    <a:pt x="14747" y="10800"/>
                  </a:lnTo>
                  <a:lnTo>
                    <a:pt x="13093" y="10800"/>
                  </a:lnTo>
                  <a:close/>
                </a:path>
                <a:path fill="darkenLess" w="40112" h="21600">
                  <a:moveTo>
                    <a:pt x="22632" y="6448"/>
                  </a:moveTo>
                  <a:lnTo>
                    <a:pt x="22632" y="4707"/>
                  </a:lnTo>
                  <a:lnTo>
                    <a:pt x="24408" y="4707"/>
                  </a:lnTo>
                  <a:lnTo>
                    <a:pt x="24408" y="8224"/>
                  </a:lnTo>
                  <a:close/>
                </a:path>
                <a:path fill="darkenLess" w="40112" h="21600">
                  <a:moveTo>
                    <a:pt x="19133" y="14299"/>
                  </a:moveTo>
                  <a:lnTo>
                    <a:pt x="20979" y="14299"/>
                  </a:lnTo>
                  <a:lnTo>
                    <a:pt x="20979" y="17989"/>
                  </a:lnTo>
                  <a:lnTo>
                    <a:pt x="25365" y="17989"/>
                  </a:lnTo>
                  <a:lnTo>
                    <a:pt x="25365" y="10800"/>
                  </a:lnTo>
                  <a:lnTo>
                    <a:pt x="14747" y="10800"/>
                  </a:lnTo>
                  <a:lnTo>
                    <a:pt x="14747" y="17989"/>
                  </a:lnTo>
                  <a:lnTo>
                    <a:pt x="19133" y="17989"/>
                  </a:lnTo>
                  <a:close/>
                </a:path>
              </a:pathLst>
            </a:custGeom>
            <a:solidFill>
              <a:srgbClr val="f8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8000"/>
                            </p:stCondLst>
                            <p:childTnLst>
                              <p:par>
                                <p:cTn id="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400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4500"/>
                            </p:stCondLst>
                            <p:childTnLst>
                              <p:par>
                                <p:cTn id="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500"/>
                            </p:stCondLst>
                            <p:childTnLst>
                              <p:par>
                                <p:cTn id="6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7500"/>
                            </p:stCondLst>
                            <p:childTnLst>
                              <p:par>
                                <p:cTn id="7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9500"/>
                            </p:stCondLst>
                            <p:childTnLst>
                              <p:par>
                                <p:cTn id="7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1500"/>
                            </p:stCondLst>
                            <p:childTnLst>
                              <p:par>
                                <p:cTn id="8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3500"/>
                            </p:stCondLst>
                            <p:childTnLst>
                              <p:par>
                                <p:cTn id="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4000"/>
                            </p:stCondLst>
                            <p:childTnLst>
                              <p:par>
                                <p:cTn id="9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1026"/>
          <p:cNvSpPr/>
          <p:nvPr/>
        </p:nvSpPr>
        <p:spPr>
          <a:xfrm>
            <a:off x="1116000" y="692280"/>
            <a:ext cx="741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Задание.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ереведите десятичные числа в двоичную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Text Box 1027"/>
          <p:cNvSpPr/>
          <p:nvPr/>
        </p:nvSpPr>
        <p:spPr>
          <a:xfrm>
            <a:off x="1116000" y="3068640"/>
            <a:ext cx="741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1 вариант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25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2 вариант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35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250920" y="1522800"/>
            <a:ext cx="841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"Мысль выражать все числа десятью знаками, придавая им кроме значения по форме еще значение по месту, настолько проста, что именно из-за этой простоты трудно понять, насколько она удивительна."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.Лаплас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1026"/>
          <p:cNvSpPr/>
          <p:nvPr/>
        </p:nvSpPr>
        <p:spPr>
          <a:xfrm>
            <a:off x="1763640" y="549360"/>
            <a:ext cx="4824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Text Box 1070"/>
          <p:cNvSpPr/>
          <p:nvPr/>
        </p:nvSpPr>
        <p:spPr>
          <a:xfrm>
            <a:off x="2700360" y="69228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Ответы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Text Box 1071"/>
          <p:cNvSpPr/>
          <p:nvPr/>
        </p:nvSpPr>
        <p:spPr>
          <a:xfrm>
            <a:off x="1908000" y="1628640"/>
            <a:ext cx="4319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25</a:t>
            </a:r>
            <a:r>
              <a:rPr b="1" lang="ru-RU" sz="2800" spc="-1" strike="noStrike" baseline="-25000">
                <a:solidFill>
                  <a:srgbClr val="003366"/>
                </a:solidFill>
                <a:latin typeface="Times New Roman"/>
              </a:rPr>
              <a:t>10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= 11001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Text Box 1072"/>
          <p:cNvSpPr/>
          <p:nvPr/>
        </p:nvSpPr>
        <p:spPr>
          <a:xfrm>
            <a:off x="1908000" y="2492280"/>
            <a:ext cx="439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35</a:t>
            </a:r>
            <a:r>
              <a:rPr b="1" lang="ru-RU" sz="2800" spc="-1" strike="noStrike" baseline="-25000">
                <a:solidFill>
                  <a:srgbClr val="003366"/>
                </a:solidFill>
                <a:latin typeface="Times New Roman"/>
              </a:rPr>
              <a:t>10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= 100011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Text Box 1073"/>
          <p:cNvSpPr/>
          <p:nvPr/>
        </p:nvSpPr>
        <p:spPr>
          <a:xfrm>
            <a:off x="1908000" y="3213000"/>
            <a:ext cx="439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42</a:t>
            </a:r>
            <a:r>
              <a:rPr b="1" lang="ru-RU" sz="2800" spc="-1" strike="noStrike" baseline="-25000">
                <a:solidFill>
                  <a:srgbClr val="003366"/>
                </a:solidFill>
                <a:latin typeface="Times New Roman"/>
              </a:rPr>
              <a:t>10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=101010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Text Box 1074"/>
          <p:cNvSpPr/>
          <p:nvPr/>
        </p:nvSpPr>
        <p:spPr>
          <a:xfrm>
            <a:off x="1979640" y="4149720"/>
            <a:ext cx="4319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30</a:t>
            </a:r>
            <a:r>
              <a:rPr b="1" lang="ru-RU" sz="2800" spc="-1" strike="noStrike" baseline="-25000">
                <a:solidFill>
                  <a:srgbClr val="003366"/>
                </a:solidFill>
                <a:latin typeface="Times New Roman"/>
              </a:rPr>
              <a:t>10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= 11110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1026"/>
          <p:cNvSpPr/>
          <p:nvPr/>
        </p:nvSpPr>
        <p:spPr>
          <a:xfrm>
            <a:off x="324000" y="692280"/>
            <a:ext cx="8208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Правило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ля перевода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правильной десятичной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роби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N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в систему счисления с основанием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еобходимо умножить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N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на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q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записанное в той же десятичной системе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,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затем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дробную часть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полученного произведения снова умножить на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q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, до тех пор пока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дробная часть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не станет равной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нулю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или не будет достигнута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требуемая точность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. Получившиеся результате произведения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целые части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роби выписать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сверху вниз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1026"/>
          <p:cNvSpPr/>
          <p:nvPr/>
        </p:nvSpPr>
        <p:spPr>
          <a:xfrm>
            <a:off x="684360" y="90792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Примеры: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ереведем число 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0,1875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0,12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(с точностью до 6 знаков) из десятичной системы счисления в двоичную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AutoShape 1028"/>
          <p:cNvSpPr/>
          <p:nvPr/>
        </p:nvSpPr>
        <p:spPr>
          <a:xfrm>
            <a:off x="8209080" y="6354720"/>
            <a:ext cx="934920" cy="503280"/>
          </a:xfrm>
          <a:custGeom>
            <a:avLst/>
            <a:gdLst>
              <a:gd name="textAreaLeft" fmla="*/ 32400 w 934920"/>
              <a:gd name="textAreaRight" fmla="*/ 902520 w 934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0112" h="21600">
                <a:moveTo>
                  <a:pt x="0" y="0"/>
                </a:moveTo>
                <a:lnTo>
                  <a:pt x="40112" y="0"/>
                </a:lnTo>
                <a:lnTo>
                  <a:pt x="40112" y="21600"/>
                </a:lnTo>
                <a:lnTo>
                  <a:pt x="0" y="21600"/>
                </a:lnTo>
                <a:close/>
              </a:path>
              <a:path fill="lightenLess" w="40112" h="21600">
                <a:moveTo>
                  <a:pt x="0" y="0"/>
                </a:moveTo>
                <a:lnTo>
                  <a:pt x="40112" y="0"/>
                </a:lnTo>
                <a:lnTo>
                  <a:pt x="38712" y="1400"/>
                </a:lnTo>
                <a:lnTo>
                  <a:pt x="1400" y="1400"/>
                </a:lnTo>
                <a:close/>
              </a:path>
              <a:path fill="darken" w="40112" h="21600">
                <a:moveTo>
                  <a:pt x="40112" y="0"/>
                </a:moveTo>
                <a:lnTo>
                  <a:pt x="40112" y="21600"/>
                </a:lnTo>
                <a:lnTo>
                  <a:pt x="38712" y="20200"/>
                </a:lnTo>
                <a:lnTo>
                  <a:pt x="38712" y="1400"/>
                </a:lnTo>
                <a:close/>
              </a:path>
              <a:path fill="darkenLess" w="40112" h="21600">
                <a:moveTo>
                  <a:pt x="401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12" y="20200"/>
                </a:lnTo>
                <a:close/>
              </a:path>
              <a:path fill="lighten" w="401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112" h="21600">
                <a:moveTo>
                  <a:pt x="13050" y="3794"/>
                </a:moveTo>
                <a:lnTo>
                  <a:pt x="27063" y="10800"/>
                </a:lnTo>
                <a:lnTo>
                  <a:pt x="13050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2"/>
          <p:cNvSpPr/>
          <p:nvPr/>
        </p:nvSpPr>
        <p:spPr>
          <a:xfrm>
            <a:off x="684360" y="476280"/>
            <a:ext cx="1800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0    1875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0    375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0    75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     5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     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3" name="Group 24"/>
          <p:cNvGrpSpPr/>
          <p:nvPr/>
        </p:nvGrpSpPr>
        <p:grpSpPr>
          <a:xfrm>
            <a:off x="755640" y="620640"/>
            <a:ext cx="1512720" cy="3024360"/>
            <a:chOff x="755640" y="620640"/>
            <a:chExt cx="1512720" cy="3024360"/>
          </a:xfrm>
        </p:grpSpPr>
        <p:sp>
          <p:nvSpPr>
            <p:cNvPr id="384" name="Line 3"/>
            <p:cNvSpPr/>
            <p:nvPr/>
          </p:nvSpPr>
          <p:spPr>
            <a:xfrm>
              <a:off x="755640" y="1125360"/>
              <a:ext cx="1512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Line 4"/>
            <p:cNvSpPr/>
            <p:nvPr/>
          </p:nvSpPr>
          <p:spPr>
            <a:xfrm>
              <a:off x="1476360" y="620640"/>
              <a:ext cx="0" cy="3024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6" name="Line 5"/>
          <p:cNvSpPr/>
          <p:nvPr/>
        </p:nvSpPr>
        <p:spPr>
          <a:xfrm>
            <a:off x="468360" y="692280"/>
            <a:ext cx="0" cy="2808000"/>
          </a:xfrm>
          <a:prstGeom prst="line">
            <a:avLst/>
          </a:prstGeom>
          <a:ln w="38160">
            <a:solidFill>
              <a:srgbClr val="0033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Oval 6"/>
          <p:cNvSpPr/>
          <p:nvPr/>
        </p:nvSpPr>
        <p:spPr>
          <a:xfrm>
            <a:off x="755640" y="549360"/>
            <a:ext cx="504720" cy="504720"/>
          </a:xfrm>
          <a:prstGeom prst="ellipse">
            <a:avLst/>
          </a:prstGeom>
          <a:noFill/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Oval 7"/>
          <p:cNvSpPr/>
          <p:nvPr/>
        </p:nvSpPr>
        <p:spPr>
          <a:xfrm>
            <a:off x="826920" y="1197000"/>
            <a:ext cx="505080" cy="504720"/>
          </a:xfrm>
          <a:prstGeom prst="ellipse">
            <a:avLst/>
          </a:prstGeom>
          <a:noFill/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Oval 8"/>
          <p:cNvSpPr/>
          <p:nvPr/>
        </p:nvSpPr>
        <p:spPr>
          <a:xfrm>
            <a:off x="826920" y="1844640"/>
            <a:ext cx="505080" cy="504720"/>
          </a:xfrm>
          <a:prstGeom prst="ellipse">
            <a:avLst/>
          </a:prstGeom>
          <a:noFill/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Oval 9"/>
          <p:cNvSpPr/>
          <p:nvPr/>
        </p:nvSpPr>
        <p:spPr>
          <a:xfrm>
            <a:off x="826920" y="2492280"/>
            <a:ext cx="505080" cy="505080"/>
          </a:xfrm>
          <a:prstGeom prst="ellipse">
            <a:avLst/>
          </a:prstGeom>
          <a:noFill/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Oval 10"/>
          <p:cNvSpPr/>
          <p:nvPr/>
        </p:nvSpPr>
        <p:spPr>
          <a:xfrm>
            <a:off x="826920" y="3141720"/>
            <a:ext cx="505080" cy="504720"/>
          </a:xfrm>
          <a:prstGeom prst="ellipse">
            <a:avLst/>
          </a:prstGeom>
          <a:noFill/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Text Box 11"/>
          <p:cNvSpPr/>
          <p:nvPr/>
        </p:nvSpPr>
        <p:spPr>
          <a:xfrm>
            <a:off x="4572000" y="765000"/>
            <a:ext cx="424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Ответ: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0,1875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Times New Roman"/>
              </a:rPr>
              <a:t>10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= 0,0011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Text Box 12"/>
          <p:cNvSpPr/>
          <p:nvPr/>
        </p:nvSpPr>
        <p:spPr>
          <a:xfrm>
            <a:off x="2916360" y="549360"/>
            <a:ext cx="16556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0    1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0    24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0    48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0    96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    9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    84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    68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…  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4" name="Group 25"/>
          <p:cNvGrpSpPr/>
          <p:nvPr/>
        </p:nvGrpSpPr>
        <p:grpSpPr>
          <a:xfrm>
            <a:off x="2987640" y="620640"/>
            <a:ext cx="1297080" cy="4896000"/>
            <a:chOff x="2987640" y="620640"/>
            <a:chExt cx="1297080" cy="4896000"/>
          </a:xfrm>
        </p:grpSpPr>
        <p:sp>
          <p:nvSpPr>
            <p:cNvPr id="395" name="Line 13"/>
            <p:cNvSpPr/>
            <p:nvPr/>
          </p:nvSpPr>
          <p:spPr>
            <a:xfrm>
              <a:off x="2987640" y="1125360"/>
              <a:ext cx="1297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Line 14"/>
            <p:cNvSpPr/>
            <p:nvPr/>
          </p:nvSpPr>
          <p:spPr>
            <a:xfrm>
              <a:off x="3635280" y="620640"/>
              <a:ext cx="0" cy="489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7" name="Oval 15"/>
          <p:cNvSpPr/>
          <p:nvPr/>
        </p:nvSpPr>
        <p:spPr>
          <a:xfrm>
            <a:off x="3059280" y="4437000"/>
            <a:ext cx="504720" cy="504720"/>
          </a:xfrm>
          <a:prstGeom prst="ellipse">
            <a:avLst/>
          </a:prstGeom>
          <a:noFill/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Oval 16"/>
          <p:cNvSpPr/>
          <p:nvPr/>
        </p:nvSpPr>
        <p:spPr>
          <a:xfrm>
            <a:off x="3059280" y="3789360"/>
            <a:ext cx="504720" cy="504720"/>
          </a:xfrm>
          <a:prstGeom prst="ellipse">
            <a:avLst/>
          </a:prstGeom>
          <a:noFill/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Oval 17"/>
          <p:cNvSpPr/>
          <p:nvPr/>
        </p:nvSpPr>
        <p:spPr>
          <a:xfrm>
            <a:off x="3059280" y="3141720"/>
            <a:ext cx="504720" cy="504720"/>
          </a:xfrm>
          <a:prstGeom prst="ellipse">
            <a:avLst/>
          </a:prstGeom>
          <a:noFill/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Oval 18"/>
          <p:cNvSpPr/>
          <p:nvPr/>
        </p:nvSpPr>
        <p:spPr>
          <a:xfrm>
            <a:off x="3059280" y="2492280"/>
            <a:ext cx="504720" cy="505080"/>
          </a:xfrm>
          <a:prstGeom prst="ellipse">
            <a:avLst/>
          </a:prstGeom>
          <a:noFill/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Oval 19"/>
          <p:cNvSpPr/>
          <p:nvPr/>
        </p:nvSpPr>
        <p:spPr>
          <a:xfrm>
            <a:off x="3059280" y="1844640"/>
            <a:ext cx="504720" cy="504720"/>
          </a:xfrm>
          <a:prstGeom prst="ellipse">
            <a:avLst/>
          </a:prstGeom>
          <a:noFill/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Oval 20"/>
          <p:cNvSpPr/>
          <p:nvPr/>
        </p:nvSpPr>
        <p:spPr>
          <a:xfrm>
            <a:off x="3059280" y="1197000"/>
            <a:ext cx="504720" cy="504720"/>
          </a:xfrm>
          <a:prstGeom prst="ellipse">
            <a:avLst/>
          </a:prstGeom>
          <a:noFill/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Oval 21"/>
          <p:cNvSpPr/>
          <p:nvPr/>
        </p:nvSpPr>
        <p:spPr>
          <a:xfrm>
            <a:off x="3059280" y="549360"/>
            <a:ext cx="504720" cy="504720"/>
          </a:xfrm>
          <a:prstGeom prst="ellipse">
            <a:avLst/>
          </a:prstGeom>
          <a:noFill/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Line 22"/>
          <p:cNvSpPr/>
          <p:nvPr/>
        </p:nvSpPr>
        <p:spPr>
          <a:xfrm>
            <a:off x="2771640" y="620640"/>
            <a:ext cx="0" cy="4753080"/>
          </a:xfrm>
          <a:prstGeom prst="line">
            <a:avLst/>
          </a:prstGeom>
          <a:ln w="38160">
            <a:solidFill>
              <a:srgbClr val="0033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4528080" y="1844640"/>
            <a:ext cx="4010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Ответ: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0,12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Times New Roman"/>
              </a:rPr>
              <a:t>10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= 0,000111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6" name="Group 29"/>
          <p:cNvGrpSpPr/>
          <p:nvPr/>
        </p:nvGrpSpPr>
        <p:grpSpPr>
          <a:xfrm>
            <a:off x="7129440" y="6354720"/>
            <a:ext cx="2014560" cy="503280"/>
            <a:chOff x="7129440" y="6354720"/>
            <a:chExt cx="2014560" cy="503280"/>
          </a:xfrm>
        </p:grpSpPr>
        <p:sp>
          <p:nvSpPr>
            <p:cNvPr id="407" name="AutoShape 27">
              <a:hlinkClick r:id="" action="ppaction://hlinkshowjump?jump=nextslide"/>
            </p:cNvPr>
            <p:cNvSpPr/>
            <p:nvPr/>
          </p:nvSpPr>
          <p:spPr>
            <a:xfrm>
              <a:off x="8209080" y="6354720"/>
              <a:ext cx="934920" cy="503280"/>
            </a:xfrm>
            <a:custGeom>
              <a:avLst/>
              <a:gdLst>
                <a:gd name="textAreaLeft" fmla="*/ 32400 w 934920"/>
                <a:gd name="textAreaRight" fmla="*/ 902520 w 934920"/>
                <a:gd name="textAreaTop" fmla="*/ 32400 h 503280"/>
                <a:gd name="textAreaBottom" fmla="*/ 470880 h 503280"/>
              </a:gdLst>
              <a:ahLst/>
              <a:rect l="textAreaLeft" t="textAreaTop" r="textAreaRight" b="textAreaBottom"/>
              <a:pathLst>
                <a:path w="40112" h="21600">
                  <a:moveTo>
                    <a:pt x="0" y="0"/>
                  </a:moveTo>
                  <a:lnTo>
                    <a:pt x="40112" y="0"/>
                  </a:lnTo>
                  <a:lnTo>
                    <a:pt x="40112" y="21600"/>
                  </a:lnTo>
                  <a:lnTo>
                    <a:pt x="0" y="21600"/>
                  </a:lnTo>
                  <a:close/>
                </a:path>
                <a:path fill="lightenLess" w="40112" h="21600">
                  <a:moveTo>
                    <a:pt x="0" y="0"/>
                  </a:moveTo>
                  <a:lnTo>
                    <a:pt x="40112" y="0"/>
                  </a:lnTo>
                  <a:lnTo>
                    <a:pt x="38712" y="1400"/>
                  </a:lnTo>
                  <a:lnTo>
                    <a:pt x="1400" y="1400"/>
                  </a:lnTo>
                  <a:close/>
                </a:path>
                <a:path fill="darken" w="40112" h="21600">
                  <a:moveTo>
                    <a:pt x="40112" y="0"/>
                  </a:moveTo>
                  <a:lnTo>
                    <a:pt x="40112" y="21600"/>
                  </a:lnTo>
                  <a:lnTo>
                    <a:pt x="38712" y="20200"/>
                  </a:lnTo>
                  <a:lnTo>
                    <a:pt x="38712" y="1400"/>
                  </a:lnTo>
                  <a:close/>
                </a:path>
                <a:path fill="darkenLess" w="40112" h="21600">
                  <a:moveTo>
                    <a:pt x="401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712" y="20200"/>
                  </a:lnTo>
                  <a:close/>
                </a:path>
                <a:path fill="lighten" w="401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0112" h="21600">
                  <a:moveTo>
                    <a:pt x="13050" y="3794"/>
                  </a:moveTo>
                  <a:lnTo>
                    <a:pt x="27063" y="10800"/>
                  </a:lnTo>
                  <a:lnTo>
                    <a:pt x="13050" y="17806"/>
                  </a:lnTo>
                  <a:close/>
                </a:path>
              </a:pathLst>
            </a:custGeom>
            <a:solidFill>
              <a:srgbClr val="f8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AutoShape 28"/>
            <p:cNvSpPr/>
            <p:nvPr/>
          </p:nvSpPr>
          <p:spPr>
            <a:xfrm>
              <a:off x="7129440" y="6354720"/>
              <a:ext cx="934920" cy="503280"/>
            </a:xfrm>
            <a:custGeom>
              <a:avLst/>
              <a:gdLst>
                <a:gd name="textAreaLeft" fmla="*/ 32400 w 934920"/>
                <a:gd name="textAreaRight" fmla="*/ 902520 w 934920"/>
                <a:gd name="textAreaTop" fmla="*/ 32400 h 503280"/>
                <a:gd name="textAreaBottom" fmla="*/ 470880 h 503280"/>
              </a:gdLst>
              <a:ahLst/>
              <a:rect l="textAreaLeft" t="textAreaTop" r="textAreaRight" b="textAreaBottom"/>
              <a:pathLst>
                <a:path w="40112" h="21600">
                  <a:moveTo>
                    <a:pt x="0" y="0"/>
                  </a:moveTo>
                  <a:lnTo>
                    <a:pt x="40112" y="0"/>
                  </a:lnTo>
                  <a:lnTo>
                    <a:pt x="40112" y="21600"/>
                  </a:lnTo>
                  <a:lnTo>
                    <a:pt x="0" y="21600"/>
                  </a:lnTo>
                  <a:close/>
                </a:path>
                <a:path fill="lightenLess" w="40112" h="21600">
                  <a:moveTo>
                    <a:pt x="0" y="0"/>
                  </a:moveTo>
                  <a:lnTo>
                    <a:pt x="40112" y="0"/>
                  </a:lnTo>
                  <a:lnTo>
                    <a:pt x="38712" y="1400"/>
                  </a:lnTo>
                  <a:lnTo>
                    <a:pt x="1400" y="1400"/>
                  </a:lnTo>
                  <a:close/>
                </a:path>
                <a:path fill="darken" w="40112" h="21600">
                  <a:moveTo>
                    <a:pt x="40112" y="0"/>
                  </a:moveTo>
                  <a:lnTo>
                    <a:pt x="40112" y="21600"/>
                  </a:lnTo>
                  <a:lnTo>
                    <a:pt x="38712" y="20200"/>
                  </a:lnTo>
                  <a:lnTo>
                    <a:pt x="38712" y="1400"/>
                  </a:lnTo>
                  <a:close/>
                </a:path>
                <a:path fill="darkenLess" w="40112" h="21600">
                  <a:moveTo>
                    <a:pt x="401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712" y="20200"/>
                  </a:lnTo>
                  <a:close/>
                </a:path>
                <a:path fill="lighten" w="401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0112" h="21600">
                  <a:moveTo>
                    <a:pt x="20056" y="3837"/>
                  </a:moveTo>
                  <a:lnTo>
                    <a:pt x="22632" y="6448"/>
                  </a:lnTo>
                  <a:lnTo>
                    <a:pt x="22632" y="4707"/>
                  </a:lnTo>
                  <a:lnTo>
                    <a:pt x="24408" y="4707"/>
                  </a:lnTo>
                  <a:lnTo>
                    <a:pt x="24408" y="8224"/>
                  </a:lnTo>
                  <a:lnTo>
                    <a:pt x="27019" y="10800"/>
                  </a:lnTo>
                  <a:lnTo>
                    <a:pt x="25365" y="10800"/>
                  </a:lnTo>
                  <a:lnTo>
                    <a:pt x="25365" y="17989"/>
                  </a:lnTo>
                  <a:lnTo>
                    <a:pt x="14747" y="17989"/>
                  </a:lnTo>
                  <a:lnTo>
                    <a:pt x="14747" y="10800"/>
                  </a:lnTo>
                  <a:lnTo>
                    <a:pt x="13093" y="10800"/>
                  </a:lnTo>
                  <a:close/>
                </a:path>
                <a:path fill="darkenLess" w="40112" h="21600">
                  <a:moveTo>
                    <a:pt x="22632" y="6448"/>
                  </a:moveTo>
                  <a:lnTo>
                    <a:pt x="22632" y="4707"/>
                  </a:lnTo>
                  <a:lnTo>
                    <a:pt x="24408" y="4707"/>
                  </a:lnTo>
                  <a:lnTo>
                    <a:pt x="24408" y="8224"/>
                  </a:lnTo>
                  <a:close/>
                </a:path>
                <a:path fill="darkenLess" w="40112" h="21600">
                  <a:moveTo>
                    <a:pt x="19133" y="14299"/>
                  </a:moveTo>
                  <a:lnTo>
                    <a:pt x="20979" y="14299"/>
                  </a:lnTo>
                  <a:lnTo>
                    <a:pt x="20979" y="17989"/>
                  </a:lnTo>
                  <a:lnTo>
                    <a:pt x="25365" y="17989"/>
                  </a:lnTo>
                  <a:lnTo>
                    <a:pt x="25365" y="10800"/>
                  </a:lnTo>
                  <a:lnTo>
                    <a:pt x="14747" y="10800"/>
                  </a:lnTo>
                  <a:lnTo>
                    <a:pt x="14747" y="17989"/>
                  </a:lnTo>
                  <a:lnTo>
                    <a:pt x="19133" y="17989"/>
                  </a:lnTo>
                  <a:close/>
                </a:path>
              </a:pathLst>
            </a:custGeom>
            <a:solidFill>
              <a:srgbClr val="f8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4000"/>
                            </p:stCondLst>
                            <p:childTnLst>
                              <p:par>
                                <p:cTn id="16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6000"/>
                            </p:stCondLst>
                            <p:childTnLst>
                              <p:par>
                                <p:cTn id="17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8000"/>
                            </p:stCondLst>
                            <p:childTnLst>
                              <p:par>
                                <p:cTn id="17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1500"/>
                            </p:stCondLst>
                            <p:childTnLst>
                              <p:par>
                                <p:cTn id="1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3500"/>
                            </p:stCondLst>
                            <p:childTnLst>
                              <p:par>
                                <p:cTn id="20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5500"/>
                            </p:stCondLst>
                            <p:childTnLst>
                              <p:par>
                                <p:cTn id="20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7500"/>
                            </p:stCondLst>
                            <p:childTnLst>
                              <p:par>
                                <p:cTn id="21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9500"/>
                            </p:stCondLst>
                            <p:childTnLst>
                              <p:par>
                                <p:cTn id="22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1500"/>
                            </p:stCondLst>
                            <p:childTnLst>
                              <p:par>
                                <p:cTn id="23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3500"/>
                            </p:stCondLst>
                            <p:childTnLst>
                              <p:par>
                                <p:cTn id="23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5500"/>
                            </p:stCondLst>
                            <p:childTnLst>
                              <p:par>
                                <p:cTn id="2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6000"/>
                            </p:stCondLst>
                            <p:childTnLst>
                              <p:par>
                                <p:cTn id="24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2"/>
          <p:cNvSpPr/>
          <p:nvPr/>
        </p:nvSpPr>
        <p:spPr>
          <a:xfrm>
            <a:off x="539640" y="620640"/>
            <a:ext cx="7299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Задание.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ереведите десятичные дробные числа в двоичную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Rectangle 3"/>
          <p:cNvSpPr/>
          <p:nvPr/>
        </p:nvSpPr>
        <p:spPr>
          <a:xfrm>
            <a:off x="611280" y="2997360"/>
            <a:ext cx="727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1 вариант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 0,25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 0,3 (с точностью 4 знака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2 вариант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 0,75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 0,4 (с точностью 4 знака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2"/>
          <p:cNvSpPr/>
          <p:nvPr/>
        </p:nvSpPr>
        <p:spPr>
          <a:xfrm>
            <a:off x="2195640" y="69228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Ответы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Text Box 3"/>
          <p:cNvSpPr/>
          <p:nvPr/>
        </p:nvSpPr>
        <p:spPr>
          <a:xfrm>
            <a:off x="1619280" y="1628640"/>
            <a:ext cx="5832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0,25</a:t>
            </a:r>
            <a:r>
              <a:rPr b="1" lang="ru-RU" sz="2800" spc="-1" strike="noStrike" baseline="-25000">
                <a:solidFill>
                  <a:srgbClr val="003366"/>
                </a:solidFill>
                <a:latin typeface="Times New Roman"/>
              </a:rPr>
              <a:t>10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= 0,01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1619280" y="2421000"/>
            <a:ext cx="489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0,75</a:t>
            </a:r>
            <a:r>
              <a:rPr b="1" lang="ru-RU" sz="2800" spc="-1" strike="noStrike" baseline="-25000">
                <a:solidFill>
                  <a:srgbClr val="003366"/>
                </a:solidFill>
                <a:latin typeface="Times New Roman"/>
              </a:rPr>
              <a:t>10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= 0,11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Text Box 5"/>
          <p:cNvSpPr/>
          <p:nvPr/>
        </p:nvSpPr>
        <p:spPr>
          <a:xfrm>
            <a:off x="1763640" y="3284640"/>
            <a:ext cx="4824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Text Box 6"/>
          <p:cNvSpPr/>
          <p:nvPr/>
        </p:nvSpPr>
        <p:spPr>
          <a:xfrm>
            <a:off x="1619280" y="3068640"/>
            <a:ext cx="655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0,3</a:t>
            </a:r>
            <a:r>
              <a:rPr b="1" lang="ru-RU" sz="2800" spc="-1" strike="noStrike" baseline="-25000">
                <a:solidFill>
                  <a:srgbClr val="003366"/>
                </a:solidFill>
                <a:latin typeface="Times New Roman"/>
              </a:rPr>
              <a:t>10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= 0,0100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Text Box 7"/>
          <p:cNvSpPr/>
          <p:nvPr/>
        </p:nvSpPr>
        <p:spPr>
          <a:xfrm>
            <a:off x="1692360" y="3789360"/>
            <a:ext cx="597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0,4</a:t>
            </a:r>
            <a:r>
              <a:rPr b="1" lang="ru-RU" sz="2800" spc="-1" strike="noStrike" baseline="-25000">
                <a:solidFill>
                  <a:srgbClr val="003366"/>
                </a:solidFill>
                <a:latin typeface="Times New Roman"/>
              </a:rPr>
              <a:t>10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= 0,0110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2"/>
          <p:cNvSpPr/>
          <p:nvPr/>
        </p:nvSpPr>
        <p:spPr>
          <a:xfrm>
            <a:off x="468360" y="620640"/>
            <a:ext cx="8280360" cy="31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Правило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ля перевода числа </a:t>
            </a:r>
            <a:r>
              <a:rPr b="1" i="1" lang="ru-RU" sz="2800" spc="-1" strike="noStrike">
                <a:solidFill>
                  <a:srgbClr val="003366"/>
                </a:solidFill>
                <a:latin typeface="Times New Roman"/>
              </a:rPr>
              <a:t>х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ru-RU" sz="2800" spc="-1" strike="noStrike">
                <a:solidFill>
                  <a:srgbClr val="003366"/>
                </a:solidFill>
                <a:latin typeface="Times New Roman"/>
              </a:rPr>
              <a:t>х</a:t>
            </a:r>
            <a:r>
              <a:rPr b="1" i="1" lang="en-US" sz="2800" spc="-1" strike="noStrike" baseline="-25000">
                <a:solidFill>
                  <a:srgbClr val="003366"/>
                </a:solidFill>
                <a:latin typeface="Times New Roman"/>
              </a:rPr>
              <a:t>q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а</a:t>
            </a:r>
            <a:r>
              <a:rPr b="1" i="1" lang="ru-RU" sz="2800" spc="-1" strike="noStrike" baseline="-25000">
                <a:solidFill>
                  <a:srgbClr val="003366"/>
                </a:solidFill>
                <a:latin typeface="Times New Roman"/>
              </a:rPr>
              <a:t>п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а</a:t>
            </a:r>
            <a:r>
              <a:rPr b="1" i="1" lang="ru-RU" sz="2800" spc="-1" strike="noStrike" baseline="-25000">
                <a:solidFill>
                  <a:srgbClr val="003366"/>
                </a:solidFill>
                <a:latin typeface="Times New Roman"/>
              </a:rPr>
              <a:t>п-1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…а</a:t>
            </a:r>
            <a:r>
              <a:rPr b="1" i="1" lang="ru-RU" sz="2800" spc="-1" strike="noStrike" baseline="-25000">
                <a:solidFill>
                  <a:srgbClr val="003366"/>
                </a:solidFill>
                <a:latin typeface="Times New Roman"/>
              </a:rPr>
              <a:t>0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,а</a:t>
            </a:r>
            <a:r>
              <a:rPr b="1" i="1" lang="ru-RU" sz="2800" spc="-1" strike="noStrike" baseline="-25000">
                <a:solidFill>
                  <a:srgbClr val="003366"/>
                </a:solidFill>
                <a:latin typeface="Times New Roman"/>
              </a:rPr>
              <a:t>-1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а</a:t>
            </a:r>
            <a:r>
              <a:rPr b="1" i="1" lang="ru-RU" sz="2800" spc="-1" strike="noStrike" baseline="-25000">
                <a:solidFill>
                  <a:srgbClr val="003366"/>
                </a:solidFill>
                <a:latin typeface="Times New Roman"/>
              </a:rPr>
              <a:t>-2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…а</a:t>
            </a:r>
            <a:r>
              <a:rPr b="1" i="1" lang="ru-RU" sz="2800" spc="-1" strike="noStrike" baseline="-25000">
                <a:solidFill>
                  <a:srgbClr val="003366"/>
                </a:solidFill>
                <a:latin typeface="Times New Roman"/>
              </a:rPr>
              <a:t>-т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) из системы счисления с основанием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, 8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или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16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) в десятичную систему счисления необходимо вычислить значение многочлена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Times New Roman"/>
              </a:rPr>
              <a:t>х</a:t>
            </a:r>
            <a:r>
              <a:rPr b="1" i="1" lang="ru-RU" sz="2800" spc="-1" strike="noStrike" baseline="-25000">
                <a:solidFill>
                  <a:srgbClr val="003366"/>
                </a:solidFill>
                <a:latin typeface="Times New Roman"/>
              </a:rPr>
              <a:t>10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i="1" lang="ru-RU" sz="2800" spc="-1" strike="noStrike">
                <a:solidFill>
                  <a:srgbClr val="003366"/>
                </a:solidFill>
                <a:latin typeface="Times New Roman"/>
              </a:rPr>
              <a:t>а</a:t>
            </a:r>
            <a:r>
              <a:rPr b="1" i="1" lang="ru-RU" sz="2800" spc="-1" strike="noStrike" baseline="-25000">
                <a:solidFill>
                  <a:srgbClr val="003366"/>
                </a:solidFill>
                <a:latin typeface="Times New Roman"/>
              </a:rPr>
              <a:t>п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q</a:t>
            </a:r>
            <a:r>
              <a:rPr b="1" i="1" lang="ru-RU" sz="2800" spc="-1" strike="noStrike" baseline="30000">
                <a:solidFill>
                  <a:srgbClr val="003366"/>
                </a:solidFill>
                <a:latin typeface="Times New Roman"/>
              </a:rPr>
              <a:t>п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1" i="1" lang="ru-RU" sz="2800" spc="-1" strike="noStrike">
                <a:solidFill>
                  <a:srgbClr val="003366"/>
                </a:solidFill>
                <a:latin typeface="Times New Roman"/>
              </a:rPr>
              <a:t>а</a:t>
            </a:r>
            <a:r>
              <a:rPr b="1" i="1" lang="ru-RU" sz="2800" spc="-1" strike="noStrike" baseline="-25000">
                <a:solidFill>
                  <a:srgbClr val="003366"/>
                </a:solidFill>
                <a:latin typeface="Times New Roman"/>
              </a:rPr>
              <a:t>п-1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q</a:t>
            </a:r>
            <a:r>
              <a:rPr b="1" i="1" lang="ru-RU" sz="2800" spc="-1" strike="noStrike" baseline="30000">
                <a:solidFill>
                  <a:srgbClr val="003366"/>
                </a:solidFill>
                <a:latin typeface="Times New Roman"/>
              </a:rPr>
              <a:t>п-1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1" i="1" lang="ru-RU" sz="2800" spc="-1" strike="noStrike">
                <a:solidFill>
                  <a:srgbClr val="003366"/>
                </a:solidFill>
                <a:latin typeface="Times New Roman"/>
              </a:rPr>
              <a:t>…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1" i="1" lang="ru-RU" sz="2800" spc="-1" strike="noStrike">
                <a:solidFill>
                  <a:srgbClr val="003366"/>
                </a:solidFill>
                <a:latin typeface="Times New Roman"/>
              </a:rPr>
              <a:t>а</a:t>
            </a:r>
            <a:r>
              <a:rPr b="1" i="1" lang="ru-RU" sz="2800" spc="-1" strike="noStrike" baseline="-25000">
                <a:solidFill>
                  <a:srgbClr val="003366"/>
                </a:solidFill>
                <a:latin typeface="Times New Roman"/>
              </a:rPr>
              <a:t>0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q</a:t>
            </a:r>
            <a:r>
              <a:rPr b="1" i="1" lang="ru-RU" sz="2800" spc="-1" strike="noStrike" baseline="30000">
                <a:solidFill>
                  <a:srgbClr val="003366"/>
                </a:solidFill>
                <a:latin typeface="Times New Roman"/>
              </a:rPr>
              <a:t>0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1" i="1" lang="ru-RU" sz="2800" spc="-1" strike="noStrike">
                <a:solidFill>
                  <a:srgbClr val="003366"/>
                </a:solidFill>
                <a:latin typeface="Times New Roman"/>
              </a:rPr>
              <a:t>а</a:t>
            </a:r>
            <a:r>
              <a:rPr b="1" i="1" lang="ru-RU" sz="2800" spc="-1" strike="noStrike" baseline="-25000">
                <a:solidFill>
                  <a:srgbClr val="003366"/>
                </a:solidFill>
                <a:latin typeface="Times New Roman"/>
              </a:rPr>
              <a:t>-1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q</a:t>
            </a:r>
            <a:r>
              <a:rPr b="1" i="1" lang="ru-RU" sz="2800" spc="-1" strike="noStrike" baseline="30000">
                <a:solidFill>
                  <a:srgbClr val="003366"/>
                </a:solidFill>
                <a:latin typeface="Times New Roman"/>
              </a:rPr>
              <a:t>-1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1" i="1" lang="ru-RU" sz="2800" spc="-1" strike="noStrike">
                <a:solidFill>
                  <a:srgbClr val="003366"/>
                </a:solidFill>
                <a:latin typeface="Times New Roman"/>
              </a:rPr>
              <a:t>а</a:t>
            </a:r>
            <a:r>
              <a:rPr b="1" i="1" lang="ru-RU" sz="2800" spc="-1" strike="noStrike" baseline="-25000">
                <a:solidFill>
                  <a:srgbClr val="003366"/>
                </a:solidFill>
                <a:latin typeface="Times New Roman"/>
              </a:rPr>
              <a:t>-2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q</a:t>
            </a:r>
            <a:r>
              <a:rPr b="1" i="1" lang="ru-RU" sz="2800" spc="-1" strike="noStrike" baseline="30000">
                <a:solidFill>
                  <a:srgbClr val="003366"/>
                </a:solidFill>
                <a:latin typeface="Times New Roman"/>
              </a:rPr>
              <a:t>-2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1" i="1" lang="ru-RU" sz="2800" spc="-1" strike="noStrike">
                <a:solidFill>
                  <a:srgbClr val="003366"/>
                </a:solidFill>
                <a:latin typeface="Times New Roman"/>
              </a:rPr>
              <a:t>…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1" i="1" lang="ru-RU" sz="2800" spc="-1" strike="noStrike">
                <a:solidFill>
                  <a:srgbClr val="003366"/>
                </a:solidFill>
                <a:latin typeface="Times New Roman"/>
              </a:rPr>
              <a:t>а</a:t>
            </a:r>
            <a:r>
              <a:rPr b="1" i="1" lang="ru-RU" sz="2800" spc="-1" strike="noStrike" baseline="-25000">
                <a:solidFill>
                  <a:srgbClr val="003366"/>
                </a:solidFill>
                <a:latin typeface="Times New Roman"/>
              </a:rPr>
              <a:t>-т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q</a:t>
            </a:r>
            <a:r>
              <a:rPr b="1" i="1" lang="ru-RU" sz="2800" spc="-1" strike="noStrike" baseline="30000">
                <a:solidFill>
                  <a:srgbClr val="003366"/>
                </a:solidFill>
                <a:latin typeface="Times New Roman"/>
              </a:rPr>
              <a:t>-т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2"/>
          <p:cNvSpPr/>
          <p:nvPr/>
        </p:nvSpPr>
        <p:spPr>
          <a:xfrm>
            <a:off x="468360" y="549360"/>
            <a:ext cx="777564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Примеры: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ереведем число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111001,1</a:t>
            </a:r>
            <a:r>
              <a:rPr b="1" lang="ru-RU" sz="2800" spc="-1" strike="noStrike" baseline="-25000">
                <a:solidFill>
                  <a:srgbClr val="003366"/>
                </a:solidFill>
                <a:latin typeface="Times New Roman"/>
              </a:rPr>
              <a:t>2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десятичную систему счисления.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Rectangle 3"/>
          <p:cNvSpPr/>
          <p:nvPr/>
        </p:nvSpPr>
        <p:spPr>
          <a:xfrm>
            <a:off x="179280" y="3213000"/>
            <a:ext cx="87645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66"/>
                </a:solidFill>
                <a:latin typeface="Times New Roman"/>
              </a:rPr>
              <a:t>111001,1</a:t>
            </a:r>
            <a:r>
              <a:rPr b="1" lang="ru-RU" sz="26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 = 1</a:t>
            </a:r>
            <a:r>
              <a:rPr b="1" lang="ru-RU" sz="2600" spc="-1" strike="noStrike" baseline="30000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ru-RU" sz="2600" spc="-1" strike="noStrike" baseline="30000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 + 1</a:t>
            </a:r>
            <a:r>
              <a:rPr b="1" lang="ru-RU" sz="2600" spc="-1" strike="noStrike" baseline="30000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ru-RU" sz="26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 + 1</a:t>
            </a:r>
            <a:r>
              <a:rPr b="1" lang="ru-RU" sz="2600" spc="-1" strike="noStrike" baseline="30000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ru-RU" sz="26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 + 0</a:t>
            </a:r>
            <a:r>
              <a:rPr b="1" lang="ru-RU" sz="2600" spc="-1" strike="noStrike" baseline="30000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ru-RU" sz="26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 + 0</a:t>
            </a:r>
            <a:r>
              <a:rPr b="1" lang="ru-RU" sz="2600" spc="-1" strike="noStrike" baseline="30000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ru-RU" sz="26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 + 1</a:t>
            </a:r>
            <a:r>
              <a:rPr b="1" lang="ru-RU" sz="2600" spc="-1" strike="noStrike" baseline="30000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ru-RU" sz="26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 + 1</a:t>
            </a:r>
            <a:r>
              <a:rPr b="1" lang="ru-RU" sz="2600" spc="-1" strike="noStrike" baseline="30000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ru-RU" sz="26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lang="ru-RU" sz="2600" spc="-1" strike="noStrike">
                <a:solidFill>
                  <a:srgbClr val="003366"/>
                </a:solidFill>
                <a:latin typeface="Times New Roman"/>
              </a:rPr>
              <a:t>57,5</a:t>
            </a:r>
            <a:r>
              <a:rPr b="1" lang="ru-RU" sz="2600" spc="-1" strike="noStrike" baseline="-25000">
                <a:solidFill>
                  <a:srgbClr val="003366"/>
                </a:solidFill>
                <a:latin typeface="Times New Roman"/>
              </a:rPr>
              <a:t>10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Text Box 4"/>
          <p:cNvSpPr/>
          <p:nvPr/>
        </p:nvSpPr>
        <p:spPr>
          <a:xfrm>
            <a:off x="539640" y="2421000"/>
            <a:ext cx="39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Решения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468360" y="836640"/>
            <a:ext cx="66974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Задание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ереведите числа в десятичную систему счисления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Rectangle 4"/>
          <p:cNvSpPr/>
          <p:nvPr/>
        </p:nvSpPr>
        <p:spPr>
          <a:xfrm>
            <a:off x="468360" y="2997360"/>
            <a:ext cx="792000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1 вариант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 1 111, 01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2 вариант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 10 000, 001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2"/>
          <p:cNvSpPr/>
          <p:nvPr/>
        </p:nvSpPr>
        <p:spPr>
          <a:xfrm>
            <a:off x="3711600" y="620640"/>
            <a:ext cx="15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Ответы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Text Box 3"/>
          <p:cNvSpPr/>
          <p:nvPr/>
        </p:nvSpPr>
        <p:spPr>
          <a:xfrm>
            <a:off x="971640" y="1700280"/>
            <a:ext cx="316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1 111, 01</a:t>
            </a:r>
            <a:r>
              <a:rPr b="1" lang="ru-RU" sz="28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= 15, 25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Times New Roman"/>
              </a:rPr>
              <a:t>1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Text Box 4"/>
          <p:cNvSpPr/>
          <p:nvPr/>
        </p:nvSpPr>
        <p:spPr>
          <a:xfrm>
            <a:off x="928800" y="2928960"/>
            <a:ext cx="3744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10 000, 001</a:t>
            </a:r>
            <a:r>
              <a:rPr b="1" lang="ru-RU" sz="28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= 16, 125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Times New Roman"/>
              </a:rPr>
              <a:t>1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100"/>
          <p:cNvSpPr/>
          <p:nvPr/>
        </p:nvSpPr>
        <p:spPr>
          <a:xfrm>
            <a:off x="1625040" y="332640"/>
            <a:ext cx="632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аиболее известные нумерации мир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1101"/>
          <p:cNvSpPr/>
          <p:nvPr/>
        </p:nvSpPr>
        <p:spPr>
          <a:xfrm>
            <a:off x="468360" y="1052640"/>
            <a:ext cx="44654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66"/>
                </a:solidFill>
                <a:uFillTx/>
                <a:latin typeface="Times New Roman"/>
                <a:hlinkClick r:id="rId1" action="ppaction://hlinksldjump"/>
              </a:rPr>
              <a:t>Древнеегипетская нумерация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66"/>
                </a:solidFill>
                <a:uFillTx/>
                <a:latin typeface="Times New Roman"/>
                <a:hlinkClick r:id="rId2" action="ppaction://hlinksldjump"/>
              </a:rPr>
              <a:t>Древнегреческая нумерация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66"/>
                </a:solidFill>
                <a:uFillTx/>
                <a:latin typeface="Times New Roman"/>
                <a:hlinkClick r:id="rId3" action="ppaction://hlinksldjump"/>
              </a:rPr>
              <a:t>Вавилонская нумерация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66"/>
                </a:solidFill>
                <a:uFillTx/>
                <a:latin typeface="Times New Roman"/>
                <a:hlinkClick r:id="rId4" action="ppaction://hlinksldjump"/>
              </a:rPr>
              <a:t>Нумерация индейцев Майя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66"/>
                </a:solidFill>
                <a:uFillTx/>
                <a:latin typeface="Times New Roman"/>
                <a:hlinkClick r:id="rId5" action="ppaction://hlinksldjump"/>
              </a:rPr>
              <a:t>Старо-Китайская нумерация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66"/>
                </a:solidFill>
                <a:uFillTx/>
                <a:latin typeface="Times New Roman"/>
                <a:hlinkClick r:id="rId6" action="ppaction://hlinksldjump"/>
              </a:rPr>
              <a:t>Славянская кириллическая нумерация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66"/>
                </a:solidFill>
                <a:uFillTx/>
                <a:latin typeface="Times New Roman"/>
                <a:hlinkClick r:id="rId7" action="ppaction://hlinksldjump"/>
              </a:rPr>
              <a:t>Славянская глаголическая нумерация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66"/>
                </a:solidFill>
                <a:uFillTx/>
                <a:latin typeface="Times New Roman"/>
                <a:hlinkClick r:id="rId8" action="ppaction://hlinksldjump"/>
              </a:rPr>
              <a:t>Латинская нумерация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1102"/>
          <p:cNvSpPr/>
          <p:nvPr/>
        </p:nvSpPr>
        <p:spPr>
          <a:xfrm>
            <a:off x="5076720" y="1773360"/>
            <a:ext cx="35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66"/>
                </a:solidFill>
                <a:uFillTx/>
                <a:latin typeface="Times New Roman"/>
                <a:hlinkClick r:id="rId9" action="ppaction://hlinksldjump"/>
              </a:rPr>
              <a:t>Современная арабская нумерация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AutoShape 1105">
            <a:hlinkClick r:id="rId10" action="ppaction://hlinksldjump"/>
          </p:cNvPr>
          <p:cNvSpPr/>
          <p:nvPr/>
        </p:nvSpPr>
        <p:spPr>
          <a:xfrm>
            <a:off x="8209080" y="6354720"/>
            <a:ext cx="934920" cy="503280"/>
          </a:xfrm>
          <a:custGeom>
            <a:avLst/>
            <a:gdLst>
              <a:gd name="textAreaLeft" fmla="*/ 32400 w 934920"/>
              <a:gd name="textAreaRight" fmla="*/ 902520 w 934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0112" h="21600">
                <a:moveTo>
                  <a:pt x="0" y="0"/>
                </a:moveTo>
                <a:lnTo>
                  <a:pt x="40112" y="0"/>
                </a:lnTo>
                <a:lnTo>
                  <a:pt x="40112" y="21600"/>
                </a:lnTo>
                <a:lnTo>
                  <a:pt x="0" y="21600"/>
                </a:lnTo>
                <a:close/>
              </a:path>
              <a:path fill="lightenLess" w="40112" h="21600">
                <a:moveTo>
                  <a:pt x="0" y="0"/>
                </a:moveTo>
                <a:lnTo>
                  <a:pt x="40112" y="0"/>
                </a:lnTo>
                <a:lnTo>
                  <a:pt x="38712" y="1400"/>
                </a:lnTo>
                <a:lnTo>
                  <a:pt x="1400" y="1400"/>
                </a:lnTo>
                <a:close/>
              </a:path>
              <a:path fill="darken" w="40112" h="21600">
                <a:moveTo>
                  <a:pt x="40112" y="0"/>
                </a:moveTo>
                <a:lnTo>
                  <a:pt x="40112" y="21600"/>
                </a:lnTo>
                <a:lnTo>
                  <a:pt x="38712" y="20200"/>
                </a:lnTo>
                <a:lnTo>
                  <a:pt x="38712" y="1400"/>
                </a:lnTo>
                <a:close/>
              </a:path>
              <a:path fill="darkenLess" w="40112" h="21600">
                <a:moveTo>
                  <a:pt x="401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12" y="20200"/>
                </a:lnTo>
                <a:close/>
              </a:path>
              <a:path fill="lighten" w="401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112" h="21600">
                <a:moveTo>
                  <a:pt x="13050" y="3794"/>
                </a:moveTo>
                <a:lnTo>
                  <a:pt x="27063" y="10800"/>
                </a:lnTo>
                <a:lnTo>
                  <a:pt x="13050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2"/>
          <p:cNvSpPr/>
          <p:nvPr/>
        </p:nvSpPr>
        <p:spPr>
          <a:xfrm>
            <a:off x="1187280" y="981000"/>
            <a:ext cx="6985080" cy="40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Домашнее задание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ереведите числа из десятичной системы счисления в двоичную: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100,45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99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0,8125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2. Переведите число в десятичную систему счисления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110 000, 111</a:t>
            </a:r>
            <a:r>
              <a:rPr b="1" lang="ru-RU" sz="28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2"/>
          <p:cNvSpPr/>
          <p:nvPr/>
        </p:nvSpPr>
        <p:spPr>
          <a:xfrm>
            <a:off x="539640" y="907920"/>
            <a:ext cx="8064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Дополнительное задание.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ереведите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двоичную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3419640" y="1484280"/>
            <a:ext cx="251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2004</a:t>
            </a:r>
            <a:r>
              <a:rPr b="1" lang="ru-RU" sz="2800" spc="-1" strike="noStrike" baseline="-25000">
                <a:solidFill>
                  <a:srgbClr val="003366"/>
                </a:solidFill>
                <a:latin typeface="Times New Roman"/>
              </a:rPr>
              <a:t>10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и 3004</a:t>
            </a:r>
            <a:r>
              <a:rPr b="1" lang="ru-RU" sz="2800" spc="-1" strike="noStrike" baseline="-25000">
                <a:solidFill>
                  <a:srgbClr val="003366"/>
                </a:solidFill>
                <a:latin typeface="Times New Roman"/>
              </a:rPr>
              <a:t>1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755640" y="278136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Ответы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Rectangle 5"/>
          <p:cNvSpPr/>
          <p:nvPr/>
        </p:nvSpPr>
        <p:spPr>
          <a:xfrm>
            <a:off x="910440" y="3429000"/>
            <a:ext cx="3810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2004</a:t>
            </a:r>
            <a:r>
              <a:rPr b="1" lang="ru-RU" sz="2800" spc="-1" strike="noStrike" baseline="-25000">
                <a:solidFill>
                  <a:srgbClr val="003366"/>
                </a:solidFill>
                <a:latin typeface="Times New Roman"/>
              </a:rPr>
              <a:t>10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= 11 111 010 100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Rectangle 7"/>
          <p:cNvSpPr/>
          <p:nvPr/>
        </p:nvSpPr>
        <p:spPr>
          <a:xfrm>
            <a:off x="985680" y="4221000"/>
            <a:ext cx="3952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3004</a:t>
            </a:r>
            <a:r>
              <a:rPr b="1" lang="ru-RU" sz="2800" spc="-1" strike="noStrike" baseline="-25000">
                <a:solidFill>
                  <a:srgbClr val="003366"/>
                </a:solidFill>
                <a:latin typeface="Times New Roman"/>
              </a:rPr>
              <a:t>10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= 101 110 111 100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2" name=""/>
          <p:cNvGraphicFramePr/>
          <p:nvPr/>
        </p:nvGraphicFramePr>
        <p:xfrm>
          <a:off x="469800" y="582480"/>
          <a:ext cx="8204400" cy="5699160"/>
        </p:xfrm>
        <a:graphic>
          <a:graphicData uri="http://schemas.openxmlformats.org/drawingml/2006/table">
            <a:tbl>
              <a:tblPr/>
              <a:tblGrid>
                <a:gridCol w="482760"/>
                <a:gridCol w="482400"/>
                <a:gridCol w="482760"/>
                <a:gridCol w="482760"/>
                <a:gridCol w="482400"/>
                <a:gridCol w="482760"/>
                <a:gridCol w="482400"/>
                <a:gridCol w="482760"/>
                <a:gridCol w="482400"/>
                <a:gridCol w="482760"/>
                <a:gridCol w="482400"/>
                <a:gridCol w="482760"/>
                <a:gridCol w="482760"/>
                <a:gridCol w="420480"/>
                <a:gridCol w="544680"/>
                <a:gridCol w="482400"/>
                <a:gridCol w="48276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3" name=""/>
          <p:cNvGraphicFramePr/>
          <p:nvPr/>
        </p:nvGraphicFramePr>
        <p:xfrm>
          <a:off x="3348000" y="1125360"/>
          <a:ext cx="4826160" cy="489240"/>
        </p:xfrm>
        <a:graphic>
          <a:graphicData uri="http://schemas.openxmlformats.org/drawingml/2006/table">
            <a:tbl>
              <a:tblPr/>
              <a:tblGrid>
                <a:gridCol w="482760"/>
                <a:gridCol w="482400"/>
                <a:gridCol w="482760"/>
                <a:gridCol w="482400"/>
                <a:gridCol w="482760"/>
                <a:gridCol w="482400"/>
                <a:gridCol w="482760"/>
                <a:gridCol w="482760"/>
                <a:gridCol w="482400"/>
                <a:gridCol w="482760"/>
              </a:tblGrid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4" name=""/>
          <p:cNvGraphicFramePr/>
          <p:nvPr/>
        </p:nvGraphicFramePr>
        <p:xfrm>
          <a:off x="2411280" y="1628640"/>
          <a:ext cx="3861000" cy="489240"/>
        </p:xfrm>
        <a:graphic>
          <a:graphicData uri="http://schemas.openxmlformats.org/drawingml/2006/table">
            <a:tbl>
              <a:tblPr/>
              <a:tblGrid>
                <a:gridCol w="482760"/>
                <a:gridCol w="482400"/>
                <a:gridCol w="482760"/>
                <a:gridCol w="482760"/>
                <a:gridCol w="482400"/>
                <a:gridCol w="482760"/>
                <a:gridCol w="482400"/>
                <a:gridCol w="482760"/>
              </a:tblGrid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5" name=""/>
          <p:cNvGraphicFramePr/>
          <p:nvPr/>
        </p:nvGraphicFramePr>
        <p:xfrm>
          <a:off x="3348000" y="2133720"/>
          <a:ext cx="3378240" cy="488880"/>
        </p:xfrm>
        <a:graphic>
          <a:graphicData uri="http://schemas.openxmlformats.org/drawingml/2006/table">
            <a:tbl>
              <a:tblPr/>
              <a:tblGrid>
                <a:gridCol w="482760"/>
                <a:gridCol w="482400"/>
                <a:gridCol w="482760"/>
                <a:gridCol w="482400"/>
                <a:gridCol w="482760"/>
                <a:gridCol w="482400"/>
                <a:gridCol w="482760"/>
              </a:tblGrid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6" name=""/>
          <p:cNvGraphicFramePr/>
          <p:nvPr/>
        </p:nvGraphicFramePr>
        <p:xfrm>
          <a:off x="3348000" y="2637000"/>
          <a:ext cx="3378240" cy="488880"/>
        </p:xfrm>
        <a:graphic>
          <a:graphicData uri="http://schemas.openxmlformats.org/drawingml/2006/table">
            <a:tbl>
              <a:tblPr/>
              <a:tblGrid>
                <a:gridCol w="482760"/>
                <a:gridCol w="482400"/>
                <a:gridCol w="482760"/>
                <a:gridCol w="482400"/>
                <a:gridCol w="482760"/>
                <a:gridCol w="482400"/>
                <a:gridCol w="482760"/>
              </a:tblGrid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7" name=""/>
          <p:cNvGraphicFramePr/>
          <p:nvPr/>
        </p:nvGraphicFramePr>
        <p:xfrm>
          <a:off x="971640" y="3141720"/>
          <a:ext cx="2895480" cy="488880"/>
        </p:xfrm>
        <a:graphic>
          <a:graphicData uri="http://schemas.openxmlformats.org/drawingml/2006/table">
            <a:tbl>
              <a:tblPr/>
              <a:tblGrid>
                <a:gridCol w="482400"/>
                <a:gridCol w="460440"/>
                <a:gridCol w="504720"/>
                <a:gridCol w="482760"/>
                <a:gridCol w="482760"/>
                <a:gridCol w="482400"/>
              </a:tblGrid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8" name=""/>
          <p:cNvGraphicFramePr/>
          <p:nvPr/>
        </p:nvGraphicFramePr>
        <p:xfrm>
          <a:off x="2843280" y="3716280"/>
          <a:ext cx="2413080" cy="488880"/>
        </p:xfrm>
        <a:graphic>
          <a:graphicData uri="http://schemas.openxmlformats.org/drawingml/2006/table">
            <a:tbl>
              <a:tblPr/>
              <a:tblGrid>
                <a:gridCol w="482400"/>
                <a:gridCol w="482760"/>
                <a:gridCol w="482400"/>
                <a:gridCol w="482760"/>
                <a:gridCol w="482760"/>
              </a:tblGrid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ю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9" name=""/>
          <p:cNvGraphicFramePr/>
          <p:nvPr/>
        </p:nvGraphicFramePr>
        <p:xfrm>
          <a:off x="971640" y="4221000"/>
          <a:ext cx="3378240" cy="489240"/>
        </p:xfrm>
        <a:graphic>
          <a:graphicData uri="http://schemas.openxmlformats.org/drawingml/2006/table">
            <a:tbl>
              <a:tblPr/>
              <a:tblGrid>
                <a:gridCol w="482400"/>
                <a:gridCol w="482760"/>
                <a:gridCol w="482400"/>
                <a:gridCol w="482760"/>
                <a:gridCol w="482760"/>
                <a:gridCol w="482400"/>
                <a:gridCol w="482760"/>
              </a:tblGrid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0" name=""/>
          <p:cNvGraphicFramePr/>
          <p:nvPr/>
        </p:nvGraphicFramePr>
        <p:xfrm>
          <a:off x="1403280" y="4724280"/>
          <a:ext cx="2895840" cy="489240"/>
        </p:xfrm>
        <a:graphic>
          <a:graphicData uri="http://schemas.openxmlformats.org/drawingml/2006/table">
            <a:tbl>
              <a:tblPr/>
              <a:tblGrid>
                <a:gridCol w="482760"/>
                <a:gridCol w="482400"/>
                <a:gridCol w="482760"/>
                <a:gridCol w="482400"/>
                <a:gridCol w="446400"/>
                <a:gridCol w="519120"/>
              </a:tblGrid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1" name=""/>
          <p:cNvGraphicFramePr/>
          <p:nvPr/>
        </p:nvGraphicFramePr>
        <p:xfrm>
          <a:off x="2916360" y="5229360"/>
          <a:ext cx="4343400" cy="488880"/>
        </p:xfrm>
        <a:graphic>
          <a:graphicData uri="http://schemas.openxmlformats.org/drawingml/2006/table">
            <a:tbl>
              <a:tblPr/>
              <a:tblGrid>
                <a:gridCol w="482400"/>
                <a:gridCol w="482760"/>
                <a:gridCol w="482400"/>
                <a:gridCol w="482760"/>
                <a:gridCol w="482400"/>
                <a:gridCol w="482760"/>
                <a:gridCol w="482760"/>
                <a:gridCol w="482400"/>
                <a:gridCol w="482760"/>
              </a:tblGrid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1113"/>
          <p:cNvSpPr/>
          <p:nvPr/>
        </p:nvSpPr>
        <p:spPr>
          <a:xfrm>
            <a:off x="2488680" y="691560"/>
            <a:ext cx="389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Египетская нумерация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Picture 1185" descr="1eg"/>
          <p:cNvPicPr/>
          <p:nvPr/>
        </p:nvPicPr>
        <p:blipFill>
          <a:blip r:embed="rId1"/>
          <a:stretch/>
        </p:blipFill>
        <p:spPr>
          <a:xfrm>
            <a:off x="324000" y="1557360"/>
            <a:ext cx="1476360" cy="100800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1186"/>
          <p:cNvSpPr/>
          <p:nvPr/>
        </p:nvSpPr>
        <p:spPr>
          <a:xfrm>
            <a:off x="2411280" y="1412640"/>
            <a:ext cx="6123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1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к и большинство людей для счета небольшого количества предметов Египтяне использовали палочки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1187" descr="5eg"/>
          <p:cNvPicPr/>
          <p:nvPr/>
        </p:nvPicPr>
        <p:blipFill>
          <a:blip r:embed="rId2"/>
          <a:stretch/>
        </p:blipFill>
        <p:spPr>
          <a:xfrm>
            <a:off x="468360" y="3645000"/>
            <a:ext cx="1439640" cy="144144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1188"/>
          <p:cNvSpPr/>
          <p:nvPr/>
        </p:nvSpPr>
        <p:spPr>
          <a:xfrm>
            <a:off x="2411280" y="3213000"/>
            <a:ext cx="5977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сли палочек нужно изобразить несколько, то их изображали в два ряда, причем в нижнем должно быть столько же палочек сколько и в верхнем, или на одну больше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4" name="Group 1195"/>
          <p:cNvGrpSpPr/>
          <p:nvPr/>
        </p:nvGrpSpPr>
        <p:grpSpPr>
          <a:xfrm>
            <a:off x="6372360" y="6354720"/>
            <a:ext cx="2087280" cy="503280"/>
            <a:chOff x="6372360" y="6354720"/>
            <a:chExt cx="2087280" cy="503280"/>
          </a:xfrm>
        </p:grpSpPr>
        <p:sp>
          <p:nvSpPr>
            <p:cNvPr id="165" name="AutoShape 1189">
              <a:hlinkClick r:id="" action="ppaction://hlinkshowjump?jump=nextslide"/>
            </p:cNvPr>
            <p:cNvSpPr/>
            <p:nvPr/>
          </p:nvSpPr>
          <p:spPr>
            <a:xfrm>
              <a:off x="7524720" y="6354720"/>
              <a:ext cx="934920" cy="503280"/>
            </a:xfrm>
            <a:custGeom>
              <a:avLst/>
              <a:gdLst>
                <a:gd name="textAreaLeft" fmla="*/ 32400 w 934920"/>
                <a:gd name="textAreaRight" fmla="*/ 902520 w 934920"/>
                <a:gd name="textAreaTop" fmla="*/ 32400 h 503280"/>
                <a:gd name="textAreaBottom" fmla="*/ 470880 h 503280"/>
              </a:gdLst>
              <a:ahLst/>
              <a:rect l="textAreaLeft" t="textAreaTop" r="textAreaRight" b="textAreaBottom"/>
              <a:pathLst>
                <a:path w="40112" h="21600">
                  <a:moveTo>
                    <a:pt x="0" y="0"/>
                  </a:moveTo>
                  <a:lnTo>
                    <a:pt x="40112" y="0"/>
                  </a:lnTo>
                  <a:lnTo>
                    <a:pt x="40112" y="21600"/>
                  </a:lnTo>
                  <a:lnTo>
                    <a:pt x="0" y="21600"/>
                  </a:lnTo>
                  <a:close/>
                </a:path>
                <a:path fill="lightenLess" w="40112" h="21600">
                  <a:moveTo>
                    <a:pt x="0" y="0"/>
                  </a:moveTo>
                  <a:lnTo>
                    <a:pt x="40112" y="0"/>
                  </a:lnTo>
                  <a:lnTo>
                    <a:pt x="38712" y="1400"/>
                  </a:lnTo>
                  <a:lnTo>
                    <a:pt x="1400" y="1400"/>
                  </a:lnTo>
                  <a:close/>
                </a:path>
                <a:path fill="darken" w="40112" h="21600">
                  <a:moveTo>
                    <a:pt x="40112" y="0"/>
                  </a:moveTo>
                  <a:lnTo>
                    <a:pt x="40112" y="21600"/>
                  </a:lnTo>
                  <a:lnTo>
                    <a:pt x="38712" y="20200"/>
                  </a:lnTo>
                  <a:lnTo>
                    <a:pt x="38712" y="1400"/>
                  </a:lnTo>
                  <a:close/>
                </a:path>
                <a:path fill="darkenLess" w="40112" h="21600">
                  <a:moveTo>
                    <a:pt x="401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712" y="20200"/>
                  </a:lnTo>
                  <a:close/>
                </a:path>
                <a:path fill="lighten" w="401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0112" h="21600">
                  <a:moveTo>
                    <a:pt x="13050" y="3794"/>
                  </a:moveTo>
                  <a:lnTo>
                    <a:pt x="27063" y="10800"/>
                  </a:lnTo>
                  <a:lnTo>
                    <a:pt x="13050" y="17806"/>
                  </a:lnTo>
                  <a:close/>
                </a:path>
              </a:pathLst>
            </a:custGeom>
            <a:solidFill>
              <a:srgbClr val="f8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AutoShape 1190">
              <a:hlinkClick r:id="" action="ppaction://hlinkshowjump?jump=previousslide"/>
            </p:cNvPr>
            <p:cNvSpPr/>
            <p:nvPr/>
          </p:nvSpPr>
          <p:spPr>
            <a:xfrm>
              <a:off x="6372360" y="6354720"/>
              <a:ext cx="934920" cy="503280"/>
            </a:xfrm>
            <a:custGeom>
              <a:avLst/>
              <a:gdLst>
                <a:gd name="textAreaLeft" fmla="*/ 32400 w 934920"/>
                <a:gd name="textAreaRight" fmla="*/ 902520 w 934920"/>
                <a:gd name="textAreaTop" fmla="*/ 32400 h 503280"/>
                <a:gd name="textAreaBottom" fmla="*/ 470880 h 503280"/>
              </a:gdLst>
              <a:ahLst/>
              <a:rect l="textAreaLeft" t="textAreaTop" r="textAreaRight" b="textAreaBottom"/>
              <a:pathLst>
                <a:path w="40112" h="21600">
                  <a:moveTo>
                    <a:pt x="0" y="0"/>
                  </a:moveTo>
                  <a:lnTo>
                    <a:pt x="40112" y="0"/>
                  </a:lnTo>
                  <a:lnTo>
                    <a:pt x="40112" y="21600"/>
                  </a:lnTo>
                  <a:lnTo>
                    <a:pt x="0" y="21600"/>
                  </a:lnTo>
                  <a:close/>
                </a:path>
                <a:path fill="lightenLess" w="40112" h="21600">
                  <a:moveTo>
                    <a:pt x="0" y="0"/>
                  </a:moveTo>
                  <a:lnTo>
                    <a:pt x="40112" y="0"/>
                  </a:lnTo>
                  <a:lnTo>
                    <a:pt x="38712" y="1400"/>
                  </a:lnTo>
                  <a:lnTo>
                    <a:pt x="1400" y="1400"/>
                  </a:lnTo>
                  <a:close/>
                </a:path>
                <a:path fill="darken" w="40112" h="21600">
                  <a:moveTo>
                    <a:pt x="40112" y="0"/>
                  </a:moveTo>
                  <a:lnTo>
                    <a:pt x="40112" y="21600"/>
                  </a:lnTo>
                  <a:lnTo>
                    <a:pt x="38712" y="20200"/>
                  </a:lnTo>
                  <a:lnTo>
                    <a:pt x="38712" y="1400"/>
                  </a:lnTo>
                  <a:close/>
                </a:path>
                <a:path fill="darkenLess" w="40112" h="21600">
                  <a:moveTo>
                    <a:pt x="401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712" y="20200"/>
                  </a:lnTo>
                  <a:close/>
                </a:path>
                <a:path fill="lighten" w="401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0112" h="21600">
                  <a:moveTo>
                    <a:pt x="13050" y="10800"/>
                  </a:moveTo>
                  <a:lnTo>
                    <a:pt x="27063" y="3794"/>
                  </a:lnTo>
                  <a:lnTo>
                    <a:pt x="27063" y="17806"/>
                  </a:lnTo>
                  <a:close/>
                </a:path>
              </a:pathLst>
            </a:custGeom>
            <a:solidFill>
              <a:srgbClr val="f8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026" descr="10eg"/>
          <p:cNvPicPr/>
          <p:nvPr/>
        </p:nvPicPr>
        <p:blipFill>
          <a:blip r:embed="rId1"/>
          <a:stretch/>
        </p:blipFill>
        <p:spPr>
          <a:xfrm>
            <a:off x="324000" y="549360"/>
            <a:ext cx="855360" cy="12222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027"/>
          <p:cNvSpPr/>
          <p:nvPr/>
        </p:nvSpPr>
        <p:spPr>
          <a:xfrm>
            <a:off x="1489320" y="835920"/>
            <a:ext cx="71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10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акими путами египтяне связывали коров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Picture 1028" descr="10eg"/>
          <p:cNvPicPr/>
          <p:nvPr/>
        </p:nvPicPr>
        <p:blipFill>
          <a:blip r:embed="rId2"/>
          <a:stretch/>
        </p:blipFill>
        <p:spPr>
          <a:xfrm>
            <a:off x="250920" y="2492280"/>
            <a:ext cx="855720" cy="12225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29" descr="10eg"/>
          <p:cNvPicPr/>
          <p:nvPr/>
        </p:nvPicPr>
        <p:blipFill>
          <a:blip r:embed="rId3"/>
          <a:stretch/>
        </p:blipFill>
        <p:spPr>
          <a:xfrm>
            <a:off x="1042920" y="2492280"/>
            <a:ext cx="855720" cy="12225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30" descr="10eg"/>
          <p:cNvPicPr/>
          <p:nvPr/>
        </p:nvPicPr>
        <p:blipFill>
          <a:blip r:embed="rId4"/>
          <a:stretch/>
        </p:blipFill>
        <p:spPr>
          <a:xfrm>
            <a:off x="1835280" y="2492280"/>
            <a:ext cx="855360" cy="122256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1031"/>
          <p:cNvSpPr/>
          <p:nvPr/>
        </p:nvSpPr>
        <p:spPr>
          <a:xfrm>
            <a:off x="3059280" y="2060640"/>
            <a:ext cx="5432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сли нужно изобразить несколько десятков, то иероглиф повторяли нужное количество раз. Тоже самое относится и к остальным иероглифам.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1032" descr="100eg"/>
          <p:cNvPicPr/>
          <p:nvPr/>
        </p:nvPicPr>
        <p:blipFill>
          <a:blip r:embed="rId5"/>
          <a:stretch/>
        </p:blipFill>
        <p:spPr>
          <a:xfrm>
            <a:off x="755640" y="4797360"/>
            <a:ext cx="1058760" cy="151128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1033"/>
          <p:cNvSpPr/>
          <p:nvPr/>
        </p:nvSpPr>
        <p:spPr>
          <a:xfrm>
            <a:off x="3132000" y="4868640"/>
            <a:ext cx="4638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100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Это мерная веревка, которой измеряли земельные участки после разлива Нила.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5" name="Group 1035"/>
          <p:cNvGrpSpPr/>
          <p:nvPr/>
        </p:nvGrpSpPr>
        <p:grpSpPr>
          <a:xfrm>
            <a:off x="6048360" y="6354720"/>
            <a:ext cx="3095640" cy="503280"/>
            <a:chOff x="6048360" y="6354720"/>
            <a:chExt cx="3095640" cy="503280"/>
          </a:xfrm>
        </p:grpSpPr>
        <p:sp>
          <p:nvSpPr>
            <p:cNvPr id="176" name="AutoShape 1036">
              <a:hlinkClick r:id="" action="ppaction://hlinkshowjump?jump=nextslide"/>
            </p:cNvPr>
            <p:cNvSpPr/>
            <p:nvPr/>
          </p:nvSpPr>
          <p:spPr>
            <a:xfrm>
              <a:off x="8209080" y="6354720"/>
              <a:ext cx="934920" cy="503280"/>
            </a:xfrm>
            <a:custGeom>
              <a:avLst/>
              <a:gdLst>
                <a:gd name="textAreaLeft" fmla="*/ 32400 w 934920"/>
                <a:gd name="textAreaRight" fmla="*/ 902520 w 934920"/>
                <a:gd name="textAreaTop" fmla="*/ 32400 h 503280"/>
                <a:gd name="textAreaBottom" fmla="*/ 470880 h 503280"/>
              </a:gdLst>
              <a:ahLst/>
              <a:rect l="textAreaLeft" t="textAreaTop" r="textAreaRight" b="textAreaBottom"/>
              <a:pathLst>
                <a:path w="40112" h="21600">
                  <a:moveTo>
                    <a:pt x="0" y="0"/>
                  </a:moveTo>
                  <a:lnTo>
                    <a:pt x="40112" y="0"/>
                  </a:lnTo>
                  <a:lnTo>
                    <a:pt x="40112" y="21600"/>
                  </a:lnTo>
                  <a:lnTo>
                    <a:pt x="0" y="21600"/>
                  </a:lnTo>
                  <a:close/>
                </a:path>
                <a:path fill="lightenLess" w="40112" h="21600">
                  <a:moveTo>
                    <a:pt x="0" y="0"/>
                  </a:moveTo>
                  <a:lnTo>
                    <a:pt x="40112" y="0"/>
                  </a:lnTo>
                  <a:lnTo>
                    <a:pt x="38712" y="1400"/>
                  </a:lnTo>
                  <a:lnTo>
                    <a:pt x="1400" y="1400"/>
                  </a:lnTo>
                  <a:close/>
                </a:path>
                <a:path fill="darken" w="40112" h="21600">
                  <a:moveTo>
                    <a:pt x="40112" y="0"/>
                  </a:moveTo>
                  <a:lnTo>
                    <a:pt x="40112" y="21600"/>
                  </a:lnTo>
                  <a:lnTo>
                    <a:pt x="38712" y="20200"/>
                  </a:lnTo>
                  <a:lnTo>
                    <a:pt x="38712" y="1400"/>
                  </a:lnTo>
                  <a:close/>
                </a:path>
                <a:path fill="darkenLess" w="40112" h="21600">
                  <a:moveTo>
                    <a:pt x="401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712" y="20200"/>
                  </a:lnTo>
                  <a:close/>
                </a:path>
                <a:path fill="lighten" w="401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0112" h="21600">
                  <a:moveTo>
                    <a:pt x="13050" y="3794"/>
                  </a:moveTo>
                  <a:lnTo>
                    <a:pt x="27063" y="10800"/>
                  </a:lnTo>
                  <a:lnTo>
                    <a:pt x="13050" y="17806"/>
                  </a:lnTo>
                  <a:close/>
                </a:path>
              </a:pathLst>
            </a:custGeom>
            <a:solidFill>
              <a:srgbClr val="f8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7" name="Group 1037"/>
            <p:cNvGrpSpPr/>
            <p:nvPr/>
          </p:nvGrpSpPr>
          <p:grpSpPr>
            <a:xfrm>
              <a:off x="6048360" y="6354720"/>
              <a:ext cx="2016000" cy="503280"/>
              <a:chOff x="6048360" y="6354720"/>
              <a:chExt cx="2016000" cy="503280"/>
            </a:xfrm>
          </p:grpSpPr>
          <p:sp>
            <p:nvSpPr>
              <p:cNvPr id="178" name="AutoShape 1038">
                <a:hlinkClick r:id="" action="ppaction://hlinkshowjump?jump=previousslide"/>
              </p:cNvPr>
              <p:cNvSpPr/>
              <p:nvPr/>
            </p:nvSpPr>
            <p:spPr>
              <a:xfrm>
                <a:off x="6048360" y="6354720"/>
                <a:ext cx="934920" cy="503280"/>
              </a:xfrm>
              <a:custGeom>
                <a:avLst/>
                <a:gdLst>
                  <a:gd name="textAreaLeft" fmla="*/ 32400 w 934920"/>
                  <a:gd name="textAreaRight" fmla="*/ 902520 w 934920"/>
                  <a:gd name="textAreaTop" fmla="*/ 32400 h 503280"/>
                  <a:gd name="textAreaBottom" fmla="*/ 470880 h 503280"/>
                </a:gdLst>
                <a:ahLst/>
                <a:rect l="textAreaLeft" t="textAreaTop" r="textAreaRight" b="textAreaBottom"/>
                <a:pathLst>
                  <a:path w="40112" h="21600">
                    <a:moveTo>
                      <a:pt x="0" y="0"/>
                    </a:moveTo>
                    <a:lnTo>
                      <a:pt x="40112" y="0"/>
                    </a:lnTo>
                    <a:lnTo>
                      <a:pt x="40112" y="21600"/>
                    </a:lnTo>
                    <a:lnTo>
                      <a:pt x="0" y="21600"/>
                    </a:lnTo>
                    <a:close/>
                  </a:path>
                  <a:path fill="lightenLess" w="40112" h="21600">
                    <a:moveTo>
                      <a:pt x="0" y="0"/>
                    </a:moveTo>
                    <a:lnTo>
                      <a:pt x="40112" y="0"/>
                    </a:lnTo>
                    <a:lnTo>
                      <a:pt x="38712" y="1400"/>
                    </a:lnTo>
                    <a:lnTo>
                      <a:pt x="1400" y="1400"/>
                    </a:lnTo>
                    <a:close/>
                  </a:path>
                  <a:path fill="darken" w="40112" h="21600">
                    <a:moveTo>
                      <a:pt x="40112" y="0"/>
                    </a:moveTo>
                    <a:lnTo>
                      <a:pt x="40112" y="21600"/>
                    </a:lnTo>
                    <a:lnTo>
                      <a:pt x="38712" y="20200"/>
                    </a:lnTo>
                    <a:lnTo>
                      <a:pt x="38712" y="1400"/>
                    </a:lnTo>
                    <a:close/>
                  </a:path>
                  <a:path fill="darkenLess" w="40112" h="21600">
                    <a:moveTo>
                      <a:pt x="40112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38712" y="20200"/>
                    </a:lnTo>
                    <a:close/>
                  </a:path>
                  <a:path fill="lighten" w="40112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40112" h="21600">
                    <a:moveTo>
                      <a:pt x="13050" y="10800"/>
                    </a:moveTo>
                    <a:lnTo>
                      <a:pt x="27063" y="3794"/>
                    </a:lnTo>
                    <a:lnTo>
                      <a:pt x="27063" y="17806"/>
                    </a:lnTo>
                    <a:close/>
                  </a:path>
                </a:pathLst>
              </a:custGeom>
              <a:solidFill>
                <a:srgbClr val="f8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AutoShape 1039">
                <a:hlinkClick r:id="rId6" action="ppaction://hlinksldjump"/>
              </p:cNvPr>
              <p:cNvSpPr/>
              <p:nvPr/>
            </p:nvSpPr>
            <p:spPr>
              <a:xfrm>
                <a:off x="7129440" y="6354720"/>
                <a:ext cx="934920" cy="503280"/>
              </a:xfrm>
              <a:custGeom>
                <a:avLst/>
                <a:gdLst>
                  <a:gd name="textAreaLeft" fmla="*/ 32400 w 934920"/>
                  <a:gd name="textAreaRight" fmla="*/ 902520 w 934920"/>
                  <a:gd name="textAreaTop" fmla="*/ 32400 h 503280"/>
                  <a:gd name="textAreaBottom" fmla="*/ 470880 h 503280"/>
                </a:gdLst>
                <a:ahLst/>
                <a:rect l="textAreaLeft" t="textAreaTop" r="textAreaRight" b="textAreaBottom"/>
                <a:pathLst>
                  <a:path w="40112" h="21600">
                    <a:moveTo>
                      <a:pt x="0" y="0"/>
                    </a:moveTo>
                    <a:lnTo>
                      <a:pt x="40112" y="0"/>
                    </a:lnTo>
                    <a:lnTo>
                      <a:pt x="40112" y="21600"/>
                    </a:lnTo>
                    <a:lnTo>
                      <a:pt x="0" y="21600"/>
                    </a:lnTo>
                    <a:close/>
                  </a:path>
                  <a:path fill="lightenLess" w="40112" h="21600">
                    <a:moveTo>
                      <a:pt x="0" y="0"/>
                    </a:moveTo>
                    <a:lnTo>
                      <a:pt x="40112" y="0"/>
                    </a:lnTo>
                    <a:lnTo>
                      <a:pt x="38712" y="1400"/>
                    </a:lnTo>
                    <a:lnTo>
                      <a:pt x="1400" y="1400"/>
                    </a:lnTo>
                    <a:close/>
                  </a:path>
                  <a:path fill="darken" w="40112" h="21600">
                    <a:moveTo>
                      <a:pt x="40112" y="0"/>
                    </a:moveTo>
                    <a:lnTo>
                      <a:pt x="40112" y="21600"/>
                    </a:lnTo>
                    <a:lnTo>
                      <a:pt x="38712" y="20200"/>
                    </a:lnTo>
                    <a:lnTo>
                      <a:pt x="38712" y="1400"/>
                    </a:lnTo>
                    <a:close/>
                  </a:path>
                  <a:path fill="darkenLess" w="40112" h="21600">
                    <a:moveTo>
                      <a:pt x="40112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38712" y="20200"/>
                    </a:lnTo>
                    <a:close/>
                  </a:path>
                  <a:path fill="lighten" w="40112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40112" h="21600">
                    <a:moveTo>
                      <a:pt x="20056" y="3837"/>
                    </a:moveTo>
                    <a:lnTo>
                      <a:pt x="22632" y="6448"/>
                    </a:lnTo>
                    <a:lnTo>
                      <a:pt x="22632" y="4707"/>
                    </a:lnTo>
                    <a:lnTo>
                      <a:pt x="24408" y="4707"/>
                    </a:lnTo>
                    <a:lnTo>
                      <a:pt x="24408" y="8224"/>
                    </a:lnTo>
                    <a:lnTo>
                      <a:pt x="27019" y="10800"/>
                    </a:lnTo>
                    <a:lnTo>
                      <a:pt x="25365" y="10800"/>
                    </a:lnTo>
                    <a:lnTo>
                      <a:pt x="25365" y="17989"/>
                    </a:lnTo>
                    <a:lnTo>
                      <a:pt x="14747" y="17989"/>
                    </a:lnTo>
                    <a:lnTo>
                      <a:pt x="14747" y="10800"/>
                    </a:lnTo>
                    <a:lnTo>
                      <a:pt x="13093" y="10800"/>
                    </a:lnTo>
                    <a:close/>
                  </a:path>
                  <a:path fill="darkenLess" w="40112" h="21600">
                    <a:moveTo>
                      <a:pt x="22632" y="6448"/>
                    </a:moveTo>
                    <a:lnTo>
                      <a:pt x="22632" y="4707"/>
                    </a:lnTo>
                    <a:lnTo>
                      <a:pt x="24408" y="4707"/>
                    </a:lnTo>
                    <a:lnTo>
                      <a:pt x="24408" y="8224"/>
                    </a:lnTo>
                    <a:close/>
                  </a:path>
                  <a:path fill="darkenLess" w="40112" h="21600">
                    <a:moveTo>
                      <a:pt x="19133" y="14299"/>
                    </a:moveTo>
                    <a:lnTo>
                      <a:pt x="20979" y="14299"/>
                    </a:lnTo>
                    <a:lnTo>
                      <a:pt x="20979" y="17989"/>
                    </a:lnTo>
                    <a:lnTo>
                      <a:pt x="25365" y="17989"/>
                    </a:lnTo>
                    <a:lnTo>
                      <a:pt x="25365" y="10800"/>
                    </a:lnTo>
                    <a:lnTo>
                      <a:pt x="14747" y="10800"/>
                    </a:lnTo>
                    <a:lnTo>
                      <a:pt x="14747" y="17989"/>
                    </a:lnTo>
                    <a:lnTo>
                      <a:pt x="19133" y="17989"/>
                    </a:lnTo>
                    <a:close/>
                  </a:path>
                </a:pathLst>
              </a:custGeom>
              <a:solidFill>
                <a:srgbClr val="f8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026"/>
          <p:cNvSpPr/>
          <p:nvPr/>
        </p:nvSpPr>
        <p:spPr>
          <a:xfrm>
            <a:off x="1913040" y="403920"/>
            <a:ext cx="51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ревняя греческая нумерация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Rectangle 1027"/>
          <p:cNvSpPr/>
          <p:nvPr/>
        </p:nvSpPr>
        <p:spPr>
          <a:xfrm>
            <a:off x="6732720" y="1556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, 2, 3, 4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Picture 1028" descr="1eg"/>
          <p:cNvPicPr/>
          <p:nvPr/>
        </p:nvPicPr>
        <p:blipFill>
          <a:blip r:embed="rId1"/>
          <a:stretch/>
        </p:blipFill>
        <p:spPr>
          <a:xfrm>
            <a:off x="1116000" y="1413000"/>
            <a:ext cx="1079640" cy="8524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33" descr="2eg"/>
          <p:cNvPicPr/>
          <p:nvPr/>
        </p:nvPicPr>
        <p:blipFill>
          <a:blip r:embed="rId2"/>
          <a:stretch/>
        </p:blipFill>
        <p:spPr>
          <a:xfrm>
            <a:off x="2340000" y="1413000"/>
            <a:ext cx="1079640" cy="8524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34" descr="3eg"/>
          <p:cNvPicPr/>
          <p:nvPr/>
        </p:nvPicPr>
        <p:blipFill>
          <a:blip r:embed="rId3"/>
          <a:stretch/>
        </p:blipFill>
        <p:spPr>
          <a:xfrm>
            <a:off x="3564000" y="1413000"/>
            <a:ext cx="1079280" cy="8524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035" descr="4eg"/>
          <p:cNvPicPr/>
          <p:nvPr/>
        </p:nvPicPr>
        <p:blipFill>
          <a:blip r:embed="rId4"/>
          <a:stretch/>
        </p:blipFill>
        <p:spPr>
          <a:xfrm>
            <a:off x="4859280" y="1413000"/>
            <a:ext cx="1079640" cy="8524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36" descr="6789_gr"/>
          <p:cNvPicPr/>
          <p:nvPr/>
        </p:nvPicPr>
        <p:blipFill>
          <a:blip r:embed="rId5"/>
          <a:stretch/>
        </p:blipFill>
        <p:spPr>
          <a:xfrm>
            <a:off x="971640" y="2781360"/>
            <a:ext cx="5040360" cy="86364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1037"/>
          <p:cNvSpPr/>
          <p:nvPr/>
        </p:nvSpPr>
        <p:spPr>
          <a:xfrm>
            <a:off x="6806520" y="28519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6, 7, 8, 9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Picture 1038" descr="10_gr"/>
          <p:cNvPicPr/>
          <p:nvPr/>
        </p:nvPicPr>
        <p:blipFill>
          <a:blip r:embed="rId6"/>
          <a:stretch/>
        </p:blipFill>
        <p:spPr>
          <a:xfrm>
            <a:off x="2843280" y="3933720"/>
            <a:ext cx="1222200" cy="160668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1039"/>
          <p:cNvSpPr/>
          <p:nvPr/>
        </p:nvSpPr>
        <p:spPr>
          <a:xfrm>
            <a:off x="6804000" y="4437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0" name="Group 1045"/>
          <p:cNvGrpSpPr/>
          <p:nvPr/>
        </p:nvGrpSpPr>
        <p:grpSpPr>
          <a:xfrm>
            <a:off x="7056360" y="6354720"/>
            <a:ext cx="2087280" cy="503280"/>
            <a:chOff x="7056360" y="6354720"/>
            <a:chExt cx="2087280" cy="503280"/>
          </a:xfrm>
        </p:grpSpPr>
        <p:sp>
          <p:nvSpPr>
            <p:cNvPr id="191" name="AutoShape 1046">
              <a:hlinkClick r:id="" action="ppaction://hlinkshowjump?jump=nextslide"/>
            </p:cNvPr>
            <p:cNvSpPr/>
            <p:nvPr/>
          </p:nvSpPr>
          <p:spPr>
            <a:xfrm>
              <a:off x="8208720" y="6354720"/>
              <a:ext cx="934920" cy="503280"/>
            </a:xfrm>
            <a:custGeom>
              <a:avLst/>
              <a:gdLst>
                <a:gd name="textAreaLeft" fmla="*/ 32400 w 934920"/>
                <a:gd name="textAreaRight" fmla="*/ 902520 w 934920"/>
                <a:gd name="textAreaTop" fmla="*/ 32400 h 503280"/>
                <a:gd name="textAreaBottom" fmla="*/ 470880 h 503280"/>
              </a:gdLst>
              <a:ahLst/>
              <a:rect l="textAreaLeft" t="textAreaTop" r="textAreaRight" b="textAreaBottom"/>
              <a:pathLst>
                <a:path w="40112" h="21600">
                  <a:moveTo>
                    <a:pt x="0" y="0"/>
                  </a:moveTo>
                  <a:lnTo>
                    <a:pt x="40112" y="0"/>
                  </a:lnTo>
                  <a:lnTo>
                    <a:pt x="40112" y="21600"/>
                  </a:lnTo>
                  <a:lnTo>
                    <a:pt x="0" y="21600"/>
                  </a:lnTo>
                  <a:close/>
                </a:path>
                <a:path fill="lightenLess" w="40112" h="21600">
                  <a:moveTo>
                    <a:pt x="0" y="0"/>
                  </a:moveTo>
                  <a:lnTo>
                    <a:pt x="40112" y="0"/>
                  </a:lnTo>
                  <a:lnTo>
                    <a:pt x="38712" y="1400"/>
                  </a:lnTo>
                  <a:lnTo>
                    <a:pt x="1400" y="1400"/>
                  </a:lnTo>
                  <a:close/>
                </a:path>
                <a:path fill="darken" w="40112" h="21600">
                  <a:moveTo>
                    <a:pt x="40112" y="0"/>
                  </a:moveTo>
                  <a:lnTo>
                    <a:pt x="40112" y="21600"/>
                  </a:lnTo>
                  <a:lnTo>
                    <a:pt x="38712" y="20200"/>
                  </a:lnTo>
                  <a:lnTo>
                    <a:pt x="38712" y="1400"/>
                  </a:lnTo>
                  <a:close/>
                </a:path>
                <a:path fill="darkenLess" w="40112" h="21600">
                  <a:moveTo>
                    <a:pt x="401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712" y="20200"/>
                  </a:lnTo>
                  <a:close/>
                </a:path>
                <a:path fill="lighten" w="401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0112" h="21600">
                  <a:moveTo>
                    <a:pt x="13050" y="3794"/>
                  </a:moveTo>
                  <a:lnTo>
                    <a:pt x="27063" y="10800"/>
                  </a:lnTo>
                  <a:lnTo>
                    <a:pt x="13050" y="17806"/>
                  </a:lnTo>
                  <a:close/>
                </a:path>
              </a:pathLst>
            </a:custGeom>
            <a:solidFill>
              <a:srgbClr val="f8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AutoShape 1047">
              <a:hlinkClick r:id="" action="ppaction://hlinkshowjump?jump=previousslide"/>
            </p:cNvPr>
            <p:cNvSpPr/>
            <p:nvPr/>
          </p:nvSpPr>
          <p:spPr>
            <a:xfrm>
              <a:off x="7056360" y="6354720"/>
              <a:ext cx="934920" cy="503280"/>
            </a:xfrm>
            <a:custGeom>
              <a:avLst/>
              <a:gdLst>
                <a:gd name="textAreaLeft" fmla="*/ 32400 w 934920"/>
                <a:gd name="textAreaRight" fmla="*/ 902520 w 934920"/>
                <a:gd name="textAreaTop" fmla="*/ 32400 h 503280"/>
                <a:gd name="textAreaBottom" fmla="*/ 470880 h 503280"/>
              </a:gdLst>
              <a:ahLst/>
              <a:rect l="textAreaLeft" t="textAreaTop" r="textAreaRight" b="textAreaBottom"/>
              <a:pathLst>
                <a:path w="40112" h="21600">
                  <a:moveTo>
                    <a:pt x="0" y="0"/>
                  </a:moveTo>
                  <a:lnTo>
                    <a:pt x="40112" y="0"/>
                  </a:lnTo>
                  <a:lnTo>
                    <a:pt x="40112" y="21600"/>
                  </a:lnTo>
                  <a:lnTo>
                    <a:pt x="0" y="21600"/>
                  </a:lnTo>
                  <a:close/>
                </a:path>
                <a:path fill="lightenLess" w="40112" h="21600">
                  <a:moveTo>
                    <a:pt x="0" y="0"/>
                  </a:moveTo>
                  <a:lnTo>
                    <a:pt x="40112" y="0"/>
                  </a:lnTo>
                  <a:lnTo>
                    <a:pt x="38712" y="1400"/>
                  </a:lnTo>
                  <a:lnTo>
                    <a:pt x="1400" y="1400"/>
                  </a:lnTo>
                  <a:close/>
                </a:path>
                <a:path fill="darken" w="40112" h="21600">
                  <a:moveTo>
                    <a:pt x="40112" y="0"/>
                  </a:moveTo>
                  <a:lnTo>
                    <a:pt x="40112" y="21600"/>
                  </a:lnTo>
                  <a:lnTo>
                    <a:pt x="38712" y="20200"/>
                  </a:lnTo>
                  <a:lnTo>
                    <a:pt x="38712" y="1400"/>
                  </a:lnTo>
                  <a:close/>
                </a:path>
                <a:path fill="darkenLess" w="40112" h="21600">
                  <a:moveTo>
                    <a:pt x="401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712" y="20200"/>
                  </a:lnTo>
                  <a:close/>
                </a:path>
                <a:path fill="lighten" w="401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0112" h="21600">
                  <a:moveTo>
                    <a:pt x="13050" y="10800"/>
                  </a:moveTo>
                  <a:lnTo>
                    <a:pt x="27063" y="3794"/>
                  </a:lnTo>
                  <a:lnTo>
                    <a:pt x="27063" y="17806"/>
                  </a:lnTo>
                  <a:close/>
                </a:path>
              </a:pathLst>
            </a:custGeom>
            <a:solidFill>
              <a:srgbClr val="f8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1_9_gr"/>
          <p:cNvPicPr/>
          <p:nvPr/>
        </p:nvPicPr>
        <p:blipFill>
          <a:blip r:embed="rId1"/>
          <a:stretch/>
        </p:blipFill>
        <p:spPr>
          <a:xfrm>
            <a:off x="395280" y="1341360"/>
            <a:ext cx="8352000" cy="7923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10_90_gr"/>
          <p:cNvPicPr/>
          <p:nvPr/>
        </p:nvPicPr>
        <p:blipFill>
          <a:blip r:embed="rId2"/>
          <a:stretch/>
        </p:blipFill>
        <p:spPr>
          <a:xfrm>
            <a:off x="395280" y="2852640"/>
            <a:ext cx="8353440" cy="792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100_90gr"/>
          <p:cNvPicPr/>
          <p:nvPr/>
        </p:nvPicPr>
        <p:blipFill>
          <a:blip r:embed="rId3"/>
          <a:stretch/>
        </p:blipFill>
        <p:spPr>
          <a:xfrm>
            <a:off x="395280" y="4292640"/>
            <a:ext cx="8424720" cy="649080"/>
          </a:xfrm>
          <a:prstGeom prst="rect">
            <a:avLst/>
          </a:prstGeom>
          <a:ln w="0">
            <a:noFill/>
          </a:ln>
        </p:spPr>
      </p:pic>
      <p:grpSp>
        <p:nvGrpSpPr>
          <p:cNvPr id="196" name="Group 5"/>
          <p:cNvGrpSpPr/>
          <p:nvPr/>
        </p:nvGrpSpPr>
        <p:grpSpPr>
          <a:xfrm>
            <a:off x="6048360" y="6354720"/>
            <a:ext cx="3095640" cy="503280"/>
            <a:chOff x="6048360" y="6354720"/>
            <a:chExt cx="3095640" cy="503280"/>
          </a:xfrm>
        </p:grpSpPr>
        <p:sp>
          <p:nvSpPr>
            <p:cNvPr id="197" name="AutoShape 6">
              <a:hlinkClick r:id="" action="ppaction://hlinkshowjump?jump=nextslide"/>
            </p:cNvPr>
            <p:cNvSpPr/>
            <p:nvPr/>
          </p:nvSpPr>
          <p:spPr>
            <a:xfrm>
              <a:off x="8209080" y="6354720"/>
              <a:ext cx="934920" cy="503280"/>
            </a:xfrm>
            <a:custGeom>
              <a:avLst/>
              <a:gdLst>
                <a:gd name="textAreaLeft" fmla="*/ 32400 w 934920"/>
                <a:gd name="textAreaRight" fmla="*/ 902520 w 934920"/>
                <a:gd name="textAreaTop" fmla="*/ 32400 h 503280"/>
                <a:gd name="textAreaBottom" fmla="*/ 470880 h 503280"/>
              </a:gdLst>
              <a:ahLst/>
              <a:rect l="textAreaLeft" t="textAreaTop" r="textAreaRight" b="textAreaBottom"/>
              <a:pathLst>
                <a:path w="40112" h="21600">
                  <a:moveTo>
                    <a:pt x="0" y="0"/>
                  </a:moveTo>
                  <a:lnTo>
                    <a:pt x="40112" y="0"/>
                  </a:lnTo>
                  <a:lnTo>
                    <a:pt x="40112" y="21600"/>
                  </a:lnTo>
                  <a:lnTo>
                    <a:pt x="0" y="21600"/>
                  </a:lnTo>
                  <a:close/>
                </a:path>
                <a:path fill="lightenLess" w="40112" h="21600">
                  <a:moveTo>
                    <a:pt x="0" y="0"/>
                  </a:moveTo>
                  <a:lnTo>
                    <a:pt x="40112" y="0"/>
                  </a:lnTo>
                  <a:lnTo>
                    <a:pt x="38712" y="1400"/>
                  </a:lnTo>
                  <a:lnTo>
                    <a:pt x="1400" y="1400"/>
                  </a:lnTo>
                  <a:close/>
                </a:path>
                <a:path fill="darken" w="40112" h="21600">
                  <a:moveTo>
                    <a:pt x="40112" y="0"/>
                  </a:moveTo>
                  <a:lnTo>
                    <a:pt x="40112" y="21600"/>
                  </a:lnTo>
                  <a:lnTo>
                    <a:pt x="38712" y="20200"/>
                  </a:lnTo>
                  <a:lnTo>
                    <a:pt x="38712" y="1400"/>
                  </a:lnTo>
                  <a:close/>
                </a:path>
                <a:path fill="darkenLess" w="40112" h="21600">
                  <a:moveTo>
                    <a:pt x="401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712" y="20200"/>
                  </a:lnTo>
                  <a:close/>
                </a:path>
                <a:path fill="lighten" w="401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0112" h="21600">
                  <a:moveTo>
                    <a:pt x="13050" y="3794"/>
                  </a:moveTo>
                  <a:lnTo>
                    <a:pt x="27063" y="10800"/>
                  </a:lnTo>
                  <a:lnTo>
                    <a:pt x="13050" y="17806"/>
                  </a:lnTo>
                  <a:close/>
                </a:path>
              </a:pathLst>
            </a:custGeom>
            <a:solidFill>
              <a:srgbClr val="f8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8" name="Group 7"/>
            <p:cNvGrpSpPr/>
            <p:nvPr/>
          </p:nvGrpSpPr>
          <p:grpSpPr>
            <a:xfrm>
              <a:off x="6048360" y="6354720"/>
              <a:ext cx="2016000" cy="503280"/>
              <a:chOff x="6048360" y="6354720"/>
              <a:chExt cx="2016000" cy="503280"/>
            </a:xfrm>
          </p:grpSpPr>
          <p:sp>
            <p:nvSpPr>
              <p:cNvPr id="199" name="AutoShape 8">
                <a:hlinkClick r:id="" action="ppaction://hlinkshowjump?jump=previousslide"/>
              </p:cNvPr>
              <p:cNvSpPr/>
              <p:nvPr/>
            </p:nvSpPr>
            <p:spPr>
              <a:xfrm>
                <a:off x="6048360" y="6354720"/>
                <a:ext cx="934920" cy="503280"/>
              </a:xfrm>
              <a:custGeom>
                <a:avLst/>
                <a:gdLst>
                  <a:gd name="textAreaLeft" fmla="*/ 32400 w 934920"/>
                  <a:gd name="textAreaRight" fmla="*/ 902520 w 934920"/>
                  <a:gd name="textAreaTop" fmla="*/ 32400 h 503280"/>
                  <a:gd name="textAreaBottom" fmla="*/ 470880 h 503280"/>
                </a:gdLst>
                <a:ahLst/>
                <a:rect l="textAreaLeft" t="textAreaTop" r="textAreaRight" b="textAreaBottom"/>
                <a:pathLst>
                  <a:path w="40112" h="21600">
                    <a:moveTo>
                      <a:pt x="0" y="0"/>
                    </a:moveTo>
                    <a:lnTo>
                      <a:pt x="40112" y="0"/>
                    </a:lnTo>
                    <a:lnTo>
                      <a:pt x="40112" y="21600"/>
                    </a:lnTo>
                    <a:lnTo>
                      <a:pt x="0" y="21600"/>
                    </a:lnTo>
                    <a:close/>
                  </a:path>
                  <a:path fill="lightenLess" w="40112" h="21600">
                    <a:moveTo>
                      <a:pt x="0" y="0"/>
                    </a:moveTo>
                    <a:lnTo>
                      <a:pt x="40112" y="0"/>
                    </a:lnTo>
                    <a:lnTo>
                      <a:pt x="38712" y="1400"/>
                    </a:lnTo>
                    <a:lnTo>
                      <a:pt x="1400" y="1400"/>
                    </a:lnTo>
                    <a:close/>
                  </a:path>
                  <a:path fill="darken" w="40112" h="21600">
                    <a:moveTo>
                      <a:pt x="40112" y="0"/>
                    </a:moveTo>
                    <a:lnTo>
                      <a:pt x="40112" y="21600"/>
                    </a:lnTo>
                    <a:lnTo>
                      <a:pt x="38712" y="20200"/>
                    </a:lnTo>
                    <a:lnTo>
                      <a:pt x="38712" y="1400"/>
                    </a:lnTo>
                    <a:close/>
                  </a:path>
                  <a:path fill="darkenLess" w="40112" h="21600">
                    <a:moveTo>
                      <a:pt x="40112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38712" y="20200"/>
                    </a:lnTo>
                    <a:close/>
                  </a:path>
                  <a:path fill="lighten" w="40112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40112" h="21600">
                    <a:moveTo>
                      <a:pt x="13050" y="10800"/>
                    </a:moveTo>
                    <a:lnTo>
                      <a:pt x="27063" y="3794"/>
                    </a:lnTo>
                    <a:lnTo>
                      <a:pt x="27063" y="17806"/>
                    </a:lnTo>
                    <a:close/>
                  </a:path>
                </a:pathLst>
              </a:custGeom>
              <a:solidFill>
                <a:srgbClr val="f8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AutoShape 9">
                <a:hlinkClick r:id="rId4" action="ppaction://hlinksldjump"/>
              </p:cNvPr>
              <p:cNvSpPr/>
              <p:nvPr/>
            </p:nvSpPr>
            <p:spPr>
              <a:xfrm>
                <a:off x="7129440" y="6354720"/>
                <a:ext cx="934920" cy="503280"/>
              </a:xfrm>
              <a:custGeom>
                <a:avLst/>
                <a:gdLst>
                  <a:gd name="textAreaLeft" fmla="*/ 32400 w 934920"/>
                  <a:gd name="textAreaRight" fmla="*/ 902520 w 934920"/>
                  <a:gd name="textAreaTop" fmla="*/ 32400 h 503280"/>
                  <a:gd name="textAreaBottom" fmla="*/ 470880 h 503280"/>
                </a:gdLst>
                <a:ahLst/>
                <a:rect l="textAreaLeft" t="textAreaTop" r="textAreaRight" b="textAreaBottom"/>
                <a:pathLst>
                  <a:path w="40112" h="21600">
                    <a:moveTo>
                      <a:pt x="0" y="0"/>
                    </a:moveTo>
                    <a:lnTo>
                      <a:pt x="40112" y="0"/>
                    </a:lnTo>
                    <a:lnTo>
                      <a:pt x="40112" y="21600"/>
                    </a:lnTo>
                    <a:lnTo>
                      <a:pt x="0" y="21600"/>
                    </a:lnTo>
                    <a:close/>
                  </a:path>
                  <a:path fill="lightenLess" w="40112" h="21600">
                    <a:moveTo>
                      <a:pt x="0" y="0"/>
                    </a:moveTo>
                    <a:lnTo>
                      <a:pt x="40112" y="0"/>
                    </a:lnTo>
                    <a:lnTo>
                      <a:pt x="38712" y="1400"/>
                    </a:lnTo>
                    <a:lnTo>
                      <a:pt x="1400" y="1400"/>
                    </a:lnTo>
                    <a:close/>
                  </a:path>
                  <a:path fill="darken" w="40112" h="21600">
                    <a:moveTo>
                      <a:pt x="40112" y="0"/>
                    </a:moveTo>
                    <a:lnTo>
                      <a:pt x="40112" y="21600"/>
                    </a:lnTo>
                    <a:lnTo>
                      <a:pt x="38712" y="20200"/>
                    </a:lnTo>
                    <a:lnTo>
                      <a:pt x="38712" y="1400"/>
                    </a:lnTo>
                    <a:close/>
                  </a:path>
                  <a:path fill="darkenLess" w="40112" h="21600">
                    <a:moveTo>
                      <a:pt x="40112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38712" y="20200"/>
                    </a:lnTo>
                    <a:close/>
                  </a:path>
                  <a:path fill="lighten" w="40112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40112" h="21600">
                    <a:moveTo>
                      <a:pt x="20056" y="3837"/>
                    </a:moveTo>
                    <a:lnTo>
                      <a:pt x="22632" y="6448"/>
                    </a:lnTo>
                    <a:lnTo>
                      <a:pt x="22632" y="4707"/>
                    </a:lnTo>
                    <a:lnTo>
                      <a:pt x="24408" y="4707"/>
                    </a:lnTo>
                    <a:lnTo>
                      <a:pt x="24408" y="8224"/>
                    </a:lnTo>
                    <a:lnTo>
                      <a:pt x="27019" y="10800"/>
                    </a:lnTo>
                    <a:lnTo>
                      <a:pt x="25365" y="10800"/>
                    </a:lnTo>
                    <a:lnTo>
                      <a:pt x="25365" y="17989"/>
                    </a:lnTo>
                    <a:lnTo>
                      <a:pt x="14747" y="17989"/>
                    </a:lnTo>
                    <a:lnTo>
                      <a:pt x="14747" y="10800"/>
                    </a:lnTo>
                    <a:lnTo>
                      <a:pt x="13093" y="10800"/>
                    </a:lnTo>
                    <a:close/>
                  </a:path>
                  <a:path fill="darkenLess" w="40112" h="21600">
                    <a:moveTo>
                      <a:pt x="22632" y="6448"/>
                    </a:moveTo>
                    <a:lnTo>
                      <a:pt x="22632" y="4707"/>
                    </a:lnTo>
                    <a:lnTo>
                      <a:pt x="24408" y="4707"/>
                    </a:lnTo>
                    <a:lnTo>
                      <a:pt x="24408" y="8224"/>
                    </a:lnTo>
                    <a:close/>
                  </a:path>
                  <a:path fill="darkenLess" w="40112" h="21600">
                    <a:moveTo>
                      <a:pt x="19133" y="14299"/>
                    </a:moveTo>
                    <a:lnTo>
                      <a:pt x="20979" y="14299"/>
                    </a:lnTo>
                    <a:lnTo>
                      <a:pt x="20979" y="17989"/>
                    </a:lnTo>
                    <a:lnTo>
                      <a:pt x="25365" y="17989"/>
                    </a:lnTo>
                    <a:lnTo>
                      <a:pt x="25365" y="10800"/>
                    </a:lnTo>
                    <a:lnTo>
                      <a:pt x="14747" y="10800"/>
                    </a:lnTo>
                    <a:lnTo>
                      <a:pt x="14747" y="17989"/>
                    </a:lnTo>
                    <a:lnTo>
                      <a:pt x="19133" y="17989"/>
                    </a:lnTo>
                    <a:close/>
                  </a:path>
                </a:pathLst>
              </a:custGeom>
              <a:solidFill>
                <a:srgbClr val="f8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2399040" y="615240"/>
            <a:ext cx="41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авилонская нумерация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Picture 3" descr="1_bab"/>
          <p:cNvPicPr/>
          <p:nvPr/>
        </p:nvPicPr>
        <p:blipFill>
          <a:blip r:embed="rId1"/>
          <a:stretch/>
        </p:blipFill>
        <p:spPr>
          <a:xfrm>
            <a:off x="684360" y="2492280"/>
            <a:ext cx="934920" cy="151128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4"/>
          <p:cNvSpPr/>
          <p:nvPr/>
        </p:nvSpPr>
        <p:spPr>
          <a:xfrm>
            <a:off x="2050920" y="2997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Picture 5" descr="10_bab"/>
          <p:cNvPicPr/>
          <p:nvPr/>
        </p:nvPicPr>
        <p:blipFill>
          <a:blip r:embed="rId2"/>
          <a:stretch/>
        </p:blipFill>
        <p:spPr>
          <a:xfrm>
            <a:off x="3276720" y="2349360"/>
            <a:ext cx="895320" cy="15829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6"/>
          <p:cNvSpPr/>
          <p:nvPr/>
        </p:nvSpPr>
        <p:spPr>
          <a:xfrm>
            <a:off x="4500720" y="292428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" name="Picture 7" descr="0_bab"/>
          <p:cNvPicPr/>
          <p:nvPr/>
        </p:nvPicPr>
        <p:blipFill>
          <a:blip r:embed="rId3"/>
          <a:stretch/>
        </p:blipFill>
        <p:spPr>
          <a:xfrm>
            <a:off x="5796000" y="2421000"/>
            <a:ext cx="865080" cy="158256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8"/>
          <p:cNvSpPr/>
          <p:nvPr/>
        </p:nvSpPr>
        <p:spPr>
          <a:xfrm>
            <a:off x="7524720" y="2997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867280" y="6093000"/>
            <a:ext cx="3095640" cy="502920"/>
            <a:chOff x="5867280" y="6093000"/>
            <a:chExt cx="3095640" cy="502920"/>
          </a:xfrm>
        </p:grpSpPr>
        <p:sp>
          <p:nvSpPr>
            <p:cNvPr id="209" name="AutoShape 10">
              <a:hlinkClick r:id="" action="ppaction://hlinkshowjump?jump=nextslide"/>
            </p:cNvPr>
            <p:cNvSpPr/>
            <p:nvPr/>
          </p:nvSpPr>
          <p:spPr>
            <a:xfrm>
              <a:off x="8028000" y="6093000"/>
              <a:ext cx="934920" cy="502920"/>
            </a:xfrm>
            <a:custGeom>
              <a:avLst/>
              <a:gdLst>
                <a:gd name="textAreaLeft" fmla="*/ 32400 w 934920"/>
                <a:gd name="textAreaRight" fmla="*/ 902520 w 934920"/>
                <a:gd name="textAreaTop" fmla="*/ 32400 h 502920"/>
                <a:gd name="textAreaBottom" fmla="*/ 470520 h 502920"/>
              </a:gdLst>
              <a:ahLst/>
              <a:rect l="textAreaLeft" t="textAreaTop" r="textAreaRight" b="textAreaBottom"/>
              <a:pathLst>
                <a:path w="40141" h="21600">
                  <a:moveTo>
                    <a:pt x="0" y="0"/>
                  </a:moveTo>
                  <a:lnTo>
                    <a:pt x="40141" y="0"/>
                  </a:lnTo>
                  <a:lnTo>
                    <a:pt x="40141" y="21600"/>
                  </a:lnTo>
                  <a:lnTo>
                    <a:pt x="0" y="21600"/>
                  </a:lnTo>
                  <a:close/>
                </a:path>
                <a:path fill="lightenLess" w="40141" h="21600">
                  <a:moveTo>
                    <a:pt x="0" y="0"/>
                  </a:moveTo>
                  <a:lnTo>
                    <a:pt x="40141" y="0"/>
                  </a:lnTo>
                  <a:lnTo>
                    <a:pt x="38741" y="1400"/>
                  </a:lnTo>
                  <a:lnTo>
                    <a:pt x="1400" y="1400"/>
                  </a:lnTo>
                  <a:close/>
                </a:path>
                <a:path fill="darken" w="40141" h="21600">
                  <a:moveTo>
                    <a:pt x="40141" y="0"/>
                  </a:moveTo>
                  <a:lnTo>
                    <a:pt x="40141" y="21600"/>
                  </a:lnTo>
                  <a:lnTo>
                    <a:pt x="38741" y="20200"/>
                  </a:lnTo>
                  <a:lnTo>
                    <a:pt x="38741" y="1400"/>
                  </a:lnTo>
                  <a:close/>
                </a:path>
                <a:path fill="darkenLess" w="40141" h="21600">
                  <a:moveTo>
                    <a:pt x="4014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741" y="20200"/>
                  </a:lnTo>
                  <a:close/>
                </a:path>
                <a:path fill="lighten" w="4014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0141" h="21600">
                  <a:moveTo>
                    <a:pt x="13064" y="3794"/>
                  </a:moveTo>
                  <a:lnTo>
                    <a:pt x="27077" y="10800"/>
                  </a:lnTo>
                  <a:lnTo>
                    <a:pt x="13064" y="17806"/>
                  </a:lnTo>
                  <a:close/>
                </a:path>
              </a:pathLst>
            </a:custGeom>
            <a:solidFill>
              <a:srgbClr val="f8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0" name="Group 11"/>
            <p:cNvGrpSpPr/>
            <p:nvPr/>
          </p:nvGrpSpPr>
          <p:grpSpPr>
            <a:xfrm>
              <a:off x="5867280" y="6093000"/>
              <a:ext cx="2016000" cy="502920"/>
              <a:chOff x="5867280" y="6093000"/>
              <a:chExt cx="2016000" cy="502920"/>
            </a:xfrm>
          </p:grpSpPr>
          <p:sp>
            <p:nvSpPr>
              <p:cNvPr id="211" name="AutoShape 12">
                <a:hlinkClick r:id="" action="ppaction://hlinkshowjump?jump=previousslide"/>
              </p:cNvPr>
              <p:cNvSpPr/>
              <p:nvPr/>
            </p:nvSpPr>
            <p:spPr>
              <a:xfrm>
                <a:off x="5867280" y="6093000"/>
                <a:ext cx="934920" cy="502920"/>
              </a:xfrm>
              <a:custGeom>
                <a:avLst/>
                <a:gdLst>
                  <a:gd name="textAreaLeft" fmla="*/ 32400 w 934920"/>
                  <a:gd name="textAreaRight" fmla="*/ 902520 w 934920"/>
                  <a:gd name="textAreaTop" fmla="*/ 32400 h 502920"/>
                  <a:gd name="textAreaBottom" fmla="*/ 470520 h 502920"/>
                </a:gdLst>
                <a:ahLst/>
                <a:rect l="textAreaLeft" t="textAreaTop" r="textAreaRight" b="textAreaBottom"/>
                <a:pathLst>
                  <a:path w="40141" h="21600">
                    <a:moveTo>
                      <a:pt x="0" y="0"/>
                    </a:moveTo>
                    <a:lnTo>
                      <a:pt x="40141" y="0"/>
                    </a:lnTo>
                    <a:lnTo>
                      <a:pt x="40141" y="21600"/>
                    </a:lnTo>
                    <a:lnTo>
                      <a:pt x="0" y="21600"/>
                    </a:lnTo>
                    <a:close/>
                  </a:path>
                  <a:path fill="lightenLess" w="40141" h="21600">
                    <a:moveTo>
                      <a:pt x="0" y="0"/>
                    </a:moveTo>
                    <a:lnTo>
                      <a:pt x="40141" y="0"/>
                    </a:lnTo>
                    <a:lnTo>
                      <a:pt x="38741" y="1400"/>
                    </a:lnTo>
                    <a:lnTo>
                      <a:pt x="1400" y="1400"/>
                    </a:lnTo>
                    <a:close/>
                  </a:path>
                  <a:path fill="darken" w="40141" h="21600">
                    <a:moveTo>
                      <a:pt x="40141" y="0"/>
                    </a:moveTo>
                    <a:lnTo>
                      <a:pt x="40141" y="21600"/>
                    </a:lnTo>
                    <a:lnTo>
                      <a:pt x="38741" y="20200"/>
                    </a:lnTo>
                    <a:lnTo>
                      <a:pt x="38741" y="1400"/>
                    </a:lnTo>
                    <a:close/>
                  </a:path>
                  <a:path fill="darkenLess" w="40141" h="21600">
                    <a:moveTo>
                      <a:pt x="40141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38741" y="20200"/>
                    </a:lnTo>
                    <a:close/>
                  </a:path>
                  <a:path fill="lighten" w="40141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40141" h="21600">
                    <a:moveTo>
                      <a:pt x="13064" y="10800"/>
                    </a:moveTo>
                    <a:lnTo>
                      <a:pt x="27077" y="3794"/>
                    </a:lnTo>
                    <a:lnTo>
                      <a:pt x="27077" y="17806"/>
                    </a:lnTo>
                    <a:close/>
                  </a:path>
                </a:pathLst>
              </a:custGeom>
              <a:solidFill>
                <a:srgbClr val="f8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AutoShape 13">
                <a:hlinkClick r:id="rId4" action="ppaction://hlinksldjump"/>
              </p:cNvPr>
              <p:cNvSpPr/>
              <p:nvPr/>
            </p:nvSpPr>
            <p:spPr>
              <a:xfrm>
                <a:off x="6948360" y="6093000"/>
                <a:ext cx="934920" cy="502920"/>
              </a:xfrm>
              <a:custGeom>
                <a:avLst/>
                <a:gdLst>
                  <a:gd name="textAreaLeft" fmla="*/ 32400 w 934920"/>
                  <a:gd name="textAreaRight" fmla="*/ 902520 w 934920"/>
                  <a:gd name="textAreaTop" fmla="*/ 32400 h 502920"/>
                  <a:gd name="textAreaBottom" fmla="*/ 470520 h 502920"/>
                </a:gdLst>
                <a:ahLst/>
                <a:rect l="textAreaLeft" t="textAreaTop" r="textAreaRight" b="textAreaBottom"/>
                <a:pathLst>
                  <a:path w="40141" h="21600">
                    <a:moveTo>
                      <a:pt x="0" y="0"/>
                    </a:moveTo>
                    <a:lnTo>
                      <a:pt x="40141" y="0"/>
                    </a:lnTo>
                    <a:lnTo>
                      <a:pt x="40141" y="21600"/>
                    </a:lnTo>
                    <a:lnTo>
                      <a:pt x="0" y="21600"/>
                    </a:lnTo>
                    <a:close/>
                  </a:path>
                  <a:path fill="lightenLess" w="40141" h="21600">
                    <a:moveTo>
                      <a:pt x="0" y="0"/>
                    </a:moveTo>
                    <a:lnTo>
                      <a:pt x="40141" y="0"/>
                    </a:lnTo>
                    <a:lnTo>
                      <a:pt x="38741" y="1400"/>
                    </a:lnTo>
                    <a:lnTo>
                      <a:pt x="1400" y="1400"/>
                    </a:lnTo>
                    <a:close/>
                  </a:path>
                  <a:path fill="darken" w="40141" h="21600">
                    <a:moveTo>
                      <a:pt x="40141" y="0"/>
                    </a:moveTo>
                    <a:lnTo>
                      <a:pt x="40141" y="21600"/>
                    </a:lnTo>
                    <a:lnTo>
                      <a:pt x="38741" y="20200"/>
                    </a:lnTo>
                    <a:lnTo>
                      <a:pt x="38741" y="1400"/>
                    </a:lnTo>
                    <a:close/>
                  </a:path>
                  <a:path fill="darkenLess" w="40141" h="21600">
                    <a:moveTo>
                      <a:pt x="40141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38741" y="20200"/>
                    </a:lnTo>
                    <a:close/>
                  </a:path>
                  <a:path fill="lighten" w="40141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40141" h="21600">
                    <a:moveTo>
                      <a:pt x="20070" y="3837"/>
                    </a:moveTo>
                    <a:lnTo>
                      <a:pt x="22647" y="6448"/>
                    </a:lnTo>
                    <a:lnTo>
                      <a:pt x="22647" y="4707"/>
                    </a:lnTo>
                    <a:lnTo>
                      <a:pt x="24422" y="4707"/>
                    </a:lnTo>
                    <a:lnTo>
                      <a:pt x="24422" y="8224"/>
                    </a:lnTo>
                    <a:lnTo>
                      <a:pt x="27033" y="10800"/>
                    </a:lnTo>
                    <a:lnTo>
                      <a:pt x="25380" y="10800"/>
                    </a:lnTo>
                    <a:lnTo>
                      <a:pt x="25380" y="17989"/>
                    </a:lnTo>
                    <a:lnTo>
                      <a:pt x="14761" y="17989"/>
                    </a:lnTo>
                    <a:lnTo>
                      <a:pt x="14761" y="10800"/>
                    </a:lnTo>
                    <a:lnTo>
                      <a:pt x="13107" y="10800"/>
                    </a:lnTo>
                    <a:close/>
                  </a:path>
                  <a:path fill="darkenLess" w="40141" h="21600">
                    <a:moveTo>
                      <a:pt x="22647" y="6448"/>
                    </a:moveTo>
                    <a:lnTo>
                      <a:pt x="22647" y="4707"/>
                    </a:lnTo>
                    <a:lnTo>
                      <a:pt x="24422" y="4707"/>
                    </a:lnTo>
                    <a:lnTo>
                      <a:pt x="24422" y="8224"/>
                    </a:lnTo>
                    <a:close/>
                  </a:path>
                  <a:path fill="darkenLess" w="40141" h="21600">
                    <a:moveTo>
                      <a:pt x="19148" y="14299"/>
                    </a:moveTo>
                    <a:lnTo>
                      <a:pt x="20993" y="14299"/>
                    </a:lnTo>
                    <a:lnTo>
                      <a:pt x="20993" y="17989"/>
                    </a:lnTo>
                    <a:lnTo>
                      <a:pt x="25380" y="17989"/>
                    </a:lnTo>
                    <a:lnTo>
                      <a:pt x="25380" y="10800"/>
                    </a:lnTo>
                    <a:lnTo>
                      <a:pt x="14761" y="10800"/>
                    </a:lnTo>
                    <a:lnTo>
                      <a:pt x="14761" y="17989"/>
                    </a:lnTo>
                    <a:lnTo>
                      <a:pt x="19148" y="17989"/>
                    </a:lnTo>
                    <a:close/>
                  </a:path>
                </a:pathLst>
              </a:custGeom>
              <a:solidFill>
                <a:srgbClr val="f8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1026"/>
          <p:cNvSpPr/>
          <p:nvPr/>
        </p:nvSpPr>
        <p:spPr>
          <a:xfrm>
            <a:off x="2195640" y="47232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умерация индейцев Майя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4" name="Picture 1132" descr="1my"/>
          <p:cNvPicPr/>
          <p:nvPr/>
        </p:nvPicPr>
        <p:blipFill>
          <a:blip r:embed="rId1"/>
          <a:stretch/>
        </p:blipFill>
        <p:spPr>
          <a:xfrm>
            <a:off x="539640" y="1557360"/>
            <a:ext cx="1584360" cy="4334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133" descr="2my"/>
          <p:cNvPicPr/>
          <p:nvPr/>
        </p:nvPicPr>
        <p:blipFill>
          <a:blip r:embed="rId2"/>
          <a:stretch/>
        </p:blipFill>
        <p:spPr>
          <a:xfrm>
            <a:off x="539640" y="2133720"/>
            <a:ext cx="1584360" cy="5047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134" descr="3my"/>
          <p:cNvPicPr/>
          <p:nvPr/>
        </p:nvPicPr>
        <p:blipFill>
          <a:blip r:embed="rId3"/>
          <a:stretch/>
        </p:blipFill>
        <p:spPr>
          <a:xfrm>
            <a:off x="539640" y="2781360"/>
            <a:ext cx="1584360" cy="4888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135" descr="4my"/>
          <p:cNvPicPr/>
          <p:nvPr/>
        </p:nvPicPr>
        <p:blipFill>
          <a:blip r:embed="rId4"/>
          <a:stretch/>
        </p:blipFill>
        <p:spPr>
          <a:xfrm>
            <a:off x="611280" y="3429000"/>
            <a:ext cx="1512720" cy="4698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136" descr="5my"/>
          <p:cNvPicPr/>
          <p:nvPr/>
        </p:nvPicPr>
        <p:blipFill>
          <a:blip r:embed="rId5"/>
          <a:stretch/>
        </p:blipFill>
        <p:spPr>
          <a:xfrm>
            <a:off x="611280" y="4076640"/>
            <a:ext cx="1512720" cy="5032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37" descr="6my"/>
          <p:cNvPicPr/>
          <p:nvPr/>
        </p:nvPicPr>
        <p:blipFill>
          <a:blip r:embed="rId6"/>
          <a:stretch/>
        </p:blipFill>
        <p:spPr>
          <a:xfrm>
            <a:off x="3348000" y="1557360"/>
            <a:ext cx="1511280" cy="5032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138" descr="7my"/>
          <p:cNvPicPr/>
          <p:nvPr/>
        </p:nvPicPr>
        <p:blipFill>
          <a:blip r:embed="rId7"/>
          <a:stretch/>
        </p:blipFill>
        <p:spPr>
          <a:xfrm>
            <a:off x="3348000" y="2205000"/>
            <a:ext cx="1511280" cy="432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139" descr="8my"/>
          <p:cNvPicPr/>
          <p:nvPr/>
        </p:nvPicPr>
        <p:blipFill>
          <a:blip r:embed="rId8"/>
          <a:stretch/>
        </p:blipFill>
        <p:spPr>
          <a:xfrm>
            <a:off x="3348000" y="2852640"/>
            <a:ext cx="1511280" cy="5032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188" descr="9my"/>
          <p:cNvPicPr/>
          <p:nvPr/>
        </p:nvPicPr>
        <p:blipFill>
          <a:blip r:embed="rId9"/>
          <a:stretch/>
        </p:blipFill>
        <p:spPr>
          <a:xfrm>
            <a:off x="3348000" y="3500280"/>
            <a:ext cx="1511280" cy="4780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189" descr="10my"/>
          <p:cNvPicPr/>
          <p:nvPr/>
        </p:nvPicPr>
        <p:blipFill>
          <a:blip r:embed="rId10"/>
          <a:stretch/>
        </p:blipFill>
        <p:spPr>
          <a:xfrm>
            <a:off x="3348000" y="4149720"/>
            <a:ext cx="1584360" cy="5047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190" descr="11my"/>
          <p:cNvPicPr/>
          <p:nvPr/>
        </p:nvPicPr>
        <p:blipFill>
          <a:blip r:embed="rId11"/>
          <a:stretch/>
        </p:blipFill>
        <p:spPr>
          <a:xfrm>
            <a:off x="6084720" y="1484280"/>
            <a:ext cx="1511640" cy="4921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191" descr="12my"/>
          <p:cNvPicPr/>
          <p:nvPr/>
        </p:nvPicPr>
        <p:blipFill>
          <a:blip r:embed="rId12"/>
          <a:stretch/>
        </p:blipFill>
        <p:spPr>
          <a:xfrm>
            <a:off x="6084720" y="2060640"/>
            <a:ext cx="1511640" cy="4903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192" descr="13my"/>
          <p:cNvPicPr/>
          <p:nvPr/>
        </p:nvPicPr>
        <p:blipFill>
          <a:blip r:embed="rId13"/>
          <a:stretch/>
        </p:blipFill>
        <p:spPr>
          <a:xfrm>
            <a:off x="6084720" y="2708280"/>
            <a:ext cx="1511640" cy="5238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93" descr="15my"/>
          <p:cNvPicPr/>
          <p:nvPr/>
        </p:nvPicPr>
        <p:blipFill>
          <a:blip r:embed="rId14"/>
          <a:stretch/>
        </p:blipFill>
        <p:spPr>
          <a:xfrm>
            <a:off x="6084720" y="3357720"/>
            <a:ext cx="1513080" cy="485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194" descr="19my"/>
          <p:cNvPicPr/>
          <p:nvPr/>
        </p:nvPicPr>
        <p:blipFill>
          <a:blip r:embed="rId15"/>
          <a:stretch/>
        </p:blipFill>
        <p:spPr>
          <a:xfrm>
            <a:off x="6084720" y="4076640"/>
            <a:ext cx="1511640" cy="5191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195" descr="20my"/>
          <p:cNvPicPr/>
          <p:nvPr/>
        </p:nvPicPr>
        <p:blipFill>
          <a:blip r:embed="rId16"/>
          <a:stretch/>
        </p:blipFill>
        <p:spPr>
          <a:xfrm>
            <a:off x="2556000" y="5445000"/>
            <a:ext cx="1439640" cy="54000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1196"/>
          <p:cNvSpPr/>
          <p:nvPr/>
        </p:nvSpPr>
        <p:spPr>
          <a:xfrm>
            <a:off x="2411280" y="1413000"/>
            <a:ext cx="648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Text Box 1197"/>
          <p:cNvSpPr/>
          <p:nvPr/>
        </p:nvSpPr>
        <p:spPr>
          <a:xfrm>
            <a:off x="5076720" y="1484280"/>
            <a:ext cx="7192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1198"/>
          <p:cNvSpPr/>
          <p:nvPr/>
        </p:nvSpPr>
        <p:spPr>
          <a:xfrm>
            <a:off x="7956720" y="1484280"/>
            <a:ext cx="7905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xt Box 1199"/>
          <p:cNvSpPr/>
          <p:nvPr/>
        </p:nvSpPr>
        <p:spPr>
          <a:xfrm>
            <a:off x="4500720" y="544500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0 или 20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4" name="Group 1200"/>
          <p:cNvGrpSpPr/>
          <p:nvPr/>
        </p:nvGrpSpPr>
        <p:grpSpPr>
          <a:xfrm>
            <a:off x="5867280" y="6165720"/>
            <a:ext cx="3095640" cy="503280"/>
            <a:chOff x="5867280" y="6165720"/>
            <a:chExt cx="3095640" cy="503280"/>
          </a:xfrm>
        </p:grpSpPr>
        <p:sp>
          <p:nvSpPr>
            <p:cNvPr id="235" name="AutoShape 1201">
              <a:hlinkClick r:id="" action="ppaction://hlinkshowjump?jump=nextslide"/>
            </p:cNvPr>
            <p:cNvSpPr/>
            <p:nvPr/>
          </p:nvSpPr>
          <p:spPr>
            <a:xfrm>
              <a:off x="8028000" y="6165720"/>
              <a:ext cx="934920" cy="503280"/>
            </a:xfrm>
            <a:custGeom>
              <a:avLst/>
              <a:gdLst>
                <a:gd name="textAreaLeft" fmla="*/ 32400 w 934920"/>
                <a:gd name="textAreaRight" fmla="*/ 902520 w 934920"/>
                <a:gd name="textAreaTop" fmla="*/ 32400 h 503280"/>
                <a:gd name="textAreaBottom" fmla="*/ 470880 h 503280"/>
              </a:gdLst>
              <a:ahLst/>
              <a:rect l="textAreaLeft" t="textAreaTop" r="textAreaRight" b="textAreaBottom"/>
              <a:pathLst>
                <a:path w="40112" h="21600">
                  <a:moveTo>
                    <a:pt x="0" y="0"/>
                  </a:moveTo>
                  <a:lnTo>
                    <a:pt x="40112" y="0"/>
                  </a:lnTo>
                  <a:lnTo>
                    <a:pt x="40112" y="21600"/>
                  </a:lnTo>
                  <a:lnTo>
                    <a:pt x="0" y="21600"/>
                  </a:lnTo>
                  <a:close/>
                </a:path>
                <a:path fill="lightenLess" w="40112" h="21600">
                  <a:moveTo>
                    <a:pt x="0" y="0"/>
                  </a:moveTo>
                  <a:lnTo>
                    <a:pt x="40112" y="0"/>
                  </a:lnTo>
                  <a:lnTo>
                    <a:pt x="38712" y="1400"/>
                  </a:lnTo>
                  <a:lnTo>
                    <a:pt x="1400" y="1400"/>
                  </a:lnTo>
                  <a:close/>
                </a:path>
                <a:path fill="darken" w="40112" h="21600">
                  <a:moveTo>
                    <a:pt x="40112" y="0"/>
                  </a:moveTo>
                  <a:lnTo>
                    <a:pt x="40112" y="21600"/>
                  </a:lnTo>
                  <a:lnTo>
                    <a:pt x="38712" y="20200"/>
                  </a:lnTo>
                  <a:lnTo>
                    <a:pt x="38712" y="1400"/>
                  </a:lnTo>
                  <a:close/>
                </a:path>
                <a:path fill="darkenLess" w="40112" h="21600">
                  <a:moveTo>
                    <a:pt x="401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712" y="20200"/>
                  </a:lnTo>
                  <a:close/>
                </a:path>
                <a:path fill="lighten" w="401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0112" h="21600">
                  <a:moveTo>
                    <a:pt x="13050" y="3794"/>
                  </a:moveTo>
                  <a:lnTo>
                    <a:pt x="27063" y="10800"/>
                  </a:lnTo>
                  <a:lnTo>
                    <a:pt x="13050" y="17806"/>
                  </a:lnTo>
                  <a:close/>
                </a:path>
              </a:pathLst>
            </a:custGeom>
            <a:solidFill>
              <a:srgbClr val="f8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6" name="Group 1202"/>
            <p:cNvGrpSpPr/>
            <p:nvPr/>
          </p:nvGrpSpPr>
          <p:grpSpPr>
            <a:xfrm>
              <a:off x="5867280" y="6165720"/>
              <a:ext cx="2016000" cy="503280"/>
              <a:chOff x="5867280" y="6165720"/>
              <a:chExt cx="2016000" cy="503280"/>
            </a:xfrm>
          </p:grpSpPr>
          <p:sp>
            <p:nvSpPr>
              <p:cNvPr id="237" name="AutoShape 1203">
                <a:hlinkClick r:id="" action="ppaction://hlinkshowjump?jump=previousslide"/>
              </p:cNvPr>
              <p:cNvSpPr/>
              <p:nvPr/>
            </p:nvSpPr>
            <p:spPr>
              <a:xfrm>
                <a:off x="5867280" y="6165720"/>
                <a:ext cx="934920" cy="503280"/>
              </a:xfrm>
              <a:custGeom>
                <a:avLst/>
                <a:gdLst>
                  <a:gd name="textAreaLeft" fmla="*/ 32400 w 934920"/>
                  <a:gd name="textAreaRight" fmla="*/ 902520 w 934920"/>
                  <a:gd name="textAreaTop" fmla="*/ 32400 h 503280"/>
                  <a:gd name="textAreaBottom" fmla="*/ 470880 h 503280"/>
                </a:gdLst>
                <a:ahLst/>
                <a:rect l="textAreaLeft" t="textAreaTop" r="textAreaRight" b="textAreaBottom"/>
                <a:pathLst>
                  <a:path w="40112" h="21600">
                    <a:moveTo>
                      <a:pt x="0" y="0"/>
                    </a:moveTo>
                    <a:lnTo>
                      <a:pt x="40112" y="0"/>
                    </a:lnTo>
                    <a:lnTo>
                      <a:pt x="40112" y="21600"/>
                    </a:lnTo>
                    <a:lnTo>
                      <a:pt x="0" y="21600"/>
                    </a:lnTo>
                    <a:close/>
                  </a:path>
                  <a:path fill="lightenLess" w="40112" h="21600">
                    <a:moveTo>
                      <a:pt x="0" y="0"/>
                    </a:moveTo>
                    <a:lnTo>
                      <a:pt x="40112" y="0"/>
                    </a:lnTo>
                    <a:lnTo>
                      <a:pt x="38712" y="1400"/>
                    </a:lnTo>
                    <a:lnTo>
                      <a:pt x="1400" y="1400"/>
                    </a:lnTo>
                    <a:close/>
                  </a:path>
                  <a:path fill="darken" w="40112" h="21600">
                    <a:moveTo>
                      <a:pt x="40112" y="0"/>
                    </a:moveTo>
                    <a:lnTo>
                      <a:pt x="40112" y="21600"/>
                    </a:lnTo>
                    <a:lnTo>
                      <a:pt x="38712" y="20200"/>
                    </a:lnTo>
                    <a:lnTo>
                      <a:pt x="38712" y="1400"/>
                    </a:lnTo>
                    <a:close/>
                  </a:path>
                  <a:path fill="darkenLess" w="40112" h="21600">
                    <a:moveTo>
                      <a:pt x="40112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38712" y="20200"/>
                    </a:lnTo>
                    <a:close/>
                  </a:path>
                  <a:path fill="lighten" w="40112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40112" h="21600">
                    <a:moveTo>
                      <a:pt x="13050" y="10800"/>
                    </a:moveTo>
                    <a:lnTo>
                      <a:pt x="27063" y="3794"/>
                    </a:lnTo>
                    <a:lnTo>
                      <a:pt x="27063" y="17806"/>
                    </a:lnTo>
                    <a:close/>
                  </a:path>
                </a:pathLst>
              </a:custGeom>
              <a:solidFill>
                <a:srgbClr val="f8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AutoShape 1204">
                <a:hlinkClick r:id="rId17" action="ppaction://hlinksldjump"/>
              </p:cNvPr>
              <p:cNvSpPr/>
              <p:nvPr/>
            </p:nvSpPr>
            <p:spPr>
              <a:xfrm>
                <a:off x="6948360" y="6165720"/>
                <a:ext cx="934920" cy="503280"/>
              </a:xfrm>
              <a:custGeom>
                <a:avLst/>
                <a:gdLst>
                  <a:gd name="textAreaLeft" fmla="*/ 32400 w 934920"/>
                  <a:gd name="textAreaRight" fmla="*/ 902520 w 934920"/>
                  <a:gd name="textAreaTop" fmla="*/ 32400 h 503280"/>
                  <a:gd name="textAreaBottom" fmla="*/ 470880 h 503280"/>
                </a:gdLst>
                <a:ahLst/>
                <a:rect l="textAreaLeft" t="textAreaTop" r="textAreaRight" b="textAreaBottom"/>
                <a:pathLst>
                  <a:path w="40112" h="21600">
                    <a:moveTo>
                      <a:pt x="0" y="0"/>
                    </a:moveTo>
                    <a:lnTo>
                      <a:pt x="40112" y="0"/>
                    </a:lnTo>
                    <a:lnTo>
                      <a:pt x="40112" y="21600"/>
                    </a:lnTo>
                    <a:lnTo>
                      <a:pt x="0" y="21600"/>
                    </a:lnTo>
                    <a:close/>
                  </a:path>
                  <a:path fill="lightenLess" w="40112" h="21600">
                    <a:moveTo>
                      <a:pt x="0" y="0"/>
                    </a:moveTo>
                    <a:lnTo>
                      <a:pt x="40112" y="0"/>
                    </a:lnTo>
                    <a:lnTo>
                      <a:pt x="38712" y="1400"/>
                    </a:lnTo>
                    <a:lnTo>
                      <a:pt x="1400" y="1400"/>
                    </a:lnTo>
                    <a:close/>
                  </a:path>
                  <a:path fill="darken" w="40112" h="21600">
                    <a:moveTo>
                      <a:pt x="40112" y="0"/>
                    </a:moveTo>
                    <a:lnTo>
                      <a:pt x="40112" y="21600"/>
                    </a:lnTo>
                    <a:lnTo>
                      <a:pt x="38712" y="20200"/>
                    </a:lnTo>
                    <a:lnTo>
                      <a:pt x="38712" y="1400"/>
                    </a:lnTo>
                    <a:close/>
                  </a:path>
                  <a:path fill="darkenLess" w="40112" h="21600">
                    <a:moveTo>
                      <a:pt x="40112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38712" y="20200"/>
                    </a:lnTo>
                    <a:close/>
                  </a:path>
                  <a:path fill="lighten" w="40112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40112" h="21600">
                    <a:moveTo>
                      <a:pt x="20056" y="3837"/>
                    </a:moveTo>
                    <a:lnTo>
                      <a:pt x="22632" y="6448"/>
                    </a:lnTo>
                    <a:lnTo>
                      <a:pt x="22632" y="4707"/>
                    </a:lnTo>
                    <a:lnTo>
                      <a:pt x="24408" y="4707"/>
                    </a:lnTo>
                    <a:lnTo>
                      <a:pt x="24408" y="8224"/>
                    </a:lnTo>
                    <a:lnTo>
                      <a:pt x="27019" y="10800"/>
                    </a:lnTo>
                    <a:lnTo>
                      <a:pt x="25365" y="10800"/>
                    </a:lnTo>
                    <a:lnTo>
                      <a:pt x="25365" y="17989"/>
                    </a:lnTo>
                    <a:lnTo>
                      <a:pt x="14747" y="17989"/>
                    </a:lnTo>
                    <a:lnTo>
                      <a:pt x="14747" y="10800"/>
                    </a:lnTo>
                    <a:lnTo>
                      <a:pt x="13093" y="10800"/>
                    </a:lnTo>
                    <a:close/>
                  </a:path>
                  <a:path fill="darkenLess" w="40112" h="21600">
                    <a:moveTo>
                      <a:pt x="22632" y="6448"/>
                    </a:moveTo>
                    <a:lnTo>
                      <a:pt x="22632" y="4707"/>
                    </a:lnTo>
                    <a:lnTo>
                      <a:pt x="24408" y="4707"/>
                    </a:lnTo>
                    <a:lnTo>
                      <a:pt x="24408" y="8224"/>
                    </a:lnTo>
                    <a:close/>
                  </a:path>
                  <a:path fill="darkenLess" w="40112" h="21600">
                    <a:moveTo>
                      <a:pt x="19133" y="14299"/>
                    </a:moveTo>
                    <a:lnTo>
                      <a:pt x="20979" y="14299"/>
                    </a:lnTo>
                    <a:lnTo>
                      <a:pt x="20979" y="17989"/>
                    </a:lnTo>
                    <a:lnTo>
                      <a:pt x="25365" y="17989"/>
                    </a:lnTo>
                    <a:lnTo>
                      <a:pt x="25365" y="10800"/>
                    </a:lnTo>
                    <a:lnTo>
                      <a:pt x="14747" y="10800"/>
                    </a:lnTo>
                    <a:lnTo>
                      <a:pt x="14747" y="17989"/>
                    </a:lnTo>
                    <a:lnTo>
                      <a:pt x="19133" y="17989"/>
                    </a:lnTo>
                    <a:close/>
                  </a:path>
                </a:pathLst>
              </a:custGeom>
              <a:solidFill>
                <a:srgbClr val="f8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18:30:47Z</dcterms:created>
  <dc:creator>степановы</dc:creator>
  <dc:description/>
  <dc:language>en-US</dc:language>
  <cp:lastModifiedBy>Admin</cp:lastModifiedBy>
  <dcterms:modified xsi:type="dcterms:W3CDTF">2010-11-05T05:17:12Z</dcterms:modified>
  <cp:revision>57</cp:revision>
  <dc:subject/>
  <dc:title>Слайд 1</dc:title>
</cp:coreProperties>
</file>