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54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13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780-AFFD-4187-9134-E7C59C52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CED-5679-43C7-8AB8-FF3AE9E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996-A76F-4152-9EFA-B9BF59F4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3E3-AEF5-4208-A105-A5CE9387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07F3-3351-401B-B007-E66DBE57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951A-AC8C-4D03-8F5D-821E0D97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A97C-E32D-4C4E-B603-B5E4238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886-CCAE-4CF2-8CBC-98AB6C23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721-0D80-45D8-8967-54254CFC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A98B-2524-49E2-A54F-69596D6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3913-19D1-4FDB-BE80-9723AF3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7A7-60D0-4100-B87C-70276ECB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4EA4-2EC3-4231-88FE-59D1D567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6432-99A0-4F93-8102-AA3B191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722F-A9B2-48E6-9177-5A9902FE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6939-4D29-4BDA-9CC3-275DF52D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A5C8-2A0A-4EC4-B16F-960994B1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C16-470D-48C8-B581-1B523AD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270-B81A-4A34-A82D-C3FD5754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124-25ED-43AE-9187-E9EE2027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4DC-8D6A-444F-8890-09622F2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E02-401B-43F5-ACFC-E9F9FB1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222-7383-46CC-B650-3FF735A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B3B-FDFB-4AE6-80DB-D237370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B678-B5EB-4FEF-A8D1-E391EB81509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AFB7-7775-4F8D-A6E8-B83D13D797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58.jpeg"/><Relationship Id="rId14" Type="http://schemas.openxmlformats.org/officeDocument/2006/relationships/image" Target="../media/image59.jpeg"/><Relationship Id="rId15" Type="http://schemas.openxmlformats.org/officeDocument/2006/relationships/image" Target="../media/image60.jpeg"/><Relationship Id="rId16" Type="http://schemas.openxmlformats.org/officeDocument/2006/relationships/image" Target="../media/image61.jpeg"/><Relationship Id="rId17" Type="http://schemas.openxmlformats.org/officeDocument/2006/relationships/image" Target="../media/image62.jpeg"/><Relationship Id="rId18" Type="http://schemas.openxmlformats.org/officeDocument/2006/relationships/image" Target="../media/image63.jpeg"/><Relationship Id="rId19" Type="http://schemas.openxmlformats.org/officeDocument/2006/relationships/image" Target="../media/image64.jpeg"/><Relationship Id="rId20" Type="http://schemas.openxmlformats.org/officeDocument/2006/relationships/image" Target="../media/image65.jpeg"/><Relationship Id="rId21" Type="http://schemas.openxmlformats.org/officeDocument/2006/relationships/image" Target="../media/image66.jpeg"/><Relationship Id="rId22" Type="http://schemas.openxmlformats.org/officeDocument/2006/relationships/image" Target="../media/image67.jpeg"/><Relationship Id="rId23" Type="http://schemas.openxmlformats.org/officeDocument/2006/relationships/image" Target="../media/image68.jpeg"/><Relationship Id="rId24" Type="http://schemas.openxmlformats.org/officeDocument/2006/relationships/image" Target="../media/image69.jpeg"/><Relationship Id="rId25" Type="http://schemas.openxmlformats.org/officeDocument/2006/relationships/image" Target="../media/image70.jpeg"/><Relationship Id="rId26" Type="http://schemas.openxmlformats.org/officeDocument/2006/relationships/image" Target="../media/image71.jpeg"/><Relationship Id="rId27" Type="http://schemas.openxmlformats.org/officeDocument/2006/relationships/image" Target="../media/image72.jpeg"/><Relationship Id="rId28" Type="http://schemas.openxmlformats.org/officeDocument/2006/relationships/image" Target="../media/image73.jpeg"/><Relationship Id="rId29" Type="http://schemas.openxmlformats.org/officeDocument/2006/relationships/slide" Target="slide3.xml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468360" y="1125360"/>
            <a:ext cx="813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Двоичная система счисл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9 клас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357800" y="514368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епанова М.М.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информатики и математики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ая квалификационная категори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У «Гимназия №52»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26"/>
          <p:cNvSpPr/>
          <p:nvPr/>
        </p:nvSpPr>
        <p:spPr>
          <a:xfrm>
            <a:off x="2432520" y="47232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итай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1027" descr="1ch"/>
          <p:cNvPicPr/>
          <p:nvPr/>
        </p:nvPicPr>
        <p:blipFill>
          <a:blip r:embed="rId1"/>
          <a:stretch/>
        </p:blipFill>
        <p:spPr>
          <a:xfrm>
            <a:off x="900000" y="148428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28" descr="2ch"/>
          <p:cNvPicPr/>
          <p:nvPr/>
        </p:nvPicPr>
        <p:blipFill>
          <a:blip r:embed="rId2"/>
          <a:stretch/>
        </p:blipFill>
        <p:spPr>
          <a:xfrm>
            <a:off x="900000" y="2133720"/>
            <a:ext cx="619200" cy="571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29" descr="3ch"/>
          <p:cNvPicPr/>
          <p:nvPr/>
        </p:nvPicPr>
        <p:blipFill>
          <a:blip r:embed="rId3"/>
          <a:stretch/>
        </p:blipFill>
        <p:spPr>
          <a:xfrm>
            <a:off x="900000" y="2852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0" descr="4ch"/>
          <p:cNvPicPr/>
          <p:nvPr/>
        </p:nvPicPr>
        <p:blipFill>
          <a:blip r:embed="rId4"/>
          <a:stretch/>
        </p:blipFill>
        <p:spPr>
          <a:xfrm>
            <a:off x="900000" y="357336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31" descr="5ch"/>
          <p:cNvPicPr/>
          <p:nvPr/>
        </p:nvPicPr>
        <p:blipFill>
          <a:blip r:embed="rId5"/>
          <a:stretch/>
        </p:blipFill>
        <p:spPr>
          <a:xfrm>
            <a:off x="900000" y="4292640"/>
            <a:ext cx="619200" cy="571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32" descr="6ch"/>
          <p:cNvPicPr/>
          <p:nvPr/>
        </p:nvPicPr>
        <p:blipFill>
          <a:blip r:embed="rId6"/>
          <a:stretch/>
        </p:blipFill>
        <p:spPr>
          <a:xfrm>
            <a:off x="4211640" y="1628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33" descr="7ch"/>
          <p:cNvPicPr/>
          <p:nvPr/>
        </p:nvPicPr>
        <p:blipFill>
          <a:blip r:embed="rId7"/>
          <a:stretch/>
        </p:blipFill>
        <p:spPr>
          <a:xfrm>
            <a:off x="4211640" y="234936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34" descr="8ch"/>
          <p:cNvPicPr/>
          <p:nvPr/>
        </p:nvPicPr>
        <p:blipFill>
          <a:blip r:embed="rId8"/>
          <a:stretch/>
        </p:blipFill>
        <p:spPr>
          <a:xfrm>
            <a:off x="4211640" y="3141720"/>
            <a:ext cx="743040" cy="57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35" descr="9ch"/>
          <p:cNvPicPr/>
          <p:nvPr/>
        </p:nvPicPr>
        <p:blipFill>
          <a:blip r:embed="rId9"/>
          <a:stretch/>
        </p:blipFill>
        <p:spPr>
          <a:xfrm>
            <a:off x="4211640" y="386064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36"/>
          <p:cNvSpPr/>
          <p:nvPr/>
        </p:nvSpPr>
        <p:spPr>
          <a:xfrm>
            <a:off x="4383360" y="458064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°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037"/>
          <p:cNvSpPr/>
          <p:nvPr/>
        </p:nvSpPr>
        <p:spPr>
          <a:xfrm>
            <a:off x="2627280" y="1557360"/>
            <a:ext cx="100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038"/>
          <p:cNvSpPr/>
          <p:nvPr/>
        </p:nvSpPr>
        <p:spPr>
          <a:xfrm>
            <a:off x="5580000" y="1628640"/>
            <a:ext cx="115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1039" descr="10ch"/>
          <p:cNvPicPr/>
          <p:nvPr/>
        </p:nvPicPr>
        <p:blipFill>
          <a:blip r:embed="rId10"/>
          <a:stretch/>
        </p:blipFill>
        <p:spPr>
          <a:xfrm>
            <a:off x="6804000" y="1628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40" descr="100ch"/>
          <p:cNvPicPr/>
          <p:nvPr/>
        </p:nvPicPr>
        <p:blipFill>
          <a:blip r:embed="rId11"/>
          <a:stretch/>
        </p:blipFill>
        <p:spPr>
          <a:xfrm>
            <a:off x="6804000" y="2924280"/>
            <a:ext cx="619200" cy="5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41" descr="10_3ch"/>
          <p:cNvPicPr/>
          <p:nvPr/>
        </p:nvPicPr>
        <p:blipFill>
          <a:blip r:embed="rId12"/>
          <a:stretch/>
        </p:blipFill>
        <p:spPr>
          <a:xfrm>
            <a:off x="6804000" y="422100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42"/>
          <p:cNvSpPr/>
          <p:nvPr/>
        </p:nvSpPr>
        <p:spPr>
          <a:xfrm>
            <a:off x="7812000" y="1628640"/>
            <a:ext cx="93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1043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257" name="AutoShape 1044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" name="Group 1045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259" name="AutoShape 1046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1047">
                <a:hlinkClick r:id="rId13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6"/>
          <p:cNvSpPr/>
          <p:nvPr/>
        </p:nvSpPr>
        <p:spPr>
          <a:xfrm>
            <a:off x="1344240" y="5439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вянская кирилличе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1027" descr="kiril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4819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028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264" name="AutoShape 1029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Group 1030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266" name="AutoShape 1031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1032">
                <a:hlinkClick r:id="rId2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1263960" y="332640"/>
            <a:ext cx="64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вянская глаголиче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1027" descr="1gl"/>
          <p:cNvPicPr/>
          <p:nvPr/>
        </p:nvPicPr>
        <p:blipFill>
          <a:blip r:embed="rId1"/>
          <a:stretch/>
        </p:blipFill>
        <p:spPr>
          <a:xfrm>
            <a:off x="468360" y="981000"/>
            <a:ext cx="595440" cy="57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28" descr="2gl"/>
          <p:cNvPicPr/>
          <p:nvPr/>
        </p:nvPicPr>
        <p:blipFill>
          <a:blip r:embed="rId2"/>
          <a:stretch/>
        </p:blipFill>
        <p:spPr>
          <a:xfrm>
            <a:off x="468360" y="1628640"/>
            <a:ext cx="595440" cy="649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9" descr="3gl"/>
          <p:cNvPicPr/>
          <p:nvPr/>
        </p:nvPicPr>
        <p:blipFill>
          <a:blip r:embed="rId3"/>
          <a:stretch/>
        </p:blipFill>
        <p:spPr>
          <a:xfrm>
            <a:off x="468360" y="2349360"/>
            <a:ext cx="574560" cy="5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4gl"/>
          <p:cNvPicPr/>
          <p:nvPr/>
        </p:nvPicPr>
        <p:blipFill>
          <a:blip r:embed="rId4"/>
          <a:stretch/>
        </p:blipFill>
        <p:spPr>
          <a:xfrm>
            <a:off x="468360" y="2924280"/>
            <a:ext cx="574560" cy="52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31" descr="5gl"/>
          <p:cNvPicPr/>
          <p:nvPr/>
        </p:nvPicPr>
        <p:blipFill>
          <a:blip r:embed="rId5"/>
          <a:stretch/>
        </p:blipFill>
        <p:spPr>
          <a:xfrm>
            <a:off x="468360" y="3500280"/>
            <a:ext cx="574560" cy="5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32" descr="6gl"/>
          <p:cNvPicPr/>
          <p:nvPr/>
        </p:nvPicPr>
        <p:blipFill>
          <a:blip r:embed="rId6"/>
          <a:stretch/>
        </p:blipFill>
        <p:spPr>
          <a:xfrm>
            <a:off x="468360" y="4076640"/>
            <a:ext cx="595440" cy="574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33" descr="10gl"/>
          <p:cNvPicPr/>
          <p:nvPr/>
        </p:nvPicPr>
        <p:blipFill>
          <a:blip r:embed="rId7"/>
          <a:stretch/>
        </p:blipFill>
        <p:spPr>
          <a:xfrm>
            <a:off x="3059280" y="981000"/>
            <a:ext cx="649080" cy="596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34" descr="20gl"/>
          <p:cNvPicPr/>
          <p:nvPr/>
        </p:nvPicPr>
        <p:blipFill>
          <a:blip r:embed="rId8"/>
          <a:stretch/>
        </p:blipFill>
        <p:spPr>
          <a:xfrm>
            <a:off x="3059280" y="1628640"/>
            <a:ext cx="655560" cy="64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35" descr="30gl"/>
          <p:cNvPicPr/>
          <p:nvPr/>
        </p:nvPicPr>
        <p:blipFill>
          <a:blip r:embed="rId9"/>
          <a:stretch/>
        </p:blipFill>
        <p:spPr>
          <a:xfrm>
            <a:off x="3059280" y="2349360"/>
            <a:ext cx="647640" cy="595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36" descr="40gl"/>
          <p:cNvPicPr/>
          <p:nvPr/>
        </p:nvPicPr>
        <p:blipFill>
          <a:blip r:embed="rId10"/>
          <a:stretch/>
        </p:blipFill>
        <p:spPr>
          <a:xfrm>
            <a:off x="3059280" y="29973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37" descr="50gl"/>
          <p:cNvPicPr/>
          <p:nvPr/>
        </p:nvPicPr>
        <p:blipFill>
          <a:blip r:embed="rId11"/>
          <a:stretch/>
        </p:blipFill>
        <p:spPr>
          <a:xfrm>
            <a:off x="3059280" y="364500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8" descr="60gl"/>
          <p:cNvPicPr/>
          <p:nvPr/>
        </p:nvPicPr>
        <p:blipFill>
          <a:blip r:embed="rId12"/>
          <a:stretch/>
        </p:blipFill>
        <p:spPr>
          <a:xfrm>
            <a:off x="3059280" y="429264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39" descr="100gl"/>
          <p:cNvPicPr/>
          <p:nvPr/>
        </p:nvPicPr>
        <p:blipFill>
          <a:blip r:embed="rId13"/>
          <a:stretch/>
        </p:blipFill>
        <p:spPr>
          <a:xfrm>
            <a:off x="5580000" y="981000"/>
            <a:ext cx="576360" cy="622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40" descr="200gl"/>
          <p:cNvPicPr/>
          <p:nvPr/>
        </p:nvPicPr>
        <p:blipFill>
          <a:blip r:embed="rId14"/>
          <a:stretch/>
        </p:blipFill>
        <p:spPr>
          <a:xfrm>
            <a:off x="5580000" y="1700280"/>
            <a:ext cx="555840" cy="647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41" descr="300gl"/>
          <p:cNvPicPr/>
          <p:nvPr/>
        </p:nvPicPr>
        <p:blipFill>
          <a:blip r:embed="rId15"/>
          <a:stretch/>
        </p:blipFill>
        <p:spPr>
          <a:xfrm>
            <a:off x="5580000" y="242100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42" descr="400gl"/>
          <p:cNvPicPr/>
          <p:nvPr/>
        </p:nvPicPr>
        <p:blipFill>
          <a:blip r:embed="rId16"/>
          <a:stretch/>
        </p:blipFill>
        <p:spPr>
          <a:xfrm>
            <a:off x="5580000" y="2997360"/>
            <a:ext cx="576360" cy="529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43" descr="500gl"/>
          <p:cNvPicPr/>
          <p:nvPr/>
        </p:nvPicPr>
        <p:blipFill>
          <a:blip r:embed="rId17"/>
          <a:stretch/>
        </p:blipFill>
        <p:spPr>
          <a:xfrm>
            <a:off x="5580000" y="3573360"/>
            <a:ext cx="557280" cy="649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44" descr="600gl"/>
          <p:cNvPicPr/>
          <p:nvPr/>
        </p:nvPicPr>
        <p:blipFill>
          <a:blip r:embed="rId18"/>
          <a:stretch/>
        </p:blipFill>
        <p:spPr>
          <a:xfrm>
            <a:off x="5580000" y="429264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45" descr="1000gl"/>
          <p:cNvPicPr/>
          <p:nvPr/>
        </p:nvPicPr>
        <p:blipFill>
          <a:blip r:embed="rId19"/>
          <a:stretch/>
        </p:blipFill>
        <p:spPr>
          <a:xfrm>
            <a:off x="7956720" y="2349360"/>
            <a:ext cx="718920" cy="662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046"/>
          <p:cNvSpPr/>
          <p:nvPr/>
        </p:nvSpPr>
        <p:spPr>
          <a:xfrm>
            <a:off x="1403280" y="981000"/>
            <a:ext cx="863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047"/>
          <p:cNvSpPr/>
          <p:nvPr/>
        </p:nvSpPr>
        <p:spPr>
          <a:xfrm>
            <a:off x="3924360" y="1052640"/>
            <a:ext cx="792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048"/>
          <p:cNvSpPr/>
          <p:nvPr/>
        </p:nvSpPr>
        <p:spPr>
          <a:xfrm>
            <a:off x="6516720" y="1052640"/>
            <a:ext cx="792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049"/>
          <p:cNvSpPr/>
          <p:nvPr/>
        </p:nvSpPr>
        <p:spPr>
          <a:xfrm>
            <a:off x="795672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1050" descr="7gl"/>
          <p:cNvPicPr/>
          <p:nvPr/>
        </p:nvPicPr>
        <p:blipFill>
          <a:blip r:embed="rId20"/>
          <a:stretch/>
        </p:blipFill>
        <p:spPr>
          <a:xfrm>
            <a:off x="468360" y="4724280"/>
            <a:ext cx="574560" cy="528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51" descr="8gl"/>
          <p:cNvPicPr/>
          <p:nvPr/>
        </p:nvPicPr>
        <p:blipFill>
          <a:blip r:embed="rId21"/>
          <a:stretch/>
        </p:blipFill>
        <p:spPr>
          <a:xfrm>
            <a:off x="468360" y="5300640"/>
            <a:ext cx="557280" cy="576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52" descr="9gl"/>
          <p:cNvPicPr/>
          <p:nvPr/>
        </p:nvPicPr>
        <p:blipFill>
          <a:blip r:embed="rId22"/>
          <a:stretch/>
        </p:blipFill>
        <p:spPr>
          <a:xfrm>
            <a:off x="468360" y="5950080"/>
            <a:ext cx="574560" cy="528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53" descr="70gl"/>
          <p:cNvPicPr/>
          <p:nvPr/>
        </p:nvPicPr>
        <p:blipFill>
          <a:blip r:embed="rId23"/>
          <a:stretch/>
        </p:blipFill>
        <p:spPr>
          <a:xfrm>
            <a:off x="3059280" y="4941720"/>
            <a:ext cx="617400" cy="574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54" descr="80gl"/>
          <p:cNvPicPr/>
          <p:nvPr/>
        </p:nvPicPr>
        <p:blipFill>
          <a:blip r:embed="rId24"/>
          <a:stretch/>
        </p:blipFill>
        <p:spPr>
          <a:xfrm>
            <a:off x="3059280" y="558972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55" descr="90gl"/>
          <p:cNvPicPr/>
          <p:nvPr/>
        </p:nvPicPr>
        <p:blipFill>
          <a:blip r:embed="rId25"/>
          <a:stretch/>
        </p:blipFill>
        <p:spPr>
          <a:xfrm>
            <a:off x="3059280" y="6237360"/>
            <a:ext cx="649080" cy="620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56" descr="700gl"/>
          <p:cNvPicPr/>
          <p:nvPr/>
        </p:nvPicPr>
        <p:blipFill>
          <a:blip r:embed="rId26"/>
          <a:stretch/>
        </p:blipFill>
        <p:spPr>
          <a:xfrm>
            <a:off x="5580000" y="4869000"/>
            <a:ext cx="550800" cy="647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57" descr="800gl"/>
          <p:cNvPicPr/>
          <p:nvPr/>
        </p:nvPicPr>
        <p:blipFill>
          <a:blip r:embed="rId27"/>
          <a:stretch/>
        </p:blipFill>
        <p:spPr>
          <a:xfrm>
            <a:off x="5580000" y="5589720"/>
            <a:ext cx="555840" cy="64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58" descr="900gl"/>
          <p:cNvPicPr/>
          <p:nvPr/>
        </p:nvPicPr>
        <p:blipFill>
          <a:blip r:embed="rId28"/>
          <a:stretch/>
        </p:blipFill>
        <p:spPr>
          <a:xfrm>
            <a:off x="5580000" y="6308640"/>
            <a:ext cx="5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1059"/>
          <p:cNvGrpSpPr/>
          <p:nvPr/>
        </p:nvGrpSpPr>
        <p:grpSpPr>
          <a:xfrm>
            <a:off x="6048360" y="0"/>
            <a:ext cx="3095640" cy="503280"/>
            <a:chOff x="6048360" y="0"/>
            <a:chExt cx="3095640" cy="503280"/>
          </a:xfrm>
        </p:grpSpPr>
        <p:sp>
          <p:nvSpPr>
            <p:cNvPr id="302" name="AutoShape 1060">
              <a:hlinkClick r:id="" action="ppaction://hlinkshowjump?jump=nextslide"/>
            </p:cNvPr>
            <p:cNvSpPr/>
            <p:nvPr/>
          </p:nvSpPr>
          <p:spPr>
            <a:xfrm>
              <a:off x="8209080" y="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Group 1061"/>
            <p:cNvGrpSpPr/>
            <p:nvPr/>
          </p:nvGrpSpPr>
          <p:grpSpPr>
            <a:xfrm>
              <a:off x="6048360" y="0"/>
              <a:ext cx="2016000" cy="503280"/>
              <a:chOff x="6048360" y="0"/>
              <a:chExt cx="2016000" cy="503280"/>
            </a:xfrm>
          </p:grpSpPr>
          <p:sp>
            <p:nvSpPr>
              <p:cNvPr id="304" name="AutoShape 1062">
                <a:hlinkClick r:id="" action="ppaction://hlinkshowjump?jump=previousslide"/>
              </p:cNvPr>
              <p:cNvSpPr/>
              <p:nvPr/>
            </p:nvSpPr>
            <p:spPr>
              <a:xfrm>
                <a:off x="6048360" y="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063">
                <a:hlinkClick r:id="rId29" action="ppaction://hlinksldjump"/>
              </p:cNvPr>
              <p:cNvSpPr/>
              <p:nvPr/>
            </p:nvSpPr>
            <p:spPr>
              <a:xfrm>
                <a:off x="7129440" y="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26"/>
          <p:cNvSpPr/>
          <p:nvPr/>
        </p:nvSpPr>
        <p:spPr>
          <a:xfrm>
            <a:off x="1697760" y="47556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тинская (Римская)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027"/>
          <p:cNvSpPr/>
          <p:nvPr/>
        </p:nvSpPr>
        <p:spPr>
          <a:xfrm>
            <a:off x="2771640" y="1484280"/>
            <a:ext cx="280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Group 1029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309" name="AutoShape 1030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Group 1031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311" name="AutoShape 1032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033"/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26"/>
          <p:cNvSpPr/>
          <p:nvPr/>
        </p:nvSpPr>
        <p:spPr>
          <a:xfrm>
            <a:off x="2086920" y="69156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рабская системы счисл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1027"/>
          <p:cNvSpPr/>
          <p:nvPr/>
        </p:nvSpPr>
        <p:spPr>
          <a:xfrm>
            <a:off x="468360" y="177408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первые такая система, вернее ее зачатки появилась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ревнем Вавилон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чти в то же время она была изобретена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ита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том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нд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ткуда перекочевала на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равийский полуостр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затем и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Европ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Здесь эту систему счисления назвал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рабск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 под этим именем она разошлась по всему миру. Так что, говоря "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рабские чис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надо иметь в виду, ну, хотя б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йски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028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316" name="AutoShape 1029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Group 1030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318" name="AutoShape 1031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032"/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026"/>
          <p:cNvSpPr/>
          <p:nvPr/>
        </p:nvSpPr>
        <p:spPr>
          <a:xfrm>
            <a:off x="1547640" y="33336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иционные системы счисл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8360" y="1397160"/>
          <a:ext cx="8496360" cy="4622760"/>
        </p:xfrm>
        <a:graphic>
          <a:graphicData uri="http://schemas.openxmlformats.org/drawingml/2006/table">
            <a:tbl>
              <a:tblPr/>
              <a:tblGrid>
                <a:gridCol w="3532320"/>
                <a:gridCol w="496404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лфавит язы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сят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, 2, 3, 4, 5, 6, 7, 8, 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во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сьмер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, 2, 3, 4, 5, 6, 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0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1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3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4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5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026"/>
          <p:cNvSpPr/>
          <p:nvPr/>
        </p:nvSpPr>
        <p:spPr>
          <a:xfrm>
            <a:off x="684360" y="1125360"/>
            <a:ext cx="7920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о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перевод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цело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исл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систему счисления с основание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бходимо разделить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статк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Затем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еполное част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полученное от этого деления снова разделить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статк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т.д., пок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следне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част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е станет равным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улю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Получившиеся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статк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ыписать в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братном порядк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611280" y="1052640"/>
            <a:ext cx="619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ы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ем числ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з десятичной системы счисления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8209080" y="635472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3794"/>
                </a:moveTo>
                <a:lnTo>
                  <a:pt x="27063" y="10800"/>
                </a:lnTo>
                <a:lnTo>
                  <a:pt x="1305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755640" y="692280"/>
            <a:ext cx="47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AutoNum type="arabicPlain" startAt="7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37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18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 9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4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2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1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1332000" y="836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826920" y="126828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1979640" y="1484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547640" y="1844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2484360" y="206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1979640" y="2492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2627280" y="31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635280" y="3429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320364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4211640" y="40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3708360" y="4365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8"/>
          <p:cNvSpPr/>
          <p:nvPr/>
        </p:nvSpPr>
        <p:spPr>
          <a:xfrm>
            <a:off x="4716360" y="4724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4356000" y="5084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Group 31"/>
          <p:cNvGrpSpPr/>
          <p:nvPr/>
        </p:nvGrpSpPr>
        <p:grpSpPr>
          <a:xfrm>
            <a:off x="539280" y="1988640"/>
            <a:ext cx="3959280" cy="3888000"/>
            <a:chOff x="539280" y="1988640"/>
            <a:chExt cx="3959280" cy="3888000"/>
          </a:xfrm>
        </p:grpSpPr>
        <p:sp>
          <p:nvSpPr>
            <p:cNvPr id="341" name="Line 20"/>
            <p:cNvSpPr/>
            <p:nvPr/>
          </p:nvSpPr>
          <p:spPr>
            <a:xfrm flipH="1" flipV="1">
              <a:off x="539280" y="1988640"/>
              <a:ext cx="3600360" cy="3887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22"/>
            <p:cNvSpPr/>
            <p:nvPr/>
          </p:nvSpPr>
          <p:spPr>
            <a:xfrm>
              <a:off x="4140000" y="5876640"/>
              <a:ext cx="3585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Text Box 23"/>
          <p:cNvSpPr/>
          <p:nvPr/>
        </p:nvSpPr>
        <p:spPr>
          <a:xfrm>
            <a:off x="684360" y="602136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7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0010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24"/>
          <p:cNvSpPr/>
          <p:nvPr/>
        </p:nvSpPr>
        <p:spPr>
          <a:xfrm>
            <a:off x="826920" y="1413000"/>
            <a:ext cx="43056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25"/>
          <p:cNvSpPr/>
          <p:nvPr/>
        </p:nvSpPr>
        <p:spPr>
          <a:xfrm>
            <a:off x="1332000" y="206064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26"/>
          <p:cNvSpPr/>
          <p:nvPr/>
        </p:nvSpPr>
        <p:spPr>
          <a:xfrm>
            <a:off x="1908000" y="2708280"/>
            <a:ext cx="43056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27"/>
          <p:cNvSpPr/>
          <p:nvPr/>
        </p:nvSpPr>
        <p:spPr>
          <a:xfrm>
            <a:off x="4284720" y="522936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28"/>
          <p:cNvSpPr/>
          <p:nvPr/>
        </p:nvSpPr>
        <p:spPr>
          <a:xfrm>
            <a:off x="3708360" y="458136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Oval 29"/>
          <p:cNvSpPr/>
          <p:nvPr/>
        </p:nvSpPr>
        <p:spPr>
          <a:xfrm>
            <a:off x="3132000" y="393372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30"/>
          <p:cNvSpPr/>
          <p:nvPr/>
        </p:nvSpPr>
        <p:spPr>
          <a:xfrm>
            <a:off x="2556000" y="335772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5651640" y="836640"/>
            <a:ext cx="302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 6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3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1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6516720" y="981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34"/>
          <p:cNvSpPr/>
          <p:nvPr/>
        </p:nvSpPr>
        <p:spPr>
          <a:xfrm>
            <a:off x="7093080" y="1628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35"/>
          <p:cNvSpPr/>
          <p:nvPr/>
        </p:nvSpPr>
        <p:spPr>
          <a:xfrm>
            <a:off x="7596360" y="22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36"/>
          <p:cNvSpPr/>
          <p:nvPr/>
        </p:nvSpPr>
        <p:spPr>
          <a:xfrm>
            <a:off x="8172360" y="292428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37"/>
          <p:cNvSpPr/>
          <p:nvPr/>
        </p:nvSpPr>
        <p:spPr>
          <a:xfrm>
            <a:off x="5867280" y="1413000"/>
            <a:ext cx="100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6659640" y="2060640"/>
            <a:ext cx="100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7093080" y="2708280"/>
            <a:ext cx="100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40"/>
          <p:cNvSpPr/>
          <p:nvPr/>
        </p:nvSpPr>
        <p:spPr>
          <a:xfrm>
            <a:off x="7667640" y="3357720"/>
            <a:ext cx="100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41"/>
          <p:cNvSpPr/>
          <p:nvPr/>
        </p:nvSpPr>
        <p:spPr>
          <a:xfrm>
            <a:off x="7524720" y="342900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42"/>
          <p:cNvSpPr/>
          <p:nvPr/>
        </p:nvSpPr>
        <p:spPr>
          <a:xfrm>
            <a:off x="7020000" y="285264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Oval 43"/>
          <p:cNvSpPr/>
          <p:nvPr/>
        </p:nvSpPr>
        <p:spPr>
          <a:xfrm>
            <a:off x="6516720" y="220500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44"/>
          <p:cNvSpPr/>
          <p:nvPr/>
        </p:nvSpPr>
        <p:spPr>
          <a:xfrm>
            <a:off x="5867280" y="155736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Group 45"/>
          <p:cNvGrpSpPr/>
          <p:nvPr/>
        </p:nvGrpSpPr>
        <p:grpSpPr>
          <a:xfrm>
            <a:off x="5508720" y="1988640"/>
            <a:ext cx="2233080" cy="2088000"/>
            <a:chOff x="5508720" y="1988640"/>
            <a:chExt cx="2233080" cy="2088000"/>
          </a:xfrm>
        </p:grpSpPr>
        <p:sp>
          <p:nvSpPr>
            <p:cNvPr id="365" name="Line 46"/>
            <p:cNvSpPr/>
            <p:nvPr/>
          </p:nvSpPr>
          <p:spPr>
            <a:xfrm flipH="1" flipV="1">
              <a:off x="5508720" y="1988640"/>
              <a:ext cx="2031120" cy="2087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47"/>
            <p:cNvSpPr/>
            <p:nvPr/>
          </p:nvSpPr>
          <p:spPr>
            <a:xfrm>
              <a:off x="7539840" y="4076640"/>
              <a:ext cx="20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Rectangle 48"/>
          <p:cNvSpPr/>
          <p:nvPr/>
        </p:nvSpPr>
        <p:spPr>
          <a:xfrm>
            <a:off x="5536440" y="4724280"/>
            <a:ext cx="312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55"/>
          <p:cNvGrpSpPr/>
          <p:nvPr/>
        </p:nvGrpSpPr>
        <p:grpSpPr>
          <a:xfrm>
            <a:off x="7129440" y="6354720"/>
            <a:ext cx="2014560" cy="503280"/>
            <a:chOff x="7129440" y="6354720"/>
            <a:chExt cx="2014560" cy="503280"/>
          </a:xfrm>
        </p:grpSpPr>
        <p:sp>
          <p:nvSpPr>
            <p:cNvPr id="369" name="AutoShape 50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AutoShape 53"/>
            <p:cNvSpPr/>
            <p:nvPr/>
          </p:nvSpPr>
          <p:spPr>
            <a:xfrm>
              <a:off x="712944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20056" y="3837"/>
                  </a:moveTo>
                  <a:lnTo>
                    <a:pt x="22632" y="6448"/>
                  </a:ln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lnTo>
                    <a:pt x="27019" y="10800"/>
                  </a:lnTo>
                  <a:lnTo>
                    <a:pt x="25365" y="10800"/>
                  </a:lnTo>
                  <a:lnTo>
                    <a:pt x="25365" y="17989"/>
                  </a:lnTo>
                  <a:lnTo>
                    <a:pt x="14747" y="17989"/>
                  </a:lnTo>
                  <a:lnTo>
                    <a:pt x="14747" y="10800"/>
                  </a:lnTo>
                  <a:lnTo>
                    <a:pt x="13093" y="10800"/>
                  </a:lnTo>
                  <a:close/>
                </a:path>
                <a:path fill="darkenLess" w="40112" h="21600">
                  <a:moveTo>
                    <a:pt x="22632" y="6448"/>
                  </a:move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close/>
                </a:path>
                <a:path fill="darkenLess" w="40112" h="21600">
                  <a:moveTo>
                    <a:pt x="19133" y="14299"/>
                  </a:moveTo>
                  <a:lnTo>
                    <a:pt x="20979" y="14299"/>
                  </a:lnTo>
                  <a:lnTo>
                    <a:pt x="20979" y="17989"/>
                  </a:lnTo>
                  <a:lnTo>
                    <a:pt x="25365" y="17989"/>
                  </a:lnTo>
                  <a:lnTo>
                    <a:pt x="25365" y="10800"/>
                  </a:lnTo>
                  <a:lnTo>
                    <a:pt x="14747" y="10800"/>
                  </a:lnTo>
                  <a:lnTo>
                    <a:pt x="14747" y="17989"/>
                  </a:lnTo>
                  <a:lnTo>
                    <a:pt x="19133" y="17989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026"/>
          <p:cNvSpPr/>
          <p:nvPr/>
        </p:nvSpPr>
        <p:spPr>
          <a:xfrm>
            <a:off x="1116000" y="69228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десятичные числа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027"/>
          <p:cNvSpPr/>
          <p:nvPr/>
        </p:nvSpPr>
        <p:spPr>
          <a:xfrm>
            <a:off x="1116000" y="306864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50920" y="1522800"/>
            <a:ext cx="841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Мысль выражать все числа десятью знаками, придавая им кроме значения по форме еще значение по месту, настолько проста, что именно из-за этой простоты трудно понять, насколько она удивительна."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.Лаплас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026"/>
          <p:cNvSpPr/>
          <p:nvPr/>
        </p:nvSpPr>
        <p:spPr>
          <a:xfrm>
            <a:off x="1763640" y="54936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70"/>
          <p:cNvSpPr/>
          <p:nvPr/>
        </p:nvSpPr>
        <p:spPr>
          <a:xfrm>
            <a:off x="2700360" y="692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071"/>
          <p:cNvSpPr/>
          <p:nvPr/>
        </p:nvSpPr>
        <p:spPr>
          <a:xfrm>
            <a:off x="1908000" y="162864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10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072"/>
          <p:cNvSpPr/>
          <p:nvPr/>
        </p:nvSpPr>
        <p:spPr>
          <a:xfrm>
            <a:off x="1908000" y="249228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000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1073"/>
          <p:cNvSpPr/>
          <p:nvPr/>
        </p:nvSpPr>
        <p:spPr>
          <a:xfrm>
            <a:off x="1908000" y="321300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2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10101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1074"/>
          <p:cNvSpPr/>
          <p:nvPr/>
        </p:nvSpPr>
        <p:spPr>
          <a:xfrm>
            <a:off x="1979640" y="414972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0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111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324000" y="69228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о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перевод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ьной десятично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об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систему счисления с основание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бходимо умножить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исанное в той же десятичной системе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затем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робную ча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лученного произведения снова умножить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до тех пор пок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робная ча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е станет равной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улю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ли не будет достигнут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ребуемая точно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Получившиеся результате произведения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целые час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оби выписать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верху вниз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684360" y="90792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ы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ем число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187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1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с точностью до 6 знаков) из десятичной системы счисления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1028"/>
          <p:cNvSpPr/>
          <p:nvPr/>
        </p:nvSpPr>
        <p:spPr>
          <a:xfrm>
            <a:off x="8209080" y="635472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3794"/>
                </a:moveTo>
                <a:lnTo>
                  <a:pt x="27063" y="10800"/>
                </a:lnTo>
                <a:lnTo>
                  <a:pt x="1305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684360" y="476280"/>
            <a:ext cx="180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187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37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7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Group 24"/>
          <p:cNvGrpSpPr/>
          <p:nvPr/>
        </p:nvGrpSpPr>
        <p:grpSpPr>
          <a:xfrm>
            <a:off x="755640" y="620640"/>
            <a:ext cx="1512720" cy="3024360"/>
            <a:chOff x="755640" y="620640"/>
            <a:chExt cx="1512720" cy="3024360"/>
          </a:xfrm>
        </p:grpSpPr>
        <p:sp>
          <p:nvSpPr>
            <p:cNvPr id="384" name="Line 3"/>
            <p:cNvSpPr/>
            <p:nvPr/>
          </p:nvSpPr>
          <p:spPr>
            <a:xfrm>
              <a:off x="755640" y="1125360"/>
              <a:ext cx="15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4"/>
            <p:cNvSpPr/>
            <p:nvPr/>
          </p:nvSpPr>
          <p:spPr>
            <a:xfrm>
              <a:off x="1476360" y="620640"/>
              <a:ext cx="0" cy="302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Line 5"/>
          <p:cNvSpPr/>
          <p:nvPr/>
        </p:nvSpPr>
        <p:spPr>
          <a:xfrm>
            <a:off x="468360" y="692280"/>
            <a:ext cx="0" cy="2808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755640" y="54936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826920" y="1197000"/>
            <a:ext cx="50508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826920" y="1844640"/>
            <a:ext cx="50508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826920" y="2492280"/>
            <a:ext cx="505080" cy="50508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826920" y="3141720"/>
            <a:ext cx="50508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572000" y="765000"/>
            <a:ext cx="42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0,187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0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2916360" y="549360"/>
            <a:ext cx="165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1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2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4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9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9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8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6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… 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25"/>
          <p:cNvGrpSpPr/>
          <p:nvPr/>
        </p:nvGrpSpPr>
        <p:grpSpPr>
          <a:xfrm>
            <a:off x="2987640" y="620640"/>
            <a:ext cx="1297080" cy="4896000"/>
            <a:chOff x="2987640" y="620640"/>
            <a:chExt cx="1297080" cy="4896000"/>
          </a:xfrm>
        </p:grpSpPr>
        <p:sp>
          <p:nvSpPr>
            <p:cNvPr id="395" name="Line 13"/>
            <p:cNvSpPr/>
            <p:nvPr/>
          </p:nvSpPr>
          <p:spPr>
            <a:xfrm>
              <a:off x="2987640" y="1125360"/>
              <a:ext cx="129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3635280" y="620640"/>
              <a:ext cx="0" cy="48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Oval 15"/>
          <p:cNvSpPr/>
          <p:nvPr/>
        </p:nvSpPr>
        <p:spPr>
          <a:xfrm>
            <a:off x="3059280" y="443700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16"/>
          <p:cNvSpPr/>
          <p:nvPr/>
        </p:nvSpPr>
        <p:spPr>
          <a:xfrm>
            <a:off x="3059280" y="378936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17"/>
          <p:cNvSpPr/>
          <p:nvPr/>
        </p:nvSpPr>
        <p:spPr>
          <a:xfrm>
            <a:off x="3059280" y="314172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3059280" y="2492280"/>
            <a:ext cx="504720" cy="50508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Oval 19"/>
          <p:cNvSpPr/>
          <p:nvPr/>
        </p:nvSpPr>
        <p:spPr>
          <a:xfrm>
            <a:off x="3059280" y="184464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20"/>
          <p:cNvSpPr/>
          <p:nvPr/>
        </p:nvSpPr>
        <p:spPr>
          <a:xfrm>
            <a:off x="3059280" y="119700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21"/>
          <p:cNvSpPr/>
          <p:nvPr/>
        </p:nvSpPr>
        <p:spPr>
          <a:xfrm>
            <a:off x="3059280" y="54936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771640" y="620640"/>
            <a:ext cx="0" cy="4753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528080" y="1844640"/>
            <a:ext cx="401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0,12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001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Group 29"/>
          <p:cNvGrpSpPr/>
          <p:nvPr/>
        </p:nvGrpSpPr>
        <p:grpSpPr>
          <a:xfrm>
            <a:off x="7129440" y="6354720"/>
            <a:ext cx="2014560" cy="503280"/>
            <a:chOff x="7129440" y="6354720"/>
            <a:chExt cx="2014560" cy="503280"/>
          </a:xfrm>
        </p:grpSpPr>
        <p:sp>
          <p:nvSpPr>
            <p:cNvPr id="407" name="AutoShape 27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28"/>
            <p:cNvSpPr/>
            <p:nvPr/>
          </p:nvSpPr>
          <p:spPr>
            <a:xfrm>
              <a:off x="712944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20056" y="3837"/>
                  </a:moveTo>
                  <a:lnTo>
                    <a:pt x="22632" y="6448"/>
                  </a:ln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lnTo>
                    <a:pt x="27019" y="10800"/>
                  </a:lnTo>
                  <a:lnTo>
                    <a:pt x="25365" y="10800"/>
                  </a:lnTo>
                  <a:lnTo>
                    <a:pt x="25365" y="17989"/>
                  </a:lnTo>
                  <a:lnTo>
                    <a:pt x="14747" y="17989"/>
                  </a:lnTo>
                  <a:lnTo>
                    <a:pt x="14747" y="10800"/>
                  </a:lnTo>
                  <a:lnTo>
                    <a:pt x="13093" y="10800"/>
                  </a:lnTo>
                  <a:close/>
                </a:path>
                <a:path fill="darkenLess" w="40112" h="21600">
                  <a:moveTo>
                    <a:pt x="22632" y="6448"/>
                  </a:move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close/>
                </a:path>
                <a:path fill="darkenLess" w="40112" h="21600">
                  <a:moveTo>
                    <a:pt x="19133" y="14299"/>
                  </a:moveTo>
                  <a:lnTo>
                    <a:pt x="20979" y="14299"/>
                  </a:lnTo>
                  <a:lnTo>
                    <a:pt x="20979" y="17989"/>
                  </a:lnTo>
                  <a:lnTo>
                    <a:pt x="25365" y="17989"/>
                  </a:lnTo>
                  <a:lnTo>
                    <a:pt x="25365" y="10800"/>
                  </a:lnTo>
                  <a:lnTo>
                    <a:pt x="14747" y="10800"/>
                  </a:lnTo>
                  <a:lnTo>
                    <a:pt x="14747" y="17989"/>
                  </a:lnTo>
                  <a:lnTo>
                    <a:pt x="19133" y="17989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539640" y="620640"/>
            <a:ext cx="7299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десятичные дробные числа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611280" y="2997360"/>
            <a:ext cx="727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0,2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0,3 (с точностью 4 знака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0,7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0,4 (с точностью 4 знака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195640" y="6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619280" y="1628640"/>
            <a:ext cx="58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2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619280" y="2421000"/>
            <a:ext cx="48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7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763640" y="328464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619280" y="306864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3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692360" y="3789360"/>
            <a:ext cx="59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11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468360" y="620640"/>
            <a:ext cx="828036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о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перевода числ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-1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…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1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…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 из системы счисления с основание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 8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 в десятичную систему счисления необходимо вычислить значение многочлен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п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-1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п-1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1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2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-2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т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-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468360" y="549360"/>
            <a:ext cx="77756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ы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ем число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1001,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десятичную систему счисления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179280" y="3213000"/>
            <a:ext cx="8764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Times New Roman"/>
              </a:rPr>
              <a:t>111001,1</a:t>
            </a:r>
            <a:r>
              <a:rPr b="1" lang="ru-RU" sz="2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0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0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ru-RU" sz="2600" spc="-1" strike="noStrike">
                <a:solidFill>
                  <a:srgbClr val="003366"/>
                </a:solidFill>
                <a:latin typeface="Times New Roman"/>
              </a:rPr>
              <a:t>57,5</a:t>
            </a:r>
            <a:r>
              <a:rPr b="1" lang="ru-RU" sz="26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39640" y="2421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ешения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468360" y="836640"/>
            <a:ext cx="669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числа в десятичную систему счисле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68360" y="2997360"/>
            <a:ext cx="7920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1 111, 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10 000, 0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3711600" y="62064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971640" y="170028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111, 0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5, 2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928800" y="292896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 000, 00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6, 12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00"/>
          <p:cNvSpPr/>
          <p:nvPr/>
        </p:nvSpPr>
        <p:spPr>
          <a:xfrm>
            <a:off x="1625040" y="332640"/>
            <a:ext cx="63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иболее известные нумерации ми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101"/>
          <p:cNvSpPr/>
          <p:nvPr/>
        </p:nvSpPr>
        <p:spPr>
          <a:xfrm>
            <a:off x="468360" y="1052640"/>
            <a:ext cx="4465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Древнеегипет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Древнегрече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Вавилон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Нумерация индейцев Май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Старо-Китай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Славянская кирилличе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Славянская глаголиче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Латин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102"/>
          <p:cNvSpPr/>
          <p:nvPr/>
        </p:nvSpPr>
        <p:spPr>
          <a:xfrm>
            <a:off x="5076720" y="177336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9" action="ppaction://hlinksldjump"/>
              </a:rPr>
              <a:t>Современная араб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105">
            <a:hlinkClick r:id="rId10" action="ppaction://hlinksldjump"/>
          </p:cNvPr>
          <p:cNvSpPr/>
          <p:nvPr/>
        </p:nvSpPr>
        <p:spPr>
          <a:xfrm>
            <a:off x="8209080" y="635472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3794"/>
                </a:moveTo>
                <a:lnTo>
                  <a:pt x="27063" y="10800"/>
                </a:lnTo>
                <a:lnTo>
                  <a:pt x="1305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187280" y="981000"/>
            <a:ext cx="6985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машнее задани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числа из десятичной системы счисления в двоичную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0,45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9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812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Переведите число в десятичную систему счисления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0 000, 11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539640" y="907920"/>
            <a:ext cx="80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полнительное зада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419640" y="148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3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75564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910440" y="3429000"/>
            <a:ext cx="381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= 11 111 010 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985680" y="4221000"/>
            <a:ext cx="395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= 101 110 111 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69800" y="582480"/>
          <a:ext cx="8204400" cy="569916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760"/>
                <a:gridCol w="420480"/>
                <a:gridCol w="544680"/>
                <a:gridCol w="482400"/>
                <a:gridCol w="482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348000" y="1125360"/>
          <a:ext cx="4826160" cy="4892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411280" y="1628640"/>
          <a:ext cx="3861000" cy="4892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760"/>
                <a:gridCol w="48240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348000" y="2133720"/>
          <a:ext cx="3378240" cy="48888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348000" y="2637000"/>
          <a:ext cx="3378240" cy="48888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971640" y="3141720"/>
          <a:ext cx="2895480" cy="488880"/>
        </p:xfrm>
        <a:graphic>
          <a:graphicData uri="http://schemas.openxmlformats.org/drawingml/2006/table">
            <a:tbl>
              <a:tblPr/>
              <a:tblGrid>
                <a:gridCol w="482400"/>
                <a:gridCol w="460440"/>
                <a:gridCol w="504720"/>
                <a:gridCol w="482760"/>
                <a:gridCol w="482760"/>
                <a:gridCol w="4824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843280" y="3716280"/>
          <a:ext cx="2413080" cy="48888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  <a:gridCol w="48276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971640" y="4221000"/>
          <a:ext cx="3378240" cy="48924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  <a:gridCol w="48276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403280" y="4724280"/>
          <a:ext cx="2895840" cy="4892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46400"/>
                <a:gridCol w="5191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916360" y="5229360"/>
          <a:ext cx="4343400" cy="48888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  <a:gridCol w="482760"/>
                <a:gridCol w="482400"/>
                <a:gridCol w="48276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13"/>
          <p:cNvSpPr/>
          <p:nvPr/>
        </p:nvSpPr>
        <p:spPr>
          <a:xfrm>
            <a:off x="2488680" y="69156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гипет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185" descr="1eg"/>
          <p:cNvPicPr/>
          <p:nvPr/>
        </p:nvPicPr>
        <p:blipFill>
          <a:blip r:embed="rId1"/>
          <a:stretch/>
        </p:blipFill>
        <p:spPr>
          <a:xfrm>
            <a:off x="324000" y="1557360"/>
            <a:ext cx="1476360" cy="100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186"/>
          <p:cNvSpPr/>
          <p:nvPr/>
        </p:nvSpPr>
        <p:spPr>
          <a:xfrm>
            <a:off x="2411280" y="1412640"/>
            <a:ext cx="61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и большинство людей для счета небольшого количества предметов Египтяне использовали палочк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187" descr="5eg"/>
          <p:cNvPicPr/>
          <p:nvPr/>
        </p:nvPicPr>
        <p:blipFill>
          <a:blip r:embed="rId2"/>
          <a:stretch/>
        </p:blipFill>
        <p:spPr>
          <a:xfrm>
            <a:off x="468360" y="3645000"/>
            <a:ext cx="1439640" cy="144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188"/>
          <p:cNvSpPr/>
          <p:nvPr/>
        </p:nvSpPr>
        <p:spPr>
          <a:xfrm>
            <a:off x="2411280" y="321300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палочек нужно изобразить несколько, то их изображали в два ряда, причем в нижнем должно быть столько же палочек сколько и в верхнем, или на одну больш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195"/>
          <p:cNvGrpSpPr/>
          <p:nvPr/>
        </p:nvGrpSpPr>
        <p:grpSpPr>
          <a:xfrm>
            <a:off x="6372360" y="6354720"/>
            <a:ext cx="2087280" cy="503280"/>
            <a:chOff x="6372360" y="6354720"/>
            <a:chExt cx="2087280" cy="503280"/>
          </a:xfrm>
        </p:grpSpPr>
        <p:sp>
          <p:nvSpPr>
            <p:cNvPr id="165" name="AutoShape 1189">
              <a:hlinkClick r:id="" action="ppaction://hlinkshowjump?jump=nextslide"/>
            </p:cNvPr>
            <p:cNvSpPr/>
            <p:nvPr/>
          </p:nvSpPr>
          <p:spPr>
            <a:xfrm>
              <a:off x="752472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AutoShape 1190">
              <a:hlinkClick r:id="" action="ppaction://hlinkshowjump?jump=previousslide"/>
            </p:cNvPr>
            <p:cNvSpPr/>
            <p:nvPr/>
          </p:nvSpPr>
          <p:spPr>
            <a:xfrm>
              <a:off x="637236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10800"/>
                  </a:moveTo>
                  <a:lnTo>
                    <a:pt x="27063" y="3794"/>
                  </a:lnTo>
                  <a:lnTo>
                    <a:pt x="27063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26" descr="10eg"/>
          <p:cNvPicPr/>
          <p:nvPr/>
        </p:nvPicPr>
        <p:blipFill>
          <a:blip r:embed="rId1"/>
          <a:stretch/>
        </p:blipFill>
        <p:spPr>
          <a:xfrm>
            <a:off x="324000" y="549360"/>
            <a:ext cx="855360" cy="1222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1489320" y="835920"/>
            <a:ext cx="71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ими путами египтяне связывали кор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028" descr="10eg"/>
          <p:cNvPicPr/>
          <p:nvPr/>
        </p:nvPicPr>
        <p:blipFill>
          <a:blip r:embed="rId2"/>
          <a:stretch/>
        </p:blipFill>
        <p:spPr>
          <a:xfrm>
            <a:off x="250920" y="2492280"/>
            <a:ext cx="855720" cy="1222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29" descr="10eg"/>
          <p:cNvPicPr/>
          <p:nvPr/>
        </p:nvPicPr>
        <p:blipFill>
          <a:blip r:embed="rId3"/>
          <a:stretch/>
        </p:blipFill>
        <p:spPr>
          <a:xfrm>
            <a:off x="1042920" y="2492280"/>
            <a:ext cx="855720" cy="122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0" descr="10eg"/>
          <p:cNvPicPr/>
          <p:nvPr/>
        </p:nvPicPr>
        <p:blipFill>
          <a:blip r:embed="rId4"/>
          <a:stretch/>
        </p:blipFill>
        <p:spPr>
          <a:xfrm>
            <a:off x="1835280" y="2492280"/>
            <a:ext cx="855360" cy="1222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31"/>
          <p:cNvSpPr/>
          <p:nvPr/>
        </p:nvSpPr>
        <p:spPr>
          <a:xfrm>
            <a:off x="3059280" y="2060640"/>
            <a:ext cx="543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нужно изобразить несколько десятков, то иероглиф повторяли нужное количество раз. Тоже самое относится и к остальным иероглифам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032" descr="100eg"/>
          <p:cNvPicPr/>
          <p:nvPr/>
        </p:nvPicPr>
        <p:blipFill>
          <a:blip r:embed="rId5"/>
          <a:stretch/>
        </p:blipFill>
        <p:spPr>
          <a:xfrm>
            <a:off x="755640" y="4797360"/>
            <a:ext cx="1058760" cy="1511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33"/>
          <p:cNvSpPr/>
          <p:nvPr/>
        </p:nvSpPr>
        <p:spPr>
          <a:xfrm>
            <a:off x="3132000" y="4868640"/>
            <a:ext cx="463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0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то мерная веревка, которой измеряли земельные участки после разлива Нила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1035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176" name="AutoShape 1036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Group 1037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178" name="AutoShape 1038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AutoShape 1039">
                <a:hlinkClick r:id="rId6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6"/>
          <p:cNvSpPr/>
          <p:nvPr/>
        </p:nvSpPr>
        <p:spPr>
          <a:xfrm>
            <a:off x="1913040" y="4039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евняя грече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027"/>
          <p:cNvSpPr/>
          <p:nvPr/>
        </p:nvSpPr>
        <p:spPr>
          <a:xfrm>
            <a:off x="6732720" y="155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, 2, 3, 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028" descr="1eg"/>
          <p:cNvPicPr/>
          <p:nvPr/>
        </p:nvPicPr>
        <p:blipFill>
          <a:blip r:embed="rId1"/>
          <a:stretch/>
        </p:blipFill>
        <p:spPr>
          <a:xfrm>
            <a:off x="1116000" y="1413000"/>
            <a:ext cx="1079640" cy="8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3" descr="2eg"/>
          <p:cNvPicPr/>
          <p:nvPr/>
        </p:nvPicPr>
        <p:blipFill>
          <a:blip r:embed="rId2"/>
          <a:stretch/>
        </p:blipFill>
        <p:spPr>
          <a:xfrm>
            <a:off x="2340000" y="1413000"/>
            <a:ext cx="1079640" cy="8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4" descr="3eg"/>
          <p:cNvPicPr/>
          <p:nvPr/>
        </p:nvPicPr>
        <p:blipFill>
          <a:blip r:embed="rId3"/>
          <a:stretch/>
        </p:blipFill>
        <p:spPr>
          <a:xfrm>
            <a:off x="3564000" y="1413000"/>
            <a:ext cx="1079280" cy="8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35" descr="4eg"/>
          <p:cNvPicPr/>
          <p:nvPr/>
        </p:nvPicPr>
        <p:blipFill>
          <a:blip r:embed="rId4"/>
          <a:stretch/>
        </p:blipFill>
        <p:spPr>
          <a:xfrm>
            <a:off x="4859280" y="1413000"/>
            <a:ext cx="1079640" cy="852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6789_gr"/>
          <p:cNvPicPr/>
          <p:nvPr/>
        </p:nvPicPr>
        <p:blipFill>
          <a:blip r:embed="rId5"/>
          <a:stretch/>
        </p:blipFill>
        <p:spPr>
          <a:xfrm>
            <a:off x="971640" y="2781360"/>
            <a:ext cx="5040360" cy="863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6806520" y="28519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, 7, 8, 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038" descr="10_gr"/>
          <p:cNvPicPr/>
          <p:nvPr/>
        </p:nvPicPr>
        <p:blipFill>
          <a:blip r:embed="rId6"/>
          <a:stretch/>
        </p:blipFill>
        <p:spPr>
          <a:xfrm>
            <a:off x="2843280" y="3933720"/>
            <a:ext cx="1222200" cy="1606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39"/>
          <p:cNvSpPr/>
          <p:nvPr/>
        </p:nvSpPr>
        <p:spPr>
          <a:xfrm>
            <a:off x="680400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1045"/>
          <p:cNvGrpSpPr/>
          <p:nvPr/>
        </p:nvGrpSpPr>
        <p:grpSpPr>
          <a:xfrm>
            <a:off x="7056360" y="6354720"/>
            <a:ext cx="2087280" cy="503280"/>
            <a:chOff x="7056360" y="6354720"/>
            <a:chExt cx="2087280" cy="503280"/>
          </a:xfrm>
        </p:grpSpPr>
        <p:sp>
          <p:nvSpPr>
            <p:cNvPr id="191" name="AutoShape 1046">
              <a:hlinkClick r:id="" action="ppaction://hlinkshowjump?jump=nextslide"/>
            </p:cNvPr>
            <p:cNvSpPr/>
            <p:nvPr/>
          </p:nvSpPr>
          <p:spPr>
            <a:xfrm>
              <a:off x="820872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utoShape 1047">
              <a:hlinkClick r:id="" action="ppaction://hlinkshowjump?jump=previousslide"/>
            </p:cNvPr>
            <p:cNvSpPr/>
            <p:nvPr/>
          </p:nvSpPr>
          <p:spPr>
            <a:xfrm>
              <a:off x="705636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10800"/>
                  </a:moveTo>
                  <a:lnTo>
                    <a:pt x="27063" y="3794"/>
                  </a:lnTo>
                  <a:lnTo>
                    <a:pt x="27063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_9_gr"/>
          <p:cNvPicPr/>
          <p:nvPr/>
        </p:nvPicPr>
        <p:blipFill>
          <a:blip r:embed="rId1"/>
          <a:stretch/>
        </p:blipFill>
        <p:spPr>
          <a:xfrm>
            <a:off x="395280" y="1341360"/>
            <a:ext cx="8352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10_90_gr"/>
          <p:cNvPicPr/>
          <p:nvPr/>
        </p:nvPicPr>
        <p:blipFill>
          <a:blip r:embed="rId2"/>
          <a:stretch/>
        </p:blipFill>
        <p:spPr>
          <a:xfrm>
            <a:off x="395280" y="2852640"/>
            <a:ext cx="8353440" cy="7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100_90gr"/>
          <p:cNvPicPr/>
          <p:nvPr/>
        </p:nvPicPr>
        <p:blipFill>
          <a:blip r:embed="rId3"/>
          <a:stretch/>
        </p:blipFill>
        <p:spPr>
          <a:xfrm>
            <a:off x="395280" y="4292640"/>
            <a:ext cx="8424720" cy="6490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5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197" name="AutoShape 6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199" name="AutoShape 8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9">
                <a:hlinkClick r:id="rId4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399040" y="61524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вилон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3" descr="1_bab"/>
          <p:cNvPicPr/>
          <p:nvPr/>
        </p:nvPicPr>
        <p:blipFill>
          <a:blip r:embed="rId1"/>
          <a:stretch/>
        </p:blipFill>
        <p:spPr>
          <a:xfrm>
            <a:off x="684360" y="2492280"/>
            <a:ext cx="934920" cy="151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05092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10_bab"/>
          <p:cNvPicPr/>
          <p:nvPr/>
        </p:nvPicPr>
        <p:blipFill>
          <a:blip r:embed="rId2"/>
          <a:stretch/>
        </p:blipFill>
        <p:spPr>
          <a:xfrm>
            <a:off x="3276720" y="2349360"/>
            <a:ext cx="895320" cy="158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4500720" y="292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7" descr="0_bab"/>
          <p:cNvPicPr/>
          <p:nvPr/>
        </p:nvPicPr>
        <p:blipFill>
          <a:blip r:embed="rId3"/>
          <a:stretch/>
        </p:blipFill>
        <p:spPr>
          <a:xfrm>
            <a:off x="5796000" y="2421000"/>
            <a:ext cx="865080" cy="1582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752472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867280" y="6093000"/>
            <a:ext cx="3095640" cy="502920"/>
            <a:chOff x="5867280" y="6093000"/>
            <a:chExt cx="3095640" cy="502920"/>
          </a:xfrm>
        </p:grpSpPr>
        <p:sp>
          <p:nvSpPr>
            <p:cNvPr id="209" name="AutoShape 10">
              <a:hlinkClick r:id="" action="ppaction://hlinkshowjump?jump=nextslide"/>
            </p:cNvPr>
            <p:cNvSpPr/>
            <p:nvPr/>
          </p:nvSpPr>
          <p:spPr>
            <a:xfrm>
              <a:off x="8028000" y="6093000"/>
              <a:ext cx="934920" cy="50292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2920"/>
                <a:gd name="textAreaBottom" fmla="*/ 470520 h 502920"/>
              </a:gdLst>
              <a:ahLst/>
              <a:rect l="textAreaLeft" t="textAreaTop" r="textAreaRight" b="textAreaBottom"/>
              <a:pathLst>
                <a:path w="40141" h="21600">
                  <a:moveTo>
                    <a:pt x="0" y="0"/>
                  </a:moveTo>
                  <a:lnTo>
                    <a:pt x="40141" y="0"/>
                  </a:lnTo>
                  <a:lnTo>
                    <a:pt x="40141" y="21600"/>
                  </a:lnTo>
                  <a:lnTo>
                    <a:pt x="0" y="21600"/>
                  </a:lnTo>
                  <a:close/>
                </a:path>
                <a:path fill="lightenLess" w="40141" h="21600">
                  <a:moveTo>
                    <a:pt x="0" y="0"/>
                  </a:moveTo>
                  <a:lnTo>
                    <a:pt x="40141" y="0"/>
                  </a:lnTo>
                  <a:lnTo>
                    <a:pt x="38741" y="1400"/>
                  </a:lnTo>
                  <a:lnTo>
                    <a:pt x="1400" y="1400"/>
                  </a:lnTo>
                  <a:close/>
                </a:path>
                <a:path fill="darken" w="40141" h="21600">
                  <a:moveTo>
                    <a:pt x="40141" y="0"/>
                  </a:moveTo>
                  <a:lnTo>
                    <a:pt x="40141" y="21600"/>
                  </a:lnTo>
                  <a:lnTo>
                    <a:pt x="38741" y="20200"/>
                  </a:lnTo>
                  <a:lnTo>
                    <a:pt x="38741" y="1400"/>
                  </a:lnTo>
                  <a:close/>
                </a:path>
                <a:path fill="darkenLess" w="40141" h="21600">
                  <a:moveTo>
                    <a:pt x="401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41" y="20200"/>
                  </a:lnTo>
                  <a:close/>
                </a:path>
                <a:path fill="lighten" w="401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41" h="21600">
                  <a:moveTo>
                    <a:pt x="13064" y="3794"/>
                  </a:moveTo>
                  <a:lnTo>
                    <a:pt x="27077" y="10800"/>
                  </a:lnTo>
                  <a:lnTo>
                    <a:pt x="13064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Group 11"/>
            <p:cNvGrpSpPr/>
            <p:nvPr/>
          </p:nvGrpSpPr>
          <p:grpSpPr>
            <a:xfrm>
              <a:off x="5867280" y="6093000"/>
              <a:ext cx="2016000" cy="502920"/>
              <a:chOff x="5867280" y="6093000"/>
              <a:chExt cx="2016000" cy="502920"/>
            </a:xfrm>
          </p:grpSpPr>
          <p:sp>
            <p:nvSpPr>
              <p:cNvPr id="211" name="AutoShape 12">
                <a:hlinkClick r:id="" action="ppaction://hlinkshowjump?jump=previousslide"/>
              </p:cNvPr>
              <p:cNvSpPr/>
              <p:nvPr/>
            </p:nvSpPr>
            <p:spPr>
              <a:xfrm>
                <a:off x="5867280" y="6093000"/>
                <a:ext cx="934920" cy="50292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2920"/>
                  <a:gd name="textAreaBottom" fmla="*/ 470520 h 502920"/>
                </a:gdLst>
                <a:ahLst/>
                <a:rect l="textAreaLeft" t="textAreaTop" r="textAreaRight" b="textAreaBottom"/>
                <a:pathLst>
                  <a:path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40141" y="21600"/>
                    </a:lnTo>
                    <a:lnTo>
                      <a:pt x="0" y="21600"/>
                    </a:lnTo>
                    <a:close/>
                  </a:path>
                  <a:path fill="lightenLess"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38741" y="1400"/>
                    </a:lnTo>
                    <a:lnTo>
                      <a:pt x="1400" y="1400"/>
                    </a:lnTo>
                    <a:close/>
                  </a:path>
                  <a:path fill="darken" w="40141" h="21600">
                    <a:moveTo>
                      <a:pt x="40141" y="0"/>
                    </a:moveTo>
                    <a:lnTo>
                      <a:pt x="40141" y="21600"/>
                    </a:lnTo>
                    <a:lnTo>
                      <a:pt x="38741" y="20200"/>
                    </a:lnTo>
                    <a:lnTo>
                      <a:pt x="38741" y="1400"/>
                    </a:lnTo>
                    <a:close/>
                  </a:path>
                  <a:path fill="darkenLess" w="40141" h="21600">
                    <a:moveTo>
                      <a:pt x="4014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41" y="20200"/>
                    </a:lnTo>
                    <a:close/>
                  </a:path>
                  <a:path fill="lighten" w="4014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41" h="21600">
                    <a:moveTo>
                      <a:pt x="13064" y="10800"/>
                    </a:moveTo>
                    <a:lnTo>
                      <a:pt x="27077" y="3794"/>
                    </a:lnTo>
                    <a:lnTo>
                      <a:pt x="27077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13">
                <a:hlinkClick r:id="rId4" action="ppaction://hlinksldjump"/>
              </p:cNvPr>
              <p:cNvSpPr/>
              <p:nvPr/>
            </p:nvSpPr>
            <p:spPr>
              <a:xfrm>
                <a:off x="6948360" y="6093000"/>
                <a:ext cx="934920" cy="50292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2920"/>
                  <a:gd name="textAreaBottom" fmla="*/ 470520 h 502920"/>
                </a:gdLst>
                <a:ahLst/>
                <a:rect l="textAreaLeft" t="textAreaTop" r="textAreaRight" b="textAreaBottom"/>
                <a:pathLst>
                  <a:path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40141" y="21600"/>
                    </a:lnTo>
                    <a:lnTo>
                      <a:pt x="0" y="21600"/>
                    </a:lnTo>
                    <a:close/>
                  </a:path>
                  <a:path fill="lightenLess"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38741" y="1400"/>
                    </a:lnTo>
                    <a:lnTo>
                      <a:pt x="1400" y="1400"/>
                    </a:lnTo>
                    <a:close/>
                  </a:path>
                  <a:path fill="darken" w="40141" h="21600">
                    <a:moveTo>
                      <a:pt x="40141" y="0"/>
                    </a:moveTo>
                    <a:lnTo>
                      <a:pt x="40141" y="21600"/>
                    </a:lnTo>
                    <a:lnTo>
                      <a:pt x="38741" y="20200"/>
                    </a:lnTo>
                    <a:lnTo>
                      <a:pt x="38741" y="1400"/>
                    </a:lnTo>
                    <a:close/>
                  </a:path>
                  <a:path fill="darkenLess" w="40141" h="21600">
                    <a:moveTo>
                      <a:pt x="4014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41" y="20200"/>
                    </a:lnTo>
                    <a:close/>
                  </a:path>
                  <a:path fill="lighten" w="4014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41" h="21600">
                    <a:moveTo>
                      <a:pt x="20070" y="3837"/>
                    </a:moveTo>
                    <a:lnTo>
                      <a:pt x="22647" y="6448"/>
                    </a:lnTo>
                    <a:lnTo>
                      <a:pt x="22647" y="4707"/>
                    </a:lnTo>
                    <a:lnTo>
                      <a:pt x="24422" y="4707"/>
                    </a:lnTo>
                    <a:lnTo>
                      <a:pt x="24422" y="8224"/>
                    </a:lnTo>
                    <a:lnTo>
                      <a:pt x="27033" y="10800"/>
                    </a:lnTo>
                    <a:lnTo>
                      <a:pt x="25380" y="10800"/>
                    </a:lnTo>
                    <a:lnTo>
                      <a:pt x="25380" y="17989"/>
                    </a:lnTo>
                    <a:lnTo>
                      <a:pt x="14761" y="17989"/>
                    </a:lnTo>
                    <a:lnTo>
                      <a:pt x="14761" y="10800"/>
                    </a:lnTo>
                    <a:lnTo>
                      <a:pt x="13107" y="10800"/>
                    </a:lnTo>
                    <a:close/>
                  </a:path>
                  <a:path fill="darkenLess" w="40141" h="21600">
                    <a:moveTo>
                      <a:pt x="22647" y="6448"/>
                    </a:moveTo>
                    <a:lnTo>
                      <a:pt x="22647" y="4707"/>
                    </a:lnTo>
                    <a:lnTo>
                      <a:pt x="24422" y="4707"/>
                    </a:lnTo>
                    <a:lnTo>
                      <a:pt x="24422" y="8224"/>
                    </a:lnTo>
                    <a:close/>
                  </a:path>
                  <a:path fill="darkenLess" w="40141" h="21600">
                    <a:moveTo>
                      <a:pt x="19148" y="14299"/>
                    </a:moveTo>
                    <a:lnTo>
                      <a:pt x="20993" y="14299"/>
                    </a:lnTo>
                    <a:lnTo>
                      <a:pt x="20993" y="17989"/>
                    </a:lnTo>
                    <a:lnTo>
                      <a:pt x="25380" y="17989"/>
                    </a:lnTo>
                    <a:lnTo>
                      <a:pt x="25380" y="10800"/>
                    </a:lnTo>
                    <a:lnTo>
                      <a:pt x="14761" y="10800"/>
                    </a:lnTo>
                    <a:lnTo>
                      <a:pt x="14761" y="17989"/>
                    </a:lnTo>
                    <a:lnTo>
                      <a:pt x="19148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26"/>
          <p:cNvSpPr/>
          <p:nvPr/>
        </p:nvSpPr>
        <p:spPr>
          <a:xfrm>
            <a:off x="2195640" y="4723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умерация индейцев Май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1132" descr="1my"/>
          <p:cNvPicPr/>
          <p:nvPr/>
        </p:nvPicPr>
        <p:blipFill>
          <a:blip r:embed="rId1"/>
          <a:stretch/>
        </p:blipFill>
        <p:spPr>
          <a:xfrm>
            <a:off x="539640" y="155736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33" descr="2my"/>
          <p:cNvPicPr/>
          <p:nvPr/>
        </p:nvPicPr>
        <p:blipFill>
          <a:blip r:embed="rId2"/>
          <a:stretch/>
        </p:blipFill>
        <p:spPr>
          <a:xfrm>
            <a:off x="539640" y="2133720"/>
            <a:ext cx="1584360" cy="50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34" descr="3my"/>
          <p:cNvPicPr/>
          <p:nvPr/>
        </p:nvPicPr>
        <p:blipFill>
          <a:blip r:embed="rId3"/>
          <a:stretch/>
        </p:blipFill>
        <p:spPr>
          <a:xfrm>
            <a:off x="539640" y="2781360"/>
            <a:ext cx="1584360" cy="48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35" descr="4my"/>
          <p:cNvPicPr/>
          <p:nvPr/>
        </p:nvPicPr>
        <p:blipFill>
          <a:blip r:embed="rId4"/>
          <a:stretch/>
        </p:blipFill>
        <p:spPr>
          <a:xfrm>
            <a:off x="611280" y="3429000"/>
            <a:ext cx="1512720" cy="469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36" descr="5my"/>
          <p:cNvPicPr/>
          <p:nvPr/>
        </p:nvPicPr>
        <p:blipFill>
          <a:blip r:embed="rId5"/>
          <a:stretch/>
        </p:blipFill>
        <p:spPr>
          <a:xfrm>
            <a:off x="611280" y="4076640"/>
            <a:ext cx="1512720" cy="503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37" descr="6my"/>
          <p:cNvPicPr/>
          <p:nvPr/>
        </p:nvPicPr>
        <p:blipFill>
          <a:blip r:embed="rId6"/>
          <a:stretch/>
        </p:blipFill>
        <p:spPr>
          <a:xfrm>
            <a:off x="3348000" y="1557360"/>
            <a:ext cx="1511280" cy="503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38" descr="7my"/>
          <p:cNvPicPr/>
          <p:nvPr/>
        </p:nvPicPr>
        <p:blipFill>
          <a:blip r:embed="rId7"/>
          <a:stretch/>
        </p:blipFill>
        <p:spPr>
          <a:xfrm>
            <a:off x="3348000" y="2205000"/>
            <a:ext cx="1511280" cy="43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39" descr="8my"/>
          <p:cNvPicPr/>
          <p:nvPr/>
        </p:nvPicPr>
        <p:blipFill>
          <a:blip r:embed="rId8"/>
          <a:stretch/>
        </p:blipFill>
        <p:spPr>
          <a:xfrm>
            <a:off x="3348000" y="2852640"/>
            <a:ext cx="1511280" cy="50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88" descr="9my"/>
          <p:cNvPicPr/>
          <p:nvPr/>
        </p:nvPicPr>
        <p:blipFill>
          <a:blip r:embed="rId9"/>
          <a:stretch/>
        </p:blipFill>
        <p:spPr>
          <a:xfrm>
            <a:off x="3348000" y="3500280"/>
            <a:ext cx="1511280" cy="478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89" descr="10my"/>
          <p:cNvPicPr/>
          <p:nvPr/>
        </p:nvPicPr>
        <p:blipFill>
          <a:blip r:embed="rId10"/>
          <a:stretch/>
        </p:blipFill>
        <p:spPr>
          <a:xfrm>
            <a:off x="3348000" y="4149720"/>
            <a:ext cx="1584360" cy="50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90" descr="11my"/>
          <p:cNvPicPr/>
          <p:nvPr/>
        </p:nvPicPr>
        <p:blipFill>
          <a:blip r:embed="rId11"/>
          <a:stretch/>
        </p:blipFill>
        <p:spPr>
          <a:xfrm>
            <a:off x="6084720" y="1484280"/>
            <a:ext cx="1511640" cy="49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91" descr="12my"/>
          <p:cNvPicPr/>
          <p:nvPr/>
        </p:nvPicPr>
        <p:blipFill>
          <a:blip r:embed="rId12"/>
          <a:stretch/>
        </p:blipFill>
        <p:spPr>
          <a:xfrm>
            <a:off x="6084720" y="2060640"/>
            <a:ext cx="1511640" cy="490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92" descr="13my"/>
          <p:cNvPicPr/>
          <p:nvPr/>
        </p:nvPicPr>
        <p:blipFill>
          <a:blip r:embed="rId13"/>
          <a:stretch/>
        </p:blipFill>
        <p:spPr>
          <a:xfrm>
            <a:off x="6084720" y="2708280"/>
            <a:ext cx="1511640" cy="523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93" descr="15my"/>
          <p:cNvPicPr/>
          <p:nvPr/>
        </p:nvPicPr>
        <p:blipFill>
          <a:blip r:embed="rId14"/>
          <a:stretch/>
        </p:blipFill>
        <p:spPr>
          <a:xfrm>
            <a:off x="6084720" y="3357720"/>
            <a:ext cx="1513080" cy="48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94" descr="19my"/>
          <p:cNvPicPr/>
          <p:nvPr/>
        </p:nvPicPr>
        <p:blipFill>
          <a:blip r:embed="rId15"/>
          <a:stretch/>
        </p:blipFill>
        <p:spPr>
          <a:xfrm>
            <a:off x="6084720" y="4076640"/>
            <a:ext cx="1511640" cy="51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95" descr="20my"/>
          <p:cNvPicPr/>
          <p:nvPr/>
        </p:nvPicPr>
        <p:blipFill>
          <a:blip r:embed="rId16"/>
          <a:stretch/>
        </p:blipFill>
        <p:spPr>
          <a:xfrm>
            <a:off x="2556000" y="5445000"/>
            <a:ext cx="1439640" cy="540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96"/>
          <p:cNvSpPr/>
          <p:nvPr/>
        </p:nvSpPr>
        <p:spPr>
          <a:xfrm>
            <a:off x="2411280" y="1413000"/>
            <a:ext cx="64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97"/>
          <p:cNvSpPr/>
          <p:nvPr/>
        </p:nvSpPr>
        <p:spPr>
          <a:xfrm>
            <a:off x="5076720" y="1484280"/>
            <a:ext cx="719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198"/>
          <p:cNvSpPr/>
          <p:nvPr/>
        </p:nvSpPr>
        <p:spPr>
          <a:xfrm>
            <a:off x="7956720" y="1484280"/>
            <a:ext cx="790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99"/>
          <p:cNvSpPr/>
          <p:nvPr/>
        </p:nvSpPr>
        <p:spPr>
          <a:xfrm>
            <a:off x="4500720" y="544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или 2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1200"/>
          <p:cNvGrpSpPr/>
          <p:nvPr/>
        </p:nvGrpSpPr>
        <p:grpSpPr>
          <a:xfrm>
            <a:off x="5867280" y="6165720"/>
            <a:ext cx="3095640" cy="503280"/>
            <a:chOff x="5867280" y="6165720"/>
            <a:chExt cx="3095640" cy="503280"/>
          </a:xfrm>
        </p:grpSpPr>
        <p:sp>
          <p:nvSpPr>
            <p:cNvPr id="235" name="AutoShape 1201">
              <a:hlinkClick r:id="" action="ppaction://hlinkshowjump?jump=nextslide"/>
            </p:cNvPr>
            <p:cNvSpPr/>
            <p:nvPr/>
          </p:nvSpPr>
          <p:spPr>
            <a:xfrm>
              <a:off x="8028000" y="6165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Group 1202"/>
            <p:cNvGrpSpPr/>
            <p:nvPr/>
          </p:nvGrpSpPr>
          <p:grpSpPr>
            <a:xfrm>
              <a:off x="5867280" y="6165720"/>
              <a:ext cx="2016000" cy="503280"/>
              <a:chOff x="5867280" y="6165720"/>
              <a:chExt cx="2016000" cy="503280"/>
            </a:xfrm>
          </p:grpSpPr>
          <p:sp>
            <p:nvSpPr>
              <p:cNvPr id="237" name="AutoShape 1203">
                <a:hlinkClick r:id="" action="ppaction://hlinkshowjump?jump=previousslide"/>
              </p:cNvPr>
              <p:cNvSpPr/>
              <p:nvPr/>
            </p:nvSpPr>
            <p:spPr>
              <a:xfrm>
                <a:off x="5867280" y="6165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utoShape 1204">
                <a:hlinkClick r:id="rId17" action="ppaction://hlinksldjump"/>
              </p:cNvPr>
              <p:cNvSpPr/>
              <p:nvPr/>
            </p:nvSpPr>
            <p:spPr>
              <a:xfrm>
                <a:off x="6948360" y="6165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8:30:47Z</dcterms:created>
  <dc:creator>степановы</dc:creator>
  <dc:description/>
  <dc:language>en-US</dc:language>
  <cp:lastModifiedBy>Admin</cp:lastModifiedBy>
  <dcterms:modified xsi:type="dcterms:W3CDTF">2010-11-05T05:17:12Z</dcterms:modified>
  <cp:revision>57</cp:revision>
  <dc:subject/>
  <dc:title>Слайд 1</dc:title>
</cp:coreProperties>
</file>