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9EE-6F61-4BDF-97E4-FE39D586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73D-5B0C-47D7-B564-7C6D5779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963-859C-4B65-BCBC-7808D5BF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451-1607-4F8F-92B0-4A70373E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D15-CFA2-4F01-BB36-6687655E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1DFF-7922-499E-84EA-DE03A7E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1EDA-E2A5-46D0-B769-6F7F6ACF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3A8-48D9-4CFD-97E1-B5B4C245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EC4E-0604-469C-8F74-A5A1C95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399-32EE-4ED7-AAEF-0BD2F52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CB6-9847-4ACD-B5C4-AF2456D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B3A-1A08-4785-94B3-D2FC7C01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6509-7DDC-4CC4-BA11-578B191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B06-0BFE-4E5A-942F-F3FEC854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F8EB-A1AD-4B37-BD00-0BA3315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D216-3086-436D-8087-00B78B2D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4D93-C11A-4F93-B580-C605FBB2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135-9A01-4EB1-96BF-78FB3A3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F3C-1FDD-4E4E-AB62-BE0CD0D2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C83-7182-47F9-A99D-B5F0B5FE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A59-FBB6-40C5-B5B9-919E1E2A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240-F425-4E39-8C5F-B878843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71F-9F78-43CD-A38C-612CC95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3AF-A70E-4FB2-AE5D-6EC661A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78D0-C6B2-4EFE-85FA-4062C7EDA0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47E-B39D-40C4-B56F-F3BF6DC03F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корость химических реакций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Концентрация реагирующих веществ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Закон действующих мас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Математически зависимость скорости от концентрации для реакции: 2А+В=АВ выражается следующим образ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4149720"/>
            <a:ext cx="4502160" cy="204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58920" y="2997360"/>
                <a:ext cx="3622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64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64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Катализатор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Катализаторы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– это вещества, участвующие в химической реакции и изменяющие ее скорость или направление, но по окончании реакции остающиеся неизменными качественно и количе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Изменение скорости химической реакции или ее направления с помощью катализатора называют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. Катализаторы широко используют в различных отраслях промышленности и на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53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28000" y="6237360"/>
            <a:ext cx="576360" cy="43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152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пробуй с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В 2 пробирки налить по 2 мл раствора медного купороса и добавить гранулы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В одну из пробирок добавить несколько кристаллов хлорида нат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Что наблюд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Запишите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00000" y="5229360"/>
                <a:ext cx="8064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l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e>
                    </m:acc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Поверхность соприкосновения реагирующих веществ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(попробуй сам)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Налейте в 2 пробирки уксусной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Добавьте в 1 пробирку кусочек м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Во 2 пробирку порошок м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Напишите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Как зависит скорость реакции от площади соприкосновения вещест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Проверь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4000" y="5445000"/>
                <a:ext cx="8640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OH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O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508720" y="3357720"/>
            <a:ext cx="808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Химические реакции протекают с разными скорост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чень быстро проходят реакции в водных растворах, практически мгновенно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537080" cy="652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35701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Скорость гомогенной реакции определяется как изменение концентрации одного из веществ в единицу времен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если объем системы не меня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55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Скорость гетерогенной реакции определяется как изменение количества вещества в единицу времени на единице поверх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где S — площадь поверхности соприкосновения веществ (м2,см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26920" y="2852640"/>
                <a:ext cx="324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∗</m:t>
                        </m:r>
                        <m:r>
                          <m:t xml:space="preserve">с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580000" y="2637000"/>
                <a:ext cx="30974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  <m:r>
                          <m:t xml:space="preserve">∗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с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Факторов влияющие на скорость химической реакци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Природа реагирующих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Температ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Концентрация реагирующих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Катализ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Площадь соприкосновения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Природа реагирующих веществ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788000" cy="46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1486080"/>
            <a:ext cx="4427640" cy="467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9091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35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651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6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пробуй с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Налейте в две пробирки соляную и уксусную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каждую пробирку добавьте кусочек ц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Напишите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какой пробирке реакция протекает быстре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Проверь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00000" y="4653000"/>
                <a:ext cx="74170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HC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↑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↑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Garamond"/>
              </a:rPr>
              <a:t>Выполни эксперимент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2 пробирки налей те уксусной кислоты и добавьте несколько гранул ц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Одну пробирку нагре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какой из пробирок реакция идет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Как влияет температура на скорость реа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Температур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ри повышении температуры в большинстве случаев скорость   химической реакции значительно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В прошлом веке голландский химик Я. Х. Вант-Гофф сформулировал прави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Повышение температуры на каждые 10 °С приводит к увеличению скорости реакции в 2–4 раза (эту величину называют </a:t>
            </a:r>
            <a:r>
              <a:rPr b="1" i="1" lang="ru-RU" sz="2000" spc="-1" strike="noStrike">
                <a:solidFill>
                  <a:srgbClr val="cc9900"/>
                </a:solidFill>
                <a:latin typeface="Arial"/>
              </a:rPr>
              <a:t>температурным коэффициентом реакции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ри повышении температуры средняя скорость молекул, их энергия, число столкновений увеличиваются незначительно, зато резко повышается доля «активных» молекул, участвующих в эффективных соударениях, преодолевающих энергетический барьер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Математически эта зависимость выражается соотнош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42320" y="3039120"/>
            <a:ext cx="225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5013360"/>
            <a:ext cx="5977080" cy="161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28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Выполни эксперимент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 1 пробирку налей раствор НС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о 2 пробирку концетр. НС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 каждую пробирку добавь гранулы ц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 какой пробирке реакция идет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Как влияет концентрация реагирующих веществ на скорость реакции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4:53:55Z</dcterms:created>
  <dc:creator>Userrr</dc:creator>
  <dc:description/>
  <dc:language>en-US</dc:language>
  <cp:lastModifiedBy>Home</cp:lastModifiedBy>
  <dcterms:modified xsi:type="dcterms:W3CDTF">2012-12-19T17:49:59Z</dcterms:modified>
  <cp:revision>19</cp:revision>
  <dc:subject/>
  <dc:title>Скорость химических реакций </dc:title>
</cp:coreProperties>
</file>