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45C-D4A9-4B3F-9F07-F50338A4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EEB-63E1-4FAA-B054-CCA4263B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51A-DE6A-401B-BB86-7EE23A0B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DA7-6E5A-4510-9A2F-F8D7E3BA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8FD7-A525-4F77-BBE6-47EB99C9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D0BB-8570-4BE7-BCEC-6E8EA7FE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A195-FF90-44A5-A7EE-12EA4363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EA16-3F27-484B-8918-A1B43D79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C4E0-686E-4A40-8E44-941692BE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E944-DC0E-4D49-A4D6-7600E6BF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BF3D-43FE-4163-AABF-3766C5EE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D52-9033-482B-A06C-C2496309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46E8-6D52-4CEB-B194-8BA9F39E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A953-BE3B-421A-BA11-8F8C06F4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7B39-3472-4D9D-9E46-E5975DFB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80AB-CFDC-4D59-8997-F6E2B634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44C3-9FC2-4D88-980B-0500FD4C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CFD-3639-45A2-B6A9-33AB13B7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107-F26F-42E4-8B1E-38F703B6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F58-A309-4C46-8E6E-9628FB65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B05-85BE-4D51-ADCD-557A0BB4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65E-8444-40B1-851C-1D3F56A1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7706-A6BB-4704-BF1D-3539A776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6D4-6DA2-4789-B688-C9175551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16F6-3C95-4291-B0D2-1C1AF912AF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CED5-BCB0-4DB9-A5C0-A77E145311A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Скорость химических реакций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aramond"/>
              </a:rPr>
              <a:t>Концентрация реагирующих веществ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Arial"/>
              </a:rPr>
              <a:t>Закон действующих мас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Arial"/>
              </a:rPr>
              <a:t>Математически зависимость скорости от концентрации для реакции: 2А+В=АВ выражается следующим образо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Arial"/>
              </a:rPr>
              <a:t>Приме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71640" y="4149720"/>
            <a:ext cx="4502160" cy="2048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58920" y="2997360"/>
                <a:ext cx="36226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64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64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Катализаторы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8355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Катализаторы 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– это вещества, участвующие в химической реакции и изменяющие ее скорость или направление, но по окончании реакции остающиеся неизменными качественно и количе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Изменение скорости химической реакции или ее направления с помощью катализатора называют </a:t>
            </a:r>
            <a:r>
              <a:rPr b="1" i="1" lang="en-US" sz="2400" spc="-1" strike="noStrike">
                <a:solidFill>
                  <a:srgbClr val="cc9900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. Катализаторы широко используют в различных отраслях промышленности и на транспо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995640" cy="4535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28000" y="6237360"/>
            <a:ext cx="576360" cy="43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152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пробуй с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4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В 2 пробирки налить по 2 мл раствора медного купороса и добавить гранулы алюми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В одну из пробирок добавить несколько кристаллов хлорида нат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Что наблюд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Запишите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900000" y="5229360"/>
                <a:ext cx="8064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l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e>
                    </m:acc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aramond"/>
              </a:rPr>
              <a:t>Поверхность соприкосновения реагирующих веществ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(попробуй сам)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Налейте в 2 пробирки уксусной кисл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Добавьте в 1 пробирку кусочек м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Во 2 пробирку порошок м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Напишите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Как зависит скорость реакции от площади соприкосновения вещест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Проверь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4000" y="5445000"/>
                <a:ext cx="8640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OH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C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O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508720" y="3357720"/>
            <a:ext cx="808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Химические реакции протекают с разными скорост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Очень быстро проходят реакции в водных растворах, практически мгновенно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537080" cy="6524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357012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6600"/>
                </a:solidFill>
                <a:latin typeface="Arial"/>
              </a:rPr>
              <a:t>Скорость гомогенной реакции определяется как изменение концентрации одного из веществ в единицу времен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6600"/>
                </a:solidFill>
                <a:latin typeface="Arial"/>
              </a:rPr>
              <a:t>если объем системы не меня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0552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6600"/>
                </a:solidFill>
                <a:latin typeface="Arial"/>
              </a:rPr>
              <a:t>Скорость гетерогенной реакции определяется как изменение количества вещества в единицу времени на единице поверх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6600"/>
                </a:solidFill>
                <a:latin typeface="Arial"/>
              </a:rPr>
              <a:t>где S — площадь поверхности соприкосновения веществ (м2,см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826920" y="2852640"/>
                <a:ext cx="324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C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л</m:t>
                        </m:r>
                        <m:r>
                          <m:t xml:space="preserve">∗</m:t>
                        </m:r>
                        <m:r>
                          <m:t xml:space="preserve">с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580000" y="2637000"/>
                <a:ext cx="309744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Δt</m:t>
                        </m:r>
                        <m:r>
                          <m:t xml:space="preserve">∗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с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Факторов влияющие на скорость химической реакци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French Script MT"/>
              </a:rPr>
              <a:t>Природа реагирующих вещ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French Script MT"/>
              </a:rPr>
              <a:t>Температ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French Script MT"/>
              </a:rPr>
              <a:t>Концентрация реагирующих вещ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French Script MT"/>
              </a:rPr>
              <a:t>Катализ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French Script MT"/>
              </a:rPr>
              <a:t>Площадь соприкосновения вещест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33"/>
                </a:solidFill>
                <a:latin typeface="Garamond"/>
              </a:rPr>
              <a:t>Природа реагирующих веществ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788000" cy="46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16360" y="1486080"/>
            <a:ext cx="4427640" cy="467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9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9091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356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651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56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         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пробуй с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Налейте в две пробирки соляную и уксусную кисл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В каждую пробирку добавьте кусочек ц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Напишите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В какой пробирке реакция протекает быстрее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Проверь себ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00000" y="4653000"/>
                <a:ext cx="74170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HC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nC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↑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OH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O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↑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33"/>
                </a:solidFill>
                <a:latin typeface="Garamond"/>
              </a:rPr>
              <a:t>Выполни эксперимент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В 2 пробирки налей те уксусной кислоты и добавьте несколько гранул ц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Одну пробирку нагре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В какой из пробирок реакция идет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Как влияет температура на скорость реа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Температура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При повышении температуры в большинстве случаев скорость   химической реакции значительно увелич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В прошлом веке голландский химик Я. Х. Вант-Гофф сформулировал прави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Повышение температуры на каждые 10 °С приводит к увеличению скорости реакции в 2–4 раза (эту величину называют </a:t>
            </a:r>
            <a:r>
              <a:rPr b="1" i="1" lang="ru-RU" sz="2000" spc="-1" strike="noStrike">
                <a:solidFill>
                  <a:srgbClr val="cc9900"/>
                </a:solidFill>
                <a:latin typeface="Arial"/>
              </a:rPr>
              <a:t>температурным коэффициентом реакции</a:t>
            </a:r>
            <a:r>
              <a:rPr b="0" lang="ru-RU" sz="2000" spc="-1" strike="noStrike">
                <a:solidFill>
                  <a:srgbClr val="cc99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При повышении температуры средняя скорость молекул, их энергия, число столкновений увеличиваются незначительно, зато резко повышается доля «активных» молекул, участвующих в эффективных соударениях, преодолевающих энергетический барьер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Математически эта зависимость выражается соотнош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42320" y="3039120"/>
            <a:ext cx="225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5013360"/>
            <a:ext cx="5977080" cy="161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28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Выполни эксперимент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 1 пробирку налей раствор НС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о 2 пробирку концетр. НС</a:t>
            </a: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 каждую пробирку добавь гранулы ц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В какой пробирке реакция идет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Arial"/>
              </a:rPr>
              <a:t>Как влияет концентрация реагирующих веществ на скорость реакции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4:53:55Z</dcterms:created>
  <dc:creator>Userrr</dc:creator>
  <dc:description/>
  <dc:language>en-US</dc:language>
  <cp:lastModifiedBy>Home</cp:lastModifiedBy>
  <dcterms:modified xsi:type="dcterms:W3CDTF">2012-12-19T17:49:59Z</dcterms:modified>
  <cp:revision>19</cp:revision>
  <dc:subject/>
  <dc:title>Скорость химических реакций </dc:title>
</cp:coreProperties>
</file>