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CFC-050B-43E3-A3D2-FBD533F7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121-D7AF-4C76-B97D-355279CD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A43-D155-4CAA-91DF-1AB0F030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B20-3A97-4662-8F65-70FEE74B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8CB-39A8-4C4F-9140-425D2CB3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166-880D-44B6-B13A-AB7CCC2C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253-CCF0-4AA9-BF3B-5A9B16E9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892-E5DF-46C0-B073-F1CEC67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7FA-5B7C-45CF-8FD7-5D130C5C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E71-95B7-4C58-A3E3-49407FD7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D58-49D6-4737-8795-69EC5B5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AB9-A0C5-4086-B1B6-0E20B3E6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853C-E8C7-45BF-96F8-49D28C87F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ool-collection.edu.ru/collection/organic/" TargetMode="External"/><Relationship Id="rId3" Type="http://schemas.openxmlformats.org/officeDocument/2006/relationships/hyperlink" Target="http://school-collection.edu.ru/collection/organic/" TargetMode="External"/><Relationship Id="rId4" Type="http://schemas.openxmlformats.org/officeDocument/2006/relationships/hyperlink" Target="http://school-collection.edu.ru/collection/organic/" TargetMode="External"/><Relationship Id="rId5" Type="http://schemas.openxmlformats.org/officeDocument/2006/relationships/hyperlink" Target="http://school-collection.edu.ru/collection/organic/" TargetMode="External"/><Relationship Id="rId6" Type="http://schemas.openxmlformats.org/officeDocument/2006/relationships/hyperlink" Target="http://school-collection.edu.ru/collection/organic/" TargetMode="External"/><Relationship Id="rId7" Type="http://schemas.openxmlformats.org/officeDocument/2006/relationships/hyperlink" Target="http://school-collection.edu.ru/collection/organic/" TargetMode="External"/><Relationship Id="rId8" Type="http://schemas.openxmlformats.org/officeDocument/2006/relationships/hyperlink" Target="http://school-collection.edu.ru/collection/organic/" TargetMode="External"/><Relationship Id="rId9" Type="http://schemas.openxmlformats.org/officeDocument/2006/relationships/hyperlink" Target="http://school-collection.edu.ru/collection/organic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6312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химии по теме 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ы»</a:t>
            </a:r>
            <a:br>
              <a:rPr sz="40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ласс. УМК Габриеляна О.С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3" descr=""/>
          <p:cNvPicPr/>
          <p:nvPr/>
        </p:nvPicPr>
        <p:blipFill>
          <a:blip r:embed="rId3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250920" y="1844640"/>
            <a:ext cx="4286160" cy="24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имолеку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2199240" y="31417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8"/>
          <p:cNvCxnSpPr/>
          <p:nvPr/>
        </p:nvCxnSpPr>
        <p:spPr>
          <a:xfrm>
            <a:off x="3203280" y="3357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TextBox 10"/>
          <p:cNvSpPr/>
          <p:nvPr/>
        </p:nvSpPr>
        <p:spPr>
          <a:xfrm>
            <a:off x="250920" y="4005360"/>
            <a:ext cx="528624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молеку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 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12"/>
          <p:cNvCxnSpPr/>
          <p:nvPr/>
        </p:nvCxnSpPr>
        <p:spPr>
          <a:xfrm>
            <a:off x="4211280" y="5157360"/>
            <a:ext cx="1215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Прямоугольник 13"/>
          <p:cNvSpPr/>
          <p:nvPr/>
        </p:nvSpPr>
        <p:spPr>
          <a:xfrm>
            <a:off x="1262520" y="4869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19816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54216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5786280" y="3143160"/>
            <a:ext cx="2643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7"/>
          <p:cNvSpPr/>
          <p:nvPr/>
        </p:nvSpPr>
        <p:spPr>
          <a:xfrm>
            <a:off x="6143760" y="4857840"/>
            <a:ext cx="3000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С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-С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630072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6732720" y="54450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этиловый э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45712 -0.00093 E">
                                      <p:cBhvr>
                                        <p:cTn id="36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0.32292 -0.00093 E">
                                      <p:cBhvr>
                                        <p:cTn id="37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876E-007 L 0.47483 -0.00046 E">
                                      <p:cBhvr>
                                        <p:cTn id="39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34045 0.00115 E">
                                      <p:cBhvr>
                                        <p:cTn id="39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 4" descr=""/>
          <p:cNvPicPr/>
          <p:nvPr/>
        </p:nvPicPr>
        <p:blipFill>
          <a:blip r:embed="rId3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395280" y="2714760"/>
            <a:ext cx="85694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uO  → 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 + 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7"/>
          <p:cNvSpPr/>
          <p:nvPr/>
        </p:nvSpPr>
        <p:spPr>
          <a:xfrm flipV="1">
            <a:off x="6072120" y="264312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8"/>
          <p:cNvSpPr/>
          <p:nvPr/>
        </p:nvSpPr>
        <p:spPr>
          <a:xfrm flipV="1">
            <a:off x="6000840" y="257184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0"/>
          <p:cNvSpPr/>
          <p:nvPr/>
        </p:nvSpPr>
        <p:spPr>
          <a:xfrm>
            <a:off x="6000120" y="3143160"/>
            <a:ext cx="21420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214880" y="22860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215040" y="214308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6143760" y="32860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сканирование0001"/>
          <p:cNvPicPr/>
          <p:nvPr/>
        </p:nvPicPr>
        <p:blipFill>
          <a:blip r:embed="rId4"/>
          <a:stretch/>
        </p:blipFill>
        <p:spPr>
          <a:xfrm>
            <a:off x="1116000" y="3213000"/>
            <a:ext cx="4807080" cy="34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4" descr=""/>
          <p:cNvPicPr/>
          <p:nvPr/>
        </p:nvPicPr>
        <p:blipFill>
          <a:blip r:embed="rId3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0" y="2714760"/>
            <a:ext cx="514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C    +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- R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3857760" y="2357280"/>
            <a:ext cx="15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4"/>
          <p:cNvSpPr/>
          <p:nvPr/>
        </p:nvSpPr>
        <p:spPr>
          <a:xfrm flipV="1">
            <a:off x="1428840" y="2500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5"/>
          <p:cNvSpPr/>
          <p:nvPr/>
        </p:nvSpPr>
        <p:spPr>
          <a:xfrm flipV="1">
            <a:off x="1500120" y="257184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7"/>
          <p:cNvSpPr/>
          <p:nvPr/>
        </p:nvSpPr>
        <p:spPr>
          <a:xfrm>
            <a:off x="1428120" y="3143160"/>
            <a:ext cx="21420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9"/>
          <p:cNvSpPr/>
          <p:nvPr/>
        </p:nvSpPr>
        <p:spPr>
          <a:xfrm>
            <a:off x="1643040" y="20718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1500120" y="32860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22"/>
          <p:cNvCxnSpPr/>
          <p:nvPr/>
        </p:nvCxnSpPr>
        <p:spPr>
          <a:xfrm>
            <a:off x="3929040" y="2857680"/>
            <a:ext cx="100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Прямая со стрелкой 23"/>
          <p:cNvCxnSpPr/>
          <p:nvPr/>
        </p:nvCxnSpPr>
        <p:spPr>
          <a:xfrm flipH="1" flipV="1">
            <a:off x="3928680" y="2999520"/>
            <a:ext cx="93888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TextBox 26"/>
          <p:cNvSpPr/>
          <p:nvPr/>
        </p:nvSpPr>
        <p:spPr>
          <a:xfrm>
            <a:off x="1500120" y="3286080"/>
            <a:ext cx="8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7"/>
          <p:cNvSpPr/>
          <p:nvPr/>
        </p:nvSpPr>
        <p:spPr>
          <a:xfrm>
            <a:off x="2500200" y="27147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8"/>
          <p:cNvSpPr/>
          <p:nvPr/>
        </p:nvSpPr>
        <p:spPr>
          <a:xfrm>
            <a:off x="285840" y="41432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0"/>
          <p:cNvSpPr/>
          <p:nvPr/>
        </p:nvSpPr>
        <p:spPr>
          <a:xfrm>
            <a:off x="2428920" y="4143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1"/>
          <p:cNvSpPr/>
          <p:nvPr/>
        </p:nvSpPr>
        <p:spPr>
          <a:xfrm>
            <a:off x="621504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й эф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2"/>
          <p:cNvSpPr/>
          <p:nvPr/>
        </p:nvSpPr>
        <p:spPr>
          <a:xfrm>
            <a:off x="250920" y="4857840"/>
            <a:ext cx="864216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C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↔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СО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                 этиловый          этиловый э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                уксус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4"/>
          <p:cNvSpPr/>
          <p:nvPr/>
        </p:nvSpPr>
        <p:spPr>
          <a:xfrm>
            <a:off x="6364080" y="2643120"/>
            <a:ext cx="16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C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5"/>
          <p:cNvSpPr/>
          <p:nvPr/>
        </p:nvSpPr>
        <p:spPr>
          <a:xfrm>
            <a:off x="7786800" y="32860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9"/>
          <p:cNvSpPr/>
          <p:nvPr/>
        </p:nvSpPr>
        <p:spPr>
          <a:xfrm>
            <a:off x="7715160" y="3143160"/>
            <a:ext cx="21456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33"/>
          <p:cNvSpPr/>
          <p:nvPr/>
        </p:nvSpPr>
        <p:spPr>
          <a:xfrm flipV="1">
            <a:off x="7643880" y="2428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4"/>
          <p:cNvSpPr/>
          <p:nvPr/>
        </p:nvSpPr>
        <p:spPr>
          <a:xfrm flipV="1">
            <a:off x="7715160" y="2500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5"/>
          <p:cNvSpPr/>
          <p:nvPr/>
        </p:nvSpPr>
        <p:spPr>
          <a:xfrm>
            <a:off x="7858080" y="20001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43073 -0.0824 E">
                                      <p:cBhvr>
                                        <p:cTn id="49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29375 0.00093 E">
                                      <p:cBhvr>
                                        <p:cTn id="497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 3" descr=""/>
          <p:cNvPicPr/>
          <p:nvPr/>
        </p:nvPicPr>
        <p:blipFill>
          <a:blip r:embed="rId3"/>
          <a:stretch/>
        </p:blipFill>
        <p:spPr>
          <a:xfrm>
            <a:off x="-6480" y="963720"/>
            <a:ext cx="9156960" cy="682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4"/>
          <a:stretch/>
        </p:blipFill>
        <p:spPr>
          <a:xfrm>
            <a:off x="1500120" y="1643040"/>
            <a:ext cx="62406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3" descr=""/>
          <p:cNvPicPr/>
          <p:nvPr/>
        </p:nvPicPr>
        <p:blipFill>
          <a:blip r:embed="rId3"/>
          <a:stretch/>
        </p:blipFill>
        <p:spPr>
          <a:xfrm>
            <a:off x="-6480" y="822240"/>
            <a:ext cx="9156960" cy="677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4"/>
          <a:stretch/>
        </p:blipFill>
        <p:spPr>
          <a:xfrm>
            <a:off x="1357200" y="1500120"/>
            <a:ext cx="62406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 3" descr=""/>
          <p:cNvPicPr/>
          <p:nvPr/>
        </p:nvPicPr>
        <p:blipFill>
          <a:blip r:embed="rId3"/>
          <a:stretch/>
        </p:blipFill>
        <p:spPr>
          <a:xfrm>
            <a:off x="-6480" y="628560"/>
            <a:ext cx="9156960" cy="676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1285920" y="1428840"/>
            <a:ext cx="62402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 3" descr=""/>
          <p:cNvPicPr/>
          <p:nvPr/>
        </p:nvPicPr>
        <p:blipFill>
          <a:blip r:embed="rId3"/>
          <a:stretch/>
        </p:blipFill>
        <p:spPr>
          <a:xfrm>
            <a:off x="-6480" y="890640"/>
            <a:ext cx="9156960" cy="682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1476360" y="1557360"/>
            <a:ext cx="62704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6"/>
          <p:cNvSpPr/>
          <p:nvPr/>
        </p:nvSpPr>
        <p:spPr>
          <a:xfrm>
            <a:off x="5508720" y="4797360"/>
            <a:ext cx="576000" cy="1511280"/>
          </a:xfrm>
          <a:prstGeom prst="can">
            <a:avLst>
              <a:gd name="adj" fmla="val 12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5500800" y="5929200"/>
            <a:ext cx="576000" cy="719280"/>
          </a:xfrm>
          <a:prstGeom prst="can">
            <a:avLst>
              <a:gd name="adj" fmla="val 13449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oup 11" descr=""/>
          <p:cNvPicPr/>
          <p:nvPr/>
        </p:nvPicPr>
        <p:blipFill>
          <a:blip r:embed="rId2"/>
          <a:stretch/>
        </p:blipFill>
        <p:spPr>
          <a:xfrm>
            <a:off x="6918480" y="4773600"/>
            <a:ext cx="598320" cy="1895400"/>
          </a:xfrm>
          <a:prstGeom prst="rect">
            <a:avLst/>
          </a:prstGeom>
          <a:ln w="0">
            <a:noFill/>
          </a:ln>
        </p:spPr>
      </p:pic>
      <p:sp>
        <p:nvSpPr>
          <p:cNvPr id="190" name="Oval 13"/>
          <p:cNvSpPr/>
          <p:nvPr/>
        </p:nvSpPr>
        <p:spPr>
          <a:xfrm>
            <a:off x="5796000" y="4581360"/>
            <a:ext cx="1443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5072040" y="6286680"/>
            <a:ext cx="13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6500880" y="62866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TextBox 10" descr=""/>
          <p:cNvPicPr/>
          <p:nvPr/>
        </p:nvPicPr>
        <p:blipFill>
          <a:blip r:embed="rId3"/>
          <a:stretch/>
        </p:blipFill>
        <p:spPr>
          <a:xfrm>
            <a:off x="-6480" y="12852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1"/>
          <p:cNvSpPr/>
          <p:nvPr/>
        </p:nvSpPr>
        <p:spPr>
          <a:xfrm>
            <a:off x="214200" y="1571760"/>
            <a:ext cx="2214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3"/>
          <p:cNvSpPr/>
          <p:nvPr/>
        </p:nvSpPr>
        <p:spPr>
          <a:xfrm flipH="1">
            <a:off x="42876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16"/>
          <p:cNvSpPr/>
          <p:nvPr/>
        </p:nvSpPr>
        <p:spPr>
          <a:xfrm flipH="1">
            <a:off x="142884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0" y="2357280"/>
            <a:ext cx="24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   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179280" y="27813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глик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5715000" y="1571760"/>
            <a:ext cx="3214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 - 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0"/>
          <p:cNvSpPr/>
          <p:nvPr/>
        </p:nvSpPr>
        <p:spPr>
          <a:xfrm flipH="1">
            <a:off x="5928840" y="2071800"/>
            <a:ext cx="180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21"/>
          <p:cNvSpPr/>
          <p:nvPr/>
        </p:nvSpPr>
        <p:spPr>
          <a:xfrm flipH="1">
            <a:off x="700092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22"/>
          <p:cNvSpPr/>
          <p:nvPr/>
        </p:nvSpPr>
        <p:spPr>
          <a:xfrm flipH="1">
            <a:off x="800100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3"/>
          <p:cNvSpPr/>
          <p:nvPr/>
        </p:nvSpPr>
        <p:spPr>
          <a:xfrm>
            <a:off x="5500800" y="2357280"/>
            <a:ext cx="32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    ОН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4"/>
          <p:cNvSpPr/>
          <p:nvPr/>
        </p:nvSpPr>
        <p:spPr>
          <a:xfrm>
            <a:off x="5857920" y="2786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5"/>
          <p:cNvSpPr/>
          <p:nvPr/>
        </p:nvSpPr>
        <p:spPr>
          <a:xfrm>
            <a:off x="250920" y="32860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реакция на многоатомность спиртов  – взаимодействие со свежеприготовленным голубым осадком гидроксида меди (+2) при обычны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28"/>
          <p:cNvCxnSpPr/>
          <p:nvPr/>
        </p:nvCxnSpPr>
        <p:spPr>
          <a:xfrm flipH="1">
            <a:off x="1762920" y="981000"/>
            <a:ext cx="413640" cy="928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207" name="Прямая со стрелкой 30"/>
          <p:cNvCxnSpPr/>
          <p:nvPr/>
        </p:nvCxnSpPr>
        <p:spPr>
          <a:xfrm>
            <a:off x="6443640" y="981000"/>
            <a:ext cx="419760" cy="16416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arrow" w="med"/>
          </a:ln>
        </p:spPr>
      </p:cxnSp>
      <p:pic>
        <p:nvPicPr>
          <p:cNvPr id="208" name="TextBox 31" descr=""/>
          <p:cNvPicPr/>
          <p:nvPr/>
        </p:nvPicPr>
        <p:blipFill>
          <a:blip r:embed="rId4"/>
          <a:stretch/>
        </p:blipFill>
        <p:spPr>
          <a:xfrm>
            <a:off x="176040" y="895320"/>
            <a:ext cx="308484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32" descr=""/>
          <p:cNvPicPr/>
          <p:nvPr/>
        </p:nvPicPr>
        <p:blipFill>
          <a:blip r:embed="rId5"/>
          <a:stretch/>
        </p:blipFill>
        <p:spPr>
          <a:xfrm>
            <a:off x="5211720" y="987480"/>
            <a:ext cx="272592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61702E-006 L -0.05521 -0.18872 E">
                                      <p:cBhvr>
                                        <p:cTn id="619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0782 0.03519 L -0.00695 0.20996 E">
                                      <p:cBhvr>
                                        <p:cTn id="628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63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62406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 Габриелян. Учебник для общеобразовательных учреждений. ХИМИЯ. Базовый уровень. 10 класс.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 Дрофа, 200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С. Габриелян, И. Г. Остроумов. Химия 10 класс: Настольная книга учителя. – М.: Дрофа, 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С. Габриелян, А. В. Яшуков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. 10 класс. Базовый уровень. Методическое пособие. –  М.: Дрофа,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school-collection.ed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collection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organic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extBox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0" y="3071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3571920"/>
            <a:ext cx="914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 + 1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леводородный радик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0" y="1285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рганические соединения, в молекулах которых углеводородный радикал связан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ональ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оксильной групп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идроксо-групп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0" y="5000760"/>
            <a:ext cx="89298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ол (метиловый спир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 (этиловый спир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250920" y="1268280"/>
            <a:ext cx="424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5124600" y="1268280"/>
            <a:ext cx="3572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6"/>
          <p:cNvSpPr/>
          <p:nvPr/>
        </p:nvSpPr>
        <p:spPr>
          <a:xfrm flipV="1">
            <a:off x="6300720" y="177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250920" y="2852640"/>
            <a:ext cx="88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л – 1                               2 метилпропанол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ыгнутая влево стрелка 18"/>
          <p:cNvSpPr/>
          <p:nvPr/>
        </p:nvSpPr>
        <p:spPr>
          <a:xfrm>
            <a:off x="1258920" y="3716280"/>
            <a:ext cx="785880" cy="1357200"/>
          </a:xfrm>
          <a:custGeom>
            <a:avLst/>
            <a:gdLst>
              <a:gd name="textAreaLeft" fmla="*/ 105120 w 785880"/>
              <a:gd name="textAreaRight" fmla="*/ 680760 w 785880"/>
              <a:gd name="textAreaTop" fmla="*/ 265680 h 1357200"/>
              <a:gd name="textAreaBottom" fmla="*/ 9936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55" stAng="-5400000" swAng="-5400000"/>
                <a:lnTo>
                  <a:pt x="0" y="11582"/>
                </a:lnTo>
                <a:arcTo wR="21600" hR="8455" stAng="10800000" swAng="-3395419"/>
                <a:lnTo>
                  <a:pt x="16200" y="21332"/>
                </a:lnTo>
                <a:lnTo>
                  <a:pt x="21600" y="18474"/>
                </a:lnTo>
                <a:lnTo>
                  <a:pt x="16200" y="15079"/>
                </a:lnTo>
                <a:lnTo>
                  <a:pt x="16200" y="16642"/>
                </a:lnTo>
                <a:arcTo wR="21600" hR="8455" stAng="7404581" swAng="3142670"/>
                <a:lnTo>
                  <a:pt x="373" y="10018"/>
                </a:lnTo>
                <a:arcTo wR="21600" hR="8455" stAng="-10547251" swAng="5147251"/>
                <a:close/>
              </a:path>
              <a:path fill="darkenLess" w="21600" h="21600">
                <a:moveTo>
                  <a:pt x="21600" y="0"/>
                </a:moveTo>
                <a:arcTo wR="21600" hR="8455" stAng="-5400000" swAng="-5400000"/>
                <a:lnTo>
                  <a:pt x="0" y="8455"/>
                </a:lnTo>
                <a:arcTo wR="21600" hR="8455" stAng="10800000" swAng="-252749"/>
                <a:lnTo>
                  <a:pt x="373" y="10018"/>
                </a:lnTo>
                <a:arcTo wR="21600" hR="8455" stAng="-10547251" swAng="5147251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ыгнутая вправо стрелка 19"/>
          <p:cNvSpPr/>
          <p:nvPr/>
        </p:nvSpPr>
        <p:spPr>
          <a:xfrm>
            <a:off x="6875640" y="3716280"/>
            <a:ext cx="857160" cy="1357200"/>
          </a:xfrm>
          <a:custGeom>
            <a:avLst/>
            <a:gdLst>
              <a:gd name="textAreaLeft" fmla="*/ 114840 w 857160"/>
              <a:gd name="textAreaRight" fmla="*/ 742320 w 857160"/>
              <a:gd name="textAreaTop" fmla="*/ 258840 h 1357200"/>
              <a:gd name="textAreaBottom" fmla="*/ 991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3354903"/>
                <a:lnTo>
                  <a:pt x="5400" y="21338"/>
                </a:lnTo>
                <a:lnTo>
                  <a:pt x="0" y="18190"/>
                </a:lnTo>
                <a:lnTo>
                  <a:pt x="5400" y="14517"/>
                </a:lnTo>
                <a:lnTo>
                  <a:pt x="5400" y="16222"/>
                </a:lnTo>
                <a:arcTo wR="21600" hR="8242" stAng="3354903" swAng="-3078060"/>
                <a:lnTo>
                  <a:pt x="21132" y="9948"/>
                </a:lnTo>
                <a:arcTo wR="21600" hR="8242" stAng="-276844" swAng="-5123156"/>
                <a:close/>
              </a:path>
              <a:path fill="darkenLess"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-276844"/>
                <a:lnTo>
                  <a:pt x="21132" y="9948"/>
                </a:lnTo>
                <a:arcTo wR="21600" hR="8242" stAng="-276844" swAng="-51231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0" y="51577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я углеродного скел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116000" y="1268280"/>
            <a:ext cx="93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7"/>
          <p:cNvSpPr/>
          <p:nvPr/>
        </p:nvSpPr>
        <p:spPr>
          <a:xfrm>
            <a:off x="6516720" y="20606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2673E-006 L 0.52379 0.09621 E">
                                      <p:cBhvr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250920" y="1413000"/>
            <a:ext cx="4176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5280120" y="1413000"/>
            <a:ext cx="3590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846216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3641400" y="1413000"/>
            <a:ext cx="7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2"/>
          <p:cNvSpPr/>
          <p:nvPr/>
        </p:nvSpPr>
        <p:spPr>
          <a:xfrm flipH="1">
            <a:off x="6443640" y="1916280"/>
            <a:ext cx="14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324000" y="2997360"/>
            <a:ext cx="85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л -1                                    Бутанол 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ыгнутая влево стрелка 19"/>
          <p:cNvSpPr/>
          <p:nvPr/>
        </p:nvSpPr>
        <p:spPr>
          <a:xfrm>
            <a:off x="1258920" y="3716280"/>
            <a:ext cx="785880" cy="1357200"/>
          </a:xfrm>
          <a:custGeom>
            <a:avLst/>
            <a:gdLst>
              <a:gd name="textAreaLeft" fmla="*/ 105120 w 785880"/>
              <a:gd name="textAreaRight" fmla="*/ 680760 w 785880"/>
              <a:gd name="textAreaTop" fmla="*/ 265680 h 1357200"/>
              <a:gd name="textAreaBottom" fmla="*/ 9936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55" stAng="-5400000" swAng="-5400000"/>
                <a:lnTo>
                  <a:pt x="0" y="11582"/>
                </a:lnTo>
                <a:arcTo wR="21600" hR="8455" stAng="10800000" swAng="-3395419"/>
                <a:lnTo>
                  <a:pt x="16200" y="21332"/>
                </a:lnTo>
                <a:lnTo>
                  <a:pt x="21600" y="18474"/>
                </a:lnTo>
                <a:lnTo>
                  <a:pt x="16200" y="15079"/>
                </a:lnTo>
                <a:lnTo>
                  <a:pt x="16200" y="16642"/>
                </a:lnTo>
                <a:arcTo wR="21600" hR="8455" stAng="7404581" swAng="3142670"/>
                <a:lnTo>
                  <a:pt x="373" y="10018"/>
                </a:lnTo>
                <a:arcTo wR="21600" hR="8455" stAng="-10547251" swAng="5147251"/>
                <a:close/>
              </a:path>
              <a:path fill="darkenLess" w="21600" h="21600">
                <a:moveTo>
                  <a:pt x="21600" y="0"/>
                </a:moveTo>
                <a:arcTo wR="21600" hR="8455" stAng="-5400000" swAng="-5400000"/>
                <a:lnTo>
                  <a:pt x="0" y="8455"/>
                </a:lnTo>
                <a:arcTo wR="21600" hR="8455" stAng="10800000" swAng="-252749"/>
                <a:lnTo>
                  <a:pt x="373" y="10018"/>
                </a:lnTo>
                <a:arcTo wR="21600" hR="8455" stAng="-10547251" swAng="5147251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Выгнутая вправо стрелка 20"/>
          <p:cNvSpPr/>
          <p:nvPr/>
        </p:nvSpPr>
        <p:spPr>
          <a:xfrm>
            <a:off x="6948360" y="3645000"/>
            <a:ext cx="857520" cy="1357200"/>
          </a:xfrm>
          <a:custGeom>
            <a:avLst/>
            <a:gdLst>
              <a:gd name="textAreaLeft" fmla="*/ 114840 w 857520"/>
              <a:gd name="textAreaRight" fmla="*/ 742680 w 857520"/>
              <a:gd name="textAreaTop" fmla="*/ 258840 h 1357200"/>
              <a:gd name="textAreaBottom" fmla="*/ 991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3354903"/>
                <a:lnTo>
                  <a:pt x="5400" y="21338"/>
                </a:lnTo>
                <a:lnTo>
                  <a:pt x="0" y="18190"/>
                </a:lnTo>
                <a:lnTo>
                  <a:pt x="5400" y="14517"/>
                </a:lnTo>
                <a:lnTo>
                  <a:pt x="5400" y="16222"/>
                </a:lnTo>
                <a:arcTo wR="21600" hR="8242" stAng="3354903" swAng="-3078060"/>
                <a:lnTo>
                  <a:pt x="21132" y="9948"/>
                </a:lnTo>
                <a:arcTo wR="21600" hR="8242" stAng="-276844" swAng="-5123156"/>
                <a:close/>
              </a:path>
              <a:path fill="darkenLess"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-276844"/>
                <a:lnTo>
                  <a:pt x="21132" y="9948"/>
                </a:lnTo>
                <a:arcTo wR="21600" hR="8242" stAng="-276844" swAng="-51231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0" y="51577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я положения функциональной групп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54487E-006 L 0.27222 0.11702 E">
                                      <p:cBhvr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4572000" y="1268280"/>
            <a:ext cx="439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79280" y="1916280"/>
            <a:ext cx="87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л-1                                       диэтиловый эфи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50920" y="1268280"/>
            <a:ext cx="424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авая фигурная скобка 5"/>
          <p:cNvSpPr/>
          <p:nvPr/>
        </p:nvSpPr>
        <p:spPr>
          <a:xfrm rot="5400000">
            <a:off x="3850920" y="-100080"/>
            <a:ext cx="792360" cy="5977080"/>
          </a:xfrm>
          <a:custGeom>
            <a:avLst/>
            <a:gdLst>
              <a:gd name="textAreaLeft" fmla="*/ 0 w 792360"/>
              <a:gd name="textAreaRight" fmla="*/ 286200 w 792360"/>
              <a:gd name="textAreaTop" fmla="*/ 20520 h 5977080"/>
              <a:gd name="textAreaBottom" fmla="*/ 5956560 h 597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"/>
                  <a:pt x="10800" y="239"/>
                </a:cubicBezTo>
                <a:lnTo>
                  <a:pt x="10800" y="9978"/>
                </a:lnTo>
                <a:cubicBezTo>
                  <a:pt x="10800" y="10098"/>
                  <a:pt x="16200" y="10217"/>
                  <a:pt x="21600" y="10217"/>
                </a:cubicBezTo>
                <a:cubicBezTo>
                  <a:pt x="16200" y="10217"/>
                  <a:pt x="10800" y="10337"/>
                  <a:pt x="10800" y="10456"/>
                </a:cubicBezTo>
                <a:lnTo>
                  <a:pt x="10800" y="21361"/>
                </a:lnTo>
                <a:cubicBezTo>
                  <a:pt x="10800" y="214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780000" y="3429000"/>
            <a:ext cx="151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гнутая влево стрелка 7"/>
          <p:cNvSpPr/>
          <p:nvPr/>
        </p:nvSpPr>
        <p:spPr>
          <a:xfrm>
            <a:off x="1258920" y="3716280"/>
            <a:ext cx="785880" cy="1357200"/>
          </a:xfrm>
          <a:custGeom>
            <a:avLst/>
            <a:gdLst>
              <a:gd name="textAreaLeft" fmla="*/ 105120 w 785880"/>
              <a:gd name="textAreaRight" fmla="*/ 680760 w 785880"/>
              <a:gd name="textAreaTop" fmla="*/ 265680 h 1357200"/>
              <a:gd name="textAreaBottom" fmla="*/ 9936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55" stAng="-5400000" swAng="-5400000"/>
                <a:lnTo>
                  <a:pt x="0" y="11582"/>
                </a:lnTo>
                <a:arcTo wR="21600" hR="8455" stAng="10800000" swAng="-3395419"/>
                <a:lnTo>
                  <a:pt x="16200" y="21332"/>
                </a:lnTo>
                <a:lnTo>
                  <a:pt x="21600" y="18474"/>
                </a:lnTo>
                <a:lnTo>
                  <a:pt x="16200" y="15079"/>
                </a:lnTo>
                <a:lnTo>
                  <a:pt x="16200" y="16642"/>
                </a:lnTo>
                <a:arcTo wR="21600" hR="8455" stAng="7404581" swAng="3142670"/>
                <a:lnTo>
                  <a:pt x="373" y="10018"/>
                </a:lnTo>
                <a:arcTo wR="21600" hR="8455" stAng="-10547251" swAng="5147251"/>
                <a:close/>
              </a:path>
              <a:path fill="darkenLess" w="21600" h="21600">
                <a:moveTo>
                  <a:pt x="21600" y="0"/>
                </a:moveTo>
                <a:arcTo wR="21600" hR="8455" stAng="-5400000" swAng="-5400000"/>
                <a:lnTo>
                  <a:pt x="0" y="8455"/>
                </a:lnTo>
                <a:arcTo wR="21600" hR="8455" stAng="10800000" swAng="-252749"/>
                <a:lnTo>
                  <a:pt x="373" y="10018"/>
                </a:lnTo>
                <a:arcTo wR="21600" hR="8455" stAng="-10547251" swAng="5147251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Выгнутая вправо стрелка 8"/>
          <p:cNvSpPr/>
          <p:nvPr/>
        </p:nvSpPr>
        <p:spPr>
          <a:xfrm>
            <a:off x="6732720" y="3645000"/>
            <a:ext cx="857160" cy="1357200"/>
          </a:xfrm>
          <a:custGeom>
            <a:avLst/>
            <a:gdLst>
              <a:gd name="textAreaLeft" fmla="*/ 114840 w 857160"/>
              <a:gd name="textAreaRight" fmla="*/ 742320 w 857160"/>
              <a:gd name="textAreaTop" fmla="*/ 258840 h 1357200"/>
              <a:gd name="textAreaBottom" fmla="*/ 991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3354903"/>
                <a:lnTo>
                  <a:pt x="5400" y="21338"/>
                </a:lnTo>
                <a:lnTo>
                  <a:pt x="0" y="18190"/>
                </a:lnTo>
                <a:lnTo>
                  <a:pt x="5400" y="14517"/>
                </a:lnTo>
                <a:lnTo>
                  <a:pt x="5400" y="16222"/>
                </a:lnTo>
                <a:arcTo wR="21600" hR="8242" stAng="3354903" swAng="-3078060"/>
                <a:lnTo>
                  <a:pt x="21132" y="9948"/>
                </a:lnTo>
                <a:arcTo wR="21600" hR="8242" stAng="-276844" swAng="-5123156"/>
                <a:close/>
              </a:path>
              <a:path fill="darkenLess"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-276844"/>
                <a:lnTo>
                  <a:pt x="21132" y="9948"/>
                </a:lnTo>
                <a:arcTo wR="21600" hR="8242" stAng="-276844" swAng="-51231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0" y="51577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классовая изоме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77" name="Схема 4" descr=""/>
          <p:cNvPicPr/>
          <p:nvPr/>
        </p:nvPicPr>
        <p:blipFill>
          <a:blip r:embed="rId3"/>
          <a:stretch/>
        </p:blipFill>
        <p:spPr>
          <a:xfrm>
            <a:off x="480960" y="1390680"/>
            <a:ext cx="839484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35720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78604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14324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50080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6858000" y="11430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Н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9"/>
          <p:cNvSpPr/>
          <p:nvPr/>
        </p:nvSpPr>
        <p:spPr>
          <a:xfrm flipV="1">
            <a:off x="5716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"/>
          <p:cNvSpPr/>
          <p:nvPr/>
        </p:nvSpPr>
        <p:spPr>
          <a:xfrm flipV="1">
            <a:off x="19288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4"/>
          <p:cNvSpPr/>
          <p:nvPr/>
        </p:nvSpPr>
        <p:spPr>
          <a:xfrm flipV="1">
            <a:off x="342900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5"/>
          <p:cNvSpPr/>
          <p:nvPr/>
        </p:nvSpPr>
        <p:spPr>
          <a:xfrm flipV="1">
            <a:off x="478548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6"/>
          <p:cNvSpPr/>
          <p:nvPr/>
        </p:nvSpPr>
        <p:spPr>
          <a:xfrm flipV="1">
            <a:off x="607140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7"/>
          <p:cNvSpPr/>
          <p:nvPr/>
        </p:nvSpPr>
        <p:spPr>
          <a:xfrm flipV="1">
            <a:off x="7500960" y="1571400"/>
            <a:ext cx="144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8"/>
          <p:cNvSpPr/>
          <p:nvPr/>
        </p:nvSpPr>
        <p:spPr>
          <a:xfrm>
            <a:off x="35964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9"/>
          <p:cNvSpPr/>
          <p:nvPr/>
        </p:nvSpPr>
        <p:spPr>
          <a:xfrm>
            <a:off x="171720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0"/>
          <p:cNvSpPr/>
          <p:nvPr/>
        </p:nvSpPr>
        <p:spPr>
          <a:xfrm>
            <a:off x="328860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46461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2"/>
          <p:cNvSpPr/>
          <p:nvPr/>
        </p:nvSpPr>
        <p:spPr>
          <a:xfrm>
            <a:off x="593208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73605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250920" y="278604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члены гомологического ряда спиртов по сравнению с соответствующими алканами являются жидк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ясняется наличием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родных связ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молекулами спи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250920" y="4572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между атомом водорода одной молекулы и атомом сильно электроотрицательных элементов ( кислород) другой молекулы называю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35720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78604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14324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50080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6858000" y="11430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Н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 flipV="1">
            <a:off x="5716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3"/>
          <p:cNvSpPr/>
          <p:nvPr/>
        </p:nvSpPr>
        <p:spPr>
          <a:xfrm flipV="1">
            <a:off x="19288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4"/>
          <p:cNvSpPr/>
          <p:nvPr/>
        </p:nvSpPr>
        <p:spPr>
          <a:xfrm flipV="1">
            <a:off x="342900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5"/>
          <p:cNvSpPr/>
          <p:nvPr/>
        </p:nvSpPr>
        <p:spPr>
          <a:xfrm flipV="1">
            <a:off x="478548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6"/>
          <p:cNvSpPr/>
          <p:nvPr/>
        </p:nvSpPr>
        <p:spPr>
          <a:xfrm flipV="1">
            <a:off x="607140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7"/>
          <p:cNvSpPr/>
          <p:nvPr/>
        </p:nvSpPr>
        <p:spPr>
          <a:xfrm flipV="1">
            <a:off x="7500960" y="1571400"/>
            <a:ext cx="144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361080" y="17859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171720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3218760" y="17859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46461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5861880" y="17859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73605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250920" y="306864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едставители гомологического ряда предельных одноатомных спиртов (метанол и этанол) очень хорошо  растворяются в воде, так как образую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родные связ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лекулами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357120" y="2000160"/>
            <a:ext cx="3071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286080" y="200016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500800" y="2000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72080" y="2000160"/>
            <a:ext cx="107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extBox 8" descr=""/>
          <p:cNvPicPr/>
          <p:nvPr/>
        </p:nvPicPr>
        <p:blipFill>
          <a:blip r:embed="rId2"/>
          <a:stretch/>
        </p:blipFill>
        <p:spPr>
          <a:xfrm>
            <a:off x="-115920" y="1200240"/>
            <a:ext cx="9369360" cy="6476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714240" y="28576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ат на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10" descr=""/>
          <p:cNvPicPr/>
          <p:nvPr/>
        </p:nvPicPr>
        <p:blipFill>
          <a:blip r:embed="rId3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4504320" y="2071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79280" y="4221000"/>
            <a:ext cx="87854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Na  → 2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ONa +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2932E-006 L -0.25 4.32932E-006 E">
                                      <p:cBhvr>
                                        <p:cTn id="32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1:14:57Z</dcterms:created>
  <dc:creator>Admin</dc:creator>
  <dc:description/>
  <dc:language>en-US</dc:language>
  <cp:lastModifiedBy>Home</cp:lastModifiedBy>
  <dcterms:modified xsi:type="dcterms:W3CDTF">2012-12-19T17:56:14Z</dcterms:modified>
  <cp:revision>4</cp:revision>
  <dc:subject/>
  <dc:title>Презентация к уроку химии по теме «Спирты»  10 класс. УМК Габриеляна О.С.  Базовый уровень</dc:title>
</cp:coreProperties>
</file>