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Произвольный показ 1" id="0">
      <p:sldLst>
        <p:sld r:id="rId4"/>
        <p:sld r:id="rId5"/>
        <p:sld r:id="rId6"/>
        <p:sld r:id="rId7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7D0-479C-463E-B905-BFAB16EB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F16-E5DD-47B7-B87F-30354F32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217-5475-423E-83A3-C152D153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357-F42E-4116-9716-FBAF14BD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62DB-3AE3-4B9B-BF2C-7B913A26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333D-939E-4FF4-82FA-46C6D471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0ADC-D627-48C6-96AF-85A12130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A0DE-4101-4554-9CFA-15190D09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4B58-31F8-45AA-9371-4DED9EE2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8556-6207-41CF-913D-C97615F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8F3D-C954-43A6-9CB2-F6E63645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384-74AF-492E-834E-BF24F7DA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C20A-E6F7-4E02-8213-D98E651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E454-9B07-42C4-8D9C-4FDB529D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56C3-2372-453A-AF7F-1EC0744A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6144-A9A4-4304-AB3D-F0EF68D1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5520-5FEE-4163-B6CC-7125C917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910-FFA3-4D35-A576-90755B19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A2C-4F57-4415-8B99-294439F8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179-D817-45E3-A66C-371DDAD1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542-AC04-4902-B8CC-0BA93049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EA6-8C1E-4257-8760-B35A95A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A5E-C375-4469-8E3D-76B22FB1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349-F4C0-42EA-8229-81F81BE0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AE5F-E730-4FBF-BF10-B96C6AC6E72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1293-1EA8-414F-8D2A-FF57C4385B2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3573000"/>
            <a:ext cx="769320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Monotype Corsiv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1280" y="981000"/>
            <a:ext cx="7920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Cплав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ение 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9029880" y="31464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0" y="508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92360" y="3284640"/>
                <a:ext cx="60958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197920" y="4300560"/>
                <a:ext cx="94608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1800" y="2349360"/>
                <a:ext cx="8165880" cy="33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HC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nC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↑</m:t>
                        </m:r>
                      </m:e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∗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вещества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плава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;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5,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−</m:t>
                        </m:r>
                        <m:r>
                          <m:t xml:space="preserve">5,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268360" y="5516640"/>
                <a:ext cx="374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Z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,4</m:t>
                    </m:r>
                    <m:r>
                      <m:rPr>
                        <m:lit/>
                        <m:nor/>
                      </m:rPr>
                      <m:t xml:space="preserve">%: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advTm="16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§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ши задачу: При действии избытка разбавленной серной кислоты на 10 г алюминиевой бронзы(сплав меди с алюминием) выделился газ объёмом 1,24л(н.у.). Найдите массовые доли металлов в сплав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gency FB"/>
              </a:rPr>
              <a:t>Сплавы метал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onotype Corsiva"/>
              </a:rPr>
              <a:t>Сплавы- это материалы с характерными свойствами, состоящие из двух или более компонентов, из которых по крайней мере один- 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4038480" cy="4105440"/>
          </a:xfrm>
          <a:prstGeom prst="rect">
            <a:avLst/>
          </a:prstGeom>
          <a:ln w="0">
            <a:noFill/>
          </a:ln>
        </p:spPr>
      </p:pic>
    </p:spTree>
  </p:cSld>
  <p:transition advTm="13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ы сплав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22240" y="2330280"/>
            <a:ext cx="7632000" cy="3670920"/>
            <a:chOff x="822240" y="2330280"/>
            <a:chExt cx="7632000" cy="3670920"/>
          </a:xfrm>
        </p:grpSpPr>
        <p:cxnSp>
          <p:nvCxnSpPr>
            <p:cNvPr id="101" name="_s6162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606280" y="282924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04" name="_s6161"/>
            <p:cNvCxnSpPr>
              <a:stCxn id="105" idx="0"/>
              <a:endCxn id="103" idx="2"/>
            </p:cNvCxnSpPr>
            <p:nvPr/>
          </p:nvCxnSpPr>
          <p:spPr>
            <a:xfrm flipV="1">
              <a:off x="4638240" y="3798000"/>
              <a:ext cx="360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06" name="_s6160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2935440" y="282960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03" name="_s6156"/>
            <p:cNvSpPr/>
            <p:nvPr/>
          </p:nvSpPr>
          <p:spPr>
            <a:xfrm>
              <a:off x="3493440" y="2330280"/>
              <a:ext cx="2289600" cy="1468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Сплавы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6157"/>
            <p:cNvSpPr/>
            <p:nvPr/>
          </p:nvSpPr>
          <p:spPr>
            <a:xfrm>
              <a:off x="822240" y="4532760"/>
              <a:ext cx="2289600" cy="1468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Твердые растворы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6158"/>
            <p:cNvSpPr/>
            <p:nvPr/>
          </p:nvSpPr>
          <p:spPr>
            <a:xfrm>
              <a:off x="3493440" y="4532760"/>
              <a:ext cx="2289600" cy="1468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Механическая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месь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металло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_s6159"/>
            <p:cNvSpPr/>
            <p:nvPr/>
          </p:nvSpPr>
          <p:spPr>
            <a:xfrm>
              <a:off x="6164640" y="4532760"/>
              <a:ext cx="2289600" cy="1468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Интерметаллиды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advTm="6000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ипы сплав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71640" y="2349360"/>
          <a:ext cx="7692840" cy="4375440"/>
        </p:xfrm>
        <a:graphic>
          <a:graphicData uri="http://schemas.openxmlformats.org/drawingml/2006/table">
            <a:tbl>
              <a:tblPr/>
              <a:tblGrid>
                <a:gridCol w="2563560"/>
                <a:gridCol w="2565720"/>
                <a:gridCol w="256356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ип сплав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вёрдые раствор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сплавленные металлы смешиваются в любых отношениях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g u Cu; Ag u Au; Cu u N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ханическая смесь металл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 охлаждении смеси расплавленных металлов образуется сплав, состоящий из мельчайших кристалликов каждого металл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b u Sn; Pb u Ag; Bi u C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металлид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сплавленные металлы образуют между собой химические соединен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n u Cu; Ca u Sb; Pb u 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</a:tbl>
          </a:graphicData>
        </a:graphic>
      </p:graphicFrame>
    </p:spTree>
  </p:cSld>
  <p:transition advTm="20000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едставители сплав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ронз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атун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юралюми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угу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та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льхи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полни таблиц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55640" y="2276640"/>
          <a:ext cx="7848720" cy="3771720"/>
        </p:xfrm>
        <a:graphic>
          <a:graphicData uri="http://schemas.openxmlformats.org/drawingml/2006/table">
            <a:tbl>
              <a:tblPr/>
              <a:tblGrid>
                <a:gridCol w="1760400"/>
                <a:gridCol w="2367000"/>
                <a:gridCol w="1827360"/>
                <a:gridCol w="18939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сплав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ста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войств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атун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юралюминий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угун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ал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льхио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верь таблиц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2362320"/>
          <a:ext cx="8856720" cy="4341600"/>
        </p:xfrm>
        <a:graphic>
          <a:graphicData uri="http://schemas.openxmlformats.org/drawingml/2006/table">
            <a:tbl>
              <a:tblPr/>
              <a:tblGrid>
                <a:gridCol w="2102040"/>
                <a:gridCol w="2243160"/>
                <a:gridCol w="1487520"/>
                <a:gridCol w="302400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сплав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ста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войств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ронз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дь и олово(20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орошо отливаетс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шиностроение, художественное лить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атун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дь и 10-50% цинк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ластичност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боры, предметы бы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юралюмин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5% алюминия, магния, меди, марганц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чность, лёгкост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амолето-машиностро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угу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елезо, углерода1,7-4,3%,кремния до 4%, марганец !,5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ягкий, хрупкий, тверды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шиностро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ал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елезо,2% углерода, марганец, сер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чность, корро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ионная стойкост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струменты, машиностро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льхио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% миди, 20% ник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ластичност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оловые приборы, Художественные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дел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198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1341360"/>
          </a:xfrm>
          <a:prstGeom prst="rect">
            <a:avLst/>
          </a:prstGeom>
          <a:ln w="0">
            <a:noFill/>
          </a:ln>
        </p:spPr>
      </p:pic>
    </p:spTree>
  </p:cSld>
  <p:transition advTm="41000"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войства сплав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таллический блес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Электро-и теплопровод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ч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верд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ррозийная стойк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носоустойчив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и задач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 действии избытка соляной кислоты на 60г сплава меди и цинка выделился газ объемом 1,12 л(н.у.).Найдите массовые доли  металлов в сплав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234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20:01:08Z</dcterms:created>
  <dc:creator>Userrr</dc:creator>
  <dc:description/>
  <dc:language>en-US</dc:language>
  <cp:lastModifiedBy>Home</cp:lastModifiedBy>
  <dcterms:modified xsi:type="dcterms:W3CDTF">2012-12-19T17:35:11Z</dcterms:modified>
  <cp:revision>15</cp:revision>
  <dc:subject/>
  <dc:title>Слайд 1</dc:title>
</cp:coreProperties>
</file>