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FB39-7B3D-403A-884A-99596D7438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DAE0-8061-4773-B34C-A7B6220BBF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F723-E3C9-4F33-A74C-03F93D170E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ABA2-2B8E-4ABD-BF31-EDC91481B8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8629-F3A0-4298-BE8B-9EC99EAED5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7852-3506-4C86-B4D9-9F13FECC74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03C-550E-4892-956D-93F78CA5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D24-19E3-4A7B-BE2F-F336B717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76E-F32C-4D15-A0E9-93CA4E05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89F-646F-4F3F-A40C-55E3D0E5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C61-7AFC-449E-8750-92B4CE2A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BCA-BD4A-495D-AFA2-1ACDA471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0E2B-E760-44D1-A994-9219F237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FD5-ADA9-468F-8302-98026C46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17B-209D-4DC9-A831-8665DC96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C7F-E026-4905-BDEB-E4405F58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466-4E0C-47F7-AA20-EFF2E59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B78-9CBC-4DB5-B9B2-FC07D70B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565C-3A1B-45E3-B0DC-510A88F41CD9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71560" y="-476280"/>
            <a:ext cx="10412280" cy="7632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9240" y="-30240"/>
            <a:ext cx="1839960" cy="8222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prstGeom prst="pie">
              <a:avLst/>
            </a:prstGeom>
            <a:solidFill>
              <a:srgbClr val="ccd8e7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277200" y="6475320"/>
              <a:ext cx="86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C115ECD-8F1E-4CCC-A2B1-0C05B16E2D6E}" type="datetime">
                <a:rPr b="0" lang="en-US" sz="1400" spc="-1" strike="noStrike">
                  <a:solidFill>
                    <a:srgbClr val="536142"/>
                  </a:solidFill>
                  <a:latin typeface="Cambria"/>
                </a:rPr>
                <a:t>07/28/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Rar$DI01.360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Rar$DI01.360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Local%20Settings/Temp/Rar$DI01.360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8760" y="1011240"/>
            <a:ext cx="94550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prstGeom prst="pie">
              <a:avLst/>
            </a:prstGeom>
            <a:solidFill>
              <a:srgbClr val="ccd8e7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prstGeom prst="pie">
              <a:avLst/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prstGeom prst="pie">
              <a:avLst/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prstGeom prst="pie">
              <a:avLst/>
            </a:pr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prstGeom prst="pie">
            <a:avLst/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prstGeom prst="pie">
            <a:avLst/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prstGeom prst="pie">
            <a:avLst/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prstGeom prst="pie">
            <a:avLst/>
          </a:pr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3372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79720" y="5937120"/>
              <a:ext cx="326160" cy="329400"/>
              <a:chOff x="8379720" y="5937120"/>
              <a:chExt cx="326160" cy="32940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79720" y="5937120"/>
                <a:ext cx="326160" cy="32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1800" y="6058440"/>
                <a:ext cx="79200" cy="8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prstGeom prst="pie">
                <a:avLst/>
              </a:prstGeom>
              <a:solidFill>
                <a:srgbClr val="e6ecf3"/>
              </a:solidFill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prstGeom prst="pie">
              <a:avLst/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1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prstGeom prst="pie">
              <a:avLst/>
            </a:prstGeom>
            <a:solidFill>
              <a:srgbClr val="e6ecf3"/>
            </a:soli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1"/>
          <a:stretch/>
        </p:blipFill>
        <p:spPr>
          <a:xfrm>
            <a:off x="1090440" y="-36360"/>
            <a:ext cx="7699680" cy="84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Home</cp:lastModifiedBy>
  <dcterms:modified xsi:type="dcterms:W3CDTF">2012-12-19T17:16:14Z</dcterms:modified>
  <cp:revision>92</cp:revision>
  <dc:subject>Строение электронных оболочек атомов</dc:subject>
  <dc:title>Урок 14</dc:title>
</cp:coreProperties>
</file>