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A5E-D29C-4840-97DC-8640F9EA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2ED-9EE0-43F7-B7B6-436DB24A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4FA-7E5D-4B91-9944-19E77A6E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0CD-D99F-4168-94A3-E2D57080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D17E0-B98E-416E-AAE2-3C6D2D34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5C430-5DE2-46EB-ADAF-9E0E7FB6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8DE52-4318-4DFE-8D79-2E36523C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B9261-EAE5-48D4-B87D-5F340322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12FDF-CEA9-4530-BCBD-DB313C8A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B4A10-8F50-420B-A016-9683C01A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6F929-EBBE-440A-8FC3-483FE580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383-1169-4225-BD08-CF186B89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8E190-2E34-450D-9288-6F1C0475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86102-6238-4000-926B-B376DBD5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2C7F3-ADD4-48EB-92A9-CD1228DD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2395A-E831-4349-B31B-51E4DB2F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F29B7-0364-43F0-B439-3C4B9143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575-CAB4-48E5-99A6-338DEB8C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1094-F5F3-4F42-82B0-7B5E3EE6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D4D-6F3F-4063-A5C7-8E2A1A00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3FC-7079-4E78-8CC8-0A3471A2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CD8-C693-4B89-B3BC-C32C2BF2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D4C7-99B2-4E2F-8B5A-608E4147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B38-08C5-474F-AD5A-2A9FC64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6B8-378C-4CCE-BBB0-F7D0AA5CD7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2688-05BD-4DAD-A8D6-EFBD263E5F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 Россия  в 18 веке. Петр  1- царь  преобразователь.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овая  столица России-Петербург. Провозглашение  России  империей.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РОК     ОКРУЖАЮЩЕГО 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 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ЧИТЕЛ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МОУСОШ  №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Гребенюк  Елена  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QSZUAFCAYDGCJJCAE00ODVCA4TJYR5CALR1KB9CAD7IIBACAL9I3YKCA9HKXZVCAW8WYF1CA7VE8IYCAABOK92CAEVHXYNCAKTJLRMCAEEZ1IJCAELP0G8CAR3JI79CAYVHAVLCAV8DJOKCANA8MJFCANDSTTW"/>
          <p:cNvPicPr/>
          <p:nvPr/>
        </p:nvPicPr>
        <p:blipFill>
          <a:blip r:embed="rId2"/>
          <a:stretch/>
        </p:blipFill>
        <p:spPr>
          <a:xfrm>
            <a:off x="0" y="1700280"/>
            <a:ext cx="4572000" cy="4681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НГЛИЙСКИЙ БОТИК.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ОРАБЛИ НА   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ФЛОТЕ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4038840" cy="4402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МЕСЛЕННЫЕ УЧИЛИЩА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ВИГАЦКИЕ ШКОЛЫ.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1-я АКАДЕМИЯ НАУ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40000" y="4121280"/>
            <a:ext cx="4321080" cy="273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615000" y="1557360"/>
            <a:ext cx="2529000" cy="424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2060640"/>
            <a:ext cx="4284720" cy="2887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340000" y="4005360"/>
            <a:ext cx="4319640" cy="285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В РАБОТЕ НА ВЕРФ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7632720" cy="4503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867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ЛТАВСКАЯ БИТВА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    СЕВЕРНАЯ ВОЙ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572000" cy="410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4356000" cy="417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ОЕННЫЕ ДЕЙСТВИЯ  В      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            СЕВЕРНОЙ  ВОЙН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4673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Бритье  бород. 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овый   европейский костю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276800" cy="502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356000" y="1916280"/>
            <a:ext cx="2109960" cy="42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535800" y="2538360"/>
            <a:ext cx="260820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4402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нование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нкт-Петербург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04640"/>
            <a:ext cx="44020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ервый русский музей-Кунсткамер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41920" y="5805360"/>
            <a:ext cx="4402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ая газета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едомост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9" descr="738sm"/>
          <p:cNvPicPr/>
          <p:nvPr/>
        </p:nvPicPr>
        <p:blipFill>
          <a:blip r:embed="rId2"/>
          <a:stretch/>
        </p:blipFill>
        <p:spPr>
          <a:xfrm>
            <a:off x="4643280" y="1628640"/>
            <a:ext cx="3888000" cy="2235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f5"/>
          <p:cNvPicPr/>
          <p:nvPr/>
        </p:nvPicPr>
        <p:blipFill>
          <a:blip r:embed="rId3"/>
          <a:stretch/>
        </p:blipFill>
        <p:spPr>
          <a:xfrm>
            <a:off x="179280" y="1628640"/>
            <a:ext cx="4248360" cy="4969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4643280" y="4005360"/>
            <a:ext cx="3889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тр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907640" y="1052640"/>
            <a:ext cx="151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1052640"/>
            <a:ext cx="143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34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нов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7640" y="1268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вве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2133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анкт-Петербу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852640"/>
            <a:ext cx="29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ссийский фл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342900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ервый русский музей, академию нау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5813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убличную библиотеку и типограф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589720"/>
            <a:ext cx="51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вигацкие школы и ремесленные училищ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1916280"/>
            <a:ext cx="0" cy="217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63700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328464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8000" y="4292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5445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11640" y="2133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овое летоисчис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1640" y="2852640"/>
            <a:ext cx="4032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вропейские трад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рить бо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ить коф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сить европейскую одеж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6000" y="191628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2565360"/>
            <a:ext cx="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1052640"/>
            <a:ext cx="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1052640"/>
            <a:ext cx="287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36000" y="1052640"/>
            <a:ext cx="0" cy="288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А  о  Петре  ведайте, что  ем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жизнь  его  не  дорога, только  бы  жила  Россия  в  блаженстве  и  славе,   для  благосостояния  вашего…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етр Вели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79930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8360" y="2781360"/>
            <a:ext cx="7991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А  о  Петре  ведайте, что  ему жизнь его  не  дорога, только  бы  жила  Россия  в  блаженстве  и  славе,   для  благосостояния  вашего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етр Вели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5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7880" y="4005360"/>
            <a:ext cx="8328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о академик, то герой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о мореплаватель, то плотник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Он всеобъемлющей душой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 троне вечный был работ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2" descr="petr1-kuskovo"/>
          <p:cNvPicPr/>
          <p:nvPr/>
        </p:nvPicPr>
        <p:blipFill>
          <a:blip r:embed="rId2"/>
          <a:stretch/>
        </p:blipFill>
        <p:spPr>
          <a:xfrm>
            <a:off x="1692360" y="0"/>
            <a:ext cx="56592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0 мая 1672г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4738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82 – 1725 г.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2480" y="2707920"/>
            <a:ext cx="82915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форма                        уровень развития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Цивилизация                большое государство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итул                              преобразование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Хроника                          звание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мперия                         победа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иктория                        служители церкви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Духовенство                   летопись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1268280"/>
            <a:ext cx="1912680" cy="1252800"/>
          </a:xfrm>
          <a:custGeom>
            <a:avLst/>
            <a:gdLst/>
            <a:ahLst/>
            <a:rect l="l" t="t" r="r" b="b"/>
            <a:pathLst>
              <a:path w="1205" h="789">
                <a:moveTo>
                  <a:pt x="1205" y="789"/>
                </a:moveTo>
                <a:lnTo>
                  <a:pt x="955" y="62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48000" y="1341000"/>
            <a:ext cx="1008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708280"/>
            <a:ext cx="2160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3500280"/>
            <a:ext cx="194472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627280" y="1989000"/>
            <a:ext cx="180036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00360" y="4221000"/>
            <a:ext cx="172728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132000" y="4941720"/>
            <a:ext cx="136872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ДЕТСТ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4969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«Я царь, а у меня мозоли на руках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276440" cy="325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920" y="2708280"/>
            <a:ext cx="5462640" cy="3222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ЮБИМЫЕ ИГРУШ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6480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ТЕШНЫЕ ВОЙСКА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РЕГУЛЯРНАЯ АРМ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755720"/>
            <a:ext cx="6804000" cy="5102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981760" y="2610000"/>
            <a:ext cx="3162240" cy="42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ТИТУЛ ИМПЕРАТО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356000" cy="537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53040" y="404640"/>
            <a:ext cx="3990960" cy="619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5:26:19Z</dcterms:created>
  <dc:creator>УЧИТЕЛЬ</dc:creator>
  <dc:description/>
  <dc:language>en-US</dc:language>
  <cp:lastModifiedBy>УЧИТЕЛЬ</cp:lastModifiedBy>
  <dcterms:modified xsi:type="dcterms:W3CDTF">2009-04-09T20:27:27Z</dcterms:modified>
  <cp:revision>9</cp:revision>
  <dc:subject/>
  <dc:title>То академик, то герой,  То мореплаватель, то плотник- Он всеобъемлющей душой  На троне вечный был работник</dc:title>
</cp:coreProperties>
</file>