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0F7-B661-48EA-AC23-F6B50899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C76-D24C-4E52-ABCF-A0A4835C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0903-4FA9-4BEE-A82C-EA93D348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F6A-F41E-491D-8B1E-8ED1CA12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4A8A4-51A6-4AFE-B3ED-FB348A36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9E93F-9713-4C92-B127-9C20F748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1DC1C-B1B1-462B-B187-F73E5F7B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9973C-C1AD-44DD-BC65-DC1588A6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B6012-E021-45AC-8E7F-6D656FAB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384D2-F9B9-4DFA-A14B-1DD4EDF6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0A5F7-C430-4562-8CB1-ADEDC50F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891-24B6-4A3C-89F5-6A524CE5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68A07-0739-45FE-A961-5C75D8B0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3653C-1A37-44A5-B9BA-1292752E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0FC5E-9648-4A24-93E5-91594DC9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6102C-18E3-4CBB-9106-BD4ADAC1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FFDFF-E19B-4635-9248-FF958608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573-4144-40D5-A90E-BF50BD51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62B-EF67-42B1-A51A-51536102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EEA-6543-44E2-8AA0-6D40BCF8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54E-45F4-4A61-B841-84FFC0D4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00E-B34F-4155-A8F0-CE241BE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4A6-A925-494E-BE3E-1D6FD800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126-67A8-4740-BD73-DE7AFA62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9BF6-79DE-4A8B-968A-C40E87E2E0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6BAC-B8B3-4222-81B4-CD8237AE9A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 Россия  в 18 веке. Петр  1- царь  преобразователь.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овая  столица России-Петербург. Провозглашение  России  империей.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РОК     ОКРУЖАЮЩЕГО 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 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ЧИТ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МОУСОШ  №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ребенюк  Елена  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QSZUAFCAYDGCJJCAE00ODVCA4TJYR5CALR1KB9CAD7IIBACAL9I3YKCA9HKXZVCAW8WYF1CA7VE8IYCAABOK92CAEVHXYNCAKTJLRMCAEEZ1IJCAELP0G8CAR3JI79CAYVHAVLCAV8DJOKCANA8MJFCANDSTTW"/>
          <p:cNvPicPr/>
          <p:nvPr/>
        </p:nvPicPr>
        <p:blipFill>
          <a:blip r:embed="rId2"/>
          <a:stretch/>
        </p:blipFill>
        <p:spPr>
          <a:xfrm>
            <a:off x="0" y="1700280"/>
            <a:ext cx="4572000" cy="4681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НГЛИЙСКИЙ БОТИК.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РАБЛИ НА   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ФЛОТ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4038840" cy="4402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МЕСЛЕННЫЕ УЧИЛИЩА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ВИГАЦКИЕ ШКОЛЫ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1-я АКАДЕМИЯ НАУ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40000" y="4121280"/>
            <a:ext cx="4321080" cy="273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615000" y="1557360"/>
            <a:ext cx="2529000" cy="424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2060640"/>
            <a:ext cx="4284720" cy="2887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340000" y="4005360"/>
            <a:ext cx="4319640" cy="285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В РАБОТЕ НА ВЕРФ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7632720" cy="4503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867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ЛТАВСКАЯ БИТВА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    СЕВЕРНАЯ ВОЙ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572000" cy="410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4356000" cy="417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ОЕННЫЕ ДЕЙСТВИЯ  В      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           СЕВЕРНОЙ  ВОЙН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4673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Бритье  бород. 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овый   европейский костю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276800" cy="502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356000" y="1916280"/>
            <a:ext cx="2109960" cy="42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535800" y="2538360"/>
            <a:ext cx="260820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402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нование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нкт-Петербург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04640"/>
            <a:ext cx="44020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ервый русский музей-Кунсткамер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41920" y="5805360"/>
            <a:ext cx="4402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ая газет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едомост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9" descr="738sm"/>
          <p:cNvPicPr/>
          <p:nvPr/>
        </p:nvPicPr>
        <p:blipFill>
          <a:blip r:embed="rId2"/>
          <a:stretch/>
        </p:blipFill>
        <p:spPr>
          <a:xfrm>
            <a:off x="4643280" y="1628640"/>
            <a:ext cx="3888000" cy="2235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f5"/>
          <p:cNvPicPr/>
          <p:nvPr/>
        </p:nvPicPr>
        <p:blipFill>
          <a:blip r:embed="rId3"/>
          <a:stretch/>
        </p:blipFill>
        <p:spPr>
          <a:xfrm>
            <a:off x="179280" y="1628640"/>
            <a:ext cx="4248360" cy="496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643280" y="4005360"/>
            <a:ext cx="3889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тр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907640" y="1052640"/>
            <a:ext cx="151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1052640"/>
            <a:ext cx="143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34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нов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7640" y="1268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в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133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852640"/>
            <a:ext cx="29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ссийский фл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342900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ервый русский музей, академию нау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581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убличную библиотеку и типограф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58972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вигацкие школы и ремесленные училищ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1916280"/>
            <a:ext cx="0" cy="21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63700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328464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292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5445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11640" y="2133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овое летоисчис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1640" y="2852640"/>
            <a:ext cx="4032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вропейские трад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рить бо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ить коф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сить европейскую одеж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6000" y="191628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256536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1052640"/>
            <a:ext cx="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1052640"/>
            <a:ext cx="28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36000" y="1052640"/>
            <a:ext cx="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А  о  Петре  ведайте, что  ем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жизнь  его  не  дорога, только  бы  жила  Россия  в  блаженстве  и  славе,   для  благосостояния  вашего…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етр Вели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79930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8360" y="2781360"/>
            <a:ext cx="7991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А  о  Петре  ведайте, что  ему жизнь его  не  дорога, только  бы  жила  Россия  в  блаженстве  и  славе,   для  благосостояния  вашего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етр Вели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7880" y="4005360"/>
            <a:ext cx="8328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о академик, то герой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о мореплаватель, то плотник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Он всеобъемлющей душой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 троне вечный был работ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2" descr="petr1-kuskovo"/>
          <p:cNvPicPr/>
          <p:nvPr/>
        </p:nvPicPr>
        <p:blipFill>
          <a:blip r:embed="rId2"/>
          <a:stretch/>
        </p:blipFill>
        <p:spPr>
          <a:xfrm>
            <a:off x="1692360" y="0"/>
            <a:ext cx="56592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0 мая 1672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4738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82 – 1725 г.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2480" y="2707920"/>
            <a:ext cx="82915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форма                        уровень развития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Цивилизация                большое государство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итул                              преобразование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Хроника                          звание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мперия                         победа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иктория                        служители церкви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Духовенство                   летопись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1268280"/>
            <a:ext cx="1912680" cy="1252800"/>
          </a:xfrm>
          <a:custGeom>
            <a:avLst/>
            <a:gdLst/>
            <a:ahLst/>
            <a:rect l="l" t="t" r="r" b="b"/>
            <a:pathLst>
              <a:path w="1205" h="789">
                <a:moveTo>
                  <a:pt x="1205" y="789"/>
                </a:moveTo>
                <a:lnTo>
                  <a:pt x="955" y="6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48000" y="1341000"/>
            <a:ext cx="1008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708280"/>
            <a:ext cx="2160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3500280"/>
            <a:ext cx="194472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627280" y="1989000"/>
            <a:ext cx="180036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00360" y="4221000"/>
            <a:ext cx="172728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132000" y="4941720"/>
            <a:ext cx="136872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ДЕТ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4969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«Я царь, а у меня мозоли на руках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276440" cy="325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920" y="2708280"/>
            <a:ext cx="5462640" cy="3222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ЮБИМЫЕ ИГРУШ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6480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ТЕШНЫЕ ВОЙСКА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РЕГУЛЯРНАЯ АРМ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755720"/>
            <a:ext cx="6804000" cy="5102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981760" y="2610000"/>
            <a:ext cx="3162240" cy="42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ТИТУЛ ИМПЕРАТО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356000" cy="537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53040" y="404640"/>
            <a:ext cx="3990960" cy="619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5:26:19Z</dcterms:created>
  <dc:creator>УЧИТЕЛЬ</dc:creator>
  <dc:description/>
  <dc:language>en-US</dc:language>
  <cp:lastModifiedBy>УЧИТЕЛЬ</cp:lastModifiedBy>
  <dcterms:modified xsi:type="dcterms:W3CDTF">2009-04-09T20:27:27Z</dcterms:modified>
  <cp:revision>9</cp:revision>
  <dc:subject/>
  <dc:title>То академик, то герой,  То мореплаватель, то плотник- Он всеобъемлющей душой  На троне вечный был работник</dc:title>
</cp:coreProperties>
</file>