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5A7-A6D8-40A2-B3C3-C1E8E94D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DC58-1683-4FEE-B56C-436BE886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4DA8-11B5-490C-85EE-40A0FB4C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F984-674A-4407-93AF-26498EF4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9A62-63FC-4B50-A71D-88033C08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1A8D-396D-48C3-B9CE-77D304E1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D3E9-260B-4609-B13A-72D9FE3F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1EFD-EF5F-4C0A-B30C-0AEA717B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5BEF-07EA-4FC7-9BD1-4609A01F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1CDB-5290-4370-A357-A93B3CAF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CA5D-4D0D-4472-B35D-26B0C26E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953D-BEE8-4EBC-A135-AAA14A4B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B700-771F-49FB-9416-CE869860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6526-4AB8-4C0B-AAF4-AEB0A965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E7E1-DE95-4BDF-81CD-714265E3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98D3-4BFE-4B88-8DE5-56EC9B13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7285-19AA-4634-830A-1B6D3D68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1AA3-758A-44A6-8134-6AC68F37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D48D-DBEF-40F3-8AED-13EE5F18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32DA-1048-43BF-8EE4-28BD161D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B29D-92AA-42BB-B36A-1D112D01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5CA7-9020-421E-818F-4017612C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8AE7-B47E-4412-AC7D-46D00710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D2E8-1BFC-483D-A041-0F04382C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A1D6-4563-49E1-A4DF-09F99980E1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D656-0804-4CF8-A3BC-25D7EB18693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S5002811"/>
          <p:cNvPicPr/>
          <p:nvPr/>
        </p:nvPicPr>
        <p:blipFill>
          <a:blip r:embed="rId1"/>
          <a:stretch/>
        </p:blipFill>
        <p:spPr>
          <a:xfrm>
            <a:off x="-152280" y="419040"/>
            <a:ext cx="7924680" cy="5943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sf6"/>
          <p:cNvPicPr/>
          <p:nvPr/>
        </p:nvPicPr>
        <p:blipFill>
          <a:blip r:embed="rId2"/>
          <a:stretch/>
        </p:blipFill>
        <p:spPr>
          <a:xfrm>
            <a:off x="-533520" y="0"/>
            <a:ext cx="9677520" cy="6838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685800" y="41148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Monotype Corsiva"/>
              </a:rPr>
              <a:t>МОУ Селенгушская средняя шко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ама сделана моя из тепла и лас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Untitled-001"/>
          <p:cNvPicPr/>
          <p:nvPr/>
        </p:nvPicPr>
        <p:blipFill>
          <a:blip r:embed="rId1"/>
          <a:stretch/>
        </p:blipFill>
        <p:spPr>
          <a:xfrm>
            <a:off x="2209680" y="1905120"/>
            <a:ext cx="4267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ыл с дедом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шахматный турни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д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абушка, родная моя бабуш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лд"/>
          <p:cNvPicPr/>
          <p:nvPr/>
        </p:nvPicPr>
        <p:blipFill>
          <a:blip r:embed="rId1"/>
          <a:stretch/>
        </p:blipFill>
        <p:spPr>
          <a:xfrm>
            <a:off x="838080" y="1828800"/>
            <a:ext cx="350532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Picture 4" descr="Untitled-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Ученик года –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Журавлёв Владими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Picture 6" descr="Изображение"/>
          <p:cNvPicPr/>
          <p:nvPr/>
        </p:nvPicPr>
        <p:blipFill>
          <a:blip r:embed="rId1"/>
          <a:stretch/>
        </p:blipFill>
        <p:spPr>
          <a:xfrm>
            <a:off x="2590920" y="1828800"/>
            <a:ext cx="3200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р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76840" cy="51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b7"/>
                </a:solidFill>
                <a:latin typeface="Arial Black"/>
              </a:rPr>
              <a:t>Мои </a:t>
            </a:r>
            <a:br>
              <a:rPr sz="6600"/>
            </a:br>
            <a:r>
              <a:rPr b="1" lang="ru-RU" sz="6600" spc="-1" strike="noStrike">
                <a:solidFill>
                  <a:srgbClr val="ffffb7"/>
                </a:solidFill>
                <a:latin typeface="Arial Black"/>
              </a:rPr>
              <a:t>достижения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S5002750"/>
          <p:cNvPicPr/>
          <p:nvPr/>
        </p:nvPicPr>
        <p:blipFill>
          <a:blip r:embed="rId1"/>
          <a:stretch/>
        </p:blipFill>
        <p:spPr>
          <a:xfrm>
            <a:off x="1066680" y="533520"/>
            <a:ext cx="9144000" cy="5356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sf7"/>
          <p:cNvPicPr/>
          <p:nvPr/>
        </p:nvPicPr>
        <p:blipFill>
          <a:blip r:embed="rId2"/>
          <a:stretch/>
        </p:blipFill>
        <p:spPr>
          <a:xfrm>
            <a:off x="0" y="0"/>
            <a:ext cx="9677520" cy="68374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05280" y="533160"/>
            <a:ext cx="3962520" cy="11430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Arial Black"/>
              </a:rPr>
              <a:t>Конкурс</a:t>
            </a:r>
            <a:br>
              <a:rPr sz="4000"/>
            </a:br>
            <a:r>
              <a:rPr b="1" lang="ru-RU" sz="4000" spc="-1" strike="noStrike">
                <a:solidFill>
                  <a:srgbClr val="ff5050"/>
                </a:solidFill>
                <a:latin typeface="Arial Black"/>
              </a:rPr>
              <a:t>журнала</a:t>
            </a:r>
            <a:br>
              <a:rPr sz="4000"/>
            </a:br>
            <a:r>
              <a:rPr b="1" lang="ru-RU" sz="4000" spc="-1" strike="noStrike">
                <a:solidFill>
                  <a:srgbClr val="ff5050"/>
                </a:solidFill>
                <a:latin typeface="Arial Black"/>
              </a:rPr>
              <a:t>«Мурзилка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0" y="5943600"/>
            <a:ext cx="9144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бедитель конкурса "Сорока на хвосте принесла"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уравлев Владимир ученик 3 класса (уч.Корнеева Н.И.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нкурс «Кенгуру – 2009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5" descr="11"/>
          <p:cNvPicPr/>
          <p:nvPr/>
        </p:nvPicPr>
        <p:blipFill>
          <a:blip r:embed="rId1"/>
          <a:stretch/>
        </p:blipFill>
        <p:spPr>
          <a:xfrm>
            <a:off x="5316480" y="1828800"/>
            <a:ext cx="2799000" cy="4114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222"/>
          <p:cNvPicPr/>
          <p:nvPr/>
        </p:nvPicPr>
        <p:blipFill>
          <a:blip r:embed="rId2"/>
          <a:stretch/>
        </p:blipFill>
        <p:spPr>
          <a:xfrm>
            <a:off x="838080" y="1828800"/>
            <a:ext cx="2870280" cy="4108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1071360" y="6095880"/>
            <a:ext cx="725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Журавлёв Владимир занял 3-е место по Нурлатскому район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3276360" cy="4863960"/>
          </a:xfrm>
          <a:prstGeom prst="rect">
            <a:avLst/>
          </a:prstGeom>
          <a:ln w="0">
            <a:noFill/>
          </a:ln>
        </p:spPr>
      </p:pic>
      <p:sp>
        <p:nvSpPr>
          <p:cNvPr id="116" name="WordArt 5"/>
          <p:cNvSpPr txBox="1"/>
          <p:nvPr/>
        </p:nvSpPr>
        <p:spPr>
          <a:xfrm>
            <a:off x="4038480" y="1295280"/>
            <a:ext cx="43434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еник 3 клас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уравлев Владимир (уч. Корнеева Н.И.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нял 4 мест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 Нурлатскому район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Изображение"/>
          <p:cNvPicPr/>
          <p:nvPr/>
        </p:nvPicPr>
        <p:blipFill>
          <a:blip r:embed="rId1"/>
          <a:stretch/>
        </p:blipFill>
        <p:spPr>
          <a:xfrm>
            <a:off x="457200" y="228600"/>
            <a:ext cx="3886200" cy="6248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Изображение 069"/>
          <p:cNvPicPr/>
          <p:nvPr/>
        </p:nvPicPr>
        <p:blipFill>
          <a:blip r:embed="rId2"/>
          <a:stretch/>
        </p:blipFill>
        <p:spPr>
          <a:xfrm>
            <a:off x="4648320" y="228600"/>
            <a:ext cx="40384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апа мой – мастеровой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Untitled-001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дежда</cp:lastModifiedBy>
  <dcterms:modified xsi:type="dcterms:W3CDTF">2012-11-22T09:56:56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