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3DA-D6C7-4C83-ACB5-46C25018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403-CE9E-48E4-81D6-0F34D6C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FA4-BD6D-4A18-8B3A-D0CE95D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745-C8E7-4B75-9556-0C6910AB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D269-734C-4BD4-8376-39DC6F23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B8DC-05D9-4773-9291-FCCF14C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ACA3-D805-4110-B906-071DF8F3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C9B9-F68A-47A4-81B5-ADEC965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1705-1500-4DBF-A8C8-504A14C9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35C6-3BCE-438F-B0DC-0A0CAF5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00E-5D47-447E-A72D-65D85CC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851-4886-4241-9B8D-0DEBA426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5F37-D7ED-4D21-BE7C-6A0E4C6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EBA-DE56-4807-87DB-9B0DEE9E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6BE4-0D7D-40AA-9D9D-515FEE2E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896D-5981-4861-928C-E09B0C9B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E27-C845-4DFD-941E-4FF8733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032-D34B-4975-92A1-47ABAB1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CD3-DF02-4C23-A1F0-29B3637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AA8-7C07-4520-8FFC-C3655FF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B0A-87A6-4D3F-BF8D-BB7E5B6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FF4-41A7-4340-BFF7-1D5ADE12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BF9-0577-4EAF-8911-84BC87D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19F-7B9C-4918-9917-3827200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1ADB-2E4F-46F7-9898-A52EBB62B7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F09E-6054-4094-97E3-03F49B8DBD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S5002811"/>
          <p:cNvPicPr/>
          <p:nvPr/>
        </p:nvPicPr>
        <p:blipFill>
          <a:blip r:embed="rId1"/>
          <a:stretch/>
        </p:blipFill>
        <p:spPr>
          <a:xfrm>
            <a:off x="-152280" y="41904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sf6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38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685800" y="4114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МОУ Селенгушская средняя шко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ама сделана моя из тепла и лас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Untitled-001"/>
          <p:cNvPicPr/>
          <p:nvPr/>
        </p:nvPicPr>
        <p:blipFill>
          <a:blip r:embed="rId1"/>
          <a:stretch/>
        </p:blipFill>
        <p:spPr>
          <a:xfrm>
            <a:off x="2209680" y="1905120"/>
            <a:ext cx="4267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ыл с дедом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шахматный турни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д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абушка, родная моя бабуш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лд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Untitled-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ченик года –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ёв Владими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6" descr="Изображение"/>
          <p:cNvPicPr/>
          <p:nvPr/>
        </p:nvPicPr>
        <p:blipFill>
          <a:blip r:embed="rId1"/>
          <a:stretch/>
        </p:blipFill>
        <p:spPr>
          <a:xfrm>
            <a:off x="2590920" y="182880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р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7684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Мои </a:t>
            </a:r>
            <a:br>
              <a:rPr sz="6600"/>
            </a:br>
            <a:r>
              <a:rPr b="1" lang="ru-RU" sz="6600" spc="-1" strike="noStrike">
                <a:solidFill>
                  <a:srgbClr val="ffffb7"/>
                </a:solidFill>
                <a:latin typeface="Arial Black"/>
              </a:rPr>
              <a:t>достижения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5002750"/>
          <p:cNvPicPr/>
          <p:nvPr/>
        </p:nvPicPr>
        <p:blipFill>
          <a:blip r:embed="rId1"/>
          <a:stretch/>
        </p:blipFill>
        <p:spPr>
          <a:xfrm>
            <a:off x="1066680" y="533520"/>
            <a:ext cx="9144000" cy="535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f7"/>
          <p:cNvPicPr/>
          <p:nvPr/>
        </p:nvPicPr>
        <p:blipFill>
          <a:blip r:embed="rId2"/>
          <a:stretch/>
        </p:blipFill>
        <p:spPr>
          <a:xfrm>
            <a:off x="0" y="0"/>
            <a:ext cx="9677520" cy="68374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05280" y="533160"/>
            <a:ext cx="3962520" cy="11430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Конкурс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журнала</a:t>
            </a:r>
            <a:br>
              <a:rPr sz="4000"/>
            </a:br>
            <a:r>
              <a:rPr b="1" lang="ru-RU" sz="4000" spc="-1" strike="noStrike">
                <a:solidFill>
                  <a:srgbClr val="ff5050"/>
                </a:solidFill>
                <a:latin typeface="Arial Black"/>
              </a:rPr>
              <a:t>«Мурзилка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0" y="5943600"/>
            <a:ext cx="9144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бедитель конкурса "Сорока на хвосте принесла"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уравлев Владимир ученик 3 класса (уч.Корнеева Н.И.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нкурс «Кенгуру – 2009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5" descr="11"/>
          <p:cNvPicPr/>
          <p:nvPr/>
        </p:nvPicPr>
        <p:blipFill>
          <a:blip r:embed="rId1"/>
          <a:stretch/>
        </p:blipFill>
        <p:spPr>
          <a:xfrm>
            <a:off x="5316480" y="1828800"/>
            <a:ext cx="279900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22"/>
          <p:cNvPicPr/>
          <p:nvPr/>
        </p:nvPicPr>
        <p:blipFill>
          <a:blip r:embed="rId2"/>
          <a:stretch/>
        </p:blipFill>
        <p:spPr>
          <a:xfrm>
            <a:off x="838080" y="1828800"/>
            <a:ext cx="2870280" cy="4108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1071360" y="6095880"/>
            <a:ext cx="725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Журавлёв Владимир занял 3-е место по Нурлатскому район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276360" cy="48639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4038480" y="1295280"/>
            <a:ext cx="43434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к 3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уравлев Владимир (уч. Корнеева Н.И.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ял 4 мес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Нурлатскому район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Изображение"/>
          <p:cNvPicPr/>
          <p:nvPr/>
        </p:nvPicPr>
        <p:blipFill>
          <a:blip r:embed="rId1"/>
          <a:stretch/>
        </p:blipFill>
        <p:spPr>
          <a:xfrm>
            <a:off x="457200" y="228600"/>
            <a:ext cx="3886200" cy="624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Изображение 069"/>
          <p:cNvPicPr/>
          <p:nvPr/>
        </p:nvPicPr>
        <p:blipFill>
          <a:blip r:embed="rId2"/>
          <a:stretch/>
        </p:blipFill>
        <p:spPr>
          <a:xfrm>
            <a:off x="4648320" y="228600"/>
            <a:ext cx="4038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па мой – мастеровой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Untitled-001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11-22T09:56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