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B63B-A0E0-493D-9DF1-CD235BD6C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EA89-8DF3-416E-8F12-538A36B99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CE68-0BE0-4CE2-98E4-A29FA59DA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FA4F-CDFD-4F57-8D67-F4183317E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5973E-6BB1-4B3E-B5C6-0E4BC151F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2813F-D997-432A-AFFD-8525C1374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033C1-A329-42FC-8C8F-FB264B8A9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5AEBB-239E-4683-8C7C-39DA788BF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DBF2D-7491-40AA-B0ED-252C6F529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CE5DF-51AA-4984-9ABB-BFC226973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8DB28-BA2F-4172-AD1C-7F42B3FC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0ADE-8E66-4B59-8EA8-F010BDF62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C65E0-2EC4-43F9-9B6C-173B60BA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DC621-6DFC-4790-AA05-68C777E2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2F740-FF8F-4379-983C-3FA86D975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8F859-EB33-4361-B923-977BA7917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756E2-4B03-4707-BE0A-F1FDC310F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C2FF3-9A46-416C-B7D4-4B21F7F04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A0DFE-1DED-4108-983B-B857A8B24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D7CA7-71C2-4364-94B2-E69E77A57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3FAA0-AC5A-4338-9787-2EEB265BA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4F36F-5D96-4E8D-B9A6-F07628FEC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386A-AC93-429F-A3F2-8847D44C6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0F096-D753-4878-9B47-35BF9B094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2A110-F3A3-4279-B864-04920F83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BD8D8-8C22-4ACC-ABFE-08378E24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6ED4E-6550-41CA-A771-BC3E11A6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471CD-50B2-4C8E-A599-7AC1BA614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F6959-A4A9-453C-8044-8DAA36B84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59FCD-9D92-43FB-AA7B-0135966D7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BBAE6-8888-4504-B230-A351EE83A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6EDA7-ED31-42EC-9124-E5C7178A0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B9B86-094A-46F9-B92E-B671B0C10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DF69-25B2-4303-81D1-851AFED6C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32F08-A16A-46F2-9E6B-9E3F3FB0C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F1B81-166E-4C06-8126-F3F688303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A6674-EB62-480B-AF0B-51923F133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137EF-5E04-44B7-9A3B-75644DF0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81312-E24C-43FE-B664-F55657DA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7F60F-7842-4AA8-9011-9714272B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C4288-71AE-4221-A984-D4E612D74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21643-D394-4563-9B3E-4625A332F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8E4DA-0879-4F18-A5BF-57B103731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16AFD-AF4F-4C47-8861-D92382F7C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77B7-EB2E-4FA8-BCAC-317AC28C9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B8A3C-A915-4B05-89D2-8EE4E04F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C0C8D-C309-4714-964C-4864D2677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F2870-6D5E-4107-93AA-CEB13832E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40D06-822B-46F4-9567-59724950B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11E10-A839-47BD-906E-ACD4F3182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62A74-BD00-47C5-AD23-CBE6D6ED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EA5454-F349-4776-896C-6BEF51E8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94A78-10AB-4845-B7AE-F5B430C0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0F04D-1BA0-4667-A336-E10E28A10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5D14E-C424-45D4-ACF7-A82CDD87B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E069-319C-431B-8DC0-45155829D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04843-DC7B-4E3B-9224-8DBB09D5D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136EF3-FF70-4101-B891-7CC994707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AF8BB-403E-41D5-8424-8FF2F9C9A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CAF2D-3A3F-4266-ACB0-4FD7B7734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A8A720-4D9F-481B-A752-51085E900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00F75-7184-4F91-B398-C6C611F53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A956F-1BEE-4169-BB72-A7E150A15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49A4F-74CF-439B-BD2B-EDC0736F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E2DB49-B43D-42F0-8873-69563032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040D2-2CAA-49A7-A9A9-B345FAFD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4907-9338-4249-956A-B81D988F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5094A4-1A77-4F80-8410-599F30F3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3FD16F-0711-4EFE-8FB9-8AF3FDC09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03033-21E2-4396-9269-3BAAE6E44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3A4E41-A4E4-4835-B0B7-638D77B1B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F8575E-E9C3-472F-A03D-6F87AC69D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A26A0-BB72-41E8-A0EC-CD430EAED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C362C-5F6E-4F43-AD40-00B078395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5ECCC-9000-4DD4-8429-ACB23DB6E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04B88-56B0-4413-8D03-20DC124A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A42B23-1FF4-4A8B-B800-1B708EE8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97EC-D5B0-4559-966D-50721E4F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9EAC0C-124F-4EC1-AC67-4DBF500C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5BC8E0-0848-43A6-B463-82B8228C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10F98-AC14-453A-8819-D4C168D2E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4F36C-685B-4D53-A4C2-3A45BA98B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E1DD6-FA49-4BF9-B2C7-58CD70204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B334-FA8C-4515-AE17-0804CA65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09C93-1C74-4EB4-9E7D-BCFB97ED083A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F224E-5738-4AD8-9DCF-507A0B2E875C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0D098-5051-47F2-9EC7-564D5BFE7067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BFB97-6F38-40AD-B94A-02752073E3EA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52E45-B272-4E96-8F11-08E3642052C8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F2892-F35F-4568-9CDD-1E3C8367D31B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ED729-DF38-44B6-85BB-0862C60A0EA6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686800" cy="58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Обобщение знание и умений и предельных и непредельных углеводородах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"/>
          <p:cNvSpPr/>
          <p:nvPr/>
        </p:nvSpPr>
        <p:spPr>
          <a:xfrm>
            <a:off x="8373960" y="47415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Цели урока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57120" y="1500120"/>
            <a:ext cx="878688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повторить, обобщить и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ить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полученные знания и умения по темам «Предельные и непредельные углеводороды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изучить генетическую связь между ним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УГЛЕВОДОРОД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285840" y="1714680"/>
            <a:ext cx="420984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4" name="Содержимое 3" descr=""/>
          <p:cNvPicPr/>
          <p:nvPr/>
        </p:nvPicPr>
        <p:blipFill>
          <a:blip r:embed="rId2"/>
          <a:stretch/>
        </p:blipFill>
        <p:spPr>
          <a:xfrm>
            <a:off x="5237280" y="1468440"/>
            <a:ext cx="3705120" cy="4724280"/>
          </a:xfrm>
          <a:prstGeom prst="rect">
            <a:avLst/>
          </a:prstGeom>
          <a:ln w="0">
            <a:noFill/>
          </a:ln>
        </p:spPr>
      </p:pic>
      <p:pic>
        <p:nvPicPr>
          <p:cNvPr id="325" name="Овал 4" descr=""/>
          <p:cNvPicPr/>
          <p:nvPr/>
        </p:nvPicPr>
        <p:blipFill>
          <a:blip r:embed="rId3"/>
          <a:stretch/>
        </p:blipFill>
        <p:spPr>
          <a:xfrm>
            <a:off x="3767040" y="2554200"/>
            <a:ext cx="1822680" cy="1536840"/>
          </a:xfrm>
          <a:prstGeom prst="rect">
            <a:avLst/>
          </a:prstGeom>
          <a:ln w="0">
            <a:noFill/>
          </a:ln>
        </p:spPr>
      </p:pic>
      <p:pic>
        <p:nvPicPr>
          <p:cNvPr id="326" name="Овал 5" descr=""/>
          <p:cNvPicPr/>
          <p:nvPr/>
        </p:nvPicPr>
        <p:blipFill>
          <a:blip r:embed="rId4"/>
          <a:stretch/>
        </p:blipFill>
        <p:spPr>
          <a:xfrm>
            <a:off x="5052960" y="3913200"/>
            <a:ext cx="2322720" cy="1749240"/>
          </a:xfrm>
          <a:prstGeom prst="rect">
            <a:avLst/>
          </a:prstGeom>
          <a:ln w="0">
            <a:noFill/>
          </a:ln>
        </p:spPr>
      </p:pic>
      <p:pic>
        <p:nvPicPr>
          <p:cNvPr id="327" name="Овал 6" descr=""/>
          <p:cNvPicPr/>
          <p:nvPr/>
        </p:nvPicPr>
        <p:blipFill>
          <a:blip r:embed="rId5"/>
          <a:stretch/>
        </p:blipFill>
        <p:spPr>
          <a:xfrm>
            <a:off x="6980400" y="2481120"/>
            <a:ext cx="1822320" cy="1749600"/>
          </a:xfrm>
          <a:prstGeom prst="rect">
            <a:avLst/>
          </a:prstGeom>
          <a:ln w="0">
            <a:noFill/>
          </a:ln>
        </p:spPr>
      </p:pic>
      <p:sp>
        <p:nvSpPr>
          <p:cNvPr id="328" name="Стрелка вниз 7"/>
          <p:cNvSpPr/>
          <p:nvPr/>
        </p:nvSpPr>
        <p:spPr>
          <a:xfrm>
            <a:off x="4714920" y="2071800"/>
            <a:ext cx="714240" cy="642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Стрелка вниз 9"/>
          <p:cNvSpPr/>
          <p:nvPr/>
        </p:nvSpPr>
        <p:spPr>
          <a:xfrm>
            <a:off x="6000840" y="2071800"/>
            <a:ext cx="428400" cy="178596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Стрелка вниз 10"/>
          <p:cNvSpPr/>
          <p:nvPr/>
        </p:nvSpPr>
        <p:spPr>
          <a:xfrm>
            <a:off x="7286760" y="2071800"/>
            <a:ext cx="357120" cy="50004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Овал 11" descr=""/>
          <p:cNvPicPr/>
          <p:nvPr/>
        </p:nvPicPr>
        <p:blipFill>
          <a:blip r:embed="rId6"/>
          <a:stretch/>
        </p:blipFill>
        <p:spPr>
          <a:xfrm>
            <a:off x="1054080" y="2840040"/>
            <a:ext cx="2249640" cy="1963800"/>
          </a:xfrm>
          <a:prstGeom prst="rect">
            <a:avLst/>
          </a:prstGeom>
          <a:ln w="0">
            <a:noFill/>
          </a:ln>
        </p:spPr>
      </p:pic>
      <p:cxnSp>
        <p:nvCxnSpPr>
          <p:cNvPr id="332" name="Прямая со стрелкой 13"/>
          <p:cNvCxnSpPr/>
          <p:nvPr/>
        </p:nvCxnSpPr>
        <p:spPr>
          <a:xfrm flipV="1">
            <a:off x="4428000" y="1142640"/>
            <a:ext cx="2520" cy="21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pic>
        <p:nvPicPr>
          <p:cNvPr id="333" name="Прямоугольник 16" descr=""/>
          <p:cNvPicPr/>
          <p:nvPr/>
        </p:nvPicPr>
        <p:blipFill>
          <a:blip r:embed="rId7"/>
          <a:stretch/>
        </p:blipFill>
        <p:spPr>
          <a:xfrm>
            <a:off x="-55440" y="1384200"/>
            <a:ext cx="4670280" cy="1133640"/>
          </a:xfrm>
          <a:prstGeom prst="rect">
            <a:avLst/>
          </a:prstGeom>
          <a:ln w="0">
            <a:noFill/>
          </a:ln>
        </p:spPr>
      </p:pic>
      <p:sp>
        <p:nvSpPr>
          <p:cNvPr id="334" name="Стрелка вниз 18"/>
          <p:cNvSpPr/>
          <p:nvPr/>
        </p:nvSpPr>
        <p:spPr>
          <a:xfrm>
            <a:off x="2571840" y="1143000"/>
            <a:ext cx="100008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Стрелка вниз 19"/>
          <p:cNvSpPr/>
          <p:nvPr/>
        </p:nvSpPr>
        <p:spPr>
          <a:xfrm>
            <a:off x="6072120" y="1143000"/>
            <a:ext cx="7146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grpSp>
        <p:nvGrpSpPr>
          <p:cNvPr id="337" name="Diagram 5"/>
          <p:cNvGrpSpPr/>
          <p:nvPr/>
        </p:nvGrpSpPr>
        <p:grpSpPr>
          <a:xfrm>
            <a:off x="651240" y="495360"/>
            <a:ext cx="7702920" cy="6054120"/>
            <a:chOff x="651240" y="495360"/>
            <a:chExt cx="7702920" cy="6054120"/>
          </a:xfrm>
        </p:grpSpPr>
        <p:sp>
          <p:nvSpPr>
            <p:cNvPr id="338" name="_s1028"/>
            <p:cNvSpPr/>
            <p:nvPr/>
          </p:nvSpPr>
          <p:spPr>
            <a:xfrm flipH="1" flipV="1">
              <a:off x="3123720" y="2289600"/>
              <a:ext cx="812520" cy="768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_s1029"/>
            <p:cNvSpPr/>
            <p:nvPr/>
          </p:nvSpPr>
          <p:spPr>
            <a:xfrm>
              <a:off x="1684800" y="1054440"/>
              <a:ext cx="1761120" cy="139932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e7d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rbel"/>
                </a:rPr>
                <a:t>резины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1030"/>
            <p:cNvSpPr/>
            <p:nvPr/>
          </p:nvSpPr>
          <p:spPr>
            <a:xfrm flipH="1" flipV="1">
              <a:off x="2391480" y="3298320"/>
              <a:ext cx="1246320" cy="17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1031"/>
            <p:cNvSpPr/>
            <p:nvPr/>
          </p:nvSpPr>
          <p:spPr>
            <a:xfrm>
              <a:off x="651240" y="2474280"/>
              <a:ext cx="1760400" cy="139932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rbel"/>
                </a:rPr>
                <a:t>химическо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rbe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Corbel"/>
                </a:rPr>
                <a:t>сырь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1032"/>
            <p:cNvSpPr/>
            <p:nvPr/>
          </p:nvSpPr>
          <p:spPr>
            <a:xfrm flipH="1">
              <a:off x="2647080" y="3942360"/>
              <a:ext cx="1094040" cy="501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033"/>
            <p:cNvSpPr/>
            <p:nvPr/>
          </p:nvSpPr>
          <p:spPr>
            <a:xfrm>
              <a:off x="1007280" y="4090680"/>
              <a:ext cx="1760400" cy="139932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aa8a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rbel"/>
                </a:rPr>
                <a:t>топливо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034"/>
            <p:cNvSpPr/>
            <p:nvPr/>
          </p:nvSpPr>
          <p:spPr>
            <a:xfrm flipH="1">
              <a:off x="3769920" y="4248360"/>
              <a:ext cx="430200" cy="944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035"/>
            <p:cNvSpPr/>
            <p:nvPr/>
          </p:nvSpPr>
          <p:spPr>
            <a:xfrm>
              <a:off x="2586960" y="5147640"/>
              <a:ext cx="1760400" cy="139932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e7d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rbel"/>
                </a:rPr>
                <a:t>средств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rbel"/>
                </a:rPr>
                <a:t>бытовой химии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036"/>
            <p:cNvSpPr/>
            <p:nvPr/>
          </p:nvSpPr>
          <p:spPr>
            <a:xfrm>
              <a:off x="4801320" y="4248360"/>
              <a:ext cx="433440" cy="94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037"/>
            <p:cNvSpPr/>
            <p:nvPr/>
          </p:nvSpPr>
          <p:spPr>
            <a:xfrm>
              <a:off x="4652280" y="5149800"/>
              <a:ext cx="1760400" cy="139968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feb8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rbel"/>
                </a:rPr>
                <a:t>взрывчатых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rbel"/>
                </a:rPr>
                <a:t>веществ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038"/>
            <p:cNvSpPr/>
            <p:nvPr/>
          </p:nvSpPr>
          <p:spPr>
            <a:xfrm>
              <a:off x="5261400" y="3939840"/>
              <a:ext cx="1094040" cy="501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039"/>
            <p:cNvSpPr/>
            <p:nvPr/>
          </p:nvSpPr>
          <p:spPr>
            <a:xfrm>
              <a:off x="6234480" y="4095360"/>
              <a:ext cx="1761120" cy="139932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8dc7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rbel"/>
                </a:rPr>
                <a:t>волокон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040"/>
            <p:cNvSpPr/>
            <p:nvPr/>
          </p:nvSpPr>
          <p:spPr>
            <a:xfrm flipV="1">
              <a:off x="5364000" y="3296160"/>
              <a:ext cx="1243800" cy="17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041"/>
            <p:cNvSpPr/>
            <p:nvPr/>
          </p:nvSpPr>
          <p:spPr>
            <a:xfrm>
              <a:off x="6593760" y="2478960"/>
              <a:ext cx="1760400" cy="139932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rbel"/>
                </a:rPr>
                <a:t>красителей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042"/>
            <p:cNvSpPr/>
            <p:nvPr/>
          </p:nvSpPr>
          <p:spPr>
            <a:xfrm flipV="1">
              <a:off x="5062680" y="2289600"/>
              <a:ext cx="812520" cy="768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043"/>
            <p:cNvSpPr/>
            <p:nvPr/>
          </p:nvSpPr>
          <p:spPr>
            <a:xfrm>
              <a:off x="5562720" y="1056960"/>
              <a:ext cx="1760400" cy="139932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aa8a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rbel"/>
                </a:rPr>
                <a:t>лекарств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044"/>
            <p:cNvSpPr/>
            <p:nvPr/>
          </p:nvSpPr>
          <p:spPr>
            <a:xfrm flipV="1">
              <a:off x="4500000" y="1892160"/>
              <a:ext cx="0" cy="100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045"/>
            <p:cNvSpPr/>
            <p:nvPr/>
          </p:nvSpPr>
          <p:spPr>
            <a:xfrm>
              <a:off x="3621240" y="495360"/>
              <a:ext cx="1760400" cy="139932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e7d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rbel"/>
                </a:rPr>
                <a:t>пластмасс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046"/>
            <p:cNvSpPr/>
            <p:nvPr/>
          </p:nvSpPr>
          <p:spPr>
            <a:xfrm>
              <a:off x="3621240" y="2896920"/>
              <a:ext cx="1760400" cy="139932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Corbel"/>
                </a:rPr>
                <a:t>Применени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Corbel"/>
                </a:rPr>
                <a:t>С</a:t>
              </a:r>
              <a:r>
                <a:rPr b="1" lang="en-US" sz="900" spc="-1" strike="noStrike">
                  <a:solidFill>
                    <a:srgbClr val="000000"/>
                  </a:solidFill>
                  <a:latin typeface="Corbel"/>
                </a:rPr>
                <a:t>n</a:t>
              </a:r>
              <a:r>
                <a:rPr b="1" lang="en-US" sz="1600" spc="-1" strike="noStrike">
                  <a:solidFill>
                    <a:srgbClr val="000000"/>
                  </a:solidFill>
                  <a:latin typeface="Corbel"/>
                </a:rPr>
                <a:t>H</a:t>
              </a:r>
              <a:r>
                <a:rPr b="1" lang="en-US" sz="900" spc="-1" strike="noStrike">
                  <a:solidFill>
                    <a:srgbClr val="000000"/>
                  </a:solidFill>
                  <a:latin typeface="Corbe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Corbel"/>
              </a:rPr>
              <a:t>  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Corbel"/>
              </a:rPr>
              <a:t> 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Corbel"/>
              </a:rPr>
              <a:t> 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Corbel"/>
              </a:rPr>
              <a:t> 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Corbel"/>
              </a:rPr>
              <a:t> 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Corbel"/>
              </a:rPr>
              <a:t> 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Corbel"/>
              </a:rPr>
              <a:t> </a:t>
            </a:r>
            <a:br>
              <a:rPr sz="3900"/>
            </a:b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Corbel"/>
              </a:rPr>
              <a:t> 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Corbel"/>
              </a:rPr>
              <a:t> 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Corbel"/>
              </a:rPr>
              <a:t> 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Corbel"/>
              </a:rPr>
              <a:t> 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285840" y="428760"/>
          <a:ext cx="8858160" cy="5908680"/>
        </p:xfrm>
        <a:graphic>
          <a:graphicData uri="http://schemas.openxmlformats.org/drawingml/2006/table">
            <a:tbl>
              <a:tblPr/>
              <a:tblGrid>
                <a:gridCol w="4359240"/>
                <a:gridCol w="1123920"/>
                <a:gridCol w="1265040"/>
                <a:gridCol w="1055880"/>
                <a:gridCol w="1054080"/>
              </a:tblGrid>
              <a:tr h="65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лан характерист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алка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алке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алкадие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алк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5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Общая характеристика класса (общая формула, определение, особенности класса  углеводородо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Название вещества, его молекулярная и структурная форму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Виды изоме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Физические свой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Химические свойства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реакция горения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реакция замещения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реакция присоединения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 другие свойств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Способы получ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Области приме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Corbel"/>
              </a:rPr>
              <a:t>Генетическая связь углеводородов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28760" y="1571760"/>
            <a:ext cx="403848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75a8d"/>
            </a:solidFill>
            <a:miter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н 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лен 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н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н 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лен 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н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+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+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Ответы к тесту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1. – Б                           нет ошибок – «5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2.  - А                            1 ошибка – «4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3. – В                             2 ошибки – «3»                 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4. – 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5 – Г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6.   С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Н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=С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Н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+Н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Н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= С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Н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+Н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4T10:02:22Z</dcterms:created>
  <dc:creator>User</dc:creator>
  <dc:description/>
  <dc:language>en-US</dc:language>
  <cp:lastModifiedBy>Home</cp:lastModifiedBy>
  <dcterms:modified xsi:type="dcterms:W3CDTF">2012-12-19T17:29:54Z</dcterms:modified>
  <cp:revision>13</cp:revision>
  <dc:subject/>
  <dc:title>Обобщение знание и умений и предельных и непредельных углеводородах</dc:title>
</cp:coreProperties>
</file>