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091-E565-471B-BF96-265F8574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E7A-98F5-41C9-9904-8836EC52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692-2341-4678-B020-1DE9F748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5C8-4C78-42D4-B2A9-F819FC54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D573-0A4E-496F-849A-53881117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D3CC-D36E-490E-8488-031B4778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01A3-5126-4D5A-BD6C-85E7657E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35C8-FD91-49AE-AD82-DBB136A3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2821-0C1F-447C-A49F-4718EF9A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13D3-436B-4E37-BDA4-7368BC66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AE46-964D-4BE8-8F2D-7579130B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4B8-81D1-4AC2-B295-0D70CBF3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A865-C5B7-4B8A-AE9C-4947AA49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ACD0-C479-4583-ABBA-AD529477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8335-46F0-4E4C-9329-9DDEB846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B4AC-2091-4B28-956F-80D52C03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4224-D2A8-460A-B580-A18DD6F0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8639-1231-441F-8646-1CA0C936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B4442-9D51-47CD-9BFC-34435AD0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0277-A435-4BCD-A98F-24EA1243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54CA-2EDE-4501-9D22-086F1E94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73B32-BF6F-4717-BF95-494CDA31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00E-5904-448D-B1C2-811ADAFD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E44B-A8B1-4D08-A218-AE2A0D7D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5433-3AC0-46D4-8D29-CD06CE87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6E7C-1BBE-49FC-B44A-26CEB1E1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FB27-7C3B-4938-9100-5078900F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0865-AF4E-4DBD-BAE3-56C36A06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4BC4-C0D2-4E65-9EEC-7DA69E29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425E-19D6-433D-8C3E-EB8DECC1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FA8B-C084-4762-9F92-8F4C2E71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5A80-629D-4AB1-930A-1054FBFC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0EF45-89BC-46C2-9F53-B96800BE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C0A-DF15-45C5-B387-6774393C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F5613-D85D-475D-A3CD-3B782B12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EC514-6384-4974-B898-605A4B84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26BF4-B78A-46D6-83D3-C0D1AD88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04EF4-B30E-401B-B284-C3360446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B4BD8-D920-4E2A-B042-872B7C91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038A8-41F9-4371-80C4-8FFDB466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49AA-AFC3-47C7-9D64-4238C95E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C2796-F5D0-4B4A-9714-903B3C69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794EB-5654-4250-9871-303B0212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27B5C-B2E7-4180-95FE-9548CA35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18B-E3FE-40B5-8E64-04EFC9D3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6F059-3A63-4837-B293-A55FFBA7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4F11-DF7B-4397-87EE-C01B6457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B73E5-6824-46D6-A533-A939DB89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4E98-EBEF-499D-AA66-3AF0F230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83069-7400-4DDC-BD41-7558BF90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9196E-4641-4DD1-81F7-23C9139E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1FDB-430C-4F1F-8615-A9C5C5E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0E47-4087-4944-9074-C103F8D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52761-7C05-4FD9-8035-7DC6AB03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4486-0D4F-4FC6-A791-379B57CB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BB6-DC63-4959-932C-B4435B26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402E2-93F5-4C9A-BF48-3F690E7A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9733A-E242-4010-9D1F-29E0F834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4EF9B-85D1-4631-90C0-46C28E47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C28C-EF61-4373-B73D-9135CD9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CFF65-AFAA-4C69-9822-BA5AB071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DF1C6-5CC4-4BAE-B99F-A09934B6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8A3E0-3727-4996-860A-838D5822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52F8C-82B6-47A7-BF1F-3407A1C2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F9496-8897-4521-9358-CBAE52F5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8A0F5-EFC0-40A0-88F5-59DB6C18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5A5-6A96-44DE-BD5B-66432A17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5B1D9-BE12-42B5-AB46-500F4437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C62B2-29E9-4FF4-8070-E1535FDA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026F4-F72F-4CEF-AFD3-8749E0B2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4F23B-5377-4893-AB2D-58491221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5D2F5-375C-4092-B3DC-63742F05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EBA5A-BE8D-4423-944F-22010F51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F8DCF-92F7-482D-96F6-9551EFC9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0C18B-579B-42B4-A7EE-A15A38B2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51011-D34E-4263-8AB4-A41E7911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9333D-0DB9-4AAE-A4E5-E453FF0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632-AC39-4D39-B7B7-9486D18A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CB04C-2A98-4997-9461-23F7C21E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96265-39D5-46C0-ACCD-AFBB4875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ABC47-E845-41B1-9602-1361785B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11351-E081-4165-AB89-DF917941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6CD97-B854-4036-8B5E-91729AB2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05C-0055-4EAB-BF3A-57F01A36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D6F7-AD7B-46B7-8013-93A48B7D39A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620-7540-4D4F-B710-084CB935D994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8EE2-B69E-46DF-830A-1852A1C7EBB8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B4C1-3B01-46AB-AC33-C199978D1A8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BBE2-9679-4620-98A6-DEF747A7E40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DF5C-AF63-4238-89F6-19E84D7E59D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274B-D998-4D26-9934-6A8032842E1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68680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общение знание и умений и предельных и непредельных углеводород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/>
          <p:nvPr/>
        </p:nvSpPr>
        <p:spPr>
          <a:xfrm>
            <a:off x="8373960" y="4741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Цели урок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57120" y="1500120"/>
            <a:ext cx="8786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повторить, обобщить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полученные знания и умения по темам «Предельные и непредельные углеводороды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изучить генетическую связь между ни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УГЛЕВОДОРОД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85840" y="1714680"/>
            <a:ext cx="4209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Содержимое 3" descr=""/>
          <p:cNvPicPr/>
          <p:nvPr/>
        </p:nvPicPr>
        <p:blipFill>
          <a:blip r:embed="rId2"/>
          <a:stretch/>
        </p:blipFill>
        <p:spPr>
          <a:xfrm>
            <a:off x="5237280" y="1468440"/>
            <a:ext cx="3705120" cy="4724280"/>
          </a:xfrm>
          <a:prstGeom prst="rect">
            <a:avLst/>
          </a:prstGeom>
          <a:ln w="0">
            <a:noFill/>
          </a:ln>
        </p:spPr>
      </p:pic>
      <p:pic>
        <p:nvPicPr>
          <p:cNvPr id="325" name="Овал 4" descr=""/>
          <p:cNvPicPr/>
          <p:nvPr/>
        </p:nvPicPr>
        <p:blipFill>
          <a:blip r:embed="rId3"/>
          <a:stretch/>
        </p:blipFill>
        <p:spPr>
          <a:xfrm>
            <a:off x="3767040" y="2554200"/>
            <a:ext cx="1822680" cy="1536840"/>
          </a:xfrm>
          <a:prstGeom prst="rect">
            <a:avLst/>
          </a:prstGeom>
          <a:ln w="0">
            <a:noFill/>
          </a:ln>
        </p:spPr>
      </p:pic>
      <p:pic>
        <p:nvPicPr>
          <p:cNvPr id="326" name="Овал 5" descr=""/>
          <p:cNvPicPr/>
          <p:nvPr/>
        </p:nvPicPr>
        <p:blipFill>
          <a:blip r:embed="rId4"/>
          <a:stretch/>
        </p:blipFill>
        <p:spPr>
          <a:xfrm>
            <a:off x="5052960" y="3913200"/>
            <a:ext cx="2322720" cy="1749240"/>
          </a:xfrm>
          <a:prstGeom prst="rect">
            <a:avLst/>
          </a:prstGeom>
          <a:ln w="0">
            <a:noFill/>
          </a:ln>
        </p:spPr>
      </p:pic>
      <p:pic>
        <p:nvPicPr>
          <p:cNvPr id="327" name="Овал 6" descr=""/>
          <p:cNvPicPr/>
          <p:nvPr/>
        </p:nvPicPr>
        <p:blipFill>
          <a:blip r:embed="rId5"/>
          <a:stretch/>
        </p:blipFill>
        <p:spPr>
          <a:xfrm>
            <a:off x="6980400" y="2481120"/>
            <a:ext cx="1822320" cy="1749600"/>
          </a:xfrm>
          <a:prstGeom prst="rect">
            <a:avLst/>
          </a:prstGeom>
          <a:ln w="0">
            <a:noFill/>
          </a:ln>
        </p:spPr>
      </p:pic>
      <p:sp>
        <p:nvSpPr>
          <p:cNvPr id="328" name="Стрелка вниз 7"/>
          <p:cNvSpPr/>
          <p:nvPr/>
        </p:nvSpPr>
        <p:spPr>
          <a:xfrm>
            <a:off x="4714920" y="2071800"/>
            <a:ext cx="71424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трелка вниз 9"/>
          <p:cNvSpPr/>
          <p:nvPr/>
        </p:nvSpPr>
        <p:spPr>
          <a:xfrm>
            <a:off x="6000840" y="2071800"/>
            <a:ext cx="428400" cy="178596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трелка вниз 10"/>
          <p:cNvSpPr/>
          <p:nvPr/>
        </p:nvSpPr>
        <p:spPr>
          <a:xfrm>
            <a:off x="7286760" y="207180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Овал 11" descr=""/>
          <p:cNvPicPr/>
          <p:nvPr/>
        </p:nvPicPr>
        <p:blipFill>
          <a:blip r:embed="rId6"/>
          <a:stretch/>
        </p:blipFill>
        <p:spPr>
          <a:xfrm>
            <a:off x="1054080" y="2840040"/>
            <a:ext cx="2249640" cy="1963800"/>
          </a:xfrm>
          <a:prstGeom prst="rect">
            <a:avLst/>
          </a:prstGeom>
          <a:ln w="0">
            <a:noFill/>
          </a:ln>
        </p:spPr>
      </p:pic>
      <p:cxnSp>
        <p:nvCxnSpPr>
          <p:cNvPr id="332" name="Прямая со стрелкой 13"/>
          <p:cNvCxnSpPr/>
          <p:nvPr/>
        </p:nvCxnSpPr>
        <p:spPr>
          <a:xfrm flipV="1">
            <a:off x="4428000" y="1142640"/>
            <a:ext cx="25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pic>
        <p:nvPicPr>
          <p:cNvPr id="333" name="Прямоугольник 16" descr=""/>
          <p:cNvPicPr/>
          <p:nvPr/>
        </p:nvPicPr>
        <p:blipFill>
          <a:blip r:embed="rId7"/>
          <a:stretch/>
        </p:blipFill>
        <p:spPr>
          <a:xfrm>
            <a:off x="-55440" y="1384200"/>
            <a:ext cx="4670280" cy="1133640"/>
          </a:xfrm>
          <a:prstGeom prst="rect">
            <a:avLst/>
          </a:prstGeom>
          <a:ln w="0">
            <a:noFill/>
          </a:ln>
        </p:spPr>
      </p:pic>
      <p:sp>
        <p:nvSpPr>
          <p:cNvPr id="334" name="Стрелка вниз 18"/>
          <p:cNvSpPr/>
          <p:nvPr/>
        </p:nvSpPr>
        <p:spPr>
          <a:xfrm>
            <a:off x="2571840" y="1143000"/>
            <a:ext cx="10000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низ 19"/>
          <p:cNvSpPr/>
          <p:nvPr/>
        </p:nvSpPr>
        <p:spPr>
          <a:xfrm>
            <a:off x="6072120" y="1143000"/>
            <a:ext cx="7146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37" name="Diagram 5"/>
          <p:cNvGrpSpPr/>
          <p:nvPr/>
        </p:nvGrpSpPr>
        <p:grpSpPr>
          <a:xfrm>
            <a:off x="651240" y="495360"/>
            <a:ext cx="7702920" cy="6054120"/>
            <a:chOff x="651240" y="495360"/>
            <a:chExt cx="7702920" cy="6054120"/>
          </a:xfrm>
        </p:grpSpPr>
        <p:sp>
          <p:nvSpPr>
            <p:cNvPr id="338" name="_s1028"/>
            <p:cNvSpPr/>
            <p:nvPr/>
          </p:nvSpPr>
          <p:spPr>
            <a:xfrm flipH="1" flipV="1">
              <a:off x="3123720" y="2289600"/>
              <a:ext cx="812520" cy="76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029"/>
            <p:cNvSpPr/>
            <p:nvPr/>
          </p:nvSpPr>
          <p:spPr>
            <a:xfrm>
              <a:off x="1684800" y="1054440"/>
              <a:ext cx="176112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резин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030"/>
            <p:cNvSpPr/>
            <p:nvPr/>
          </p:nvSpPr>
          <p:spPr>
            <a:xfrm flipH="1" flipV="1">
              <a:off x="2391480" y="3298320"/>
              <a:ext cx="124632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1"/>
            <p:cNvSpPr/>
            <p:nvPr/>
          </p:nvSpPr>
          <p:spPr>
            <a:xfrm>
              <a:off x="651240" y="247428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химическо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сырь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032"/>
            <p:cNvSpPr/>
            <p:nvPr/>
          </p:nvSpPr>
          <p:spPr>
            <a:xfrm flipH="1">
              <a:off x="2647080" y="3942360"/>
              <a:ext cx="1094040" cy="50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3"/>
            <p:cNvSpPr/>
            <p:nvPr/>
          </p:nvSpPr>
          <p:spPr>
            <a:xfrm>
              <a:off x="1007280" y="409068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aa8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rbel"/>
                </a:rPr>
                <a:t>топлив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034"/>
            <p:cNvSpPr/>
            <p:nvPr/>
          </p:nvSpPr>
          <p:spPr>
            <a:xfrm flipH="1">
              <a:off x="3769920" y="4248360"/>
              <a:ext cx="430200" cy="94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035"/>
            <p:cNvSpPr/>
            <p:nvPr/>
          </p:nvSpPr>
          <p:spPr>
            <a:xfrm>
              <a:off x="2586960" y="514764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средст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бытовой хим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036"/>
            <p:cNvSpPr/>
            <p:nvPr/>
          </p:nvSpPr>
          <p:spPr>
            <a:xfrm>
              <a:off x="4801320" y="4248360"/>
              <a:ext cx="433440" cy="94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037"/>
            <p:cNvSpPr/>
            <p:nvPr/>
          </p:nvSpPr>
          <p:spPr>
            <a:xfrm>
              <a:off x="4652280" y="5149800"/>
              <a:ext cx="1760400" cy="1399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eb8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взрывчат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вещест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5261400" y="3939840"/>
              <a:ext cx="1094040" cy="50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039"/>
            <p:cNvSpPr/>
            <p:nvPr/>
          </p:nvSpPr>
          <p:spPr>
            <a:xfrm>
              <a:off x="6234480" y="4095360"/>
              <a:ext cx="176112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волоко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040"/>
            <p:cNvSpPr/>
            <p:nvPr/>
          </p:nvSpPr>
          <p:spPr>
            <a:xfrm flipV="1">
              <a:off x="5364000" y="3296160"/>
              <a:ext cx="1243800" cy="17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041"/>
            <p:cNvSpPr/>
            <p:nvPr/>
          </p:nvSpPr>
          <p:spPr>
            <a:xfrm>
              <a:off x="6593760" y="247896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красителе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042"/>
            <p:cNvSpPr/>
            <p:nvPr/>
          </p:nvSpPr>
          <p:spPr>
            <a:xfrm flipV="1">
              <a:off x="5062680" y="2289600"/>
              <a:ext cx="812520" cy="76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043"/>
            <p:cNvSpPr/>
            <p:nvPr/>
          </p:nvSpPr>
          <p:spPr>
            <a:xfrm>
              <a:off x="5562720" y="105696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aa8a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лекарст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044"/>
            <p:cNvSpPr/>
            <p:nvPr/>
          </p:nvSpPr>
          <p:spPr>
            <a:xfrm flipV="1">
              <a:off x="4500000" y="1892160"/>
              <a:ext cx="0" cy="100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045"/>
            <p:cNvSpPr/>
            <p:nvPr/>
          </p:nvSpPr>
          <p:spPr>
            <a:xfrm>
              <a:off x="3621240" y="49536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e7d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rbel"/>
                </a:rPr>
                <a:t>пластмас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46"/>
            <p:cNvSpPr/>
            <p:nvPr/>
          </p:nvSpPr>
          <p:spPr>
            <a:xfrm>
              <a:off x="3621240" y="2896920"/>
              <a:ext cx="1760400" cy="13993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rbel"/>
                </a:rPr>
                <a:t>Примене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rbel"/>
                </a:rPr>
                <a:t>С</a:t>
              </a:r>
              <a:r>
                <a:rPr b="1" lang="en-US" sz="900" spc="-1" strike="noStrike">
                  <a:solidFill>
                    <a:srgbClr val="000000"/>
                  </a:solidFill>
                  <a:latin typeface="Corbel"/>
                </a:rPr>
                <a:t>n</a:t>
              </a:r>
              <a:r>
                <a:rPr b="1" lang="en-US" sz="1600" spc="-1" strike="noStrike">
                  <a:solidFill>
                    <a:srgbClr val="000000"/>
                  </a:solidFill>
                  <a:latin typeface="Corbel"/>
                </a:rPr>
                <a:t>H</a:t>
              </a:r>
              <a:r>
                <a:rPr b="1" lang="en-US" sz="900" spc="-1" strike="noStrike">
                  <a:solidFill>
                    <a:srgbClr val="000000"/>
                  </a:solidFill>
                  <a:latin typeface="Corbe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85840" y="428760"/>
          <a:ext cx="8858160" cy="5908680"/>
        </p:xfrm>
        <a:graphic>
          <a:graphicData uri="http://schemas.openxmlformats.org/drawingml/2006/table">
            <a:tbl>
              <a:tblPr/>
              <a:tblGrid>
                <a:gridCol w="4359240"/>
                <a:gridCol w="1123920"/>
                <a:gridCol w="1265040"/>
                <a:gridCol w="1055880"/>
                <a:gridCol w="1054080"/>
              </a:tblGrid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лан характерис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адие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щая характеристика класса (общая формула, определение, особенности класса  углеводород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звание вещества, его молекулярная и структурная фор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Виды изом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Физические свой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Химические свойств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еакция горения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реакция замещения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реакция присоединения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другие свой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Способы пол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Области при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Генетическая связь углеводор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н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Ответы к те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. – Б                           нет ошибок – «5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.  - А                            1 ошибка – «4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. – В                             2 ошибки – «3»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4. –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 – 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6.   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=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+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= С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+Н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0:02:22Z</dcterms:created>
  <dc:creator>User</dc:creator>
  <dc:description/>
  <dc:language>en-US</dc:language>
  <cp:lastModifiedBy>Home</cp:lastModifiedBy>
  <dcterms:modified xsi:type="dcterms:W3CDTF">2012-12-19T17:29:54Z</dcterms:modified>
  <cp:revision>13</cp:revision>
  <dc:subject/>
  <dc:title>Обобщение знание и умений и предельных и непредельных углеводородах</dc:title>
</cp:coreProperties>
</file>