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wmf" ContentType="image/x-wmf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A691-07F2-467E-9AF1-D23259859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6B21-20F4-4D26-A421-DAB2F79B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E29B-3F85-489F-A795-15CEC4B5A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C15B-CF96-478D-A1F4-CFC74D022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60C2-4E9A-49B6-AE99-B604FFE09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E5A6-B37F-45B5-AACF-76A140EF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9AB3-FD9E-4FA4-989E-986172B7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D922-5E2A-4CED-91B4-810C5A19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132E2-74A8-457E-B015-80CB2ABB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7273-8674-4E7A-B080-B686A3AC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571F-D7BA-4282-8468-53DDF437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9C5A-AB9F-43B7-B438-55DA350F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2018-6216-4096-B81C-E97DCDE6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3FB7-45EF-4934-8CB0-035E0413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A61F-567A-4AEC-896D-E1FF4910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5252-23D5-47C8-95C3-7B25636B8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498C-0758-4425-A1A1-9706CD3B5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3531-92C9-4222-B54F-C0ABB11B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E8EB-4214-46DD-9BA6-E8D6E264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6A28-849F-4C9A-801C-D9D96176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C43B-7411-4D29-9BA4-05F4F377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4E8D-4B6F-4C1D-B689-F4F4005B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DF74-B65B-423E-B5D9-CFDC3FBC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69BE-37A3-4FDB-B395-0FF45901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4E98-BA5F-4329-94B3-C950B7D331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A289-4BFB-4E2D-BC06-6146C147B9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ollege.ru/biology/course/content/chapter8/section1/paragraph6/theory.html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4"/>
          <p:cNvSpPr txBox="1"/>
          <p:nvPr/>
        </p:nvSpPr>
        <p:spPr>
          <a:xfrm>
            <a:off x="1676520" y="762120"/>
            <a:ext cx="63244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3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У Г Л Е В О Д Ы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7" name="Picture 6" descr="s"/>
          <p:cNvPicPr/>
          <p:nvPr/>
        </p:nvPicPr>
        <p:blipFill>
          <a:blip r:embed="rId1"/>
          <a:stretch/>
        </p:blipFill>
        <p:spPr>
          <a:xfrm>
            <a:off x="6705720" y="4114800"/>
            <a:ext cx="2211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781320" y="228600"/>
            <a:ext cx="175284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альто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Picture 9" descr="http://www.college.ru/biology/course/content/javagifs/08010203.gif"/>
          <p:cNvPicPr/>
          <p:nvPr/>
        </p:nvPicPr>
        <p:blipFill>
          <a:blip r:embed="rId1"/>
          <a:stretch/>
        </p:blipFill>
        <p:spPr>
          <a:xfrm>
            <a:off x="228600" y="228600"/>
            <a:ext cx="4370400" cy="2654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http://www.college.ru/biology/course/content/javagifs/08010204.gif"/>
          <p:cNvPicPr/>
          <p:nvPr/>
        </p:nvPicPr>
        <p:blipFill>
          <a:blip r:embed="rId2"/>
          <a:stretch/>
        </p:blipFill>
        <p:spPr>
          <a:xfrm>
            <a:off x="4876920" y="1219320"/>
            <a:ext cx="4267080" cy="2590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76" name="Rectangle 12"/>
          <p:cNvSpPr/>
          <p:nvPr/>
        </p:nvSpPr>
        <p:spPr>
          <a:xfrm>
            <a:off x="1295280" y="3124080"/>
            <a:ext cx="19051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Лакто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13" descr="http://www.college.ru/biology/course/content/javagifs/08010205.gif"/>
          <p:cNvPicPr/>
          <p:nvPr/>
        </p:nvPicPr>
        <p:blipFill>
          <a:blip r:embed="rId3"/>
          <a:stretch/>
        </p:blipFill>
        <p:spPr>
          <a:xfrm>
            <a:off x="228600" y="3962520"/>
            <a:ext cx="4267080" cy="2400120"/>
          </a:xfrm>
          <a:prstGeom prst="rect">
            <a:avLst/>
          </a:prstGeom>
          <a:ln w="0">
            <a:noFill/>
          </a:ln>
        </p:spPr>
      </p:pic>
      <p:sp>
        <p:nvSpPr>
          <p:cNvPr id="178" name="Line 15"/>
          <p:cNvSpPr/>
          <p:nvPr/>
        </p:nvSpPr>
        <p:spPr>
          <a:xfrm flipH="1">
            <a:off x="4723920" y="380880"/>
            <a:ext cx="175284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Line 16"/>
          <p:cNvSpPr/>
          <p:nvPr/>
        </p:nvSpPr>
        <p:spPr>
          <a:xfrm flipV="1">
            <a:off x="3352680" y="3200040"/>
            <a:ext cx="129564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17"/>
          <p:cNvSpPr/>
          <p:nvPr/>
        </p:nvSpPr>
        <p:spPr>
          <a:xfrm>
            <a:off x="6324480" y="4572000"/>
            <a:ext cx="19051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ахаро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Line 18"/>
          <p:cNvSpPr/>
          <p:nvPr/>
        </p:nvSpPr>
        <p:spPr>
          <a:xfrm flipH="1">
            <a:off x="4876920" y="4876920"/>
            <a:ext cx="129528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500"/>
                            </p:stCondLst>
                            <p:childTnLst>
                              <p:par>
                                <p:cTn id="2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5"/>
          <p:cNvSpPr/>
          <p:nvPr/>
        </p:nvSpPr>
        <p:spPr>
          <a:xfrm>
            <a:off x="4419720" y="457200"/>
            <a:ext cx="4495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жнейший из дисахаридов - сахароза - очень распространен в природе. Это химическое название обычного сахара, называемого тростниковым или свекловичны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8" descr="http://www.college.ru/biology/course/content/chapter8/section1/paragraph2/images/08010202.jpg"/>
          <p:cNvPicPr/>
          <p:nvPr/>
        </p:nvPicPr>
        <p:blipFill>
          <a:blip r:embed="rId1"/>
          <a:stretch/>
        </p:blipFill>
        <p:spPr>
          <a:xfrm>
            <a:off x="304920" y="380880"/>
            <a:ext cx="3886200" cy="3657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http://www.college.ru/biology/course/content/javagifs/08010205.gif"/>
          <p:cNvPicPr/>
          <p:nvPr/>
        </p:nvPicPr>
        <p:blipFill>
          <a:blip r:embed="rId2"/>
          <a:stretch/>
        </p:blipFill>
        <p:spPr>
          <a:xfrm>
            <a:off x="228600" y="4114800"/>
            <a:ext cx="4267080" cy="240048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1"/>
          <p:cNvSpPr/>
          <p:nvPr/>
        </p:nvSpPr>
        <p:spPr>
          <a:xfrm>
            <a:off x="4572000" y="3886200"/>
            <a:ext cx="4343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екловичный сахар широко применяется в пищевой промышленности, кулинарии, приготовлении вин, пива и т.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http://www.college.ru/biology/course/content/javagifs/08010204.gif"/>
          <p:cNvPicPr/>
          <p:nvPr/>
        </p:nvPicPr>
        <p:blipFill>
          <a:blip r:embed="rId1"/>
          <a:stretch/>
        </p:blipFill>
        <p:spPr>
          <a:xfrm>
            <a:off x="4648320" y="380880"/>
            <a:ext cx="4267080" cy="2590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87" name="Rectangle 8"/>
          <p:cNvSpPr/>
          <p:nvPr/>
        </p:nvSpPr>
        <p:spPr>
          <a:xfrm>
            <a:off x="0" y="38088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 молока получают молочный сахар -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лактозу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 молоке лактоза содержится в довольно значительном количеств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0" y="312408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ктоза отличается от других сахаров отсутствием гидроскопичности - она не отсыревает. Это свойство имеет большое значение: если нужно приготовить с сахаром какой-либо порошок, содержащий легко гидролизующее лекарство, то берут молочный саха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чение лактозы очень велико, т.к. она является важным питательным веществом, особенно для растущих организмов человека и млекопитающихся животны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5" descr="http://www.college.ru/biology/course/content/javagifs/08010203.gif"/>
          <p:cNvPicPr/>
          <p:nvPr/>
        </p:nvPicPr>
        <p:blipFill>
          <a:blip r:embed="rId1"/>
          <a:stretch/>
        </p:blipFill>
        <p:spPr>
          <a:xfrm>
            <a:off x="304920" y="304920"/>
            <a:ext cx="4343400" cy="289548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914400" y="3352680"/>
            <a:ext cx="1752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альто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4648320" y="228600"/>
            <a:ext cx="4495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лодовый сахар - это промежуточный продукт при гидролизе крахмала. По другому его называют еще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мальто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т.к. солодовый сахар получается из крахмала при действии солода (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т. солод 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ltum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0" y="411480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лодовый сахар широко распространен как в растительных, так и в животных организмах. Например, он образуется под влиянием ферментов пищеварительного канала, а также при многих технологических процессах бродильной промышленности: винокурения, пивоварении и т.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П О Л И С А Х А Р И Д Ы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0" y="1219320"/>
            <a:ext cx="9144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ожными углеводами (полисахаридами или полиозами) называют такие углеводы, которые способны гидролизоваться с образованием простых углеводов и у них число атомов углерода не равно числу атомов кислорода С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п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п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609480" y="44197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 полисахаридам относятс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304920" y="5181480"/>
            <a:ext cx="7696080" cy="11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С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-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нтозан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С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-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люло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хмал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икоге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5"/>
          <p:cNvSpPr/>
          <p:nvPr/>
        </p:nvSpPr>
        <p:spPr>
          <a:xfrm>
            <a:off x="304920" y="990720"/>
            <a:ext cx="8534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исахариды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остоят из моносахаридов. Большие размеры делают их молекулы практически нерастворимыми в воде; они не оказывают влияние на клетку и потому удобны в качестве запасных веществ. При необходимости они могут быть превращены обратно в сахара путём гидролиз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380880" y="457200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жнейшие из полисахаридов - это крахмал, гликоген (животный крахмал), целлюлоза (клетчатка)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5"/>
          <p:cNvSpPr/>
          <p:nvPr/>
        </p:nvSpPr>
        <p:spPr>
          <a:xfrm>
            <a:off x="3733920" y="228600"/>
            <a:ext cx="5105160" cy="56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Крахмал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это биополимер, состоящий из остатков глюкозы - первый видимый продукт фотосинтеза. При фотосинтезе крахмал образуется  в растениях  и откладывается  в корнях,  клубнях, семенах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хмал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это белое вещество, состоящее из мельчайших зерен, напоминающих муку, поэтому его второе название «картофельная мука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Object 0" descr=""/>
          <p:cNvPicPr/>
          <p:nvPr/>
        </p:nvPicPr>
        <p:blipFill>
          <a:blip r:embed="rId1"/>
          <a:stretch/>
        </p:blipFill>
        <p:spPr>
          <a:xfrm>
            <a:off x="324000" y="2421000"/>
            <a:ext cx="3286080" cy="4114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крахмал"/>
          <p:cNvPicPr/>
          <p:nvPr/>
        </p:nvPicPr>
        <p:blipFill>
          <a:blip r:embed="rId2"/>
          <a:stretch/>
        </p:blipFill>
        <p:spPr>
          <a:xfrm>
            <a:off x="250920" y="189000"/>
            <a:ext cx="331128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ЗНАЧЕНИЕ КРАХМАЛА: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394920" y="1341360"/>
            <a:ext cx="8534520" cy="32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). В качестве пищевого продукта (хлеб, картофель, крупы и т. д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). Для изготовления  канцелярского кле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)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 медицине и фармации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приготовления присыпок, паст (густых мазей), а также при производстве таблето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4" descr="крахмал"/>
          <p:cNvPicPr/>
          <p:nvPr/>
        </p:nvPicPr>
        <p:blipFill>
          <a:blip r:embed="rId1"/>
          <a:stretch/>
        </p:blipFill>
        <p:spPr>
          <a:xfrm>
            <a:off x="5219640" y="4581360"/>
            <a:ext cx="3311640" cy="20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5"/>
          <p:cNvSpPr/>
          <p:nvPr/>
        </p:nvSpPr>
        <p:spPr>
          <a:xfrm>
            <a:off x="380880" y="380880"/>
            <a:ext cx="8153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животном мире роль «запасного крахмала» играет родственный крахмалу полисахарид -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гликоген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Гликоген содержится во всех животных тканях.  Особенно много его в печени (до 20%) и в мышцах (4%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икоген представляет собой белый аморфный порошок, хорошо растворимый  даже в холодной воде. Молекула животного крахмала построена по типу молекул амилопектина, отличаясь лишь большей ветвистостью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лекулярная масса гликогена  исчисляется миллион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7" descr="http://www.college.ru/biology/course/content/chapter8/section1/paragraph2/images/08010207.jpg"/>
          <p:cNvPicPr/>
          <p:nvPr/>
        </p:nvPicPr>
        <p:blipFill>
          <a:blip r:embed="rId1"/>
          <a:stretch/>
        </p:blipFill>
        <p:spPr>
          <a:xfrm>
            <a:off x="457200" y="228600"/>
            <a:ext cx="3943440" cy="525780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8"/>
          <p:cNvSpPr/>
          <p:nvPr/>
        </p:nvSpPr>
        <p:spPr>
          <a:xfrm>
            <a:off x="4648320" y="228600"/>
            <a:ext cx="4190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люлоза также является полимером глюкозы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4572000" y="1523880"/>
            <a:ext cx="4038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ей заключено около 50 % углерода, содержащегося в растениях. По общей массе на Земле целлюлоза занимает первое место среди органических соединений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218960" y="990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Углеводам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называют вещества с общей формулой C</a:t>
            </a:r>
            <a:r>
              <a:rPr b="0" i="1" lang="ru-RU" sz="32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x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(H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O)</a:t>
            </a:r>
            <a:r>
              <a:rPr b="0" i="1" lang="ru-RU" sz="32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y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, где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x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и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y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натуральные числа. Название «углеводы» говорит о том, что в их молекулах водород и кислород находятся в том же отношении, что и в вод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1219320" y="4191120"/>
            <a:ext cx="7619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В животных клетках содержится небольшое количество углеводов, а в растительных – почти 70 % от общего количества органических вещест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7" descr="http://www.college.ru/biology/course/content/javagifs/08010208.gif"/>
          <p:cNvPicPr/>
          <p:nvPr/>
        </p:nvPicPr>
        <p:blipFill>
          <a:blip r:embed="rId1"/>
          <a:stretch/>
        </p:blipFill>
        <p:spPr>
          <a:xfrm>
            <a:off x="228600" y="380880"/>
            <a:ext cx="8610480" cy="259092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8"/>
          <p:cNvSpPr/>
          <p:nvPr/>
        </p:nvSpPr>
        <p:spPr>
          <a:xfrm>
            <a:off x="3886200" y="3200400"/>
            <a:ext cx="414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Целлюлоза (С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0" y="386064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люлоза – это биополимер, состоящий из остатков глюкозы - ценный источник глюкозы, однако для её расщепления необходим фермент целлюлаза, сравнительно редко встречающийся в природе. Поэтому в пищу целлюлозу употребляют только некоторые животные (например, жвачные). Велико и промышленное значение целлюлозы – из этого вещества изготовляют хлопчатобумажные ткани и бумагу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5"/>
          <p:cNvSpPr/>
          <p:nvPr/>
        </p:nvSpPr>
        <p:spPr>
          <a:xfrm>
            <a:off x="228600" y="1600200"/>
            <a:ext cx="8610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огда простые сахара вступают в реакцию с сахарными спиртами и кислотами. Образующиеся при этом вещества близки к полисахаридам и носят название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кополисахаридо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реин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грает роль структурного компонента в клетках. Гликопротеины и гликолипиды определяют антигенные свойства клеток. Гиалуроновая кислота и хондроитинсульфат – важные компоненты соединительной ткани позвоночных.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мед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из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меют важную защитную функцию в организмах растений и животны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" descr="http://www.college.ru/biology/course/content/javagifs/08010209.gif"/>
          <p:cNvPicPr/>
          <p:nvPr/>
        </p:nvPicPr>
        <p:blipFill>
          <a:blip r:embed="rId1"/>
          <a:stretch/>
        </p:blipFill>
        <p:spPr>
          <a:xfrm>
            <a:off x="228600" y="228600"/>
            <a:ext cx="8534520" cy="251460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6"/>
          <p:cNvSpPr/>
          <p:nvPr/>
        </p:nvSpPr>
        <p:spPr>
          <a:xfrm>
            <a:off x="0" y="3429000"/>
            <a:ext cx="4800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Хитин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близок к целлюлозе; он встречается у некоторых форм грибов, а также как важный компонент наружного скелета некоторых животных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Picture 7" descr="http://www.college.ru/biology/course/content/chapter8/section1/paragraph2/images/08010210.jpg"/>
          <p:cNvPicPr/>
          <p:nvPr/>
        </p:nvPicPr>
        <p:blipFill>
          <a:blip r:embed="rId2"/>
          <a:stretch/>
        </p:blipFill>
        <p:spPr>
          <a:xfrm>
            <a:off x="4800600" y="3581280"/>
            <a:ext cx="4114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762120"/>
            <a:ext cx="8915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КЛАССИФИКАЦИЯ</a:t>
            </a:r>
            <a:br>
              <a:rPr sz="4400"/>
            </a:b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УГЛЕВОДОВ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38095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СТ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носахарид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4038480" y="3809880"/>
            <a:ext cx="4800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ОЖ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 дисахариды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лисахариды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Line 7"/>
          <p:cNvSpPr/>
          <p:nvPr/>
        </p:nvSpPr>
        <p:spPr>
          <a:xfrm flipH="1">
            <a:off x="2057040" y="2362320"/>
            <a:ext cx="1066680" cy="99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8"/>
          <p:cNvSpPr/>
          <p:nvPr/>
        </p:nvSpPr>
        <p:spPr>
          <a:xfrm>
            <a:off x="5105520" y="2362320"/>
            <a:ext cx="1371600" cy="99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М О Н О С А Х А Р И Д Ы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-360" y="380988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 моносахаридам относятс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4343400"/>
            <a:ext cx="8458200" cy="20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трозы   С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литроза  трео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нтозы    С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рабино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сило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рибоза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ксоз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С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юко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манно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галакто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фрукто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0" y="1447920"/>
            <a:ext cx="914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стыми углеводами (моносахаридами и мономинозами) называют углеводы, которые не способны гидролизоваться с образованием более простых углеводов,  у них число атомов углерода  равно числу атомов кислорода С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п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п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1"/>
          <p:cNvSpPr/>
          <p:nvPr/>
        </p:nvSpPr>
        <p:spPr>
          <a:xfrm>
            <a:off x="380880" y="3657600"/>
            <a:ext cx="7848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ые распространённые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носахариды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юкоз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руктоз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имеющие формулу (CH</a:t>
            </a:r>
            <a:r>
              <a:rPr b="0" lang="en-US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)</a:t>
            </a:r>
            <a:r>
              <a:rPr b="0" lang="en-US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Все моносахариды имеют сладкий вкус, кристаллизуются и легко растворяются в вод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533520" y="609480"/>
            <a:ext cx="7696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носахариды -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вердые вещества, способные  кристаллизоваться. Они гидроскопичны, очень легко растворимы в воде, легко образуют сиропы, из которых выделить их в кристаллическом виде бывает очень трудн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4343400" y="228600"/>
            <a:ext cx="4800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юкозу называют также виноградным сахаром, так как она содержится в  большом количестве в виноградном соке. Кроме винограда глюкоза находится и в других сладких плодах  и даже в разных частях растений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6" descr="http://www.college.ru/biology/course/content/javagifs/08010201.gif"/>
          <p:cNvPicPr/>
          <p:nvPr/>
        </p:nvPicPr>
        <p:blipFill>
          <a:blip r:embed="rId1">
            <a:lum contrast="-24000"/>
          </a:blip>
          <a:stretch/>
        </p:blipFill>
        <p:spPr>
          <a:xfrm>
            <a:off x="304920" y="228600"/>
            <a:ext cx="3821040" cy="41148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7"/>
          <p:cNvSpPr/>
          <p:nvPr/>
        </p:nvSpPr>
        <p:spPr>
          <a:xfrm>
            <a:off x="304920" y="4419720"/>
            <a:ext cx="8572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пространена глюкоза и в животном мире: 0,1% ее находится в крови. Глюкоза разносится по всему телу и служит источником энергии для организма. Она также входит в состав сахарозы, лактозы, целлюлозы, крахмал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5"/>
          <p:cNvSpPr/>
          <p:nvPr/>
        </p:nvSpPr>
        <p:spPr>
          <a:xfrm>
            <a:off x="179280" y="189000"/>
            <a:ext cx="5256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растительном мире широко распространена фруктоза или фруктовый (плодовый) сахар. Фруктоза содержится в сладких плодах, меде. Извлекая из цветов  сладких плодов соки, пчелы приготавливают мед, который по химическому составу  представляет собой  в основном смесь глюкозы и фруктозы. Также фруктоза входит в состав сложных сахаров, например тростникового и свекловичног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6" descr="47"/>
          <p:cNvPicPr/>
          <p:nvPr/>
        </p:nvPicPr>
        <p:blipFill>
          <a:blip r:embed="rId1"/>
          <a:stretch/>
        </p:blipFill>
        <p:spPr>
          <a:xfrm>
            <a:off x="5580000" y="260280"/>
            <a:ext cx="3095640" cy="2641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75491"/>
          <p:cNvPicPr/>
          <p:nvPr/>
        </p:nvPicPr>
        <p:blipFill>
          <a:blip r:embed="rId2"/>
          <a:stretch/>
        </p:blipFill>
        <p:spPr>
          <a:xfrm>
            <a:off x="5580000" y="3357720"/>
            <a:ext cx="2808360" cy="23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ЗНАЧЕНИЕ МОНОСАХАРИДОВ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129528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носахариды играют роль промежуточных продуктов в процессах дыхания и фотосинтеза, участвуют в синтезе нуклеиновых кислот, коферментов, АТФ и полисахаридов, служат источниками энергии, высвобождаемой при окислении в процессе дыхания. Производные моносахаридов – сахарные спирты, сахарные кислоты, дезоксисахара и аминосахара – имеют важное значение в процессе дыхания, а также используются при синтезе липидов,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ДНК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других макромолеку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Д И С А Х А Р И Д Ы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350532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исахариды имеют формулу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</a:t>
            </a:r>
            <a:r>
              <a:rPr b="0" lang="en-US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0" lang="en-US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0" lang="en-US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 дисахаридам относятс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33520" y="472428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с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харо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глюкоза + фрукто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кто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глюкоза + галактоза)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льто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глюкоза + глюкоза),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обио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152280" y="1371600"/>
            <a:ext cx="8610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ахариды - это сложные сахара, каждая молекула которых при гидролизе распадается на 2 молекулы моносахарида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огда они используются в качестве запасных питательных вещест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4T09:52:46Z</dcterms:created>
  <dc:creator>Василенков</dc:creator>
  <dc:description/>
  <dc:language>en-US</dc:language>
  <cp:lastModifiedBy>Home</cp:lastModifiedBy>
  <dcterms:modified xsi:type="dcterms:W3CDTF">2012-12-19T17:45:45Z</dcterms:modified>
  <cp:revision>56</cp:revision>
  <dc:subject/>
  <dc:title> ПРЕЗЕНТАЦИЯ по химии</dc:title>
</cp:coreProperties>
</file>