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9.wmf" ContentType="image/x-wmf"/>
  <Override PartName="/ppt/media/image10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DBAF-77E3-4E61-A058-D58B2F2AF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D7CF-8C36-4121-B778-062AC91E1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B053-BBFD-438A-A3A2-BF53D0B7B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863F-9626-4BB2-A762-C15AB9978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0FD8E-5683-463A-9191-BE0FAFE42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54FFB-5F89-47BC-B904-48BB0D712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03C51-965D-4901-A462-F00C5CD71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C9C4C-CD84-4D08-A36A-293C4C80B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49618-001C-4907-AAA8-E25F0CD42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76D83-431B-40B3-8C55-0FD9EFFA2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0F723-0C3D-4B9A-8997-9649DD5A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7294-E163-4EAF-966A-95090001C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D57D6-B0A1-43B6-94CC-AA436F4F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2A35E-34E4-4815-AFFB-02CE3DB5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AEB8A-E5FF-409C-B8E6-3EB6792BC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1C031-AB61-4A0B-B92F-ADB57170A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32E86-A809-4397-8699-4193D327A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E8F4-A05A-48E4-AD23-B44B46D99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A15F-DB39-4048-AA59-EFE3687A6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FCB4-834F-457F-B1F7-07A5B8967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97F9-0068-4D94-AF0E-3A2015758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9BEF-0E46-4CE1-BA66-89133768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4579-A2D4-4370-B8BC-354AA6C1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7D70-26B9-4ED6-B2E6-931A82DD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BD0BB-3908-4420-B44E-4C8CBDE6B6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49F1-2B11-463E-98E3-6D3FDB9873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ollege.ru/biology/course/content/chapter8/section1/paragraph6/theory.html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4"/>
          <p:cNvSpPr txBox="1"/>
          <p:nvPr/>
        </p:nvSpPr>
        <p:spPr>
          <a:xfrm>
            <a:off x="1676520" y="762120"/>
            <a:ext cx="632448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73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66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У Г Л Е В О Д Ы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66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7" name="Picture 6" descr="s"/>
          <p:cNvPicPr/>
          <p:nvPr/>
        </p:nvPicPr>
        <p:blipFill>
          <a:blip r:embed="rId1"/>
          <a:stretch/>
        </p:blipFill>
        <p:spPr>
          <a:xfrm>
            <a:off x="6705720" y="4114800"/>
            <a:ext cx="22111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6781320" y="228600"/>
            <a:ext cx="175284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Мальтоз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Picture 9" descr="http://www.college.ru/biology/course/content/javagifs/08010203.gif"/>
          <p:cNvPicPr/>
          <p:nvPr/>
        </p:nvPicPr>
        <p:blipFill>
          <a:blip r:embed="rId1"/>
          <a:stretch/>
        </p:blipFill>
        <p:spPr>
          <a:xfrm>
            <a:off x="228600" y="228600"/>
            <a:ext cx="4370400" cy="2654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http://www.college.ru/biology/course/content/javagifs/08010204.gif"/>
          <p:cNvPicPr/>
          <p:nvPr/>
        </p:nvPicPr>
        <p:blipFill>
          <a:blip r:embed="rId2"/>
          <a:stretch/>
        </p:blipFill>
        <p:spPr>
          <a:xfrm>
            <a:off x="4876920" y="1219320"/>
            <a:ext cx="4267080" cy="2590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76" name="Rectangle 12"/>
          <p:cNvSpPr/>
          <p:nvPr/>
        </p:nvSpPr>
        <p:spPr>
          <a:xfrm>
            <a:off x="1295280" y="3124080"/>
            <a:ext cx="19051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Лактоз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Picture 13" descr="http://www.college.ru/biology/course/content/javagifs/08010205.gif"/>
          <p:cNvPicPr/>
          <p:nvPr/>
        </p:nvPicPr>
        <p:blipFill>
          <a:blip r:embed="rId3"/>
          <a:stretch/>
        </p:blipFill>
        <p:spPr>
          <a:xfrm>
            <a:off x="228600" y="3962520"/>
            <a:ext cx="4267080" cy="2400120"/>
          </a:xfrm>
          <a:prstGeom prst="rect">
            <a:avLst/>
          </a:prstGeom>
          <a:ln w="0">
            <a:noFill/>
          </a:ln>
        </p:spPr>
      </p:pic>
      <p:sp>
        <p:nvSpPr>
          <p:cNvPr id="178" name="Line 15"/>
          <p:cNvSpPr/>
          <p:nvPr/>
        </p:nvSpPr>
        <p:spPr>
          <a:xfrm flipH="1">
            <a:off x="4723920" y="380880"/>
            <a:ext cx="175284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Line 16"/>
          <p:cNvSpPr/>
          <p:nvPr/>
        </p:nvSpPr>
        <p:spPr>
          <a:xfrm flipV="1">
            <a:off x="3352680" y="3200040"/>
            <a:ext cx="129564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Rectangle 17"/>
          <p:cNvSpPr/>
          <p:nvPr/>
        </p:nvSpPr>
        <p:spPr>
          <a:xfrm>
            <a:off x="6324480" y="4572000"/>
            <a:ext cx="19051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ахароз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Line 18"/>
          <p:cNvSpPr/>
          <p:nvPr/>
        </p:nvSpPr>
        <p:spPr>
          <a:xfrm flipH="1">
            <a:off x="4876920" y="4876920"/>
            <a:ext cx="129528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500"/>
                            </p:stCondLst>
                            <p:childTnLst>
                              <p:par>
                                <p:cTn id="2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4000"/>
                            </p:stCondLst>
                            <p:childTnLst>
                              <p:par>
                                <p:cTn id="20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5"/>
          <p:cNvSpPr/>
          <p:nvPr/>
        </p:nvSpPr>
        <p:spPr>
          <a:xfrm>
            <a:off x="4419720" y="457200"/>
            <a:ext cx="44956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жнейший из дисахаридов - сахароза - очень распространен в природе. Это химическое название обычного сахара, называемого тростниковым или свекловичны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Picture 8" descr="http://www.college.ru/biology/course/content/chapter8/section1/paragraph2/images/08010202.jpg"/>
          <p:cNvPicPr/>
          <p:nvPr/>
        </p:nvPicPr>
        <p:blipFill>
          <a:blip r:embed="rId1"/>
          <a:stretch/>
        </p:blipFill>
        <p:spPr>
          <a:xfrm>
            <a:off x="304920" y="380880"/>
            <a:ext cx="3886200" cy="36576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9" descr="http://www.college.ru/biology/course/content/javagifs/08010205.gif"/>
          <p:cNvPicPr/>
          <p:nvPr/>
        </p:nvPicPr>
        <p:blipFill>
          <a:blip r:embed="rId2"/>
          <a:stretch/>
        </p:blipFill>
        <p:spPr>
          <a:xfrm>
            <a:off x="228600" y="4114800"/>
            <a:ext cx="4267080" cy="240048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11"/>
          <p:cNvSpPr/>
          <p:nvPr/>
        </p:nvSpPr>
        <p:spPr>
          <a:xfrm>
            <a:off x="4572000" y="3886200"/>
            <a:ext cx="4343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екловичный сахар широко применяется в пищевой промышленности, кулинарии, приготовлении вин, пива и т.д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2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5" descr="http://www.college.ru/biology/course/content/javagifs/08010204.gif"/>
          <p:cNvPicPr/>
          <p:nvPr/>
        </p:nvPicPr>
        <p:blipFill>
          <a:blip r:embed="rId1"/>
          <a:stretch/>
        </p:blipFill>
        <p:spPr>
          <a:xfrm>
            <a:off x="4648320" y="380880"/>
            <a:ext cx="4267080" cy="2590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87" name="Rectangle 8"/>
          <p:cNvSpPr/>
          <p:nvPr/>
        </p:nvSpPr>
        <p:spPr>
          <a:xfrm>
            <a:off x="0" y="38088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 молока получают молочный сахар -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лактозу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 молоке лактоза содержится в довольно значительном количестве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0" y="3124080"/>
            <a:ext cx="914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ктоза отличается от других сахаров отсутствием гидроскопичности - она не отсыревает. Это свойство имеет большое значение: если нужно приготовить с сахаром какой-либо порошок, содержащий легко гидролизующее лекарство, то берут молочный сахар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чение лактозы очень велико, т.к. она является важным питательным веществом, особенно для растущих организмов человека и млекопитающихся животны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5" descr="http://www.college.ru/biology/course/content/javagifs/08010203.gif"/>
          <p:cNvPicPr/>
          <p:nvPr/>
        </p:nvPicPr>
        <p:blipFill>
          <a:blip r:embed="rId1"/>
          <a:stretch/>
        </p:blipFill>
        <p:spPr>
          <a:xfrm>
            <a:off x="304920" y="304920"/>
            <a:ext cx="4343400" cy="289548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914400" y="3352680"/>
            <a:ext cx="1752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Мальтоз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4648320" y="228600"/>
            <a:ext cx="4495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лодовый сахар - это промежуточный продукт при гидролизе крахмала. По другому его называют еще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мальтоз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т.к. солодовый сахар получается из крахмала при действии солода (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т. солод -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ltum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Rectangle 8"/>
          <p:cNvSpPr/>
          <p:nvPr/>
        </p:nvSpPr>
        <p:spPr>
          <a:xfrm>
            <a:off x="0" y="411480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лодовый сахар широко распространен как в растительных, так и в животных организмах. Например, он образуется под влиянием ферментов пищеварительного канала, а также при многих технологических процессах бродильной промышленности: винокурения, пивоварении и т.д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500"/>
                            </p:stCondLst>
                            <p:childTnLst>
                              <p:par>
                                <p:cTn id="2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П О Л И С А Х А Р И Д Ы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0" y="1219320"/>
            <a:ext cx="91440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ожными углеводами (полисахаридами или полиозами) называют такие углеводы, которые способны гидролизоваться с образованием простых углеводов и у них число атомов углерода не равно числу атомов кислорода С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м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п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п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609480" y="44197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 полисахаридам относятся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304920" y="5181480"/>
            <a:ext cx="7696080" cy="11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С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-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нтозаны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С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0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-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люлоз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ахмал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икоге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500"/>
                            </p:stCondLst>
                            <p:childTnLst>
                              <p:par>
                                <p:cTn id="2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5"/>
          <p:cNvSpPr/>
          <p:nvPr/>
        </p:nvSpPr>
        <p:spPr>
          <a:xfrm>
            <a:off x="304920" y="990720"/>
            <a:ext cx="8534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исахариды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состоят из моносахаридов. Большие размеры делают их молекулы практически нерастворимыми в воде; они не оказывают влияние на клетку и потому удобны в качестве запасных веществ. При необходимости они могут быть превращены обратно в сахара путём гидролиз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380880" y="457200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жнейшие из полисахаридов - это крахмал, гликоген (животный крахмал), целлюлоза (клетчатка)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5"/>
          <p:cNvSpPr/>
          <p:nvPr/>
        </p:nvSpPr>
        <p:spPr>
          <a:xfrm>
            <a:off x="3733920" y="228600"/>
            <a:ext cx="5105160" cy="56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Крахмал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0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это биополимер, состоящий из остатков глюкозы - первый видимый продукт фотосинтеза. При фотосинтезе крахмал образуется  в растениях  и откладывается  в корнях,  клубнях, семенах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хмал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-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это белое вещество, состоящее из мельчайших зерен, напоминающих муку, поэтому его второе название «картофельная мука»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Object 0" descr=""/>
          <p:cNvPicPr/>
          <p:nvPr/>
        </p:nvPicPr>
        <p:blipFill>
          <a:blip r:embed="rId1"/>
          <a:stretch/>
        </p:blipFill>
        <p:spPr>
          <a:xfrm>
            <a:off x="324000" y="2421000"/>
            <a:ext cx="3286080" cy="41148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1" descr="крахмал"/>
          <p:cNvPicPr/>
          <p:nvPr/>
        </p:nvPicPr>
        <p:blipFill>
          <a:blip r:embed="rId2"/>
          <a:stretch/>
        </p:blipFill>
        <p:spPr>
          <a:xfrm>
            <a:off x="250920" y="189000"/>
            <a:ext cx="331128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ЗНАЧЕНИЕ КРАХМАЛА: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394920" y="1341360"/>
            <a:ext cx="8534520" cy="32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). В качестве пищевого продукта (хлеб, картофель, крупы и т. д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). Для изготовления  канцелярского кле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).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 медицине и фармации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приготовления присыпок, паст (густых мазей), а также при производстве таблеток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Picture 4" descr="крахмал"/>
          <p:cNvPicPr/>
          <p:nvPr/>
        </p:nvPicPr>
        <p:blipFill>
          <a:blip r:embed="rId1"/>
          <a:stretch/>
        </p:blipFill>
        <p:spPr>
          <a:xfrm>
            <a:off x="5219640" y="4581360"/>
            <a:ext cx="3311640" cy="20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5"/>
          <p:cNvSpPr/>
          <p:nvPr/>
        </p:nvSpPr>
        <p:spPr>
          <a:xfrm>
            <a:off x="380880" y="380880"/>
            <a:ext cx="81536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животном мире роль «запасного крахмала» играет родственный крахмалу полисахарид -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гликоген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Гликоген содержится во всех животных тканях.  Особенно много его в печени (до 20%) и в мышцах (4%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икоген представляет собой белый аморфный порошок, хорошо растворимый  даже в холодной воде. Молекула животного крахмала построена по типу молекул амилопектина, отличаясь лишь большей ветвистостью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лекулярная масса гликогена  исчисляется миллионам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7" descr="http://www.college.ru/biology/course/content/chapter8/section1/paragraph2/images/08010207.jpg"/>
          <p:cNvPicPr/>
          <p:nvPr/>
        </p:nvPicPr>
        <p:blipFill>
          <a:blip r:embed="rId1"/>
          <a:stretch/>
        </p:blipFill>
        <p:spPr>
          <a:xfrm>
            <a:off x="457200" y="228600"/>
            <a:ext cx="3943440" cy="525780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8"/>
          <p:cNvSpPr/>
          <p:nvPr/>
        </p:nvSpPr>
        <p:spPr>
          <a:xfrm>
            <a:off x="4648320" y="228600"/>
            <a:ext cx="4190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люлоза также является полимером глюкозы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Rectangle 9"/>
          <p:cNvSpPr/>
          <p:nvPr/>
        </p:nvSpPr>
        <p:spPr>
          <a:xfrm>
            <a:off x="4572000" y="1523880"/>
            <a:ext cx="40384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ней заключено около 50 % углерода, содержащегося в растениях. По общей массе на Земле целлюлоза занимает первое место среди органических соединений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218960" y="99036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Углеводам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называют вещества с общей формулой C</a:t>
            </a:r>
            <a:r>
              <a:rPr b="0" i="1" lang="ru-RU" sz="32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x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(H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O)</a:t>
            </a:r>
            <a:r>
              <a:rPr b="0" i="1" lang="ru-RU" sz="32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y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, где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x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и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y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– натуральные числа. Название «углеводы» говорит о том, что в их молекулах водород и кислород находятся в том же отношении, что и в вод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1219320" y="4191120"/>
            <a:ext cx="7619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В животных клетках содержится небольшое количество углеводов, а в растительных – почти 70 % от общего количества органических вещест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7" descr="http://www.college.ru/biology/course/content/javagifs/08010208.gif"/>
          <p:cNvPicPr/>
          <p:nvPr/>
        </p:nvPicPr>
        <p:blipFill>
          <a:blip r:embed="rId1"/>
          <a:stretch/>
        </p:blipFill>
        <p:spPr>
          <a:xfrm>
            <a:off x="228600" y="380880"/>
            <a:ext cx="8610480" cy="259092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8"/>
          <p:cNvSpPr/>
          <p:nvPr/>
        </p:nvSpPr>
        <p:spPr>
          <a:xfrm>
            <a:off x="3886200" y="3200400"/>
            <a:ext cx="4141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Целлюлоза (С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0" y="386064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люлоза – это биополимер, состоящий из остатков глюкозы - ценный источник глюкозы, однако для её расщепления необходим фермент целлюлаза, сравнительно редко встречающийся в природе. Поэтому в пищу целлюлозу употребляют только некоторые животные (например, жвачные). Велико и промышленное значение целлюлозы – из этого вещества изготовляют хлопчатобумажные ткани и бумагу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5"/>
          <p:cNvSpPr/>
          <p:nvPr/>
        </p:nvSpPr>
        <p:spPr>
          <a:xfrm>
            <a:off x="228600" y="1600200"/>
            <a:ext cx="86104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огда простые сахара вступают в реакцию с сахарными спиртами и кислотами. Образующиеся при этом вещества близки к полисахаридам и носят название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кополисахаридов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реин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грает роль структурного компонента в клетках. Гликопротеины и гликолипиды определяют антигенные свойства клеток. Гиалуроновая кислота и хондроитинсульфат – важные компоненты соединительной ткани позвоночных.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мед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из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меют важную защитную функцию в организмах растений и животны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5" descr="http://www.college.ru/biology/course/content/javagifs/08010209.gif"/>
          <p:cNvPicPr/>
          <p:nvPr/>
        </p:nvPicPr>
        <p:blipFill>
          <a:blip r:embed="rId1"/>
          <a:stretch/>
        </p:blipFill>
        <p:spPr>
          <a:xfrm>
            <a:off x="228600" y="228600"/>
            <a:ext cx="8534520" cy="251460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6"/>
          <p:cNvSpPr/>
          <p:nvPr/>
        </p:nvSpPr>
        <p:spPr>
          <a:xfrm>
            <a:off x="0" y="3429000"/>
            <a:ext cx="4800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Хитин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близок к целлюлозе; он встречается у некоторых форм грибов, а также как важный компонент наружного скелета некоторых животных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5" name="Picture 7" descr="http://www.college.ru/biology/course/content/chapter8/section1/paragraph2/images/08010210.jpg"/>
          <p:cNvPicPr/>
          <p:nvPr/>
        </p:nvPicPr>
        <p:blipFill>
          <a:blip r:embed="rId2"/>
          <a:stretch/>
        </p:blipFill>
        <p:spPr>
          <a:xfrm>
            <a:off x="4800600" y="3581280"/>
            <a:ext cx="4114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000"/>
                            </p:stCondLst>
                            <p:childTnLst>
                              <p:par>
                                <p:cTn id="40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360" y="762120"/>
            <a:ext cx="8915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КЛАССИФИКАЦИЯ</a:t>
            </a:r>
            <a:br>
              <a:rPr sz="4400"/>
            </a:b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УГЛЕВОДОВ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38095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СТ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оносахарид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4038480" y="3809880"/>
            <a:ext cx="4800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ЛОЖН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 дисахариды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лисахариды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Line 7"/>
          <p:cNvSpPr/>
          <p:nvPr/>
        </p:nvSpPr>
        <p:spPr>
          <a:xfrm flipH="1">
            <a:off x="2057040" y="2362320"/>
            <a:ext cx="1066680" cy="99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Line 8"/>
          <p:cNvSpPr/>
          <p:nvPr/>
        </p:nvSpPr>
        <p:spPr>
          <a:xfrm>
            <a:off x="5105520" y="2362320"/>
            <a:ext cx="1371600" cy="99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М О Н О С А Х А Р И Д Ы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-360" y="380988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 моносахаридам относятся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0" y="4343400"/>
            <a:ext cx="8458200" cy="20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трозы   С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литроза  треоз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нтозы    С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0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рабиноз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силоз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рибоза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ексозы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С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юкоз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манноз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галактоз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фруктоз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0" y="1447920"/>
            <a:ext cx="9144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стыми углеводами (моносахаридами и мономинозами) называют углеводы, которые не способны гидролизоваться с образованием более простых углеводов,  у них число атомов углерода  равно числу атомов кислорода С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п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п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11"/>
          <p:cNvSpPr/>
          <p:nvPr/>
        </p:nvSpPr>
        <p:spPr>
          <a:xfrm>
            <a:off x="380880" y="3657600"/>
            <a:ext cx="78487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ые распространённые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носахариды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юкоз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руктоз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имеющие формулу (CH</a:t>
            </a:r>
            <a:r>
              <a:rPr b="0" lang="en-US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)</a:t>
            </a:r>
            <a:r>
              <a:rPr b="0" lang="en-US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Все моносахариды имеют сладкий вкус, кристаллизуются и легко растворяются в вод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17"/>
          <p:cNvSpPr/>
          <p:nvPr/>
        </p:nvSpPr>
        <p:spPr>
          <a:xfrm>
            <a:off x="533520" y="609480"/>
            <a:ext cx="7696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носахариды -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вердые вещества, способные  кристаллизоваться. Они гидроскопичны, очень легко растворимы в воде, легко образуют сиропы, из которых выделить их в кристаллическом виде бывает очень трудн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4343400" y="228600"/>
            <a:ext cx="4800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юкозу называют также виноградным сахаром, так как она содержится в  большом количестве в виноградном соке. Кроме винограда глюкоза находится и в других сладких плодах  и даже в разных частях растений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6" descr="http://www.college.ru/biology/course/content/javagifs/08010201.gif"/>
          <p:cNvPicPr/>
          <p:nvPr/>
        </p:nvPicPr>
        <p:blipFill>
          <a:blip r:embed="rId1">
            <a:lum contrast="-24000"/>
          </a:blip>
          <a:stretch/>
        </p:blipFill>
        <p:spPr>
          <a:xfrm>
            <a:off x="304920" y="228600"/>
            <a:ext cx="3821040" cy="41148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7"/>
          <p:cNvSpPr/>
          <p:nvPr/>
        </p:nvSpPr>
        <p:spPr>
          <a:xfrm>
            <a:off x="304920" y="4419720"/>
            <a:ext cx="8572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пространена глюкоза и в животном мире: 0,1% ее находится в крови. Глюкоза разносится по всему телу и служит источником энергии для организма. Она также входит в состав сахарозы, лактозы, целлюлозы, крахмал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5"/>
          <p:cNvSpPr/>
          <p:nvPr/>
        </p:nvSpPr>
        <p:spPr>
          <a:xfrm>
            <a:off x="179280" y="189000"/>
            <a:ext cx="5256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растительном мире широко распространена фруктоза или фруктовый (плодовый) сахар. Фруктоза содержится в сладких плодах, меде. Извлекая из цветов  сладких плодов соки, пчелы приготавливают мед, который по химическому составу  представляет собой  в основном смесь глюкозы и фруктозы. Также фруктоза входит в состав сложных сахаров, например тростникового и свекловичног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Picture 6" descr="47"/>
          <p:cNvPicPr/>
          <p:nvPr/>
        </p:nvPicPr>
        <p:blipFill>
          <a:blip r:embed="rId1"/>
          <a:stretch/>
        </p:blipFill>
        <p:spPr>
          <a:xfrm>
            <a:off x="5580000" y="260280"/>
            <a:ext cx="3095640" cy="26416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75491"/>
          <p:cNvPicPr/>
          <p:nvPr/>
        </p:nvPicPr>
        <p:blipFill>
          <a:blip r:embed="rId2"/>
          <a:stretch/>
        </p:blipFill>
        <p:spPr>
          <a:xfrm>
            <a:off x="5580000" y="3357720"/>
            <a:ext cx="2808360" cy="23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ЗНАЧЕНИЕ МОНОСАХАРИДОВ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0" y="1295280"/>
            <a:ext cx="9144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носахариды играют роль промежуточных продуктов в процессах дыхания и фотосинтеза, участвуют в синтезе нуклеиновых кислот, коферментов, АТФ и полисахаридов, служат источниками энергии, высвобождаемой при окислении в процессе дыхания. Производные моносахаридов – сахарные спирты, сахарные кислоты, дезоксисахара и аминосахара – имеют важное значение в процессе дыхания, а также используются при синтезе липидов,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ДНК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 других макромолеку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Д И С А Х А Р И Д Ы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520" y="3505320"/>
            <a:ext cx="80769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исахариды имеют формулу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</a:t>
            </a:r>
            <a:r>
              <a:rPr b="0" lang="en-US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</a:t>
            </a:r>
            <a:r>
              <a:rPr b="0" lang="en-US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</a:t>
            </a:r>
            <a:r>
              <a:rPr b="0" lang="en-US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 дисахаридам относятся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533520" y="4724280"/>
            <a:ext cx="80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с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хароз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глюкоза + фруктоз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ктоз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глюкоза + галактоза)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льтоз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глюкоза + глюкоза),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обиоз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152280" y="1371600"/>
            <a:ext cx="8610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сахариды - это сложные сахара, каждая молекула которых при гидролизе распадается на 2 молекулы моносахарида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огда они используются в качестве запасных питательных веществ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4T09:52:46Z</dcterms:created>
  <dc:creator>Василенков</dc:creator>
  <dc:description/>
  <dc:language>en-US</dc:language>
  <cp:lastModifiedBy>Home</cp:lastModifiedBy>
  <dcterms:modified xsi:type="dcterms:W3CDTF">2012-12-19T17:45:45Z</dcterms:modified>
  <cp:revision>56</cp:revision>
  <dc:subject/>
  <dc:title> ПРЕЗЕНТАЦИЯ по химии</dc:title>
</cp:coreProperties>
</file>