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87A-9AB6-49C5-A6D0-39C2AD6B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41D-ED34-4BDA-ADB9-9F0B2862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777-C99E-42A9-9BD0-C8D1660C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D6FF-E723-4F71-AEA4-E6A88DC0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9BB0-7796-486D-A5B4-D1DAD0F3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E752-6C3E-4A36-B101-89D01AB7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E397-A70A-4EDC-A8AB-9293C04E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5643-7243-4BD3-96DF-FC42C382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88C2-A51E-48E3-950B-F2D59233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E175-AFFB-4B36-B5AC-183B7DE5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627B-911F-4311-AB5F-26EC62B4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08E-383D-4E3D-A3AF-00748942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B9EB-4FC4-4D30-881B-1E972263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3033-C2CE-405D-9E05-18C68980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4206-4FEC-4422-9D2B-B3B00BCF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378C-2572-48A8-8551-807AED2D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CDDA-2632-4D61-B65F-F06DF697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FAF7-BC1A-482E-B2D1-1ECA956C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B1A-0B02-476E-9233-A03F9889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18F-EED7-4F16-8B92-F513BB16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30D-4F68-4C19-BB9F-019D8C8F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C69-44CF-447B-BFF3-67AF01E3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1DF-9CA1-4DF9-AA7D-2BADE08C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153-B9F3-4147-AA77-6162DE01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45D6-10FF-4355-A0EF-106A7150C41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BAC5-0348-4B40-B49C-0E77B9B3F01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лияние этанола на организм человек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57800" y="2971800"/>
            <a:ext cx="2666880" cy="1793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Этиловый спирт является мощным наружным антисептиком и надежным консервант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Легко понять: если вещество вызывает моментальное прекращение жизни и гибель микробов, то такое же действие оно окажет на наш организ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381024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сем известно, что в этиловом спирте десятилетиями сохраняются биологические структуры(кусочки тканей, органы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Это возможно только потому, что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все процессы жизнедеятельности в спирте прекращаютс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638520" cy="264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водке, коньяке, роме, вине, пиве, одеколоне, денатурате основным фармакологически активным веществом, определяющим привлекательность этих жидкостей, является этиловый спир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835440" cy="32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и употреблении алкоголя мышление нарушается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есовместимость между антисептическим действием и применением внутрь в качестве пищевого продукта люди не осознают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мерть человека наступает при концентрации этанола в крови - 5 граммов на 1 литр кров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3810240" cy="304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Этиловый спирт попадает во все органы и ткани!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следствие этого при опьянении неизбежно нарушается работа всех клеток и органов любого челове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60640" y="2361960"/>
            <a:ext cx="3770280" cy="3724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05520" y="2438280"/>
            <a:ext cx="3047760" cy="3124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едь раб не тот, кто стонет под кнутом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е тот отшельник, кто по воле неба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Живет в уединении глухом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 нищ не тот, кто просит корку хлеб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 тот и раб, и нищ, и одинок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то в жизни выбрал спутником поро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629400" y="2819520"/>
            <a:ext cx="2228760" cy="2228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905120" y="4648320"/>
            <a:ext cx="4444920" cy="198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2-12-19T16:43:1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