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8AB-248B-425F-A255-2C71AAE7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267-0E35-4542-A342-9D4D642A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4450-C225-48F6-BEA0-29EF8DCF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ECD-5804-448E-B7FF-9A1BB1BB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17BE-9B7C-4073-B991-6B07701D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AC5E-5195-4785-9B31-ED7552A5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0E73-FE22-48C3-B253-47721547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4DEF-AC25-4B06-A66F-D03E54ED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0517-833C-4E35-9E66-6264FC4E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169C-F25D-4148-83E8-11167A40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667F-E662-4BA0-A2D2-205DA104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AAE-5721-45AC-AD74-FB2B0B56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95E7-0A43-4EDC-8067-9F6E7C7D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4FA6-F7A0-48CB-921D-836072FF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CC81-0819-4B8A-A0A0-F4B3393E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38E1-C964-43CD-99A5-22C59039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1934-CBA6-4F21-BBA4-35E53AE0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49E-AA66-40E2-8E70-3A6959AA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5B1F-9F1E-4E90-B838-CACDD79B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A4B-47C9-40C6-84CF-EA0F77D8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B2B4-918C-4D2F-845E-93747487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F2F-5F71-4B4B-8279-F60485AE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EFC-C078-4BBF-A1BD-A086505B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434F-549A-45CE-B5E3-B81B7DE1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1B44-CD90-46E5-8F99-62386D55CD6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3071-B13F-42CD-952F-F155EAA02F9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лияние этанола на организм человек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57800" y="2971800"/>
            <a:ext cx="2666880" cy="1793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Этиловый спирт является мощным наружным антисептиком и надежным консервант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Легко понять: если вещество вызывает моментальное прекращение жизни и гибель микробов, то такое же действие оно окажет на наш организ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3810240" cy="37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сем известно, что в этиловом спирте десятилетиями сохраняются биологические структуры(кусочки тканей, органы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Это возможно только потому, что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все процессы жизнедеятельности в спирте прекращаютс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3638520" cy="264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водке, коньяке, роме, вине, пиве, одеколоне, денатурате основным фармакологически активным веществом, определяющим привлекательность этих жидкостей, является этиловый спир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3835440" cy="32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ри употреблении алкоголя мышление нарушается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есовместимость между антисептическим действием и применением внутрь в качестве пищевого продукта люди не осознают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мерть человека наступает при концентрации этанола в крови - 5 граммов на 1 литр кров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3810240" cy="3048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Этиловый спирт попадает во все органы и ткани!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следствие этого при опьянении неизбежно нарушается работа всех клеток и органов любого челове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60640" y="2361960"/>
            <a:ext cx="3770280" cy="3724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05520" y="2438280"/>
            <a:ext cx="3047760" cy="3124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едь раб не тот, кто стонет под кнутом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е тот отшельник, кто по воле неба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Живет в уединении глухом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 нищ не тот, кто просит корку хлеб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 тот и раб, и нищ, и одинок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то в жизни выбрал спутником поро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629400" y="2819520"/>
            <a:ext cx="2228760" cy="2228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905120" y="4648320"/>
            <a:ext cx="4444920" cy="198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2-12-19T16:43:1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