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D155-B6C3-4CCA-AC38-408A3BDA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6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15880"/>
            <a:ext cx="8226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FA1B-7CDF-4DAE-A92E-03B8F75A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1588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11588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66FC-2495-4DD5-B3AC-E35E648B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90512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90512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1588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11588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11588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7C1B-4F9C-4FB1-973D-8154F26A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98310-A33F-4964-981D-0C80D249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22636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8A6B3-B165-4FD9-918C-8FFCC798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6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0FD17-5D31-4BBE-8716-7099437C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D0774-CCB9-4001-815F-0DE2F009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5033D-CB23-49B2-B983-AA270F14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-70200"/>
            <a:ext cx="8226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E3A53-7E96-46BA-8ECD-02CC76C0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1588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87E7C-0570-4F49-8444-DB313599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22636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D2AB-CD2D-4C42-9179-E6980627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411588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13DBA-0AF2-4AFA-A5F0-518B92E0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15880"/>
            <a:ext cx="8226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73DC8-364D-4E7A-A91E-2A73E225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6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15880"/>
            <a:ext cx="8226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11CD3-7C34-4035-B638-3D70F556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1588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411588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E6039-1BBF-403D-BA4B-E6117CB0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90512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90512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1588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411588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4115880"/>
            <a:ext cx="264852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7268B-6516-4D48-82DE-8EF87C94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26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3E73-B254-468A-97E4-052CAD22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93B5-E94A-4F37-AAE1-1C9BEFC3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71F4-99CA-414F-B150-F0C3C53C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70200"/>
            <a:ext cx="8226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3CC7-3A05-4655-BCA2-AA97A3FC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1588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E795-E6BB-453F-8DF3-78F2D551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11588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E1A5-3D0E-4F6B-A3A5-C3A2E48A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905120"/>
            <a:ext cx="4014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15880"/>
            <a:ext cx="8226360" cy="20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78C7-EEB9-4F46-B170-150AC85D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7020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05120"/>
            <a:ext cx="8226360" cy="42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BBA7E-409A-4A58-A795-9A6811C77F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21920"/>
            <a:ext cx="77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ff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AE59FCF-DDCE-4671-810E-1D43BFF3A776}" type="slidenum">
              <a:rPr b="0" lang="en-US" sz="1400" spc="-1" strike="noStrike">
                <a:solidFill>
                  <a:srgbClr val="ffffff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ff"/>
                </a:solidFill>
                <a:latin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260360" y="2700360"/>
            <a:ext cx="6629400" cy="1176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1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ведения о вод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1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81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800000" y="1800360"/>
            <a:ext cx="6119640" cy="66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Систематическое наименование –Оксид водорода 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Традиционное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название-ВОДА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Химическая формула-H2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Молярная масса 18,01528г/мол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Tahoma"/>
              </a:rPr>
              <a:t>Физические свойств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Состояние (стл.усл.)-жидкос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Плотность 0,9982 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Динамическая вязкость (стл.усл.)0,00101Па.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Кинематическая вязкость –0,01012см2/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Термические свойств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Температура плавления  0  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Температура кипения 99,974 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Тройная точка 0,01 C 611 73П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Критическая точка 374  С  22,064 МП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Молярная теплоёмкость (ст.усл.) 75,37Дж/(моль.К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ctr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Теплопроводность 0,56Вт/(м.К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82520" y="303120"/>
            <a:ext cx="6118560" cy="1136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бщие сведе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50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Вода - прозрачная жидкость ,не имеющая цвета (в малом объёме) и запаха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В твёрдом состоянии называется льдом или снегом ,а в газообразном ---водяным паром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Около 71% поверхности земли покрыто водой (океаны, моря ,озёра, реки, лёд на полюсах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Является хорошим сильнополярным растворителем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В природных условиях всегда содержит растворённые вещества(соли, газы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14400" y="7621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войства 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4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60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о состоянию различают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Твёрдое ---ЛЁ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88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Жидкое ---В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Газообразное ---ВОДЯНОЙ ПА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При  0 С  вода замерза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При росте давления температура кипения воды растёт ,плотность водяного пара в точке кипения тоже растёт. При температуре 374 С и давлении 22,064 МПа вода проходит критическую точку.  В этой точке плотность и другие свойства жидкой и газообразной воды совпадают .  При более высоком давлении нет разницы между жидкой водой и водяным паром ,следовательно ,нет и кипения или испарения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 rot="360000">
            <a:off x="2897280" y="0"/>
            <a:ext cx="495288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стояния вод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638680" y="1600200"/>
            <a:ext cx="3505320" cy="2738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8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78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Так же возможны  метастабильные состоя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78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--Пересыщенный пар ,перегретая жидкость ,переохлаждённая жидкос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78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Эти состояния могут существовать длительное время ,однако они не устойчивы  и при соприкосновении с более устойчивой фазой происходит перехо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78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Например  ,нетрудно получить переохлаждённую жидкость ,охладив чистую воду в чистом сосуде ниже 0 С,однако при появлении центра  кристаллизации  жидкая вода быстро превращается в лёд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78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78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7428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Вода имеет ключевое значение в создании и поддержании жизни на земле ,в химическом строении живых организмов ,в формировании климата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52480" y="801720"/>
            <a:ext cx="6096240" cy="80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начение 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2-12-19T16:57:19Z</dcterms:modified>
  <cp:revision>2</cp:revision>
  <dc:subject/>
  <dc:title>PowerPoint Presentation</dc:title>
</cp:coreProperties>
</file>