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BAD-88E4-4DF0-A47C-F547D3E5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959-3A8D-4DBE-A0EA-17EC920C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91B-0D3B-471A-845A-8EA07FCA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AA3-09F3-4A63-BBC0-4F6FEC9E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3590-1C4E-4544-B826-D5796C8F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09778-1367-4595-AEC4-948B2C1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3C095-E489-41EE-8815-69B0D745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6463A-7640-47F1-AC5F-0585B549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C9B72-1F4B-45CD-A92C-4D9EB8D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16D19-4A90-4D58-8C8F-E32FD5B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36D05-3EF9-4F6E-BF08-43C9094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0B7-1750-4E93-96B3-0EBA684C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79BB4-03D3-4D84-BCDC-B7FCA2A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24E68-F296-4C41-BCEB-76AE357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8D537-4C6F-4AB5-8DA0-7E3B6D3B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51C6C-8C8B-4BEE-AB99-7981A4D7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DF64D-0EA6-4BF2-A91D-FD900D19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567-EB5E-4A05-A997-A0188A05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EA3-4DC9-4682-9290-F5E865E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5B7-0920-415A-AAEC-9BBD75C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1AE-EE41-4347-9B88-74BD232F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19B-D4FF-4DDB-BB40-18DE7E3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564-4A95-4B3D-88F3-B00FE41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240-7767-4A02-B253-751DCFFB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BCD5F-A089-4431-B924-83EC8B8A5A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21920"/>
            <a:ext cx="77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C4053A-C9CE-4AEE-A727-6916B8691EED}" type="slidenum"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60360" y="2700360"/>
            <a:ext cx="6629400" cy="1176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1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 о в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1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800000" y="1800360"/>
            <a:ext cx="6119640" cy="66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истематическое наименование –Оксид водорода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адиционное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название-ВОДА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Химическая формула-H2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масса 18,01528г/м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Tahoma"/>
              </a:rPr>
              <a:t>Физ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остояние (стл.усл.)-жидк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Плотность 0,9982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Динамическая вязкость (стл.усл.)0,00101Па.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инематическая вязкость –0,01012см2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рм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плавления  0 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кипения 99,974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ойная точка 0,01 C 611 73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ритическая точка 374  С  22,064 М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теплоёмкость (ст.усл.) 75,37Дж/(моль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плопроводность 0,56Вт/(м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2520" y="303120"/>
            <a:ext cx="6118560" cy="113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ие с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ода - прозрачная жидкость ,не имеющая цвета (в малом объёме) и запах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твёрдом состоянии называется льдом или снегом ,а в газообразном ---водяным паро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Около 71% поверхности земли покрыто водой (океаны, моря ,озёра, реки, лёд на полюсах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Является хорошим сильнополярным растворител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природных условиях всегда содержит растворённые вещества(соли, газ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ойства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4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о состоянию различают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вёрдое ---ЛЁ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идкое ---В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Газообразное ---ВОДЯНОЙ П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 0 С  вод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росте давления температура кипения воды растёт ,плотность водяного пара в точке кипения тоже растёт. При температуре 374 С и давлении 22,064 МПа вода проходит критическую точку.  В этой точке плотность и другие свойства жидкой и газообразной воды совпадают .  При более высоком давлении нет разницы между жидкой водой и водяным паром ,следовательно ,нет и кипения или испарения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 rot="360000">
            <a:off x="2897280" y="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ояния во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505320" cy="2738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Так же возможны  метастабильные состоя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-Пересыщенный пар ,перегретая жидкость ,переохлаждённая жидк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Эти состояния могут существовать длительное время ,однако они не устойчивы  и при соприкосновении с более устойчивой фазой происходит перех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Например  ,нетрудно получить переохлаждённую жидкость ,охладив чистую воду в чистом сосуде ниже 0 С,однако при появлении центра  кристаллизации  жидкая вода быстро превращается в лёд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Вода имеет ключевое значение в создании и поддержании жизни на земле ,в химическом строении живых организмов ,в формировании климат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801720"/>
            <a:ext cx="6096240" cy="80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6:57:19Z</dcterms:modified>
  <cp:revision>2</cp:revision>
  <dc:subject/>
  <dc:title>PowerPoint Presentation</dc:title>
</cp:coreProperties>
</file>