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8147-4D22-40BB-8393-2724F755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4A58-A56E-4CFA-9796-7B9D2FC0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F1A92-9BD7-4DA6-A14C-8C814180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B135D-C178-4CA9-9A0E-C3F14C2A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55858-95E6-4BBB-A0D3-B7AFD856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1190F-A757-43CC-92A4-0706787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AF38E-DBA0-4556-BAD9-90E6723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0CF84-9695-4344-9CBF-8FA715DA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9DC6E-7A53-44FA-AF5C-AF692147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8F596-1D34-4BDB-A19F-6387E2FE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B5FB8-AAEE-4B3F-8570-5BAE666C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0997A-87FD-41BF-8B17-205A35E6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D1C2-72EB-4E15-92E0-0EC1F721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B8120-C0D7-41F7-B889-A11762DB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7CD78-EA33-455F-99CF-C5EA6A5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ADEFC-6078-483B-B110-985CCAC2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2D117-8785-45FD-B5E3-A07858D8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F212A-B63D-4960-81F4-120694E9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2326D-8C94-4D3E-A965-BFA7A54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CC54D-22EE-4488-A0D9-3559DC2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09B8C-B636-4442-8523-F005C27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4A293-2C0B-4046-A9E9-1708102A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082E7-2E70-4B08-ACF6-C5EEF27F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424B-01CA-4493-8418-92F10E8E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5F505-CE3E-4D02-9BF4-F7B6491B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E088E-F7EA-4D3E-B170-C99E7122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61C32-CA42-4D22-8DF4-B126B8F2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512B4-C1FD-47EB-8F66-ACBFFDC3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D16DA-51D8-4E72-8366-25232C5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E5FC-CD11-44DD-AB7A-7694B4D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4D2F3-945B-437E-AE51-1EEFF852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AF30C-137C-4F1D-BF74-DAF72D64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07176-6F1A-47A7-9719-719C4FC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96D46-6BF0-467B-AEF5-CE14D08C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30CF-C840-4EA9-B3FD-06E4BBEC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7537E-4682-434E-A295-83C2BE84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C511A-C635-4357-956D-3D3AC76F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33365-AB09-4B5A-BDE1-4FCAA6DD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37A4E-6426-44B6-BD90-3C45DF45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B9FA9-DC0A-42BB-9386-5EC996DC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720DD-FB0A-4B13-BF00-3A2E46D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4ACA4-D7F7-4EB0-A371-2681B033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4F419-B840-418E-BE5E-C13D7AFF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5C3E4-3225-4F21-A3C0-4F0936F6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2C7C8-B57A-4520-AB4A-4CAA0426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65AF-836A-49E0-A41D-DEA03326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23F7F-77BE-47D0-99CA-2F3444F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4F448-4762-4E51-9B86-D9A78AC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54A42-33DE-4B81-A9BD-CCA06D44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A35F3-1206-4AC0-92EB-F35B59A2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2702F-5034-45ED-B3AD-7B70247A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02D0B-F608-4C49-886F-D6C40C38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40CB7-58AA-4157-A735-90B65C0C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83A9C-84E0-4620-88A3-D271FC16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0DC75-82EE-433C-9EB3-7A6B3F51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F1A03-8644-4683-8C0A-0DE7C232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1942-4B6C-4199-9C3D-EF357AD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6D7DD-F58B-4DAA-A047-E8EEC15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8AEE7-A810-4C23-BC8F-971B2998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8B760-FBA1-42D1-9A60-70E106A1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AC799-442E-400F-AD0C-4CD5A9A8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C0B9A-B290-44C5-9958-5218F0CC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E2CC3-46DB-455F-8A91-8DF098CA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88693-5661-405A-AF8B-EFBCAC39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6E1F-082F-4C89-97E1-09A17A5F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F257-B4F9-42AC-96F0-15AFCBC7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B454-1D5C-4CA7-BC9B-36E8B766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AFC8-F6D3-45EE-9714-3749C052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C087-2703-4B2E-A8A7-C519805D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A660-B0FC-4E41-96D5-1F09FC21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2C8F-C6CC-44BE-89C2-DB0A80E2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5EE5-63E1-4A02-98B7-9419A4AB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2AA0-1544-49CC-80D0-736C9CD8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5A7F-DE50-40C0-8690-8F8B30CA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24FD-E4F4-4692-BE52-7C5FEEE8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E5B8-38C5-4C36-B774-8918C069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9C7D9-3D21-4C41-A874-796D5E62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3527-D8B2-423E-BDD5-30462EDC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366F-9AE2-4B37-9992-CD6A79A0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26EC-1C74-4CB0-B489-060D8628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A152-74F4-4B00-8327-2FCDCB8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B496-D457-48A6-B55B-E85BD0D6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B3AA-646C-440B-BACB-6D43C1A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6D81-1B94-4A19-8875-F1C07333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FD32-E44F-41D7-AA02-6E4E55BE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CC01-1FAF-462B-93C8-CC275CF5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0A59-53F0-420E-A9CC-629B291E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4561-E952-4AB2-A286-2494DD81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0282C-9FF3-4124-8BDD-255E98E3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2BED-D20D-4B5C-A788-DE5E68F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62A2-7395-456E-B399-FE9D43B4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C969-8D23-49D8-B45C-AC302C8B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66777-83FD-41AC-B557-53594F56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D443-EE3B-473B-9942-9E4702E0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CBE8-F7B6-485C-B4AC-69540172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7DA0-1C88-4E01-B5BC-66A2395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3AA6-5851-4EB6-94DC-1D3E2D0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D4D8-F909-413A-8ADD-35C7C5D6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FB1E-4AC8-45CB-8002-ADBB1968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EB39-6B5D-4AE6-A504-B6B8DA6B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A9FA4-57B2-4FB2-96D6-B49DD8F4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53FB-406F-4A75-971A-71B45AA8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3879C-6C57-4C97-A4B2-311FBA0E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65CE-5C24-4FA8-99DE-9682AD61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E6F6-8D48-40DB-AA8D-37266639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AA67-EAA6-4116-ADD8-8BDD92F7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0A0F-D0DE-43BE-ABF7-08B056C1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05FD-74A7-4AF6-B42E-DCB3750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0459D-217E-4699-A803-0431D71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030E-1BCF-4CED-B4BB-AEFDCEE4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D0E5-8D1F-400C-ACF1-60A20D4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EA64-FF64-4CBB-9DE1-8671A796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829C-4431-485D-A119-AC8E8DC9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99F2-CD99-47D1-84F2-ED365DED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1F9A6-2F19-4293-A9BA-8658DC7C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8907-8700-4EBB-BEEA-94BE3463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AE7AE-529B-4596-AFCE-D828A361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9159-F60A-4009-BC78-F11FEA45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B8B4-BACF-4063-9398-BAB11CFB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D1FF8-AC5F-47A2-BF50-60E215E7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FA56F-F7D5-4138-ADFF-82B1AA32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F2B3-41D1-4D88-8EDE-73901F2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FA82A-CE8B-4966-981A-16A43F2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B7E7-90EF-40D7-8DF6-E82924EA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49473-281E-4CF5-B07E-01D34E97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BFFE-E39A-4DA9-963F-3D5D5764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513AE-E25F-48AD-BE36-672A50A8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2FD39-1DB0-4D6E-BEDF-C22657F6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78C55-6FF7-49EA-A584-48CE532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B77CC-01D8-45DC-B1BD-AF130243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303C-F1CD-4314-A623-C5CC5ABC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2205-6C24-425A-A2F3-29F1E16D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35F42-F7DA-4CC6-8A41-4E2DEEDA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DA953-C7F8-4134-A91C-5980F6FA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8205-C793-4AAF-9A3E-4D1E656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7E22A-BA20-4842-9646-F7DD4C9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23327-291B-458D-9933-70E3471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223D9-2A77-4943-A0A7-439A4398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1E294-C72B-4FA1-AD8E-E3012D14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C1617-88F7-48CD-96AF-AAECE068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5861E-EE1A-42A9-BBF3-DAA20D59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05B19-D677-4551-B38F-808D0A7A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0F65B-2A67-4743-BB2A-3D2442D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C825B-6D36-415B-ACCB-3730FFF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D3810-5A17-4FFB-A462-F2ED273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4111-D367-4060-B1E1-7E7B74DF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961B-6135-4347-B6E4-09BAEACF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04945-3751-4088-85BE-34A165AE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FD45C-9B81-4B06-BD68-10855A20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1F35E-F045-4246-BD9F-31AEF52E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146E4-9217-447B-9278-09474B6A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791DA-5F07-4861-B5D6-94888880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1745-E08B-4B68-B8EE-5982BE82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BA203-C36D-4E53-8B51-2062C4B7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15F46-1945-47A6-8CB8-B42D3FF0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D6EC4-0720-4A36-B27E-A55E390C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992D-9C78-4F78-A11B-DBF274930E6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8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284B-6B07-4673-8396-4022C458151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2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3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3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3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4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D66B-8252-4B13-A9FC-EFED8160B7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90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9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0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2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4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4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A7A-2126-4644-9BA4-69095FA29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9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3E6E-D711-4621-83C2-C22B1B7A86E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8E6E-588F-4215-96F3-4CD5659735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E1EA-9981-4E78-AD08-B21E3CF9C0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10BC-3CC2-4D90-AE77-D4351516219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5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EADC-8E37-49B6-9821-C4820B41C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908-0E67-4B13-AA49-26F8EB67C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9B25-A977-4F56-9439-9738C357A64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54FB-D819-47EA-BC49-B9C0606CC8D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97E-9ED4-40A8-90BE-1EA3E05897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езентац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2" name="Picture 4" descr="%c2%eb%e0%e4%e8%ec%e8%f0%20%c2%fb%f1%ee%f6%ea%e8%e9%20%f0%e5%e4%20%d1%e5%f0%e3%e5%e9%20%c3%ee%f0%f1%ea%e8%e9"/>
          <p:cNvPicPr/>
          <p:nvPr/>
        </p:nvPicPr>
        <p:blipFill>
          <a:blip r:embed="rId1"/>
          <a:stretch/>
        </p:blipFill>
        <p:spPr>
          <a:xfrm>
            <a:off x="5100480" y="2349360"/>
            <a:ext cx="3748320" cy="3990960"/>
          </a:xfrm>
          <a:prstGeom prst="rect">
            <a:avLst/>
          </a:prstGeom>
          <a:ln w="0">
            <a:noFill/>
          </a:ln>
        </p:spPr>
      </p:pic>
      <p:sp>
        <p:nvSpPr>
          <p:cNvPr id="853" name="WordArt 5"/>
          <p:cNvSpPr txBox="1"/>
          <p:nvPr/>
        </p:nvSpPr>
        <p:spPr>
          <a:xfrm>
            <a:off x="755640" y="105264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842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соцкий Владимир Семенови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842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4" name="Рисунок 1" descr=""/>
          <p:cNvPicPr/>
          <p:nvPr/>
        </p:nvPicPr>
        <p:blipFill>
          <a:blip r:embed="rId2"/>
          <a:stretch/>
        </p:blipFill>
        <p:spPr>
          <a:xfrm>
            <a:off x="144360" y="2349360"/>
            <a:ext cx="464364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ле смерти в честь Высоцкого было возведено большое количество памятников в разных городах Росс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2410920" y="6354720"/>
            <a:ext cx="40388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род Мелит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9" name="Picture 5" descr="Город Мелитополь Памятник Владимиру Высоцкому Запорожская область"/>
          <p:cNvPicPr/>
          <p:nvPr/>
        </p:nvPicPr>
        <p:blipFill>
          <a:blip r:embed="rId1"/>
          <a:stretch/>
        </p:blipFill>
        <p:spPr>
          <a:xfrm>
            <a:off x="2987640" y="1628640"/>
            <a:ext cx="297180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0256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7530"/>
                </a:solidFill>
                <a:latin typeface="Tahoma"/>
              </a:rPr>
              <a:t>Родился                                  25 января  1938 года        в г. Москв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6" name="Picture 3" descr="0017"/>
          <p:cNvPicPr/>
          <p:nvPr/>
        </p:nvPicPr>
        <p:blipFill>
          <a:blip r:embed="rId1"/>
          <a:stretch/>
        </p:blipFill>
        <p:spPr>
          <a:xfrm>
            <a:off x="2556000" y="2852640"/>
            <a:ext cx="4033800" cy="3073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BOLSHOY_KARETNIY.MP3" descr=""/>
          <p:cNvPicPr/>
          <p:nvPr/>
        </p:nvPicPr>
        <p:blipFill>
          <a:blip r:embed="rId1"/>
          <a:stretch/>
        </p:blipFill>
        <p:spPr>
          <a:xfrm>
            <a:off x="3708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 5 по 11 класс учился в средней школе  в Большом Каретном переулке в Моск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859" name="Picture 3" descr="59610970"/>
          <p:cNvPicPr/>
          <p:nvPr/>
        </p:nvPicPr>
        <p:blipFill>
          <a:blip r:embed="rId2"/>
          <a:stretch/>
        </p:blipFill>
        <p:spPr>
          <a:xfrm>
            <a:off x="3059280" y="1989000"/>
            <a:ext cx="2304720" cy="4869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08865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511200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 1956 по 1960 год Высоцкий — студент актёрского отделения Школы-студии МХАТ им. В. И. Немировича-Данченко. Затем в  Московском театре имени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ушкина играет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эпизодах и массовке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61" name="Picture 4" descr="0020"/>
          <p:cNvPicPr/>
          <p:nvPr/>
        </p:nvPicPr>
        <p:blipFill>
          <a:blip r:embed="rId1"/>
          <a:stretch/>
        </p:blipFill>
        <p:spPr>
          <a:xfrm>
            <a:off x="5148360" y="3008160"/>
            <a:ext cx="3744720" cy="384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80150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1960 году начинает писать свои первые песни. Всего написано более 100 стихотворений, более 600 песен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3" name="Picture 3" descr="post-72-1124079861"/>
          <p:cNvPicPr/>
          <p:nvPr/>
        </p:nvPicPr>
        <p:blipFill>
          <a:blip r:embed="rId1"/>
          <a:stretch/>
        </p:blipFill>
        <p:spPr>
          <a:xfrm>
            <a:off x="1835280" y="3033720"/>
            <a:ext cx="2708280" cy="356724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4" descr="liricheskaya_1"/>
          <p:cNvPicPr/>
          <p:nvPr/>
        </p:nvPicPr>
        <p:blipFill>
          <a:blip r:embed="rId2"/>
          <a:stretch/>
        </p:blipFill>
        <p:spPr>
          <a:xfrm rot="1824600">
            <a:off x="5506920" y="2912760"/>
            <a:ext cx="230040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-360" y="188640"/>
            <a:ext cx="853452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нце 1964 г. Владимир поступает в Московский театр драмы и комедии на Таганке, где работает до 1980 г. до последнего дня своей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6" name="Picture 4" descr="60let"/>
          <p:cNvPicPr/>
          <p:nvPr/>
        </p:nvPicPr>
        <p:blipFill>
          <a:blip r:embed="rId1"/>
          <a:stretch/>
        </p:blipFill>
        <p:spPr>
          <a:xfrm>
            <a:off x="1258920" y="1463760"/>
            <a:ext cx="3333600" cy="46479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5" descr="0025"/>
          <p:cNvPicPr/>
          <p:nvPr/>
        </p:nvPicPr>
        <p:blipFill>
          <a:blip r:embed="rId2"/>
          <a:stretch/>
        </p:blipFill>
        <p:spPr>
          <a:xfrm>
            <a:off x="5724360" y="1700280"/>
            <a:ext cx="19018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1965 году Владимир Высоцкий начал петь свои песни со сцены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69" name="Picture 3" descr="concert002-1"/>
          <p:cNvPicPr/>
          <p:nvPr/>
        </p:nvPicPr>
        <p:blipFill>
          <a:blip r:embed="rId1"/>
          <a:stretch/>
        </p:blipFill>
        <p:spPr>
          <a:xfrm>
            <a:off x="3132000" y="1484280"/>
            <a:ext cx="1936800" cy="4581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4" descr="599d8e6462c5"/>
          <p:cNvPicPr/>
          <p:nvPr/>
        </p:nvPicPr>
        <p:blipFill>
          <a:blip r:embed="rId2"/>
          <a:stretch/>
        </p:blipFill>
        <p:spPr>
          <a:xfrm rot="20116800">
            <a:off x="610920" y="2133360"/>
            <a:ext cx="3384360" cy="33843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5" descr="vv_pic"/>
          <p:cNvPicPr/>
          <p:nvPr/>
        </p:nvPicPr>
        <p:blipFill>
          <a:blip r:embed="rId3"/>
          <a:stretch/>
        </p:blipFill>
        <p:spPr>
          <a:xfrm rot="1168200">
            <a:off x="5076360" y="1916280"/>
            <a:ext cx="3254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351480" cy="13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b9efee"/>
                </a:solidFill>
                <a:latin typeface="Garamond"/>
              </a:rPr>
              <a:t>С Мариной Влади, своей третьей женой, Высоцкий познакомился в конце 60-х. </a:t>
            </a:r>
            <a:endParaRPr b="1" lang="en-US" sz="33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73" name="Picture 3" descr="с мариноц влади"/>
          <p:cNvPicPr/>
          <p:nvPr/>
        </p:nvPicPr>
        <p:blipFill>
          <a:blip r:embed="rId1"/>
          <a:stretch/>
        </p:blipFill>
        <p:spPr>
          <a:xfrm>
            <a:off x="3780000" y="2060640"/>
            <a:ext cx="4249440" cy="417816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" descr="0018"/>
          <p:cNvPicPr/>
          <p:nvPr/>
        </p:nvPicPr>
        <p:blipFill>
          <a:blip r:embed="rId2"/>
          <a:stretch/>
        </p:blipFill>
        <p:spPr>
          <a:xfrm>
            <a:off x="826920" y="2060640"/>
            <a:ext cx="2283120" cy="4075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25 июля 1980 года в квартире на Малой Грузинской в 4часа 10 минут утра сердце Владимира Высоцкого остановилось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6" name="Picture 3" descr="0002"/>
          <p:cNvPicPr/>
          <p:nvPr/>
        </p:nvPicPr>
        <p:blipFill>
          <a:blip r:embed="rId1"/>
          <a:stretch/>
        </p:blipFill>
        <p:spPr>
          <a:xfrm>
            <a:off x="2268360" y="1989000"/>
            <a:ext cx="399420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4:00:08Z</dcterms:created>
  <dc:creator>Павел</dc:creator>
  <dc:description/>
  <dc:language>en-US</dc:language>
  <cp:lastModifiedBy>Павел</cp:lastModifiedBy>
  <dcterms:modified xsi:type="dcterms:W3CDTF">2012-04-12T17:47:36Z</dcterms:modified>
  <cp:revision>15</cp:revision>
  <dc:subject/>
  <dc:title>Презентация  «Высоцкий Владимир Семенович - поэт, прозаик, бард»</dc:title>
</cp:coreProperties>
</file>