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5043-BAE0-4A1B-92EC-2EBC0362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C207-DE9D-4AA0-8AEC-B4039601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F4AF4-E7B4-4A0B-826C-F6070397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27ECD-B62F-4EB0-86FF-AE68033E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7A868-58C3-4FB5-8A91-51D913B9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75B41-25F7-4717-B31F-87A47FB4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450A7-A638-4582-89BC-0F9C2255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2D210-058C-4A40-8B11-0DDED8E7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76164-0535-47F1-824C-175E9F87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541A3-380C-40ED-8775-A79D7DCE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3A8E4-3AB1-4E79-8D47-C65E7B13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39566-7E79-4615-B6E1-6F9B6BCA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62A0-4B88-4E72-9D45-D1112DDB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A0FDC-B7C6-432C-BBC4-60D72088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45318-70AE-4D60-8979-1FC3AEBC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1891F-DC90-4C01-9433-CF1D56EC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C726A-6DE1-43F8-8839-F8592141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75E20-3735-42B9-AB3C-105FEFB1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9ED70-98E6-451E-80B5-8D4225F9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4BE93-FA86-434C-9E52-C5EA8412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DCDBF-A821-4949-B17B-72EF5C46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8B539-208B-41BD-9360-1677E2E3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94D38-EECA-4900-9085-1695A072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AE8DF-5C62-47BD-BF7E-75DE519B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DEED9-F84B-44A7-86E5-0613A9BC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CFAF6-0D70-4BC0-BDF1-DCC72EE8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C3472-D4F2-4EB0-99FF-D76A41AE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5245F-1D0B-4658-AA11-B6E6797B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B2063-47EB-4EE4-8A16-AE5D293D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DEBAF-8462-4430-B387-78901744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8DC32-3F2F-423A-82E3-F10B5FFF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DE4EB-4872-438F-9FA2-62887C6A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0CE31-8903-4523-9304-A5A441F3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79B76-74F2-4507-9A3B-12D22946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9CB7-5570-40AB-BB8D-9F9A15E7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BE775-8CFA-49C8-B3BB-8CEC08D9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D33F0-974D-4566-A1DC-A6FA10B9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CF79F-C993-4E47-822A-11490DDA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0B84F-3958-4439-ADA2-9FB41D58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3C873-71C3-45AB-8B06-26AC2709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21359-28F3-4089-B0F8-E649DE7F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7C363-413B-4BF8-871D-D3E0B717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B61F3-0A74-480B-A8D9-EEF8652F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794A3-27A7-4540-8581-99280B4B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C0890-F691-4644-957A-66968B6C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D05C-477B-453B-8B4D-9F45E97F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C4253-585D-4910-BF2B-871DBB44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D1C08-D285-47EA-9BAA-F99E8015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F15FF-77E4-4D32-B333-B60DEBD9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B18F1-906F-4E5B-B383-789300ED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786FF-B999-4502-8C9C-1FD05D58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C3D1B-CFC8-4C1C-8751-0D7100FD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53789-A1D4-4EA3-A603-2E2153AA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838B8-9377-4EE1-8A45-317C3C5B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0E556-B47E-4814-8BB0-0A867FA8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7751DD-9054-4444-9E1C-7DC76C9B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604C-6636-4C4B-B450-42D214D3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65D60-EE26-472D-898F-0102E754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F6027-C1FB-4CD8-9A3C-412CF8C6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A0C6A-FADE-4F8B-9F99-AA5DC2A4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B77E3-E8AD-4124-9DAA-741C9B64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22A0E-B35E-477D-ACED-FBAA100B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83331-D9E8-4C34-85D8-F68ABAD3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7A88F-90B1-4343-86BE-0040D44B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34B7-51D0-42F4-9A9B-E077F711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6452-2206-4ACE-A527-C180043C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5DF2-FF0E-4543-A13A-4FA5F5F9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CD48-FDAF-424C-870F-53DFC369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FAD0-3916-42D9-9BEA-BA40B332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8D81-FD60-40A6-8D53-4B51CE2E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E454-06E8-4775-858D-0B3ECE03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9CE9-F125-482E-9B97-55059D76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9DAD-9FE6-4F91-85A3-D7212428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F955-81F4-4ED8-9F7F-A5D5F6DB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7C620-DEA4-49A5-9187-9A000F6E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A509-7AC1-4042-899B-62A3A610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9CEA4-646F-4AE1-B13B-8B962F33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A5925-8BE5-4338-B5B5-76B8169F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A9243-A6E9-4C3D-B31D-3A64C5A2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70B5-A7EA-4FE3-B233-D7E65CD6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D3CB-9704-4D72-89F6-F1BB646E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089A9-AE09-457D-B92A-50AD7EFC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49475-8301-4B79-B2D7-9BDEB727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11C0-1110-44CD-AE87-1B2E9EA2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3FB2-D84B-4879-A945-1081C433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F756F-1C03-4902-A4DF-EBFC308D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688C0-4394-4E39-842B-713E1CCC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0AF8E-45B0-4D65-BF02-B10C9836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57469-6926-4C42-9B69-D6ACDE91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0FA7E-2032-4150-B8D5-FFD53E50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D9F3-30FA-481B-8110-7B417608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94B1C-F01B-476E-A222-C4C8EFBD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E9CA-A9BA-4A05-BE57-47EB45D1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10C8F-673A-4B9F-9FE3-0633622D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F0672-F159-40F3-B10B-DFCC613B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2D23D-B34D-4160-91E5-E6B573C0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43EDF-00E2-4AAF-B858-9A486812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E5D3F-00D5-4703-A23F-859D189C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B5E94-42A6-4CD4-9FF4-8CB0E265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CFF9B-4EFB-4322-9B89-E11EFC87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EE357-FAD2-42E6-80D5-288F83AA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6B690-0B89-4B02-BA65-CDD28CA1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EBAF8-28DE-4AD1-95DE-0A164CD5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44F48-0045-42DF-97A9-1DD7BA85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FC376-0CA6-49B0-B882-B311744F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A38C0-0268-4656-86CD-8D54C54A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8A716-8BCE-4933-A349-15404339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36940-B000-4BAA-88D7-F8F8A31D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17D74-56CF-4351-9D28-8157F4CF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FDC48-ECFE-42BA-B46C-12D088E2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D607-6162-457F-97C4-EF07BCA4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5EEBE-66FF-45DE-B432-86A575FD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94C2-5801-4A67-8DA9-587208C7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6247E-2341-4AFC-80B0-ED790F54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C9CC1-F0E1-418C-8148-8556B7D1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599B1-8455-4822-86A8-7E641AAC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B9170-2DD7-49B2-93CD-DD9FDB87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3235E-47DF-4A11-A30A-4F8511FD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142B2-A2A7-4A21-9CE4-A31DA046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7D0AC-AAFF-461A-B532-FFF424B7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0BD30-55E5-4937-BAB3-870DA4CB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5C1FC-F25B-40C1-B673-2E27E013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00D36-9017-4186-93A3-067C6440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A2C3-3BF6-4C4B-81FA-23F39977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9707F-CCC8-43AD-8E99-031B6716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36701-A0E5-44CD-A357-8594B573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A9771-79E5-4738-AFED-7F1477B5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D72C0-D1C9-416A-8C78-3FB7E149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6FA05-6E1F-4B96-9CE5-D4A82571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74836-D647-4911-A160-900A0035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77B92-21BC-479C-9363-36301EC2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1608F-8028-4D36-B371-6A17E353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8A991-CA63-45CB-BF6E-B4762C6D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8B96E-5550-44B0-931E-C8505604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8E16-2C93-4028-9BF2-EA28A79C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0B73C-A2EC-4354-9310-F7E27D76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52F8F-46E6-4FB6-AED0-19D0DB1B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64783-93A6-42A7-8DB7-DA3A5EC4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6D4EF-0A3F-4F31-925A-FEFA9929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23CAD-0300-4157-B141-1CB28B03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48158-7AB1-4EC0-8DD4-5BB69C47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6D572-FC04-4D07-8863-906BC0CB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7BD59-A7A2-4F18-9899-37C8F38A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A0DBE-DBA9-45A8-A95B-1F4501CB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D1FC0-9417-480D-92B0-9815A817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8055-8A1C-41A2-864D-8F30EABD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2C932-215D-42A4-86E9-AE708295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8FBE8-8CC7-4C0E-B4C1-ADF400D8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43EDE-7EBA-470C-B49C-FF6FA7A2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8B558-5B92-4E79-8E5B-0C5CCC20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AE87F-368C-4FF6-AAF1-88DC47EE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E0E32-DF95-4971-A13D-A317E4FF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FBB81-68A7-49E7-8FFC-4827DCE4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F371D-0E3C-46E5-BD1A-95AA6437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0F29B-851C-44DC-920C-9C76385D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7AD8A-59AA-4700-9C58-969C902A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0A53-5FF9-4D78-9B84-C27499D425E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8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3936-D4F2-4A8B-9742-07438D090B9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2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3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3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3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4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C7DB-DD9A-4679-8C10-BAE4791A21E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90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1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92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3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04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23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41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8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749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1178-23F7-443B-ADD8-A830D2C86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9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CD27-9337-4110-B7BC-D491283BEDB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7516-FE4A-45AA-B407-62E94EC9B8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2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B0AB-2E8D-4979-8232-F0134A512D9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6107-4D00-4876-955D-9321BEA93E5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0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56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5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7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8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0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1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6722-CF11-486F-8B12-BCD3672C80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C895-070C-43EC-8712-284D42BCE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0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7F6D-1AB2-402A-AC8E-7B950C004E6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73BE-13E4-4CEC-8933-4F63E31F4A3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2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9452-8DFD-4C6A-8648-AB3A4DB160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резентация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52" name="Picture 4" descr="%c2%eb%e0%e4%e8%ec%e8%f0%20%c2%fb%f1%ee%f6%ea%e8%e9%20%f0%e5%e4%20%d1%e5%f0%e3%e5%e9%20%c3%ee%f0%f1%ea%e8%e9"/>
          <p:cNvPicPr/>
          <p:nvPr/>
        </p:nvPicPr>
        <p:blipFill>
          <a:blip r:embed="rId1"/>
          <a:stretch/>
        </p:blipFill>
        <p:spPr>
          <a:xfrm>
            <a:off x="5100480" y="2349360"/>
            <a:ext cx="3748320" cy="3990960"/>
          </a:xfrm>
          <a:prstGeom prst="rect">
            <a:avLst/>
          </a:prstGeom>
          <a:ln w="0">
            <a:noFill/>
          </a:ln>
        </p:spPr>
      </p:pic>
      <p:sp>
        <p:nvSpPr>
          <p:cNvPr id="853" name="WordArt 5"/>
          <p:cNvSpPr txBox="1"/>
          <p:nvPr/>
        </p:nvSpPr>
        <p:spPr>
          <a:xfrm>
            <a:off x="755640" y="105264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842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соцкий Владимир Семенови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842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4" name="Рисунок 1" descr=""/>
          <p:cNvPicPr/>
          <p:nvPr/>
        </p:nvPicPr>
        <p:blipFill>
          <a:blip r:embed="rId2"/>
          <a:stretch/>
        </p:blipFill>
        <p:spPr>
          <a:xfrm>
            <a:off x="144360" y="2349360"/>
            <a:ext cx="4643640" cy="403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ле смерти в честь Высоцкого было возведено большое количество памятников в разных городах Росс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2410920" y="6354720"/>
            <a:ext cx="40388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ород Мелит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9" name="Picture 5" descr="Город Мелитополь Памятник Владимиру Высоцкому Запорожская область"/>
          <p:cNvPicPr/>
          <p:nvPr/>
        </p:nvPicPr>
        <p:blipFill>
          <a:blip r:embed="rId1"/>
          <a:stretch/>
        </p:blipFill>
        <p:spPr>
          <a:xfrm>
            <a:off x="2987640" y="1628640"/>
            <a:ext cx="297180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0256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7530"/>
                </a:solidFill>
                <a:latin typeface="Tahoma"/>
              </a:rPr>
              <a:t>Родился                                  25 января  1938 года        в г. Москв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56" name="Picture 3" descr="0017"/>
          <p:cNvPicPr/>
          <p:nvPr/>
        </p:nvPicPr>
        <p:blipFill>
          <a:blip r:embed="rId1"/>
          <a:stretch/>
        </p:blipFill>
        <p:spPr>
          <a:xfrm>
            <a:off x="2556000" y="2852640"/>
            <a:ext cx="4033800" cy="3073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BOLSHOY_KARETNIY.MP3" descr=""/>
          <p:cNvPicPr/>
          <p:nvPr/>
        </p:nvPicPr>
        <p:blipFill>
          <a:blip r:embed="rId1"/>
          <a:stretch/>
        </p:blipFill>
        <p:spPr>
          <a:xfrm>
            <a:off x="370836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 5 по 11 класс учился в средней школе  в Большом Каретном переулке в Москв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859" name="Picture 3" descr="59610970"/>
          <p:cNvPicPr/>
          <p:nvPr/>
        </p:nvPicPr>
        <p:blipFill>
          <a:blip r:embed="rId2"/>
          <a:stretch/>
        </p:blipFill>
        <p:spPr>
          <a:xfrm>
            <a:off x="3059280" y="1989000"/>
            <a:ext cx="2304720" cy="4869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08865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511200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С 1956 по 1960 год Высоцкий — студент актёрского отделения Школы-студии МХАТ им. В. И. Немировича-Данченко. Затем в  Московском театре имени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ушкина играет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 эпизодах и массовке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61" name="Picture 4" descr="0020"/>
          <p:cNvPicPr/>
          <p:nvPr/>
        </p:nvPicPr>
        <p:blipFill>
          <a:blip r:embed="rId1"/>
          <a:stretch/>
        </p:blipFill>
        <p:spPr>
          <a:xfrm>
            <a:off x="5148360" y="3008160"/>
            <a:ext cx="3744720" cy="3849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80150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1960 году начинает писать свои первые песни. Всего написано более 100 стихотворений, более 600 песен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3" name="Picture 3" descr="post-72-1124079861"/>
          <p:cNvPicPr/>
          <p:nvPr/>
        </p:nvPicPr>
        <p:blipFill>
          <a:blip r:embed="rId1"/>
          <a:stretch/>
        </p:blipFill>
        <p:spPr>
          <a:xfrm>
            <a:off x="1835280" y="3033720"/>
            <a:ext cx="2708280" cy="356724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4" descr="liricheskaya_1"/>
          <p:cNvPicPr/>
          <p:nvPr/>
        </p:nvPicPr>
        <p:blipFill>
          <a:blip r:embed="rId2"/>
          <a:stretch/>
        </p:blipFill>
        <p:spPr>
          <a:xfrm rot="1824600">
            <a:off x="5506920" y="2912760"/>
            <a:ext cx="230040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-360" y="188640"/>
            <a:ext cx="853452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онце 1964 г. Владимир поступает в Московский театр драмы и комедии на Таганке, где работает до 1980 г. до последнего дня своей жиз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6" name="Picture 4" descr="60let"/>
          <p:cNvPicPr/>
          <p:nvPr/>
        </p:nvPicPr>
        <p:blipFill>
          <a:blip r:embed="rId1"/>
          <a:stretch/>
        </p:blipFill>
        <p:spPr>
          <a:xfrm>
            <a:off x="1258920" y="1463760"/>
            <a:ext cx="3333600" cy="464796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5" descr="0025"/>
          <p:cNvPicPr/>
          <p:nvPr/>
        </p:nvPicPr>
        <p:blipFill>
          <a:blip r:embed="rId2"/>
          <a:stretch/>
        </p:blipFill>
        <p:spPr>
          <a:xfrm>
            <a:off x="5724360" y="1700280"/>
            <a:ext cx="19018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indefinite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1965 году Владимир Высоцкий начал петь свои песни со сцены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869" name="Picture 3" descr="concert002-1"/>
          <p:cNvPicPr/>
          <p:nvPr/>
        </p:nvPicPr>
        <p:blipFill>
          <a:blip r:embed="rId1"/>
          <a:stretch/>
        </p:blipFill>
        <p:spPr>
          <a:xfrm>
            <a:off x="3132000" y="1484280"/>
            <a:ext cx="1936800" cy="45817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4" descr="599d8e6462c5"/>
          <p:cNvPicPr/>
          <p:nvPr/>
        </p:nvPicPr>
        <p:blipFill>
          <a:blip r:embed="rId2"/>
          <a:stretch/>
        </p:blipFill>
        <p:spPr>
          <a:xfrm rot="20116800">
            <a:off x="610920" y="2133360"/>
            <a:ext cx="3384360" cy="33843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5" descr="vv_pic"/>
          <p:cNvPicPr/>
          <p:nvPr/>
        </p:nvPicPr>
        <p:blipFill>
          <a:blip r:embed="rId3"/>
          <a:stretch/>
        </p:blipFill>
        <p:spPr>
          <a:xfrm rot="1168200">
            <a:off x="5076360" y="1916280"/>
            <a:ext cx="32544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351480" cy="138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b9efee"/>
                </a:solidFill>
                <a:latin typeface="Garamond"/>
              </a:rPr>
              <a:t>С Мариной Влади, своей третьей женой, Высоцкий познакомился в конце 60-х. </a:t>
            </a:r>
            <a:endParaRPr b="1" lang="en-US" sz="33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873" name="Picture 3" descr="с мариноц влади"/>
          <p:cNvPicPr/>
          <p:nvPr/>
        </p:nvPicPr>
        <p:blipFill>
          <a:blip r:embed="rId1"/>
          <a:stretch/>
        </p:blipFill>
        <p:spPr>
          <a:xfrm>
            <a:off x="3780000" y="2060640"/>
            <a:ext cx="4249440" cy="417816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4" descr="0018"/>
          <p:cNvPicPr/>
          <p:nvPr/>
        </p:nvPicPr>
        <p:blipFill>
          <a:blip r:embed="rId2"/>
          <a:stretch/>
        </p:blipFill>
        <p:spPr>
          <a:xfrm>
            <a:off x="826920" y="2060640"/>
            <a:ext cx="2283120" cy="40752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25 июля 1980 года в квартире на Малой Грузинской в 4часа 10 минут утра сердце Владимира Высоцкого остановилось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6" name="Picture 3" descr="0002"/>
          <p:cNvPicPr/>
          <p:nvPr/>
        </p:nvPicPr>
        <p:blipFill>
          <a:blip r:embed="rId1"/>
          <a:stretch/>
        </p:blipFill>
        <p:spPr>
          <a:xfrm>
            <a:off x="2268360" y="1989000"/>
            <a:ext cx="399420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4:00:08Z</dcterms:created>
  <dc:creator>Павел</dc:creator>
  <dc:description/>
  <dc:language>en-US</dc:language>
  <cp:lastModifiedBy>Павел</cp:lastModifiedBy>
  <dcterms:modified xsi:type="dcterms:W3CDTF">2012-04-12T17:47:36Z</dcterms:modified>
  <cp:revision>15</cp:revision>
  <dc:subject/>
  <dc:title>Презентация  «Высоцкий Владимир Семенович - поэт, прозаик, бард»</dc:title>
</cp:coreProperties>
</file>