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40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C28-628F-48E5-AA4F-F1CB823D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2E4-1D61-48CD-9195-B8D8BDCB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0D797-6656-490E-BBAE-CC47CAD6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31618-25FB-4A7F-A9D6-76651659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F980E-138F-427A-B942-FB1757DE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1A86F-D0E9-41E8-B30B-C95C3B60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34D36-4A05-42DA-81F6-05472322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D0D83-A31F-40F8-BA27-4F89193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D6382-75CA-45F9-A96D-2FEAAFB1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91AFE-BE73-4D09-ACC5-762712AE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30754-5128-4CCB-BE11-947692DF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1D4-F541-48F6-AA89-B88BF2E9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6EF-870E-402C-8FF5-CFF9250F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FB32-FE6B-4B21-8B2B-F7A9B2AE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E931-E727-4BA5-849F-5E12ED78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B760-4BF8-4844-B201-34702FB3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3224-F5B5-4A08-8106-443A8717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1653-A1AA-42A3-8A87-1D625552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0547-452F-4B4B-9658-06A971A6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1582-0E05-4B1B-AED2-0B32C452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368-3E56-4D87-B30F-60CBD6C7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0DA2-0612-4F13-97EF-D4353B2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D817-0337-4CE7-8D43-CD97B05E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1BC1-AD1D-401E-9D09-3A2BB59A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12CF-4393-4F92-9A5F-6B44B9DA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4359-4C40-4727-8ADC-A77D8CDF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7CA4-5F0E-429B-BA1F-8BCAD4E2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F90A-7EC3-47A3-86B6-4B76BEA2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5AFFD-FDCE-4E29-A3A7-6B8E410E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D805-166C-4BE3-8B39-415ACF18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A914-B9CC-416D-B122-446F70C6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1D4-82DE-4563-AEEB-B23A0760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8DC0-6031-4A4C-9AF7-C2A830DB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F734-E6B1-46BD-8540-F9502B8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FC3CE-7AF2-4994-9493-4003BB71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01BCF-06A3-4607-B7C5-D25C0EC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26D0-4CA8-42FD-B1EC-5E469768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B325-77D7-4DF9-A884-937AB299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6477-B200-4892-9A60-37883FCB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07869-F975-4E90-B8BF-E15663E9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658E-7ECB-454B-9360-13751B92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8FBE5-1659-4D4E-AF76-5E3BCEBB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075-1ED1-48B8-9CD4-CD6A9114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970B8-44E7-4F4A-8F72-BB3A9D08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8671D-639C-41D4-96DA-CA8D7C69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5549-808A-4FF4-89E5-96114573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DB329-9B68-49F4-B573-2349545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5C213-B188-4D4C-A30A-6D8EF2A2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CF46-311D-4E9C-AAF2-0EA7B034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96B3D-A8DF-4A68-9481-7A9CF015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2F85-CD17-415B-825D-B1612BE5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A9099-33F5-4A36-933C-7729CD00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89084-3FE6-4ECB-BED8-7F3C827C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860-2608-4ECE-BA14-9070583E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90DCC-749F-432C-AEF1-4ED36BFC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313F8-A857-43A7-AA19-D102FC3B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0B590-715D-491B-BD60-D7BB068E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87C2C-BA47-49A6-8E83-4D36ADC3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3E963-CD36-4104-AE19-FDDDD91A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D5B04-DF42-4E2F-8975-1EC99551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44CB2-522B-4182-88A6-15B8EC2D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72669-842A-4108-8DE8-4AE953E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D5760-68BE-4937-B63A-9C124F95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5CE84-C5C3-409E-9573-EEB07EFC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9F3-74F8-4E33-8DD1-66C918E2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B98BE-376C-43FA-B038-0D9A8BBE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D10FE-1AD1-4DCC-8517-BBCCD76F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F6F18-7031-497C-AF75-802786C8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D7697-E07A-4111-A615-087A3B2D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2F54E-AD96-44C8-BD13-E2A75149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DDBC5-709C-4DFC-820A-DFC7B750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4983-0AB3-488A-826F-864F52C2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25E5-D08A-4F08-9212-E3F64688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3DE83-B382-49A6-AA8F-5515CF7B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07981-69E8-4D49-96BB-68B26DC4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6BD-4547-47F6-BF6A-D60BB662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F0B8-C5CF-48DE-9CE8-05B49CE2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E7092-6B62-4E89-9C8B-DC533C57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D56BD-673C-449A-AEE3-D8974932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3DE90-CBCC-4932-874E-856D8554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37554-1B93-42E4-B4BB-CD2F821D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D3A4E-52ED-4390-9D9C-857664DD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57808-5C68-49AD-894D-B45A5734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29F7E-C7E2-4B33-AF1A-2A299CEC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77EA2-2774-4958-A5DF-F6211D0F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3C5C5-BCCD-4088-8D02-9F62AB3F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637-DA38-4DC0-B0DC-080A0A17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EAC61-5AEF-449F-9700-50903CCD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49853-6E15-4294-BCE8-83AA5B64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213CE-CAAD-4538-852F-2895C2BD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FF7E7-D596-4170-BEA8-A86863DB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B4DF2-B374-484B-AA67-B34EC8E1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9D801-4679-4FE5-9193-C8E09645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80225-3D6B-4CEE-B8D9-6D01B403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1A879-567E-4BBB-9B7F-646C7A5A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A5FF6-7C12-4346-BF52-2F078736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CA7F3-BC22-4B9D-A13A-ED4CD5FF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DF0-32B7-44C6-A181-F3CBE958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4BAF4-7866-443A-9EC5-74FFFC9B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E73C0-721D-4454-94EB-DA1C9B8A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4DE44-00DB-4418-B87F-444D6447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05D0-D57A-4741-8D0A-E4A83CD3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36FA7-6F3A-4193-891A-A8B1E04B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C808F-0E30-49AD-9811-EFB8521D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F98EB-4A76-42A2-A8F4-AB52B069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09C1E-E5E4-4868-8171-A9F125AF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82A34-DF3B-4FA5-8E29-702A97CF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583E0-B167-4180-B49A-6B19FF41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2B7C-A8D6-4859-B935-5328117B5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6A24-3EDD-45F1-A2BC-DD5241EA44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0837-C585-4840-BF1D-30D90F31AB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326C-4013-44EF-8512-08482DCC2B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33CD-B1AA-42BC-AAFB-DD35BDCCC6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81BE-04A5-465A-9413-19A8D381D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77BB-11C6-47D8-B9C4-227082FB6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1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1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1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1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8B4E-0705-4D28-AA08-9A51C9F093C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8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9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0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84F7-52EB-49B7-BCD1-9D454393322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нимательная математик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дания с использованием энциклопед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ла Доценко Е.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317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ба-меч достигает 5 метров в длину, причём 1/5 из них приходится на меч. Какова длина ме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5545080" cy="292428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5007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1 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нландский кит весит столько же, сколько 20 африканских слонов. Один африканский слон весит на 2500кг больше, чем слон индийский, чья масса 5000кг. Сколько же весит гренландский к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5545080" y="3938760"/>
            <a:ext cx="2244960" cy="218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фриканский и индийский сл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5796000" cy="44085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6300720" y="2421000"/>
            <a:ext cx="2087640" cy="273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150 000кг = 150тон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ществует 250 видов акул. Десятая часть из них способны нападать и на человека. Сколько таких видов акул существу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4716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25 вид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Это интересн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какой высоте летают птиц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ворец    - от 50 до 100 мет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3132000" y="3141720"/>
            <a:ext cx="2952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лубь до 100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58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9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уравль 2400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5950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рона – до 2500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72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рость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ьдшне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6048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250" autoRev="1" fill="hold"/>
                                        <p:tgtEl>
                                          <p:spTgt spid="8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водная арифме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ёныш голубого кита выпивает за день 600 л молока. Сколько молока выпьет такой малыш за месяц (30 дней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038840" cy="266544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4643280" y="4044960"/>
            <a:ext cx="42483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егол – 28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80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йки – 49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732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рока – 56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51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ая птица летает быстрее все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я быстрая из всех птиц – сокол сапсан. Он развивает скорость до 320 км/ч. За мгновение до нападения на жертву сокол выставляет когти вперёд и наносит у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лительность жизни птиц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оршун 100-120 лет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нарейка – 20-30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1763640" y="1600200"/>
            <a:ext cx="568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лин – 68-71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720108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шадь -55-60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9138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5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йцы и кролики – до 30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627600" cy="43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ая птица самая больш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фриканский страус весит около 160 кг, а его рост достигает 2м74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18 000 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ьфины выпрыгивают из воды, чтобы увеличить скорость движения. При скорости 300 м/мин увеличивает её ещё на 3м/сек. Какой скорости достигнет дельфин, выпрыгнув из воды за 2 мин 3 р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105440" cy="24768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39607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ми были самые большие птицы в древ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копаемые остатки из Новой Зеландии говорят о том, что существовали динорнисы – птицы до 3м50см в высоту, весом 200кг и скоростью бега – 70 км в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932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ая маленькая п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бри-пчёлка, обитающая на Кубе весит 1,6 гр., а длина её 5см7мм Получается, что один страус весит столько же, сколько 100 000 колиб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6767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юв большого тукана достигает 19 см в длину и выглядит несоразмерно громозд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5327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Arial Black"/>
              </a:rPr>
              <a:t>Спасибо за внимание!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309 м/с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бы имеют целых шесть пар челюстей, которыми перерабатывают всё, что им попадётся – от мусора до мелких рыбёшек. 6 пар – сколько же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572000" cy="26607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4572000" y="3938760"/>
            <a:ext cx="4572000" cy="291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12 челю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ское животное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рва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т лишь один зуб длиной 3 м. В старину за один такой зуб давали 3 т чистого серебра. Сколько килограммов серебра приходилось на 1 м зуб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716360" cy="26636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0" y="3938760"/>
            <a:ext cx="4716360" cy="2919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1 тон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паха-атлант весила столько же, сколько весят 60 человек (средний вес человека 70 кг). Какова была масса этого гига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608360" cy="295272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4716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4200 килограм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оторые гигантские бурые водоросли подрастают на 90 см в день. Через какое время 180-сантиметровая водоросль достигнет своей максимальной высоты - 10 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4276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на 10-й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м, кто доказал, что кит – это не рыба, а зверь, был англичанин Джон Рей. Это произошло в 1693 году. Сколько лет исполнилось нынч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4572000" cy="482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23:14Z</dcterms:created>
  <dc:creator>Лена</dc:creator>
  <dc:description/>
  <dc:language>en-US</dc:language>
  <cp:lastModifiedBy>Лена</cp:lastModifiedBy>
  <dcterms:modified xsi:type="dcterms:W3CDTF">2010-11-21T15:44:17Z</dcterms:modified>
  <cp:revision>4</cp:revision>
  <dc:subject/>
  <dc:title>Занимательная математика</dc:title>
</cp:coreProperties>
</file>