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40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46B-667E-4348-AC54-3B409241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55F-1544-4E75-B290-A34FCF7D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0EF58-5D50-4FC4-AF60-E13802F9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49ED8-3C0C-4076-8FA9-E9E732B0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C12A1-7B97-4D96-B49A-C2144DE5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59FDF-993F-4945-ADF8-565EF88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ED20A-1F82-4CB4-B4D6-9B314FDA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28EFD-DE0B-4A04-BC8A-334516E3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1279E-633F-4954-9768-5AEA5B6B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C98A5-3863-445F-9D5C-7535357F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A1017-D693-41EE-BDCB-3CA40909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87F-FB29-4E0A-9EDB-42EC5772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BB8-0C77-4202-A1FA-0D0DBCEB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4CF6-5B35-430E-BB93-5E3D9A55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EEE2-2A34-47D9-BA0A-67A9143B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3B6B-A9C2-40E0-B7B2-6A4BEDA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4610-A737-4D96-B414-6CD6ACAC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80DB-8FB5-4210-8AA5-3BF2EC54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4387-5B4E-49EE-8840-97C52274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71AB-C5FD-48A1-BD76-92229D5A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B5F-45B1-4EAB-884E-F3259172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A91C-2032-47DC-908B-BA37C5F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EB90-EDDA-4AB1-952A-28543F75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2D68-188F-4A30-9124-DE46B2A0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0600-3220-46FA-B873-DD314649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C9DD-3E3D-49A3-97F7-32A5AB78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4891-CFFB-4629-A8A6-157B4FCD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9AF4-3084-4EFD-B224-67662DEF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D3CC-7DB2-479A-8443-4ADFEF9F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6A0D-A07E-4F99-B807-B4EE562C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0325-188F-43A6-ACFC-0DABDFC5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876-E848-46A9-B1CD-1C0B6BF6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88B0-5008-4E7B-9E7E-84C576B3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4C6D-33B0-4F00-AD07-72931748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73F34-2BE1-4B69-A38B-AE6D65AD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8C53-AFF4-4A9B-B9FB-87A7A54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A188-C0FD-450F-BA96-99848530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9E42-E715-47C2-94C8-9AD070C6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7D4B-BC3E-4D8A-BD65-F4B2A055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668D-5C03-4F04-94D1-F8E054F7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C9FE-E067-47D7-BBE8-1D5E8AC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1286-1BC7-4705-881C-183F8BE2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382-6D7D-4687-ACE9-79F08FA8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9F02-71F0-4881-820E-9B02B61E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2A4B-7E56-4AA1-A107-AA1098A0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BC57D-F27E-4A5B-8097-5441C317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AF0C2-26AC-4A8A-8D49-3AA72F3E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26B0-6D8D-4F98-81A0-D3619F75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B348-5ADB-4409-A131-4F327F6A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DF53-3A1D-4518-90BD-511875D1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4DE34-9991-40A6-9DC8-0665347D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112A3-69BF-4082-AC94-3D6BDF01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BB2CFA-68DE-433D-94BE-D6BB5396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016-AA59-4623-9417-94B51E6A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7779A-A93E-4A3B-ADF8-3E880291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13CC4-DA58-4CA0-9AE0-2A3601F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B87B6-9842-4560-96F5-D03A7C8A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7CFB8-2B18-42EF-9104-65835C12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F717E-09EC-4397-8578-35775C24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FA10A-7E4C-456E-AFC6-867CBDDC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94942-CB25-4BA8-919E-3016BEB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7C707-7DCD-4F55-B06E-BAA0852B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34799-56A7-423C-90DB-C9914F3E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39071-156C-4EE6-958E-59F5F5A5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496-8D4D-499D-B104-DF46EA2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B2DEB-8708-4FD4-849A-774D9EB5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E17B5-B3BD-469E-BED2-E0E8EF70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0C95-C638-45B8-ACDB-3B03229C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218C5-B6E8-4629-B331-E670300F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E3A0-E923-4423-B369-EC9B88CB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1AAB2-76F9-4E4A-B78A-7511E12A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55DEB-2AC3-4236-8311-D77C3093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CA6B0-13B8-406B-B545-A759305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526B-22F9-4C25-9380-97E72CD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47CAA-7F85-4352-8992-29A85E9D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C90-08AB-4BAC-A12D-E25B2DF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10C45-6222-46E5-93F0-6D439C95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15331-9EAE-4174-89B0-386A7764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740C0-7729-40AA-8434-63B4A894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DDBDD-A602-4CC5-8943-3F9833C4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672DB-E373-437B-AF11-B4EFE95B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A418E-6CA5-4621-9A35-298467DE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3FFC7-2B81-4723-BD97-70017D8B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9013-C096-43BD-BC2B-88B47F6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78CD-23E8-48EE-BD26-2F3AB78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A96A1-A36F-4B5E-B483-D32DC8D7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ABB-10A7-4C9D-A18B-6B0E00FA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9A2EE-63C6-498A-B004-519153B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E8491-7585-486C-A282-1325635C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4C741-1803-4675-880B-9D472AC4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19F63-3C77-41AB-B86A-BC6F2843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5926C-5F35-4581-99C8-3B238072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C73F4-D330-4480-87FC-DF2F74E2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84B09-09B2-42CE-A5B9-2820E367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E577E-F66C-453E-AC70-653BACF2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55903-0EF6-4465-AFAE-7A237125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22CC8-D43D-4E59-84EB-87CAC391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38C-EF63-4EA6-85EB-C4D93472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6992F-7B64-4879-B16D-A6F9C501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F8872-EEBC-45CD-AA07-6396A3D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B5E3C-325A-4834-B686-C3683718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7ADD2-1502-4F23-8950-7E623CE7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09CBB-30C3-455E-8C7A-F6D57417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43995-F64E-42AF-A835-629D7348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671D7-074B-41B7-A2B8-4E6BEEC7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F6425-992A-4C54-B48C-221B1499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26DF4-55C4-407D-9F32-4DDCB94E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9D23D-6384-47BD-A698-29496B42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92CD-E884-4556-AA18-99906D087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6392-778C-43C4-B05F-E506875B46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CE00-D369-490A-B200-4D8B39F343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DFB8-B250-4A8A-AF0B-374DA29D8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5876-F1C2-42D9-9D31-CC22742165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0463-68D2-427B-8C68-8B725BDF8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ED8-10B8-40F1-9DD4-D2B23E99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1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1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1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1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07F4-7435-42FD-8FC6-0013707E960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5A53-E808-480F-A627-DBDED5A671F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Занимательная математи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Задания с использованием энциклопед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ла Доценко Е.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317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ба-меч достигает 5 метров в длину, причём 1/5 из них приходится на меч. Какова длина ме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5545080" cy="292428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45007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 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нландский кит весит столько же, сколько 20 африканских слонов. Один африканский слон весит на 2500кг больше, чем слон индийский, чья масса 5000кг. Сколько же весит гренландский к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5545080" y="3938760"/>
            <a:ext cx="2244960" cy="218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фриканский и индийский сл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5796000" cy="44085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300720" y="2421000"/>
            <a:ext cx="2087640" cy="273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50 000кг = 150тон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ществует 250 видов акул. Десятая часть из них способны нападать и на человека. Сколько таких видов акул существу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716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25 вид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то интересно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какой высоте летают птиц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ворец    - от 50 до 100 мет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3132000" y="3141720"/>
            <a:ext cx="2952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убь до 1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53440" cy="558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09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уравль 24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3440" cy="5950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рона – до 25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72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рость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 км/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6048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250" autoRev="1" fill="hold"/>
                                        <p:tgtEl>
                                          <p:spTgt spid="8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водная арифме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ёныш голубого кита выпивает за день 600 л молока. Сколько молока выпьет такой малыш за месяц (30 дней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4038840" cy="266544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643280" y="4044960"/>
            <a:ext cx="42483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егол – 28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йки – 49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732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рока – 56 км/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51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ая птица летает быстрее все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мая быстрая из всех птиц – сокол сапсан. Он развивает скорость до 320 км/ч. За мгновение до нападения на жертву сокол выставляет когти вперёд и наносит у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4211640" y="1484280"/>
            <a:ext cx="49323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лительность жизни птиц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оршун 100-120 ле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нарейка – 20-3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1763640" y="1600200"/>
            <a:ext cx="568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лин – 68-71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720108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ошадь -55-6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9138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5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йцы и кролики – до 30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6627600" cy="43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ая птица самая больш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фриканский страус весит около 160 кг, а его рост достигает 2м74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8 000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ьфины выпрыгивают из воды, чтобы увеличить скорость движения. При скорости 300 м/мин увеличивает её ещё на 3м/сек. Какой скорости достигнет дельфин, выпрыгнув из воды за 2 мин 3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105440" cy="24768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250920" y="4508640"/>
            <a:ext cx="3960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ми были самые большие птицы в древ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опаемые остатки из Новой Зеландии говорят о том, что существовали динорнисы – птицы до 3м50см в высоту, весом 200кг и скоростью бега – 70 км в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932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ая маленькая пт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бри-пчёлка, обитающая на Кубе весит 1,6 гр., а длина её 5см7мм Получается, что один страус весит столько же, сколько 100 000 колиб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6767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юв большого тукана достигает 19 см в длину и выглядит несоразмерно громозд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5327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Arial Black"/>
              </a:rPr>
              <a:t>Спасибо за внимание!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309 м/с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бы имеют целых шесть пар челюстей, которыми перерабатывают всё, что им попадётся – от мусора до мелких рыбёшек. 6 пар – сколько же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572000" cy="26607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4572000" y="3938760"/>
            <a:ext cx="4572000" cy="291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2 челю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рское животное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рва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лишь один зуб длиной 3 м. В старину за один такой зуб давали 3 т чистого серебра. Сколько килограммов серебра приходилось на 1 м зуб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716360" cy="26636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0" y="3938760"/>
            <a:ext cx="4716360" cy="2919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1 тон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ха-атлант весила столько же, сколько весят 60 человек (средний вес человека 70 кг). Какова была масса этого гига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608360" cy="29527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4716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4200 килограм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торые гигантские бурые водоросли подрастают на 90 см в день. Через какое время 180-сантиметровая водоросль достигнет своей максимальной высоты - 10 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427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 на 10-й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ым, кто доказал, что кит – это не рыба, а зверь, был англичанин Джон Рей. Это произошло в 1693 году. Сколько лет исполнилось нынч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48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23:14Z</dcterms:created>
  <dc:creator>Лена</dc:creator>
  <dc:description/>
  <dc:language>en-US</dc:language>
  <cp:lastModifiedBy>Лена</cp:lastModifiedBy>
  <dcterms:modified xsi:type="dcterms:W3CDTF">2010-11-21T15:44:17Z</dcterms:modified>
  <cp:revision>4</cp:revision>
  <dc:subject/>
  <dc:title>Занимательная математика</dc:title>
</cp:coreProperties>
</file>