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A7F-884F-4970-AB3F-2854A237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1D9-1D7C-4AB6-893F-A3A8F27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905-2A40-4192-8D0F-85A8B11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CAC-8E6B-45F8-971C-FA5DE69F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EEE-DF6E-4606-8A49-890CF439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FC4-F099-4BDC-9205-84F8993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6E2-D768-4DE0-A18B-9715632E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FAE-7A32-414B-B8BA-C3034C65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C1B-53B3-4D35-AC07-A730DD35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B2D-7980-4C51-A6B3-7838927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0DF-57CC-43F3-86D9-BC8F90E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3CD-6D02-427C-ADB4-2F2FF46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A2CB-DCAB-4544-99A8-ADA5EC8C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на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имических элемен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6836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76720" y="1341360"/>
            <a:ext cx="3008160" cy="434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32000" y="119700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03640" y="1341360"/>
            <a:ext cx="2800440" cy="43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0920" y="1268280"/>
            <a:ext cx="47437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340000" y="1052640"/>
            <a:ext cx="495612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1052640"/>
            <a:ext cx="300816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16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124000" y="1268280"/>
            <a:ext cx="474336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6836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76720" y="1341360"/>
            <a:ext cx="3008160" cy="434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32000" y="119700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132000" y="1341360"/>
            <a:ext cx="2565360" cy="39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7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3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32000" y="1341360"/>
            <a:ext cx="2565360" cy="39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24000" y="1268280"/>
            <a:ext cx="474336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0:57:32Z</dcterms:created>
  <dc:creator>user</dc:creator>
  <dc:description/>
  <dc:language>en-US</dc:language>
  <cp:lastModifiedBy>Home</cp:lastModifiedBy>
  <dcterms:modified xsi:type="dcterms:W3CDTF">2012-12-19T17:44:33Z</dcterms:modified>
  <cp:revision>8</cp:revision>
  <dc:subject/>
  <dc:title>Слайд 1</dc:title>
</cp:coreProperties>
</file>