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2FB-CBFA-4057-A5B3-C53FB937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66A-3371-4A3B-BDD5-5CE88D20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641-D6D7-4A2A-9753-EA03AD1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7C6-D71B-4451-B007-8FFD82D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180-D4A7-4311-8A67-AA536C8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FE2-9D81-4351-AF02-2449551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882-C384-405E-9002-7BE1B7FE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6D5-6A60-459D-B1E9-D0CD04C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704-7D7E-4EF5-B083-1D47438C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F3D-59D5-4613-9F87-3A110B6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39F-2B61-4A76-B010-1048182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36-CD5C-4E15-B4E0-823A9FB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5F90-AE8C-4174-BE54-398DB502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Зна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химических элемен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26836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76720" y="1341360"/>
            <a:ext cx="3008160" cy="434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32000" y="119700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03640" y="1341360"/>
            <a:ext cx="2800440" cy="435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0920" y="1268280"/>
            <a:ext cx="47437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340000" y="1052640"/>
            <a:ext cx="495612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916360" y="1052640"/>
            <a:ext cx="300816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16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124000" y="1268280"/>
            <a:ext cx="474336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0036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A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27280" y="1413000"/>
            <a:ext cx="3436920" cy="43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S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50920" y="1341360"/>
            <a:ext cx="5413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M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4000" y="1268280"/>
            <a:ext cx="495612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N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492360" y="112536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P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90800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H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1640" y="1341360"/>
            <a:ext cx="364968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C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68360" y="1341360"/>
            <a:ext cx="495648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N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1268280"/>
            <a:ext cx="258444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76720" y="1341360"/>
            <a:ext cx="3008160" cy="434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Li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27280" y="1413000"/>
            <a:ext cx="3890880" cy="43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00"/>
                </a:solidFill>
                <a:latin typeface="Arial"/>
              </a:rPr>
              <a:t>Ar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132000" y="1268280"/>
            <a:ext cx="3041640" cy="434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O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132000" y="148428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K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32000" y="1197000"/>
            <a:ext cx="2584440" cy="43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B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68360" y="1268280"/>
            <a:ext cx="49564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"/>
              </a:rPr>
              <a:t>C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132000" y="1341360"/>
            <a:ext cx="2565360" cy="39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6000"/>
                            </p:stCondLst>
                            <p:childTnLst>
                              <p:par>
                                <p:cTn id="23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8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4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7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8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3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132000" y="1341360"/>
            <a:ext cx="2565360" cy="39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N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112536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32000" y="1484280"/>
            <a:ext cx="2795760" cy="434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419640" y="1268280"/>
            <a:ext cx="237168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24000" y="1268280"/>
            <a:ext cx="4743360" cy="434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0:57:32Z</dcterms:created>
  <dc:creator>user</dc:creator>
  <dc:description/>
  <dc:language>en-US</dc:language>
  <cp:lastModifiedBy>Home</cp:lastModifiedBy>
  <dcterms:modified xsi:type="dcterms:W3CDTF">2012-12-19T17:44:33Z</dcterms:modified>
  <cp:revision>8</cp:revision>
  <dc:subject/>
  <dc:title>Слайд 1</dc:title>
</cp:coreProperties>
</file>