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C00-F7FF-4ABA-A5A6-66B4F70B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3EF-82CD-4EEF-954F-788F5903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58B-A06F-4D68-85B3-1E4309D0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BE6-5B69-49AD-8FCB-0DB4D695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C0F-5C65-4554-91B6-FAD733F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CD7-3953-4B76-ACEF-13D8447F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A0C-2FC0-409D-A16B-7B29F67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4F9-E2C1-4081-9C8A-A91486CC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849-960F-433B-8D49-95E70DF7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CD3-C735-46F7-AD72-14691A5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50D-9782-4B89-9A07-44F02BE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58F-41FA-4AC6-AF3E-95F812E7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B333-E128-4711-BD7D-D093CDE38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our-scorpion.narod.ru/dpiart/pushk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page.divo.ru/lukas/pushkin/Pict/natali1_b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rum.vgd.ru/file.php?fid=49083&amp;key=997793829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ush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400" y="5010120"/>
            <a:ext cx="574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Александр Серг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400800"/>
            <a:ext cx="4140360" cy="457200"/>
          </a:xfrm>
          <a:prstGeom prst="rect">
            <a:avLst/>
          </a:prstGeom>
          <a:solidFill>
            <a:srgbClr val="f7f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У А.С.Пушкина и Натальи Гончаровой было четверо детей. Старшая дочь, Мария (1832-1919г.). Старший сын, Александр (1833-1914г.). Младший сын, Григорий (1835-1913г.). Младшая дочь, Наталья (1836-1913г.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«Что за прелесть эти сказки! Каждая есть поэма!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Настоящим кладом была для Пушкина каждая сказка его доброй и самобытно талантливой няни Арины Родионовны. Многие ее сказки Пушкин использовал впоследствии как сюжеты собственных сказок ( в стихах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А знаешь ли ты сказки А.С. Пушкина?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«Сказка о мертвой царевне и семи богатырях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«Сказка о рыбаке и рыбк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«Сказка о царе Салтане…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«Сказка о золотом петушк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«Сказка о попе и его работнике Балд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В начале 1834 г. в Петербурге появился француз барон Дантес. Ж. Дантес-Геккерн. 1830-е гг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6 июня 1799 года в Москве в дворянской помещичьей семье Пушкиных родился мальчик, которому суждено было стать одним из величайших поэтов России. Пушкин-ребенок. 1800-1802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8 февраля 1837 года, в 5-м часу вечера, на Черной речке в Петербурге состоялась роковая дуэль, на которой Пушкин был смертельно ране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И разлетятся....  &quot;Люди, спасите Пушкина!  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6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рожив 2 дня в страшных мучениях, Пушкин скончался в 1837 г. Могила Александра Сергеевича Пушкина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могила пушкина в псковской области. "/>
          <p:cNvPicPr/>
          <p:nvPr/>
        </p:nvPicPr>
        <p:blipFill>
          <a:blip r:embed="rId2"/>
          <a:stretch/>
        </p:blipFill>
        <p:spPr>
          <a:xfrm>
            <a:off x="2195640" y="2133720"/>
            <a:ext cx="237636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Святогорский монастырь.  Успенский собор. "/>
          <p:cNvPicPr/>
          <p:nvPr/>
        </p:nvPicPr>
        <p:blipFill>
          <a:blip r:embed="rId3"/>
          <a:stretch/>
        </p:blipFill>
        <p:spPr>
          <a:xfrm>
            <a:off x="4572000" y="2133720"/>
            <a:ext cx="252108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62640" y="5084640"/>
            <a:ext cx="18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тогор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насты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к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мерть поэта стала началом его бессмертной славы на земле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...есть Пушкин-философ: отрешенный не только от всего..."/>
          <p:cNvPicPr/>
          <p:nvPr/>
        </p:nvPicPr>
        <p:blipFill>
          <a:blip r:embed="rId2"/>
          <a:stretch/>
        </p:blipFill>
        <p:spPr>
          <a:xfrm>
            <a:off x="611280" y="21337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Люблю я Пушкина творенья, И это вовсе не секрет. Его поэм, стихотворений Прекрасней не было и нет! С мальства его читаем сказки, В них жар души, природы краски. Добро цветёт в них, злоба чахнет. В них русский дух, в них Русью пахнет! За Пушкина Руси спасибо От имени всего народа! Ведь мы стихи его читаем Как он писал – без перевода.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948000" y="1600200"/>
            <a:ext cx="20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Пушкин. андрик.  Dr.Help.  2 сообщений. 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Пушкин Super Hero. мероприятие завершено.  "/>
          <p:cNvPicPr/>
          <p:nvPr/>
        </p:nvPicPr>
        <p:blipFill>
          <a:blip r:embed="rId1"/>
          <a:stretch/>
        </p:blipFill>
        <p:spPr>
          <a:xfrm>
            <a:off x="2678040" y="0"/>
            <a:ext cx="378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Отец, Сергей Львович, небогатый помещик, человек образованный, хорошо знал литературу, был знаком со многими русскими писателями и сам немного писа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Мать, Надежда Осиповна, приходилась внучкой арапу Петра I, впоследствии русскому генералу Ганнибалу. Н.О. Пушкина. 1800-е гг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Прадедушка, Абрам Петрович Ганнибал &quot;Арап Петра Великого&quot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Детей в семье Пушкиных было трое. Старшая -Ольга, второй - Александр и младший – Лёвушка, любимец семьи. Ольга. Лев. Александр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Любовь к родному языку маленькому Пушкину привили бабушка, Мария Алексеевна Ганнибал, превосходно говорившая и писавшая по-русски, и няня Арина Родионовна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В мае 1829 г. он посватался в Москве к юной красавице Наталии Николаевне Гончаровой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нец двадцатых годов А.С.Пушкина.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7720" y="1989000"/>
            <a:ext cx="36846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Наталья Николаевна Пушкина-Ланская. 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622440"/>
            <a:ext cx="4211640" cy="55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Картинка 106 из 754"/>
          <p:cNvPicPr/>
          <p:nvPr/>
        </p:nvPicPr>
        <p:blipFill>
          <a:blip r:embed="rId3"/>
          <a:stretch/>
        </p:blipFill>
        <p:spPr>
          <a:xfrm>
            <a:off x="108000" y="622440"/>
            <a:ext cx="4622760" cy="55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7:38:29Z</dcterms:created>
  <dc:creator>security</dc:creator>
  <dc:description/>
  <dc:language>en-US</dc:language>
  <cp:lastModifiedBy>михаил</cp:lastModifiedBy>
  <dcterms:modified xsi:type="dcterms:W3CDTF">2012-11-25T16:46:14Z</dcterms:modified>
  <cp:revision>4</cp:revision>
  <dc:subject/>
  <dc:title>Слайд 1</dc:title>
</cp:coreProperties>
</file>