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BC7-7533-4372-ADA8-56E4B0E0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212-82B5-4C07-9D77-EDED29FF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E54-E17F-4C3F-945B-33158203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465-EA03-440B-B732-68BB2116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44F-DC13-46D7-ADF1-409AFB80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413-6E18-4E96-B076-33DE5BE9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330-37BD-4523-8C3E-98178229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0BB-E412-41A1-A216-9311AC64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578-5272-4550-BD5D-E408B8B4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0E1-DF63-4A50-A694-A1B79F3D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281C-5139-4C51-BB1E-43F14868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C3E-05D2-4F61-B3A8-8D135001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9427-8F84-4866-BB72-CA709272C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your-scorpion.narod.ru/dpiart/pushki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page.divo.ru/lukas/pushkin/Pict/natali1_b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orum.vgd.ru/file.php?fid=49083&amp;key=997793829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push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5400" y="5010120"/>
            <a:ext cx="574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66ff"/>
                </a:solidFill>
                <a:latin typeface="Arial"/>
              </a:rPr>
              <a:t>Александр Серге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6666ff"/>
                </a:solidFill>
                <a:latin typeface="Arial"/>
              </a:rPr>
              <a:t>Пуш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400800"/>
            <a:ext cx="4140360" cy="457200"/>
          </a:xfrm>
          <a:prstGeom prst="rect">
            <a:avLst/>
          </a:prstGeom>
          <a:solidFill>
            <a:srgbClr val="f7fb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У А.С.Пушкина и Натальи Гончаровой было четверо детей. Старшая дочь, Мария (1832-1919г.). Старший сын, Александр (1833-1914г.). Младший сын, Григорий (1835-1913г.). Младшая дочь, Наталья (1836-1913г.)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«Что за прелесть эти сказки! Каждая есть поэма!»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Настоящим кладом была для Пушкина каждая сказка его доброй и самобытно талантливой няни Арины Родионовны. Многие ее сказки Пушкин использовал впоследствии как сюжеты собственных сказок ( в стихах)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А знаешь ли ты сказки А.С. Пушкина?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«Сказка о мертвой царевне и семи богатырях»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«Сказка о рыбаке и рыбке»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«Сказка о царе Салтане…»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«Сказка о золотом петушке»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«Сказка о попе и его работнике Балде»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В начале 1834 г. в Петербурге появился француз барон Дантес. Ж. Дантес-Геккерн. 1830-е гг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6 июня 1799 года в Москве в дворянской помещичьей семье Пушкиных родился мальчик, которому суждено было стать одним из величайших поэтов России. Пушкин-ребенок. 1800-1802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8 февраля 1837 года, в 5-м часу вечера, на Черной речке в Петербурге состоялась роковая дуэль, на которой Пушкин был смертельно ране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И разлетятся....  &quot;Люди, спасите Пушкина!  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68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Прожив 2 дня в страшных мучениях, Пушкин скончался в 1837 г. Могила Александра Сергеевича Пушкина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могила пушкина в псковской области. "/>
          <p:cNvPicPr/>
          <p:nvPr/>
        </p:nvPicPr>
        <p:blipFill>
          <a:blip r:embed="rId2"/>
          <a:stretch/>
        </p:blipFill>
        <p:spPr>
          <a:xfrm>
            <a:off x="2195640" y="2133720"/>
            <a:ext cx="2376360" cy="3809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Святогорский монастырь.  Успенский собор. "/>
          <p:cNvPicPr/>
          <p:nvPr/>
        </p:nvPicPr>
        <p:blipFill>
          <a:blip r:embed="rId3"/>
          <a:stretch/>
        </p:blipFill>
        <p:spPr>
          <a:xfrm>
            <a:off x="4572000" y="2133720"/>
            <a:ext cx="2521080" cy="3809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7262640" y="5084640"/>
            <a:ext cx="188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тогор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насты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сковская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Смерть поэта стала началом его бессмертной славы на земле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...есть Пушкин-философ: отрешенный не только от всего..."/>
          <p:cNvPicPr/>
          <p:nvPr/>
        </p:nvPicPr>
        <p:blipFill>
          <a:blip r:embed="rId2"/>
          <a:stretch/>
        </p:blipFill>
        <p:spPr>
          <a:xfrm>
            <a:off x="611280" y="213372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Люблю я Пушкина творенья, И это вовсе не секрет. Его поэм, стихотворений Прекрасней не было и нет! С мальства его читаем сказки, В них жар души, природы краски. Добро цветёт в них, злоба чахнет. В них русский дух, в них Русью пахнет! За Пушкина Руси спасибо От имени всего народа! Ведь мы стихи его читаем Как он писал – без перевода.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948000" y="1600200"/>
            <a:ext cx="20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Пушкин. андрик.  Dr.Help.  2 сообщений. 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Пушкин Super Hero. мероприятие завершено.  "/>
          <p:cNvPicPr/>
          <p:nvPr/>
        </p:nvPicPr>
        <p:blipFill>
          <a:blip r:embed="rId1"/>
          <a:stretch/>
        </p:blipFill>
        <p:spPr>
          <a:xfrm>
            <a:off x="2678040" y="0"/>
            <a:ext cx="3787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Отец, Сергей Львович, небогатый помещик, человек образованный, хорошо знал литературу, был знаком со многими русскими писателями и сам немного писал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Мать, Надежда Осиповна, приходилась внучкой арапу Петра I, впоследствии русскому генералу Ганнибалу. Н.О. Пушкина. 1800-е гг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Прадедушка, Абрам Петрович Ганнибал &quot;Арап Петра Великого&quot;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Детей в семье Пушкиных было трое. Старшая -Ольга, второй - Александр и младший – Лёвушка, любимец семьи. Ольга. Лев. Александр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Любовь к родному языку маленькому Пушкину привили бабушка, Мария Алексеевна Ганнибал, превосходно говорившая и писавшая по-русски, и няня Арина Родионовна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В мае 1829 г. он посватался в Москве к юной красавице Наталии Николаевне Гончаровой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Конец двадцатых годов А.С.Пушкина.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7720" y="1989000"/>
            <a:ext cx="36846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Наталья Николаевна Пушкина-Ланская. 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622440"/>
            <a:ext cx="4211640" cy="554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Картинка 106 из 754"/>
          <p:cNvPicPr/>
          <p:nvPr/>
        </p:nvPicPr>
        <p:blipFill>
          <a:blip r:embed="rId3"/>
          <a:stretch/>
        </p:blipFill>
        <p:spPr>
          <a:xfrm>
            <a:off x="108000" y="622440"/>
            <a:ext cx="4622760" cy="5543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7:38:29Z</dcterms:created>
  <dc:creator>security</dc:creator>
  <dc:description/>
  <dc:language>en-US</dc:language>
  <cp:lastModifiedBy>михаил</cp:lastModifiedBy>
  <dcterms:modified xsi:type="dcterms:W3CDTF">2012-11-25T16:46:14Z</dcterms:modified>
  <cp:revision>4</cp:revision>
  <dc:subject/>
  <dc:title>Слайд 1</dc:title>
</cp:coreProperties>
</file>