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8DA-765B-44B5-B12F-7FD0B3A5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B5A-C6D0-4704-8CB7-5F3FF882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2C0-EDAF-49F6-9EE4-1A5CC32F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BF2-43F8-451C-8D13-95F81BCC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640-E613-48B4-A9BB-555A9626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4C9-ED56-4274-BC66-7ACAEFE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246-EFA4-40A5-80CC-4FF750F5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1DE-BC2E-4189-9926-2F0A2710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724-3FC7-4E82-A459-AD57083A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92E-0ACF-4164-A389-2E428172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91F-E668-4AF8-8786-5C6AAD09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E7A-19ED-4584-A3EF-1F511CD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FF7B-48E2-4076-A38F-4DD8E0397C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Times New Roman"/>
              </a:rPr>
              <a:t>Что изучает курс </a:t>
            </a:r>
            <a:br>
              <a:rPr sz="6600"/>
            </a:br>
            <a:r>
              <a:rPr b="0" lang="ru-RU" sz="6600" spc="-1" strike="noStrike">
                <a:solidFill>
                  <a:srgbClr val="e5ffff"/>
                </a:solidFill>
                <a:latin typeface="Times New Roman"/>
              </a:rPr>
              <a:t>Основы безопасности жизнедеятельност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2" descr="C:\Users\000\Pictures\ОЗОЖ\DSCF1018.JPG"/>
          <p:cNvPicPr/>
          <p:nvPr/>
        </p:nvPicPr>
        <p:blipFill>
          <a:blip r:embed="rId1"/>
          <a:stretch/>
        </p:blipFill>
        <p:spPr>
          <a:xfrm>
            <a:off x="0" y="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000\Pictures\ОЗОЖ\DSCF1022.JPG"/>
          <p:cNvPicPr/>
          <p:nvPr/>
        </p:nvPicPr>
        <p:blipFill>
          <a:blip r:embed="rId2"/>
          <a:stretch/>
        </p:blipFill>
        <p:spPr>
          <a:xfrm>
            <a:off x="2965320" y="2728800"/>
            <a:ext cx="5805720" cy="435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000\Pictures\ОЗОЖ\y_ca021c06.jpg"/>
          <p:cNvPicPr/>
          <p:nvPr/>
        </p:nvPicPr>
        <p:blipFill>
          <a:blip r:embed="rId3"/>
          <a:stretch/>
        </p:blipFill>
        <p:spPr>
          <a:xfrm>
            <a:off x="3363840" y="31680"/>
            <a:ext cx="5746680" cy="430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000\Pictures\y_b6f5390d.jpg"/>
          <p:cNvPicPr/>
          <p:nvPr/>
        </p:nvPicPr>
        <p:blipFill>
          <a:blip r:embed="rId4"/>
          <a:stretch/>
        </p:blipFill>
        <p:spPr>
          <a:xfrm>
            <a:off x="0" y="274320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3" descr="C:\Users\000\Pictures\ОЗОЖ\DSCF1051.JPG"/>
          <p:cNvPicPr/>
          <p:nvPr/>
        </p:nvPicPr>
        <p:blipFill>
          <a:blip r:embed="rId1"/>
          <a:stretch/>
        </p:blipFill>
        <p:spPr>
          <a:xfrm>
            <a:off x="3611520" y="2749680"/>
            <a:ext cx="5532480" cy="414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000\Pictures\ОЗОЖ\DSCF1076.JPG"/>
          <p:cNvPicPr/>
          <p:nvPr/>
        </p:nvPicPr>
        <p:blipFill>
          <a:blip r:embed="rId2"/>
          <a:stretch/>
        </p:blipFill>
        <p:spPr>
          <a:xfrm>
            <a:off x="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000\Pictures\ОЗОЖ\DSCF1084.JPG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000\Pictures\ОЗОЖ\DSCF1087.JPG"/>
          <p:cNvPicPr/>
          <p:nvPr/>
        </p:nvPicPr>
        <p:blipFill>
          <a:blip r:embed="rId4"/>
          <a:stretch/>
        </p:blipFill>
        <p:spPr>
          <a:xfrm>
            <a:off x="19080" y="2909880"/>
            <a:ext cx="5243400" cy="393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000\Pictures\ОЗОЖ\DSCF1071.JPG"/>
          <p:cNvPicPr/>
          <p:nvPr/>
        </p:nvPicPr>
        <p:blipFill>
          <a:blip r:embed="rId5"/>
          <a:stretch/>
        </p:blipFill>
        <p:spPr>
          <a:xfrm>
            <a:off x="1677960" y="1197000"/>
            <a:ext cx="528012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Завывание сирен, прерывистые гуд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вонки означают сигна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Внимание вс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Воздушная тревог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Радиационная опаснос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Услышав завывание сирен, прерывистые гудки, звонки в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наденете средства защиты и выбежите на улиц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возьмете необходимые вещи, запас продуктов и покинете квартир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немедленно включите телевизор или радио приемник и прослушаете речевую информацию о случившемся и порядке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ервые толчки землетрясения застали вас дома на высоких этажах, в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связав несколько простыней, попытаетесь спуститься вниз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спуститесь вниз на лифт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встанете в дверных проемах, распахнув две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Вы примете решение самостоятельно выбираться из затопленного района только в случае, когд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нет запасов продуктов питания и вод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кому-то нужна медицинская помощ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продолжается подъем воды, а на помощь спасателей рассчитывать не приходи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Лесной пожар подбирается к населенному пункту, в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будете ждать сообщений по СМИ и действовать согласно их указ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будете уходить непосредственно к вод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соберете необходимые вещи и будете выходить из зоны пожара перпендикулярно направлению ве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Увидев человека, на котором загорелась одежда, в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окликните его и попытаетесь снять с него одежд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броситесь в поисках вод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собьете с ног и попытаетесь сбить пламя подручными средств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Первая медицинская помощь оказыва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для предупреждения возникновения заболев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для спасения жизни пострадавшего на месте происшествия до прибытия «Скорой помощи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для того, чтобы не вызывать «Скорую помощ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Что необходимо сделать в первую очередь при поражении человека электрическим ток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вызвать «Скорую помощь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быстро обесточить пострадавшего (отключить источник питания, скинуть провода с пострадавшего не проводящим ток предметом, оттащить за одежду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проверить наличие сознания и дыхания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285480"/>
            <a:ext cx="9144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новные задачи курса ОБЖ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 совершенствование умений и навыков                 по правилам безопасного поведения в   опасных и чрезвычайных ситуациях, возникающих в повседневной жизн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формирование здорового образа жизни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воспитание личности безопасного тип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еспечение личной безопасности в повседневной жизн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зрывопожарная безопасно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Безопасность на дорога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Экологическая безопасно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Безопасность на водоема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Электробезопаснос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9280" y="1764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Чрезвычайные ситуации природного и техногенного характер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ожары и взрыв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Аварии на радиационно опасных объекта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варии на химически опасных объекта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Аварии на гидротехнических сооружения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ЧС, связанные с нарушением экологического равновес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)Стихийные бедств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Основы здорового образа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бщие понятия о здоровье и здоровом образе жизн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рофилактика инфекционных и неинфекционных заболеваний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рофилактика вредных привыч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сновы медицинских знаний и оказание первой доврачебной помощ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ервая медицинская помощь и ее значение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Первая медицинская помощь при различных видах травм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ервая медицинская помощь при отравлениях опасными веществам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Первая медицинская помощь при утопле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сновы обороны государств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Гражданская оборон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Защита населения от ЧС природного и техногенного характер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сновы военной служб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ребования к уровню подготов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ащийся должен: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владеть навыками оказания первой   медицинской помощи, действий в условиях радиационного  и  химического  заражения местности,  локализации  пожара;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иметь необходимый уровень теоретических  знаний в вопросах ПДД,  пожарной  безопасности, чрезвычайных  ситуаций криминогенного  и социального  характеров, военной служб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лан на 2012-2013 учебный год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участие в военно-спортивно игре «Зарница»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участие в соревнованиях по военно-прикладным видам спор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9:28:59Z</dcterms:created>
  <dc:creator>user</dc:creator>
  <dc:description/>
  <dc:language>en-US</dc:language>
  <cp:lastModifiedBy>000</cp:lastModifiedBy>
  <dcterms:modified xsi:type="dcterms:W3CDTF">2012-09-03T09:24:35Z</dcterms:modified>
  <cp:revision>259</cp:revision>
  <dc:subject/>
  <dc:title>Совершенствование форм и методов воспитания личности безопасного типа во внеурочное время в процессе преподавания ОБЖ</dc:title>
</cp:coreProperties>
</file>