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7BA2-08DB-41F2-9E4A-A3087694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B9FA-E0CB-4B75-A37F-A60431CF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1A7-1053-4E16-A7BA-1C427275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E76-1DB2-4454-A31E-3DA04069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E578-A8AA-404D-8D49-60686280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57F5-7527-4981-9C92-1620C391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9F1C-AE1B-473F-92F7-B3605820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91FA-6DBB-4F00-B2CE-D7EC0092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8A5-2885-4F3D-ADC0-2918900A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852-1FA1-4E78-81B1-E4ABE16F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1C2-68EF-447D-A0EE-44DA8A09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E79-0226-4A63-A154-70686B5A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2DF9-97CF-4CCD-B375-06CC305F6A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5ffff"/>
                </a:solidFill>
                <a:latin typeface="Times New Roman"/>
              </a:rPr>
              <a:t>Что изучает курс </a:t>
            </a:r>
            <a:br>
              <a:rPr sz="6600"/>
            </a:br>
            <a:r>
              <a:rPr b="0" lang="ru-RU" sz="6600" spc="-1" strike="noStrike">
                <a:solidFill>
                  <a:srgbClr val="e5ffff"/>
                </a:solidFill>
                <a:latin typeface="Times New Roman"/>
              </a:rPr>
              <a:t>Основы безопасности жизнедеятельности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2" descr="C:\Users\000\Pictures\ОЗОЖ\DSCF1018.JPG"/>
          <p:cNvPicPr/>
          <p:nvPr/>
        </p:nvPicPr>
        <p:blipFill>
          <a:blip r:embed="rId1"/>
          <a:stretch/>
        </p:blipFill>
        <p:spPr>
          <a:xfrm>
            <a:off x="0" y="0"/>
            <a:ext cx="5867280" cy="4400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000\Pictures\ОЗОЖ\DSCF1022.JPG"/>
          <p:cNvPicPr/>
          <p:nvPr/>
        </p:nvPicPr>
        <p:blipFill>
          <a:blip r:embed="rId2"/>
          <a:stretch/>
        </p:blipFill>
        <p:spPr>
          <a:xfrm>
            <a:off x="2965320" y="2728800"/>
            <a:ext cx="5805720" cy="4354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000\Pictures\ОЗОЖ\y_ca021c06.jpg"/>
          <p:cNvPicPr/>
          <p:nvPr/>
        </p:nvPicPr>
        <p:blipFill>
          <a:blip r:embed="rId3"/>
          <a:stretch/>
        </p:blipFill>
        <p:spPr>
          <a:xfrm>
            <a:off x="3363840" y="31680"/>
            <a:ext cx="5746680" cy="430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000\Pictures\y_b6f5390d.jpg"/>
          <p:cNvPicPr/>
          <p:nvPr/>
        </p:nvPicPr>
        <p:blipFill>
          <a:blip r:embed="rId4"/>
          <a:stretch/>
        </p:blipFill>
        <p:spPr>
          <a:xfrm>
            <a:off x="0" y="274320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214200"/>
            <a:ext cx="9144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3" descr="C:\Users\000\Pictures\ОЗОЖ\DSCF1051.JPG"/>
          <p:cNvPicPr/>
          <p:nvPr/>
        </p:nvPicPr>
        <p:blipFill>
          <a:blip r:embed="rId1"/>
          <a:stretch/>
        </p:blipFill>
        <p:spPr>
          <a:xfrm>
            <a:off x="3611520" y="2749680"/>
            <a:ext cx="5532480" cy="4149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000\Pictures\ОЗОЖ\DSCF1076.JPG"/>
          <p:cNvPicPr/>
          <p:nvPr/>
        </p:nvPicPr>
        <p:blipFill>
          <a:blip r:embed="rId2"/>
          <a:stretch/>
        </p:blipFill>
        <p:spPr>
          <a:xfrm>
            <a:off x="0" y="0"/>
            <a:ext cx="4859280" cy="364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000\Pictures\ОЗОЖ\DSCF1084.JPG"/>
          <p:cNvPicPr/>
          <p:nvPr/>
        </p:nvPicPr>
        <p:blipFill>
          <a:blip r:embed="rId3"/>
          <a:stretch/>
        </p:blipFill>
        <p:spPr>
          <a:xfrm>
            <a:off x="4140360" y="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000\Pictures\ОЗОЖ\DSCF1087.JPG"/>
          <p:cNvPicPr/>
          <p:nvPr/>
        </p:nvPicPr>
        <p:blipFill>
          <a:blip r:embed="rId4"/>
          <a:stretch/>
        </p:blipFill>
        <p:spPr>
          <a:xfrm>
            <a:off x="19080" y="2909880"/>
            <a:ext cx="5243400" cy="3932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000\Pictures\ОЗОЖ\DSCF1071.JPG"/>
          <p:cNvPicPr/>
          <p:nvPr/>
        </p:nvPicPr>
        <p:blipFill>
          <a:blip r:embed="rId5"/>
          <a:stretch/>
        </p:blipFill>
        <p:spPr>
          <a:xfrm>
            <a:off x="1677960" y="1197000"/>
            <a:ext cx="528012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214200"/>
            <a:ext cx="9144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Готовы ли вы к неожиданностям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Завывание сирен, прерывистые гудк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вонки означают сигнал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)Внимание все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б)Воздушная тревог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)Радиационная опасность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214200"/>
            <a:ext cx="9144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Готовы ли вы к неожиданностям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Услышав завывание сирен, прерывистые гудки, звонки в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) наденете средства защиты и выбежите на улиц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б) возьмете необходимые вещи, запас продуктов и покинете квартир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) немедленно включите телевизор или радио приемник и прослушаете речевую информацию о случившемся и порядке дейст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189000"/>
            <a:ext cx="9144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Готовы ли вы к неожиданностям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Первые толчки землетрясения застали вас дома на высоких этажах, в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) связав несколько простыней, попытаетесь спуститься вниз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б) спуститесь вниз на лифт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) встанете в дверных проемах, распахнув двер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0" y="189000"/>
            <a:ext cx="9144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Готовы ли вы к неожиданностям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 Вы примете решение самостоятельно выбираться из затопленного района только в случае, когд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) нет запасов продуктов питания и вод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б) кому-то нужна медицинская помощ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) продолжается подъем воды, а на помощь спасателей рассчитывать не приходит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189000"/>
            <a:ext cx="9144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Готовы ли вы к неожиданностям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 Лесной пожар подбирается к населенному пункту, в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) будете ждать сообщений по СМИ и действовать согласно их указа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б) будете уходить непосредственно к вод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) соберете необходимые вещи и будете выходить из зоны пожара перпендикулярно направлению вет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89000"/>
            <a:ext cx="9144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Готовы ли вы к неожиданностям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. Увидев человека, на котором загорелась одежда, в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) окликните его и попытаетесь снять с него одежд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б) броситесь в поисках вод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) собьете с ног и попытаетесь сбить пламя подручными средств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189000"/>
            <a:ext cx="9144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Готовы ли вы к неожиданностям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. Первая медицинская помощь оказывае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) для предупреждения возникновения заболева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б) для спасения жизни пострадавшего на месте происшествия до прибытия «Скорой помощи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) для того, чтобы не вызывать «Скорую помощь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Готовы ли вы к неожиданностям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. Что необходимо сделать в первую очередь при поражении человека электрическим ток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) вызвать «Скорую помощь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б) быстро обесточить пострадавшего (отключить источник питания, скинуть провода с пострадавшего не проводящим ток предметом, оттащить за одежду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) проверить наличие сознания и дыхания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0" y="285480"/>
            <a:ext cx="91440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сновные задачи курса ОБЖ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-  совершенствование умений и навыков                 по правилам безопасного поведения в   опасных и чрезвычайных ситуациях, возникающих в повседневной жизн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- формирование здорового образа жизни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воспитание личности безопасного тип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95280" y="0"/>
            <a:ext cx="842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беспечение личной безопасности в повседневной жизни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Взрывопожарная безопасность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Безопасность на дорогах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Экологическая безопасность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Безопасность на водоемах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)Электробезопаснос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79280" y="1764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Чрезвычайные ситуации природного и техногенного характер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ожары и взрывы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Аварии на радиационно опасных объектах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Аварии на химически опасных объектах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Аварии на гидротехнических сооружениях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)ЧС, связанные с нарушением экологического равновес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)Стихийные бедств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500"/>
                            </p:stCondLst>
                            <p:childTnLst>
                              <p:par>
                                <p:cTn id="7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500"/>
                            </p:stCondLst>
                            <p:childTnLst>
                              <p:par>
                                <p:cTn id="8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Основы здорового образа жизн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Общие понятия о здоровье и здоровом образе жизн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Профилактика инфекционных и неинфекционных заболеваний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Профилактика вредных привыче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Основы медицинских знаний и оказание первой доврачебной помощ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ервая медицинская помощь и ее значение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Первая медицинская помощь при различных видах травм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Первая медицинская помощь при отравлениях опасными веществам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Первая медицинская помощь при утоплени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Основы обороны государств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Гражданская оборон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Защита населения от ЧС природного и техногенного характер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Основы военной служб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214200"/>
            <a:ext cx="9144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ребования к уровню подготов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чащийся должен: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- владеть навыками оказания первой   медицинской помощи, действий в условиях радиационного  и  химического  заражения местности,  локализации  пожара;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- иметь необходимый уровень теоретических  знаний в вопросах ПДД,  пожарной  безопасности, чрезвычайных  ситуаций криминогенного  и социального  характеров, военной служб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214200"/>
            <a:ext cx="91440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лан на 2012-2013 учебный год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участие в военно-спортивно игре «Зарница»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участие в соревнованиях по военно-прикладным видам спорт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9:28:59Z</dcterms:created>
  <dc:creator>user</dc:creator>
  <dc:description/>
  <dc:language>en-US</dc:language>
  <cp:lastModifiedBy>000</cp:lastModifiedBy>
  <dcterms:modified xsi:type="dcterms:W3CDTF">2012-09-03T09:24:35Z</dcterms:modified>
  <cp:revision>259</cp:revision>
  <dc:subject/>
  <dc:title>Совершенствование форм и методов воспитания личности безопасного типа во внеурочное время в процессе преподавания ОБЖ</dc:title>
</cp:coreProperties>
</file>