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3F64-E096-4FE1-817C-0718B7684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491A-1F9C-43AC-8AAC-C49D400E7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5A89-B02A-4478-80C4-03F7133EC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4BE8-8B08-4170-A8BF-6E30E8D0B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B41F-2D8E-49FD-AC02-050389E9A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A17A-C3EE-4488-84E1-53B0AE045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1081-6BEA-434A-92F4-3AF62A90A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B63B-B8D6-4558-BB2A-C5A95AAF1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156B-A37F-4C92-86E2-9D2CA6B1C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6C79-E1E0-473F-8C57-CF5CA815D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8E2E-477F-4A9A-8787-86B24E0E2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8D5D-6A97-455B-AD96-7629590D8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60268-AB4E-4BF5-B072-EBEE8850A0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68360" y="476280"/>
            <a:ext cx="518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Динозавры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684072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76327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00000" y="692280"/>
            <a:ext cx="755964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26920" y="620640"/>
            <a:ext cx="770580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26920" y="692280"/>
            <a:ext cx="7417080" cy="54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62120" y="1233360"/>
            <a:ext cx="7619760" cy="43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62120" y="509760"/>
            <a:ext cx="7619760" cy="58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00000" y="476280"/>
            <a:ext cx="691200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258920" y="620640"/>
            <a:ext cx="705816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42920" y="476280"/>
            <a:ext cx="712944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71640" y="765000"/>
            <a:ext cx="734544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4360" y="1219320"/>
            <a:ext cx="7632720" cy="49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42920" y="765000"/>
            <a:ext cx="6861240" cy="52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8T12:42:17Z</dcterms:created>
  <dc:creator>470</dc:creator>
  <dc:description/>
  <dc:language>en-US</dc:language>
  <cp:lastModifiedBy>470</cp:lastModifiedBy>
  <dcterms:modified xsi:type="dcterms:W3CDTF">2009-02-18T12:57:53Z</dcterms:modified>
  <cp:revision>2</cp:revision>
  <dc:subject/>
  <dc:title>Слайд 1</dc:title>
</cp:coreProperties>
</file>