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C13-A766-4862-97C1-066D5A50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3999-9FFF-41B6-815F-B5DD88CF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B54A-6F28-4008-BB02-6CE666CC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687-50D9-4CCA-A772-A3CDF737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DC4-A8A4-4580-BF0A-A818B791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7CAA-302C-4FDF-9669-6B2FD929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780E-2A55-4123-89C9-10916088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90C9-7481-4C1C-B32D-8B6D4CD5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8A0-32AC-4A0B-9547-DD5B8F0F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7C58-8A9E-491B-82FF-02CDB526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0E0-4049-485C-8AE2-6441B058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635-1139-4321-9E7A-B729E568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C513-CD21-4EFC-8680-52969C20A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476280"/>
            <a:ext cx="518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Динозавр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8407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559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7058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41708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233360"/>
            <a:ext cx="76197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509760"/>
            <a:ext cx="7619760" cy="58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6912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7058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129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34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1219320"/>
            <a:ext cx="763272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68612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2:42:17Z</dcterms:created>
  <dc:creator>470</dc:creator>
  <dc:description/>
  <dc:language>en-US</dc:language>
  <cp:lastModifiedBy>470</cp:lastModifiedBy>
  <dcterms:modified xsi:type="dcterms:W3CDTF">2009-02-18T12:57:53Z</dcterms:modified>
  <cp:revision>2</cp:revision>
  <dc:subject/>
  <dc:title>Слайд 1</dc:title>
</cp:coreProperties>
</file>