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864-63C8-41C4-92E9-95C7222A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E62-BC14-44BF-9995-ED5360C5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8AE-2DEC-4ADA-87F0-E1C88033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F8E-B882-439A-AC3E-4D621AC1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36E9-1AA8-414E-A021-65B1A10D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C354-4872-4541-879F-43430A4C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BEE2-ABAA-4014-9C46-BE9E2C10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AEE2-E9C1-408C-AD37-70139DD1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A155-C976-48FC-9F26-555BB850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A60C-B774-4C02-AC3F-B044B2A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4812-5C97-4FFC-A1AB-13716B2A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837-3C89-4249-90F1-D70D1D33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0F14-184D-4D87-A174-7C59C7A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2F38-EF80-4461-B2ED-41F2759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E89D-E6C7-4BD0-8E6D-1B671B71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FA0-8F51-421D-957F-D93F5725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F3BA-54B2-4771-9505-04303581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7FFC-6BC2-44D9-B436-9971D4C4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A44E-DAA1-492F-861C-4D4488DE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6DAC-FC7D-49C4-8A31-5B703451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7571-C053-483D-B58F-8AFE517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4C3A-009C-440B-9FD3-C119D19B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6F3-2A52-40E3-99D8-A34B9C4A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4732-33DE-4C08-9930-CBBC38B0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5C10-AB37-4CC7-B81E-466B881D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ADAA-CF33-4090-A802-248890AD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CC70-EA6C-4F6D-AF19-FD2BA5B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BF7C-E147-450A-BC53-1E955661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11C4-5F2E-4CCB-8FC7-1AA9B882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0B9D-E093-417D-8B4A-09EE612F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40C7C-7775-483F-ABEE-ED6D501E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772D-9E02-45D3-9772-422AA229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5340-F468-42B8-93A1-5FBE0F08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A5B-701F-42CA-B67D-FF5C885B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F074D-6E92-48C9-9C0A-F5550D21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813D-E6C8-4C28-A1CD-5A26D4DE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D2E1-0439-45F4-B31A-B1DBE5DF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16381-0B20-4F7E-ADFF-2EC72D56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FF01D-1108-4651-B781-B1FD3BDA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06A6-511B-41C3-BBC1-7CAC92FF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85ED-021F-4C4D-AECE-4E3F08BC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C28C-6CA8-4EFA-BA88-87C55B0D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B60E-90C7-4BB5-ACD2-22D64CF7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59B-96F5-4226-B4D8-66012B5E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D42-8498-4F5F-AFF7-A3B50821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141-6A39-42DF-9395-8ADF591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3B0-D214-4EAE-90BA-6C2ACC4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89D-307D-47E4-8BE3-BA34E749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B97E-26DB-46EE-BF3A-ED001B4DBC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3E0F-4602-45C0-8FD3-F15CA1F52BA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E138-2A84-47CA-8460-153F09C07D7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DEEB-0EB3-407D-B017-E410B5652A2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53880" y="378000"/>
            <a:ext cx="8545680" cy="323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2843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лопкова Т.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иностранного языка МОУ «Средняя общеобразовательная школа №12 с углубленным изучением отдельных предметов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Содержимое 4" descr="D:\фото\разное\015.JPG"/>
          <p:cNvPicPr/>
          <p:nvPr/>
        </p:nvPicPr>
        <p:blipFill>
          <a:blip r:embed="rId1"/>
          <a:stretch/>
        </p:blipFill>
        <p:spPr>
          <a:xfrm>
            <a:off x="357120" y="2500200"/>
            <a:ext cx="4257720" cy="2857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*2008-95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*2009-97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b5395"/>
                </a:solidFill>
                <a:latin typeface="Constantia"/>
              </a:rPr>
              <a:t>*2010-140 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учение английскому языку в первых классах с 2008 год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Содержимое 4" descr="D:\фото\разное\006.JPG"/>
          <p:cNvPicPr/>
          <p:nvPr/>
        </p:nvPicPr>
        <p:blipFill>
          <a:blip r:embed="rId1"/>
          <a:stretch/>
        </p:blipFill>
        <p:spPr>
          <a:xfrm>
            <a:off x="457200" y="2622600"/>
            <a:ext cx="4038480" cy="303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b5395"/>
                </a:solidFill>
                <a:latin typeface="Constantia"/>
              </a:rPr>
              <a:t>Формирование практических навыков элементарной языковой компетен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ель обучения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b5395"/>
                </a:solidFill>
                <a:latin typeface="Calibri"/>
              </a:rPr>
              <a:t>Тема занят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Constantia"/>
              </a:rPr>
              <a:t>«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Our body</a:t>
            </a:r>
            <a:r>
              <a:rPr b="0" lang="ru-RU" sz="2600" spc="-1" strike="noStrike">
                <a:solidFill>
                  <a:srgbClr val="0b5395"/>
                </a:solidFill>
                <a:latin typeface="Constantia"/>
              </a:rPr>
              <a:t>»- « Наше тело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Constantia"/>
              </a:rPr>
              <a:t>Цели занят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-формировать практические навыки элементарной языковой компетенци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- развивать учебно-коммуникативные навык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         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- воспитывать интерес к английскому язы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7:21:41Z</dcterms:created>
  <dc:creator>1</dc:creator>
  <dc:description/>
  <dc:language>en-US</dc:language>
  <cp:lastModifiedBy>Пользователь</cp:lastModifiedBy>
  <dcterms:modified xsi:type="dcterms:W3CDTF">2011-04-19T18:03:01Z</dcterms:modified>
  <cp:revision>8</cp:revision>
  <dc:subject/>
  <dc:title>Формирование элементарных навыков общения на иностранном языке детей в системе «Детский сад – начальная школа» </dc:title>
</cp:coreProperties>
</file>