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C8F-326D-4FDF-996F-7B1C978B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E2B-233E-4760-B6A8-5433C25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AC5-3A5F-4ACC-9C04-93CD4B7C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7C2-5CEF-4186-990C-769E2392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006-AFB6-46F2-9827-9C1CB36F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0AC-1586-4813-B153-0836E5B8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2B7A-F3B2-491D-B02E-E2F7A3A9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AC51-DF93-4614-916F-5C18492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EBE-393F-4E33-8E5D-3AAC20D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805A-65FE-416C-9F32-5222626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121-E6CB-4006-81A9-699075B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FCE-028F-4E08-9B17-CA64AB3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BCFA-B6A4-4FBC-BA3C-1CF4B0FC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8EBE-8DDC-4930-952E-6061994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3874-12F7-4922-ADC6-2A49C52E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F6AC-B8A4-4F46-B891-BB17AC6C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A41C-4F89-46D1-9D29-AD308EA7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0E66-8E44-4E73-B642-F996D4E8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2819-F578-4CB1-8C91-1ECABE1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369D-FEA0-4D4C-981F-0B7DE4D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2EFF-85F3-4F7B-9A92-31C3613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3495-5650-447E-A0E3-76FC62A3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F5A-D7BA-4EFC-AA88-0DC8CC23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BD03-3977-40F0-A000-75DBBEEC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31E4-769D-4047-B2B6-4A8AA98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6146-B1AD-4235-9312-F5FA541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53E5-C4F0-4E31-9184-265C8AB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900ED-D7AD-4CEE-A23E-6AC6CDA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7AA9-A15D-49E3-8729-39D84DB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296A-D4E0-4619-9BB3-63786B7E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144A-6605-4A33-A1DA-657FC578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D3F4-AA24-40A5-9FC3-6E6334C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3A367-4728-44BA-BD45-CBD30042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B53-71CC-476C-B43B-CDC2693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5356-ABBB-4FA2-8355-4C3A33E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1676-144F-4994-8C4F-FA03FC1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8FEE-B0F3-417B-8E3E-ADF04BE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6BA0-6C63-4846-AC7A-E4C1750F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6E8A-64F6-404D-BC26-CCAE89A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A13E2-FFA9-4878-BA98-ED872B50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F0DD-5929-415B-90A7-7FB1713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D8B2-F9A0-4AB7-AF1F-8C8B1542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BD86-E0CD-4BFC-9E4F-AC8A2C0A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E72-D7E9-403E-A464-2BFB6E6A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BBF-A2C3-45B3-81CE-CF608B4A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5B6-F90A-47A8-B0C3-B7287EC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5EC-4AD7-47AB-A649-CC8AA4B3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E17-5EE7-467B-816C-EE8F51C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B5C6-04D7-43DC-BBF1-219D6809AE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F35-9F3D-45AC-B2C1-1E9D98C9410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AE2-9C01-4F11-8212-F121AAF08B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D09-45A4-4EE0-81C2-8AA7C2D0F9B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53880" y="378000"/>
            <a:ext cx="8545680" cy="323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лопкова Т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иностранного языка МОУ «Средняя общеобразовательная школа №12 с углубленным изучением отдельных предметов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4" descr="D:\фото\разное\015.JPG"/>
          <p:cNvPicPr/>
          <p:nvPr/>
        </p:nvPicPr>
        <p:blipFill>
          <a:blip r:embed="rId1"/>
          <a:stretch/>
        </p:blipFill>
        <p:spPr>
          <a:xfrm>
            <a:off x="357120" y="2500200"/>
            <a:ext cx="4257720" cy="2857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08-95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09-97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10-140 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учение английскому языку в первых классах с 2008 го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4" descr="D:\фото\разное\006.JPG"/>
          <p:cNvPicPr/>
          <p:nvPr/>
        </p:nvPicPr>
        <p:blipFill>
          <a:blip r:embed="rId1"/>
          <a:stretch/>
        </p:blipFill>
        <p:spPr>
          <a:xfrm>
            <a:off x="457200" y="262260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Формирование практических навыков элементарной языковой компетен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обучения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b5395"/>
                </a:solidFill>
                <a:latin typeface="Calibri"/>
              </a:rPr>
              <a:t>Тема занят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«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Our body</a:t>
            </a: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»- « Наше тело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Цели занят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формировать практические навыки элементарной языковой компетенц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 развивать учебно-коммуникативные навы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 воспитывать интерес к английскому язы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21:41Z</dcterms:created>
  <dc:creator>1</dc:creator>
  <dc:description/>
  <dc:language>en-US</dc:language>
  <cp:lastModifiedBy>Пользователь</cp:lastModifiedBy>
  <dcterms:modified xsi:type="dcterms:W3CDTF">2011-04-19T18:03:01Z</dcterms:modified>
  <cp:revision>8</cp:revision>
  <dc:subject/>
  <dc:title>Формирование элементарных навыков общения на иностранном языке детей в системе «Детский сад – начальная школа» </dc:title>
</cp:coreProperties>
</file>