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voltag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75F-D9EF-4444-950E-BE1AF704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05C-00C4-4E62-8070-AEF039EA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825-2411-48DF-A0E2-103E8423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6DE-09AC-4C18-B4C3-36732D89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4A12-A031-4931-9257-CEE8A5C4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680-D3DB-4147-8E42-5D989BF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1C4F-5358-44A5-965E-7F7E2763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97CA-8437-42A5-8309-AF483132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2AB7-FA9A-428B-AE87-39176850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2844-4924-4D3E-8315-2891AC5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0FE-6681-41FE-9994-78A1482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595-B53C-47C7-BD27-A1B7A25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E57-C27F-4E3C-9EC8-8E54755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0F3-0988-4D9F-95CB-830F790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E313-4BA0-42B7-BBD4-A0FFD1A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FEA-A627-47F0-BB88-F8BB3B6F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E44-9A8F-414B-87A5-3D438B78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132-C49F-42EC-ACE3-154B38EE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E0-608D-46FF-9D2F-D77E761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520-A75C-4294-AB0C-909F95AD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C55-5E4C-40B5-80EA-0B501CC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388-42B9-44A1-997D-4302143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2AF-B49E-48E8-8ACD-9B141A5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70C-F387-452C-8B51-7CFE4B7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454F-3C48-409A-A0EA-03B41FDD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52280" y="1600200"/>
            <a:ext cx="8991360" cy="4723920"/>
            <a:chOff x="152280" y="1600200"/>
            <a:chExt cx="8991360" cy="4723920"/>
          </a:xfrm>
        </p:grpSpPr>
        <p:sp>
          <p:nvSpPr>
            <p:cNvPr id="5" name="Freeform 8"/>
            <p:cNvSpPr/>
            <p:nvPr/>
          </p:nvSpPr>
          <p:spPr>
            <a:xfrm>
              <a:off x="316800" y="1809720"/>
              <a:ext cx="2644560" cy="4318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9"/>
            <p:cNvSpPr/>
            <p:nvPr/>
          </p:nvSpPr>
          <p:spPr>
            <a:xfrm>
              <a:off x="233640" y="2221920"/>
              <a:ext cx="70920" cy="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>
              <a:off x="874440" y="2495880"/>
              <a:ext cx="8136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1"/>
            <p:cNvSpPr/>
            <p:nvPr/>
          </p:nvSpPr>
          <p:spPr>
            <a:xfrm>
              <a:off x="2506320" y="2620800"/>
              <a:ext cx="204120" cy="16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2"/>
            <p:cNvSpPr/>
            <p:nvPr/>
          </p:nvSpPr>
          <p:spPr>
            <a:xfrm>
              <a:off x="1517040" y="3476160"/>
              <a:ext cx="32976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1788480" y="3619080"/>
              <a:ext cx="206640" cy="90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2007360" y="3676680"/>
              <a:ext cx="7920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2124360" y="3683520"/>
              <a:ext cx="2484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1742400" y="1798560"/>
              <a:ext cx="375480" cy="195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1909440" y="1707120"/>
              <a:ext cx="30456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2337480" y="1863360"/>
              <a:ext cx="48636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333160" y="1680480"/>
              <a:ext cx="91800" cy="8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2157840" y="1836360"/>
              <a:ext cx="135360" cy="93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2300040" y="1854360"/>
              <a:ext cx="1123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2239560" y="1773720"/>
              <a:ext cx="133200" cy="75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2183040" y="1702440"/>
              <a:ext cx="9180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2420640" y="1709280"/>
              <a:ext cx="237960" cy="171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152280" y="2255400"/>
              <a:ext cx="518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1731960" y="33937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1738080" y="34495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2164320" y="3744000"/>
              <a:ext cx="30960" cy="2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2423160" y="266508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2214360" y="220824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2349720" y="1809720"/>
              <a:ext cx="8352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2481120" y="2050200"/>
              <a:ext cx="7920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2514960" y="1600200"/>
              <a:ext cx="1452600" cy="770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2959200" y="201024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3549960" y="2157480"/>
              <a:ext cx="269280" cy="120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3760560" y="179388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4322520" y="1722960"/>
              <a:ext cx="322920" cy="140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4524480" y="1796040"/>
              <a:ext cx="102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3915360" y="2402280"/>
              <a:ext cx="227160" cy="29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3802680" y="2509560"/>
              <a:ext cx="141840" cy="15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7321320" y="5056200"/>
              <a:ext cx="989640" cy="1103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7628760" y="4474800"/>
              <a:ext cx="665280" cy="467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7647120" y="4479120"/>
              <a:ext cx="649080" cy="469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8127360" y="6194880"/>
              <a:ext cx="93600" cy="129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8411040" y="5994360"/>
              <a:ext cx="342360" cy="189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8766000" y="5883120"/>
              <a:ext cx="217080" cy="204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8880840" y="5791680"/>
              <a:ext cx="77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5284800" y="4708800"/>
              <a:ext cx="256320" cy="44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6395040" y="4013280"/>
              <a:ext cx="10188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089840" y="4160520"/>
              <a:ext cx="231120" cy="407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6893640" y="4033440"/>
              <a:ext cx="148320" cy="304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6996240" y="4278600"/>
              <a:ext cx="83160" cy="291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089840" y="4583880"/>
              <a:ext cx="135720" cy="118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307280" y="4372200"/>
              <a:ext cx="17316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248600" y="3440880"/>
              <a:ext cx="45720" cy="15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7277760" y="3706200"/>
              <a:ext cx="12708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367400" y="4053240"/>
              <a:ext cx="13392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526520" y="4367520"/>
              <a:ext cx="59760" cy="109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9"/>
            <p:cNvSpPr/>
            <p:nvPr/>
          </p:nvSpPr>
          <p:spPr>
            <a:xfrm>
              <a:off x="7492680" y="4550400"/>
              <a:ext cx="37080" cy="35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549200" y="4528440"/>
              <a:ext cx="93960" cy="79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692840" y="4683960"/>
              <a:ext cx="500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2"/>
            <p:cNvSpPr/>
            <p:nvPr/>
          </p:nvSpPr>
          <p:spPr>
            <a:xfrm>
              <a:off x="8250480" y="4590360"/>
              <a:ext cx="95760" cy="104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7421760" y="4721760"/>
              <a:ext cx="95760" cy="11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319520" y="4764240"/>
              <a:ext cx="6660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5"/>
            <p:cNvSpPr/>
            <p:nvPr/>
          </p:nvSpPr>
          <p:spPr>
            <a:xfrm>
              <a:off x="7275600" y="4699440"/>
              <a:ext cx="50040" cy="69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7346520" y="4724280"/>
              <a:ext cx="709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7244280" y="3984480"/>
              <a:ext cx="56160" cy="12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7350840" y="3964320"/>
              <a:ext cx="39600" cy="124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7396560" y="3926520"/>
              <a:ext cx="205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7417440" y="3953160"/>
              <a:ext cx="43920" cy="106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6856200" y="4106880"/>
              <a:ext cx="24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6835320" y="405576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6826680" y="4015800"/>
              <a:ext cx="23040" cy="30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6801840" y="3926520"/>
              <a:ext cx="2304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6806160" y="3981960"/>
              <a:ext cx="3528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551080" y="5370480"/>
              <a:ext cx="9360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033120" y="5261400"/>
              <a:ext cx="110520" cy="101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8699400" y="5205240"/>
              <a:ext cx="3528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682840" y="5156280"/>
              <a:ext cx="4320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8363160" y="4724280"/>
              <a:ext cx="50040" cy="73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8434080" y="4819680"/>
              <a:ext cx="536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8490600" y="4960440"/>
              <a:ext cx="5796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8561520" y="4938120"/>
              <a:ext cx="5796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8540640" y="4857840"/>
              <a:ext cx="5364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486280" y="4802040"/>
              <a:ext cx="543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419680" y="4766760"/>
              <a:ext cx="50040" cy="57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502840" y="4884480"/>
              <a:ext cx="50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5142600" y="1823040"/>
              <a:ext cx="293760" cy="24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5317920" y="2054880"/>
              <a:ext cx="8352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5745600" y="1707120"/>
              <a:ext cx="8748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5808240" y="1735920"/>
              <a:ext cx="10440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5921280" y="1743120"/>
              <a:ext cx="10404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649920" y="1803240"/>
              <a:ext cx="183600" cy="68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37120" y="1800720"/>
              <a:ext cx="9576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793560" y="1865160"/>
              <a:ext cx="7704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7319520" y="2364480"/>
              <a:ext cx="158400" cy="255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7446960" y="2627280"/>
              <a:ext cx="11484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7371720" y="2805840"/>
              <a:ext cx="22752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5157360" y="1683000"/>
              <a:ext cx="108360" cy="66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4934160" y="1702440"/>
              <a:ext cx="39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4984200" y="1700640"/>
              <a:ext cx="770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5111640" y="1680480"/>
              <a:ext cx="41400" cy="35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5073480" y="1720440"/>
              <a:ext cx="3096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453080" y="1756080"/>
              <a:ext cx="3780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5608080" y="4991760"/>
              <a:ext cx="6480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5691240" y="4975920"/>
              <a:ext cx="230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5551560" y="463284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5677200" y="4470120"/>
              <a:ext cx="2268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5626800" y="4468320"/>
              <a:ext cx="22680" cy="4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5603760" y="451728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5551560" y="459288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5591520" y="456372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4061160" y="2361960"/>
              <a:ext cx="21240" cy="33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3934080" y="2286720"/>
              <a:ext cx="212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3437280" y="1803240"/>
              <a:ext cx="4299480" cy="36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 rot="5400000">
            <a:off x="2282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8"/>
          <p:cNvSpPr/>
          <p:nvPr/>
        </p:nvSpPr>
        <p:spPr>
          <a:xfrm rot="5400000">
            <a:off x="5328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9"/>
          <p:cNvSpPr/>
          <p:nvPr/>
        </p:nvSpPr>
        <p:spPr>
          <a:xfrm rot="5400000">
            <a:off x="8377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152280" y="1600200"/>
            <a:ext cx="8991360" cy="4723920"/>
            <a:chOff x="152280" y="1600200"/>
            <a:chExt cx="8991360" cy="4723920"/>
          </a:xfrm>
        </p:grpSpPr>
        <p:sp>
          <p:nvSpPr>
            <p:cNvPr id="156" name="Freeform 8"/>
            <p:cNvSpPr/>
            <p:nvPr/>
          </p:nvSpPr>
          <p:spPr>
            <a:xfrm>
              <a:off x="316800" y="1809720"/>
              <a:ext cx="2644560" cy="4318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3640" y="2221920"/>
              <a:ext cx="70920" cy="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874440" y="2495880"/>
              <a:ext cx="8136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2506320" y="2620800"/>
              <a:ext cx="204120" cy="16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517040" y="3476160"/>
              <a:ext cx="32976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788480" y="3619080"/>
              <a:ext cx="206640" cy="90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2007360" y="3676680"/>
              <a:ext cx="7920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2124360" y="3683520"/>
              <a:ext cx="2484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1742400" y="1798560"/>
              <a:ext cx="375480" cy="195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1909440" y="1707120"/>
              <a:ext cx="30456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2337480" y="1863360"/>
              <a:ext cx="48636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2333160" y="1680480"/>
              <a:ext cx="91800" cy="8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2157840" y="1836360"/>
              <a:ext cx="135360" cy="93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2300040" y="1854360"/>
              <a:ext cx="1123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2239560" y="1773720"/>
              <a:ext cx="133200" cy="75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2183040" y="1702440"/>
              <a:ext cx="9180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2420640" y="1709280"/>
              <a:ext cx="237960" cy="171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>
              <a:off x="152280" y="2255400"/>
              <a:ext cx="518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"/>
            <p:cNvSpPr/>
            <p:nvPr/>
          </p:nvSpPr>
          <p:spPr>
            <a:xfrm>
              <a:off x="1731960" y="33937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1738080" y="34495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164320" y="3744000"/>
              <a:ext cx="30960" cy="2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2423160" y="266508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2214360" y="220824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2349720" y="1809720"/>
              <a:ext cx="8352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2481120" y="2050200"/>
              <a:ext cx="7920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2514960" y="1600200"/>
              <a:ext cx="1452600" cy="770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4"/>
            <p:cNvSpPr/>
            <p:nvPr/>
          </p:nvSpPr>
          <p:spPr>
            <a:xfrm>
              <a:off x="2959200" y="201024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5"/>
            <p:cNvSpPr/>
            <p:nvPr/>
          </p:nvSpPr>
          <p:spPr>
            <a:xfrm>
              <a:off x="3549960" y="2157480"/>
              <a:ext cx="269280" cy="120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6"/>
            <p:cNvSpPr/>
            <p:nvPr/>
          </p:nvSpPr>
          <p:spPr>
            <a:xfrm>
              <a:off x="3760560" y="179388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7"/>
            <p:cNvSpPr/>
            <p:nvPr/>
          </p:nvSpPr>
          <p:spPr>
            <a:xfrm>
              <a:off x="4322520" y="1722960"/>
              <a:ext cx="322920" cy="140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8"/>
            <p:cNvSpPr/>
            <p:nvPr/>
          </p:nvSpPr>
          <p:spPr>
            <a:xfrm>
              <a:off x="4524480" y="1796040"/>
              <a:ext cx="102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9"/>
            <p:cNvSpPr/>
            <p:nvPr/>
          </p:nvSpPr>
          <p:spPr>
            <a:xfrm>
              <a:off x="3915360" y="2402280"/>
              <a:ext cx="227160" cy="29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3802680" y="2509560"/>
              <a:ext cx="141840" cy="15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1"/>
            <p:cNvSpPr/>
            <p:nvPr/>
          </p:nvSpPr>
          <p:spPr>
            <a:xfrm>
              <a:off x="7321320" y="5056200"/>
              <a:ext cx="989640" cy="1103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2"/>
            <p:cNvSpPr/>
            <p:nvPr/>
          </p:nvSpPr>
          <p:spPr>
            <a:xfrm>
              <a:off x="7628760" y="4474800"/>
              <a:ext cx="665280" cy="467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3"/>
            <p:cNvSpPr/>
            <p:nvPr/>
          </p:nvSpPr>
          <p:spPr>
            <a:xfrm>
              <a:off x="7647120" y="4479120"/>
              <a:ext cx="649080" cy="469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4"/>
            <p:cNvSpPr/>
            <p:nvPr/>
          </p:nvSpPr>
          <p:spPr>
            <a:xfrm>
              <a:off x="8127360" y="6194880"/>
              <a:ext cx="93600" cy="129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5"/>
            <p:cNvSpPr/>
            <p:nvPr/>
          </p:nvSpPr>
          <p:spPr>
            <a:xfrm>
              <a:off x="8411040" y="5994360"/>
              <a:ext cx="342360" cy="189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6"/>
            <p:cNvSpPr/>
            <p:nvPr/>
          </p:nvSpPr>
          <p:spPr>
            <a:xfrm>
              <a:off x="8766000" y="5883120"/>
              <a:ext cx="217080" cy="204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7"/>
            <p:cNvSpPr/>
            <p:nvPr/>
          </p:nvSpPr>
          <p:spPr>
            <a:xfrm>
              <a:off x="8880840" y="5791680"/>
              <a:ext cx="77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5284800" y="4708800"/>
              <a:ext cx="256320" cy="44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6395040" y="4013280"/>
              <a:ext cx="10188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7089840" y="4160520"/>
              <a:ext cx="231120" cy="407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6893640" y="4033440"/>
              <a:ext cx="148320" cy="304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6996240" y="4278600"/>
              <a:ext cx="83160" cy="291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7089840" y="4583880"/>
              <a:ext cx="135720" cy="118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7307280" y="4372200"/>
              <a:ext cx="17316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7248600" y="3440880"/>
              <a:ext cx="45720" cy="15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277760" y="3706200"/>
              <a:ext cx="12708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367400" y="4053240"/>
              <a:ext cx="13392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526520" y="4367520"/>
              <a:ext cx="59760" cy="109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492680" y="4550400"/>
              <a:ext cx="37080" cy="35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49200" y="4528440"/>
              <a:ext cx="93960" cy="79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692840" y="4683960"/>
              <a:ext cx="500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8250480" y="4590360"/>
              <a:ext cx="95760" cy="104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21760" y="4721760"/>
              <a:ext cx="95760" cy="11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319520" y="4764240"/>
              <a:ext cx="6660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75600" y="4699440"/>
              <a:ext cx="50040" cy="69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346520" y="4724280"/>
              <a:ext cx="709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244280" y="3984480"/>
              <a:ext cx="56160" cy="12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7350840" y="3964320"/>
              <a:ext cx="39600" cy="124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7396560" y="3926520"/>
              <a:ext cx="205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0"/>
            <p:cNvSpPr/>
            <p:nvPr/>
          </p:nvSpPr>
          <p:spPr>
            <a:xfrm>
              <a:off x="7417440" y="3953160"/>
              <a:ext cx="43920" cy="106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1"/>
            <p:cNvSpPr/>
            <p:nvPr/>
          </p:nvSpPr>
          <p:spPr>
            <a:xfrm>
              <a:off x="6856200" y="4106880"/>
              <a:ext cx="24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2"/>
            <p:cNvSpPr/>
            <p:nvPr/>
          </p:nvSpPr>
          <p:spPr>
            <a:xfrm>
              <a:off x="6835320" y="405576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3"/>
            <p:cNvSpPr/>
            <p:nvPr/>
          </p:nvSpPr>
          <p:spPr>
            <a:xfrm>
              <a:off x="6826680" y="4015800"/>
              <a:ext cx="23040" cy="30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4"/>
            <p:cNvSpPr/>
            <p:nvPr/>
          </p:nvSpPr>
          <p:spPr>
            <a:xfrm>
              <a:off x="6801840" y="3926520"/>
              <a:ext cx="2304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5"/>
            <p:cNvSpPr/>
            <p:nvPr/>
          </p:nvSpPr>
          <p:spPr>
            <a:xfrm>
              <a:off x="6806160" y="3981960"/>
              <a:ext cx="3528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6"/>
            <p:cNvSpPr/>
            <p:nvPr/>
          </p:nvSpPr>
          <p:spPr>
            <a:xfrm>
              <a:off x="8551080" y="5370480"/>
              <a:ext cx="9360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9033120" y="5261400"/>
              <a:ext cx="110520" cy="101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8"/>
            <p:cNvSpPr/>
            <p:nvPr/>
          </p:nvSpPr>
          <p:spPr>
            <a:xfrm>
              <a:off x="8699400" y="5205240"/>
              <a:ext cx="3528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9"/>
            <p:cNvSpPr/>
            <p:nvPr/>
          </p:nvSpPr>
          <p:spPr>
            <a:xfrm>
              <a:off x="8682840" y="5156280"/>
              <a:ext cx="4320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>
              <a:off x="8363160" y="4724280"/>
              <a:ext cx="50040" cy="73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>
              <a:off x="8434080" y="4819680"/>
              <a:ext cx="536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>
              <a:off x="8490600" y="4960440"/>
              <a:ext cx="5796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3"/>
            <p:cNvSpPr/>
            <p:nvPr/>
          </p:nvSpPr>
          <p:spPr>
            <a:xfrm>
              <a:off x="8561520" y="4938120"/>
              <a:ext cx="5796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4"/>
            <p:cNvSpPr/>
            <p:nvPr/>
          </p:nvSpPr>
          <p:spPr>
            <a:xfrm>
              <a:off x="8540640" y="4857840"/>
              <a:ext cx="5364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5"/>
            <p:cNvSpPr/>
            <p:nvPr/>
          </p:nvSpPr>
          <p:spPr>
            <a:xfrm>
              <a:off x="8486280" y="4802040"/>
              <a:ext cx="543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6"/>
            <p:cNvSpPr/>
            <p:nvPr/>
          </p:nvSpPr>
          <p:spPr>
            <a:xfrm>
              <a:off x="8419680" y="4766760"/>
              <a:ext cx="50040" cy="57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7"/>
            <p:cNvSpPr/>
            <p:nvPr/>
          </p:nvSpPr>
          <p:spPr>
            <a:xfrm>
              <a:off x="8502840" y="4884480"/>
              <a:ext cx="50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"/>
            <p:cNvSpPr/>
            <p:nvPr/>
          </p:nvSpPr>
          <p:spPr>
            <a:xfrm>
              <a:off x="5142600" y="1823040"/>
              <a:ext cx="293760" cy="24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9"/>
            <p:cNvSpPr/>
            <p:nvPr/>
          </p:nvSpPr>
          <p:spPr>
            <a:xfrm>
              <a:off x="5317920" y="2054880"/>
              <a:ext cx="8352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0"/>
            <p:cNvSpPr/>
            <p:nvPr/>
          </p:nvSpPr>
          <p:spPr>
            <a:xfrm>
              <a:off x="5745600" y="1707120"/>
              <a:ext cx="8748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1"/>
            <p:cNvSpPr/>
            <p:nvPr/>
          </p:nvSpPr>
          <p:spPr>
            <a:xfrm>
              <a:off x="5808240" y="1735920"/>
              <a:ext cx="10440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2"/>
            <p:cNvSpPr/>
            <p:nvPr/>
          </p:nvSpPr>
          <p:spPr>
            <a:xfrm>
              <a:off x="5921280" y="1743120"/>
              <a:ext cx="10404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3"/>
            <p:cNvSpPr/>
            <p:nvPr/>
          </p:nvSpPr>
          <p:spPr>
            <a:xfrm>
              <a:off x="6649920" y="1803240"/>
              <a:ext cx="183600" cy="68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4"/>
            <p:cNvSpPr/>
            <p:nvPr/>
          </p:nvSpPr>
          <p:spPr>
            <a:xfrm>
              <a:off x="6837120" y="1800720"/>
              <a:ext cx="9576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5"/>
            <p:cNvSpPr/>
            <p:nvPr/>
          </p:nvSpPr>
          <p:spPr>
            <a:xfrm>
              <a:off x="6793560" y="1865160"/>
              <a:ext cx="7704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7319520" y="2364480"/>
              <a:ext cx="158400" cy="255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7"/>
            <p:cNvSpPr/>
            <p:nvPr/>
          </p:nvSpPr>
          <p:spPr>
            <a:xfrm>
              <a:off x="7446960" y="2627280"/>
              <a:ext cx="11484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8"/>
            <p:cNvSpPr/>
            <p:nvPr/>
          </p:nvSpPr>
          <p:spPr>
            <a:xfrm>
              <a:off x="7371720" y="2805840"/>
              <a:ext cx="22752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9"/>
            <p:cNvSpPr/>
            <p:nvPr/>
          </p:nvSpPr>
          <p:spPr>
            <a:xfrm>
              <a:off x="5157360" y="1683000"/>
              <a:ext cx="108360" cy="66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0"/>
            <p:cNvSpPr/>
            <p:nvPr/>
          </p:nvSpPr>
          <p:spPr>
            <a:xfrm>
              <a:off x="4934160" y="1702440"/>
              <a:ext cx="39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1"/>
            <p:cNvSpPr/>
            <p:nvPr/>
          </p:nvSpPr>
          <p:spPr>
            <a:xfrm>
              <a:off x="4984200" y="1700640"/>
              <a:ext cx="770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2"/>
            <p:cNvSpPr/>
            <p:nvPr/>
          </p:nvSpPr>
          <p:spPr>
            <a:xfrm>
              <a:off x="5111640" y="1680480"/>
              <a:ext cx="41400" cy="35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3"/>
            <p:cNvSpPr/>
            <p:nvPr/>
          </p:nvSpPr>
          <p:spPr>
            <a:xfrm>
              <a:off x="5073480" y="1720440"/>
              <a:ext cx="3096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4"/>
            <p:cNvSpPr/>
            <p:nvPr/>
          </p:nvSpPr>
          <p:spPr>
            <a:xfrm>
              <a:off x="7453080" y="1756080"/>
              <a:ext cx="3780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5"/>
            <p:cNvSpPr/>
            <p:nvPr/>
          </p:nvSpPr>
          <p:spPr>
            <a:xfrm>
              <a:off x="5608080" y="4991760"/>
              <a:ext cx="6480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6"/>
            <p:cNvSpPr/>
            <p:nvPr/>
          </p:nvSpPr>
          <p:spPr>
            <a:xfrm>
              <a:off x="5691240" y="4975920"/>
              <a:ext cx="230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"/>
            <p:cNvSpPr/>
            <p:nvPr/>
          </p:nvSpPr>
          <p:spPr>
            <a:xfrm>
              <a:off x="5551560" y="463284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8"/>
            <p:cNvSpPr/>
            <p:nvPr/>
          </p:nvSpPr>
          <p:spPr>
            <a:xfrm>
              <a:off x="5677200" y="4470120"/>
              <a:ext cx="2268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9"/>
            <p:cNvSpPr/>
            <p:nvPr/>
          </p:nvSpPr>
          <p:spPr>
            <a:xfrm>
              <a:off x="5626800" y="4468320"/>
              <a:ext cx="22680" cy="4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0"/>
            <p:cNvSpPr/>
            <p:nvPr/>
          </p:nvSpPr>
          <p:spPr>
            <a:xfrm>
              <a:off x="5603760" y="451728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1"/>
            <p:cNvSpPr/>
            <p:nvPr/>
          </p:nvSpPr>
          <p:spPr>
            <a:xfrm>
              <a:off x="5551560" y="459288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2"/>
            <p:cNvSpPr/>
            <p:nvPr/>
          </p:nvSpPr>
          <p:spPr>
            <a:xfrm>
              <a:off x="5591520" y="456372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3"/>
            <p:cNvSpPr/>
            <p:nvPr/>
          </p:nvSpPr>
          <p:spPr>
            <a:xfrm>
              <a:off x="4061160" y="2361960"/>
              <a:ext cx="21240" cy="33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4"/>
            <p:cNvSpPr/>
            <p:nvPr/>
          </p:nvSpPr>
          <p:spPr>
            <a:xfrm>
              <a:off x="3934080" y="2286720"/>
              <a:ext cx="212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5"/>
            <p:cNvSpPr/>
            <p:nvPr/>
          </p:nvSpPr>
          <p:spPr>
            <a:xfrm>
              <a:off x="3437280" y="1803240"/>
              <a:ext cx="4299480" cy="36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17"/>
          <p:cNvSpPr/>
          <p:nvPr/>
        </p:nvSpPr>
        <p:spPr>
          <a:xfrm rot="5400000">
            <a:off x="2282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18"/>
          <p:cNvSpPr/>
          <p:nvPr/>
        </p:nvSpPr>
        <p:spPr>
          <a:xfrm rot="5400000">
            <a:off x="5328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9"/>
          <p:cNvSpPr/>
          <p:nvPr/>
        </p:nvSpPr>
        <p:spPr>
          <a:xfrm rot="5400000">
            <a:off x="8377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F539-E609-46D8-9EEA-38EB4B59C7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419720" y="1295280"/>
          <a:ext cx="42544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95280"/>
                    <a:ext cx="42544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Заголовок 1"/>
          <p:cNvSpPr/>
          <p:nvPr/>
        </p:nvSpPr>
        <p:spPr>
          <a:xfrm>
            <a:off x="685800" y="380880"/>
            <a:ext cx="685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лобус – </a:t>
            </a:r>
            <a:br>
              <a:rPr sz="6600"/>
            </a:b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модель Зем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7880" y="476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3840" y="4648320"/>
            <a:ext cx="221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оря есть-плавать нельзя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ороги есть-ехать нельзя, Земля есть- пахать нельзя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ло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52280" y="838080"/>
            <a:ext cx="5639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Глобу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модель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де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уменьшенное воспроизведение объ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5867280" y="2362320"/>
          <a:ext cx="2806920" cy="41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362320"/>
                    <a:ext cx="28069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-360" y="1371600"/>
            <a:ext cx="6095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ная ось, вокруг которой вращает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ый полюс и Южный полю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ватор – это ли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ая, ярко – син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 глобус попол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ам не спутать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там Север, а где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WordArt 4" descr=""/>
          <p:cNvPicPr/>
          <p:nvPr/>
        </p:nvPicPr>
        <p:blipFill>
          <a:blip r:embed="rId1"/>
          <a:stretch/>
        </p:blipFill>
        <p:spPr>
          <a:xfrm>
            <a:off x="1328760" y="109440"/>
            <a:ext cx="614520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"/>
          <p:cNvGraphicFramePr/>
          <p:nvPr/>
        </p:nvGraphicFramePr>
        <p:xfrm>
          <a:off x="5943600" y="1600200"/>
          <a:ext cx="3111480" cy="458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600200"/>
                    <a:ext cx="311148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-360" y="1371600"/>
            <a:ext cx="6095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уш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елёным, коричневым, жёлтым цв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Во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иним цв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WordArt 4" descr=""/>
          <p:cNvPicPr/>
          <p:nvPr/>
        </p:nvPicPr>
        <p:blipFill>
          <a:blip r:embed="rId1"/>
          <a:stretch/>
        </p:blipFill>
        <p:spPr>
          <a:xfrm>
            <a:off x="1328760" y="109440"/>
            <a:ext cx="614520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2"/>
          <p:cNvGraphicFramePr/>
          <p:nvPr/>
        </p:nvGraphicFramePr>
        <p:xfrm>
          <a:off x="5943600" y="1600200"/>
          <a:ext cx="3111480" cy="458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600200"/>
                    <a:ext cx="311148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istina.org/ZlotVs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 (учебник для 1 кла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Я. Дмитриева, А.Н.Каз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12-12-20T19:20:56Z</dcterms:modified>
  <cp:revision>15</cp:revision>
  <dc:subject/>
  <dc:title>Глобус – модель Земли</dc:title>
</cp:coreProperties>
</file>