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30AD-7953-41C7-954C-1AE498E9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4002-7846-49B1-882B-255EC818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54CB-52D0-4C58-A3BA-90CC8B04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F247-3108-4695-92C2-EA27FA15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2C2A-91E0-4DA1-9EA5-E22C5AA6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21CA-7E58-4011-B122-6A39FF92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7231-71E1-48FD-A61B-0A17ECD7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5EA7-CAAD-44EA-A028-81EC2E35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EC7D-9BE8-4D22-9C92-483A9451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0D88-B260-436B-8533-0BF438AA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B0C5-06B1-485B-AF4A-DD61B8D1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1255-F06A-4510-80A9-BE0A6695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F09B-9161-47F5-BFB0-7AABAD7D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4642-70B7-4C6A-B06D-59DC796F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CAB5-21F6-41CF-AAA1-CB8D2464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7286-0EFB-4FF5-A51C-3A6A74B4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D1E8-C4D5-4316-86BE-1A284CB4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8D68D-3152-4286-A6EA-C677A773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5E169-5E4B-4418-988E-EA8D3EFF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44727-F15B-4025-8D7C-69FDB080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E27A2-CDB8-4FDE-A9A6-2C0B92CF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637BC-C5DF-4E01-986B-5E3144F7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AB8-D137-42F0-80B6-745180CE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37F71-9AB8-49AB-AE3D-7CFC74AC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0AEC5-A922-492F-A60B-6E51AFD0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ED24A-B3A6-48E9-AD1C-41892D6D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1DA6F-3738-4760-BE4D-BB13A106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AB72E-4CA6-4CB9-9114-C74BBD72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4FA36-095F-4DD4-8BE6-25DCE9AE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2339B-213B-4234-88B2-1DB52EC5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3942-3D75-4C5D-AAF5-B45D8CCD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9D0B-72A4-4A98-869C-0A8522B4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342C-1955-4084-8F76-FA76D16B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1D25-D715-4AD1-BEE2-04B08A9F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ABA-DCDC-4442-BF86-CC7C03C6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B69E-D8D7-49F8-9799-7ECA199A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5C16-654A-435A-A072-3377FDDAA8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7614-84AF-43AA-A912-2A42F211F6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9477-1DCF-4314-83D4-3896960666F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462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Times New Roman"/>
              </a:rPr>
              <a:t>Иду экологической тропой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76CA84C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572000" y="0"/>
            <a:ext cx="4751280" cy="69134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0" y="981000"/>
            <a:ext cx="363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"/>
              </a:rPr>
              <a:t>Найденный гриб- это интересно, поблизости должны быть ещё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3240" y="5661000"/>
            <a:ext cx="881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Юные исследователи работают с определителями растений не только в кабинете, но и на экскур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250920" y="494172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Много плодов рябины- можно будет  понаблюдать за дроздами - рябинни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3600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осень так щедра на крас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това разукрасить всю листв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таком лесу, мне трудно удержатьс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рисовать всю эту красоту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 посещения осеннего леса, школьники рисуют свои впечатления, пишут стих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DSC00373"/>
          <p:cNvPicPr/>
          <p:nvPr/>
        </p:nvPicPr>
        <p:blipFill>
          <a:blip r:embed="rId1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DSC003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0" y="5303880"/>
            <a:ext cx="70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Arial"/>
              </a:rPr>
              <a:t>Станция «Агроценоз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A15A8229"/>
          <p:cNvPicPr/>
          <p:nvPr/>
        </p:nvPicPr>
        <p:blipFill>
          <a:blip r:embed="rId1"/>
          <a:stretch/>
        </p:blipFill>
        <p:spPr>
          <a:xfrm>
            <a:off x="-252360" y="0"/>
            <a:ext cx="975816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1116000" y="422100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Конец маршрута экологической тропы, а сколько впечатлений, собранного материа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A7D0F1A"/>
          <p:cNvPicPr/>
          <p:nvPr/>
        </p:nvPicPr>
        <p:blipFill>
          <a:blip r:embed="rId1"/>
          <a:stretch/>
        </p:blipFill>
        <p:spPr>
          <a:xfrm>
            <a:off x="928800" y="1071720"/>
            <a:ext cx="7143480" cy="53575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857160" y="2142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Начало маршрута</a:t>
            </a:r>
            <a:br>
              <a:rPr sz="2400"/>
            </a:b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Станция  «Палеонтологическ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DSC00365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1042920" y="4581360"/>
            <a:ext cx="656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Меловые карьеры- места палеонтологических наход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DSC003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755640" y="3333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Песчаные карьеры- место изучение почвенного  разр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DSC003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755640" y="522936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Залежи песка- свидетельство геологической истории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апа вк  у"/>
          <p:cNvPicPr/>
          <p:nvPr/>
        </p:nvPicPr>
        <p:blipFill>
          <a:blip r:embed="rId1"/>
          <a:stretch/>
        </p:blipFill>
        <p:spPr>
          <a:xfrm>
            <a:off x="0" y="0"/>
            <a:ext cx="9144000" cy="72993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24000" y="5176800"/>
            <a:ext cx="64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Станция «Зоологическая» начинается с изучения популяции сурков- байба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A958C783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611280" y="1890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каждому исследователю удаётся получить фотографию сурка- байбака, а вот норку его заснять м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7"/>
          <p:cNvSpPr/>
          <p:nvPr/>
        </p:nvSpPr>
        <p:spPr>
          <a:xfrm>
            <a:off x="828720" y="4986360"/>
            <a:ext cx="59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Arial"/>
              </a:rPr>
              <a:t>Станция «Зелёный друг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755640" y="404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носма- редкое растение меловых м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3:40:56Z</dcterms:created>
  <dc:creator>Ольга Васильевна</dc:creator>
  <dc:description/>
  <dc:language>en-US</dc:language>
  <cp:lastModifiedBy>Оля</cp:lastModifiedBy>
  <dcterms:modified xsi:type="dcterms:W3CDTF">2012-12-20T15:35:41Z</dcterms:modified>
  <cp:revision>37</cp:revision>
  <dc:subject/>
  <dc:title>Слайд 1</dc:title>
</cp:coreProperties>
</file>