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845-0B1B-4F18-B287-22AB8C8B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455-91C9-43F7-8AD4-C9501D7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B44-AB6B-4AAB-B04E-A4FCE656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341-F0E6-4EF2-9900-72DB834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BE88-FFC4-40DF-BF6B-A1A4D91A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372-E768-495C-ACA3-C70CF748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FE96-AD94-411A-AAFB-D24033E8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4CDF-E01F-4662-8A5D-1080F77E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262-C7D1-4D3D-918E-5AE23BB7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3FF0-202D-4A44-B649-AF664641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D2E6-8652-439F-A16B-473A2545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3B4-4D9D-47BA-A1FE-7CFB42BE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B228-63B6-4CF2-B16B-AEE9738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57DF-F456-4351-9DDB-99C7D32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1287-35DD-4503-88F0-87C450D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6A61-CCD2-4482-A178-5786AC29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DA89-A3EB-4299-A39F-66ABEE43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C391-DF04-4496-BB0E-A09FAA87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D07F-A701-4F9B-BB50-CD28CF0F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859E-4BED-46C4-8C1B-8EC024B0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A3D8-DF1B-4A75-89BA-D0B669FA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CA33-3DB6-4AF9-9663-C987960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EEB-B6CD-4F38-99F3-C14883FA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3B1D-D040-4334-9E2C-023CB3EC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47B7-AFF2-4D82-95DE-C580BFB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2F81-B33D-49EE-83D6-C5C8EA5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A9DD-A8DE-4CEA-8B3B-AA565AA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5720-985F-4FE4-806D-CA8518C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E74F-D56D-413E-A7FB-B4523D13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307C-C95E-482C-A12F-A2DB3842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397-B32E-44EC-8FE3-061CAA8E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1BA-7A51-4205-8C0D-79613D7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B0A-B109-43F5-A46E-C11F9EA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147-F4BB-4BD0-B37F-010F2366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10D-CF93-4E0C-9C21-C8D5CD3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1FA-01A3-4DDA-B30F-12C18695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D460-821B-4360-9D74-27B748ACD1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E7A-5A0C-4C37-A362-8718B4414B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DB8-15E7-4447-8F0B-B4E1A7214B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6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Times New Roman"/>
              </a:rPr>
              <a:t>Иду экологической тропой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76CA84C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0" y="0"/>
            <a:ext cx="4751280" cy="6913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0" y="981000"/>
            <a:ext cx="363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Найденный гриб- это интересно, поблизости должны быть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240" y="5661000"/>
            <a:ext cx="88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ные исследователи работают с определителями растений не только в кабинете, но и на экс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250920" y="4941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Много плодов рябины- можно будет  понаблюдать за дроздами - рябин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3600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осень так щедра на кра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това разукрасить всю ли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аком лесу, мне трудно удержа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рисовать всю эту красот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посещения осеннего леса, школьники рисуют свои впечатления, пишут сти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DSC00373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SC00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530388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Станция «Агроценоз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A15A8229"/>
          <p:cNvPicPr/>
          <p:nvPr/>
        </p:nvPicPr>
        <p:blipFill>
          <a:blip r:embed="rId1"/>
          <a:stretch/>
        </p:blipFill>
        <p:spPr>
          <a:xfrm>
            <a:off x="-252360" y="0"/>
            <a:ext cx="97581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116000" y="42210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онец маршрута экологической тропы, а сколько впечатлений, собранного материа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7D0F1A"/>
          <p:cNvPicPr/>
          <p:nvPr/>
        </p:nvPicPr>
        <p:blipFill>
          <a:blip r:embed="rId1"/>
          <a:stretch/>
        </p:blipFill>
        <p:spPr>
          <a:xfrm>
            <a:off x="928800" y="1071720"/>
            <a:ext cx="7143480" cy="5357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857160" y="2142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Начало маршрута</a:t>
            </a:r>
            <a:br>
              <a:rPr sz="2400"/>
            </a:b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танция  «Палеонтологиче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0365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042920" y="4581360"/>
            <a:ext cx="65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Меловые карьеры- места палеонтологических нахо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03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755640" y="333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есчаные карьеры- место изучение почвенного  раз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SC003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755640" y="5229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алежи песка- свидетельство геологической истории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апа вк  у"/>
          <p:cNvPicPr/>
          <p:nvPr/>
        </p:nvPicPr>
        <p:blipFill>
          <a:blip r:embed="rId1"/>
          <a:stretch/>
        </p:blipFill>
        <p:spPr>
          <a:xfrm>
            <a:off x="0" y="0"/>
            <a:ext cx="9144000" cy="729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24000" y="517680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танция «Зоологическая» начинается с изучения популяции сурков- байб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A958C78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611280" y="189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каждому исследователю удаётся получить фотографию сурка- байбака, а вот норку его заснять 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828720" y="498636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Станция «Зелёный дру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755640" y="40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носма- редкое растение меловых м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3:40:56Z</dcterms:created>
  <dc:creator>Ольга Васильевна</dc:creator>
  <dc:description/>
  <dc:language>en-US</dc:language>
  <cp:lastModifiedBy>Оля</cp:lastModifiedBy>
  <dcterms:modified xsi:type="dcterms:W3CDTF">2012-12-20T15:35:41Z</dcterms:modified>
  <cp:revision>37</cp:revision>
  <dc:subject/>
  <dc:title>Слайд 1</dc:title>
</cp:coreProperties>
</file>