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5.wmf" ContentType="image/x-wmf"/>
  <Override PartName="/ppt/media/image3.wmf" ContentType="image/x-wmf"/>
  <Override PartName="/ppt/media/image4.wmf" ContentType="image/x-wmf"/>
  <Override PartName="/ppt/media/image6.gif" ContentType="image/gif"/>
  <Override PartName="/ppt/media/image9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B59B-58AC-4CE0-9F59-A59C2D991B7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21B7-7AAC-46A3-876D-73A18D1307A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6194-04F8-4483-80B4-1524535EB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80EC-FFF6-4938-B2CB-42BD81FF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FC4F-05CF-42B2-A9A6-6EECA25C8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968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126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810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968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126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F66B-494E-4765-878B-1788783FF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C909-50EF-49BE-898B-A415476B3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E91E-B816-4496-9B8C-2AD1484F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4043-8DD1-4A70-9BB5-66DC7C22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6E09F-F4C5-412E-8C0A-0A3DFF2F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7F819-ECF9-45AF-9750-6BE42B94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573E-7D6E-4D2D-9B26-81285464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9B7A8-3E37-4572-B71E-374CF5A3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8A83-2C8A-4907-834E-24799B5C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17947-48D9-42A5-985E-546BCA2A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87C9-8744-44F6-866E-4828B46B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CA78-F997-4275-9876-3308B7A1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59FE-6214-4085-B05E-FFA74CB36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968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126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810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1968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126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DE15-AFED-41B1-818D-B0A63FB65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90D5-6C5A-4035-949B-DC389854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ED0A-6FCF-48BD-AC88-4A277AD4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4492-747A-4165-934F-9BE9A4B8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2BA8-335E-4598-8F5F-992EAFD3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47CF-E75C-4472-A566-796758A0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E264-8F7F-4A00-9201-B37C96B7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A03B-A62F-4757-8AC1-0D1E27B4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07B4-4DA0-41BA-8166-685791AA280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1EA9-A159-4B14-B193-8B615D1C2D0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aramond"/>
              </a:rPr>
              <a:t>Лексикографический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Garamond"/>
              </a:rPr>
              <a:t>   портрет    слов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195280" y="3789000"/>
            <a:ext cx="655308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6633"/>
                </a:solidFill>
                <a:latin typeface="Bookman Old Style"/>
              </a:rPr>
              <a:t>экономи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Экономический словарь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3848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ерез две тысячи лет после Ксенофонта и Аристотеля вновь возникла наука о богатстве и обогащении, она получила название 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«политическая экономия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наука о разумном ведении государственного хозяйства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BD05015_"/>
          <p:cNvPicPr/>
          <p:nvPr/>
        </p:nvPicPr>
        <p:blipFill>
          <a:blip r:embed="rId1"/>
          <a:stretch/>
        </p:blipFill>
        <p:spPr>
          <a:xfrm>
            <a:off x="5538960" y="2620800"/>
            <a:ext cx="225720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Словообразование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коном – </a:t>
            </a:r>
            <a:r>
              <a:rPr b="0" lang="ru-RU" sz="3000" spc="-1" strike="noStrike">
                <a:solidFill>
                  <a:srgbClr val="cc9900"/>
                </a:solidFill>
                <a:latin typeface="Arial"/>
              </a:rPr>
              <a:t>ик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- 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коном – </a:t>
            </a:r>
            <a:r>
              <a:rPr b="0" lang="ru-RU" sz="3000" spc="-1" strike="noStrike">
                <a:solidFill>
                  <a:srgbClr val="cc9900"/>
                </a:solidFill>
                <a:latin typeface="Arial"/>
              </a:rPr>
              <a:t>ис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коном – </a:t>
            </a:r>
            <a:r>
              <a:rPr b="0" lang="ru-RU" sz="3000" spc="-1" strike="noStrike">
                <a:solidFill>
                  <a:srgbClr val="cc9900"/>
                </a:solidFill>
                <a:latin typeface="Arial"/>
              </a:rPr>
              <a:t>ич – н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ы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коном – </a:t>
            </a:r>
            <a:r>
              <a:rPr b="0" lang="ru-RU" sz="3000" spc="-1" strike="noStrike">
                <a:solidFill>
                  <a:srgbClr val="cc9900"/>
                </a:solidFill>
                <a:latin typeface="Arial"/>
              </a:rPr>
              <a:t>н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ый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коном – </a:t>
            </a:r>
            <a:r>
              <a:rPr b="0" lang="ru-RU" sz="3000" spc="-1" strike="noStrike">
                <a:solidFill>
                  <a:srgbClr val="cc9900"/>
                </a:solidFill>
                <a:latin typeface="Arial"/>
              </a:rPr>
              <a:t>н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3000" spc="-1" strike="noStrike">
                <a:solidFill>
                  <a:srgbClr val="cc9900"/>
                </a:solidFill>
                <a:latin typeface="Arial"/>
              </a:rPr>
              <a:t>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Употребление слова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600" spc="-1" strike="noStrike">
                <a:solidFill>
                  <a:srgbClr val="006633"/>
                </a:solidFill>
                <a:latin typeface="Arial"/>
              </a:rPr>
              <a:t>Экономик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   (прилагательные) 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мирова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ризисная                                     политическа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циональна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вободна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PE01561_"/>
          <p:cNvPicPr/>
          <p:nvPr/>
        </p:nvPicPr>
        <p:blipFill>
          <a:blip r:embed="rId1"/>
          <a:stretch/>
        </p:blipFill>
        <p:spPr>
          <a:xfrm>
            <a:off x="4648320" y="2522520"/>
            <a:ext cx="403848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Употребление слова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6633"/>
                </a:solidFill>
                <a:uFillTx/>
                <a:latin typeface="Arial"/>
              </a:rPr>
              <a:t>Экономическая</a:t>
            </a:r>
            <a:r>
              <a:rPr b="1" i="1" lang="en-US" sz="2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существительные) -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вобо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у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еор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ре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лити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лока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PE02622_"/>
          <p:cNvPicPr/>
          <p:nvPr/>
        </p:nvPicPr>
        <p:blipFill>
          <a:blip r:embed="rId1"/>
          <a:stretch/>
        </p:blipFill>
        <p:spPr>
          <a:xfrm>
            <a:off x="4140360" y="1916280"/>
            <a:ext cx="4752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ословицы и поговорки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Деньги – дел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наживно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Деньги что вод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Дешево и сердит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bookpen"/>
          <p:cNvPicPr/>
          <p:nvPr/>
        </p:nvPicPr>
        <p:blipFill>
          <a:blip r:embed="rId1"/>
          <a:stretch/>
        </p:blipFill>
        <p:spPr>
          <a:xfrm>
            <a:off x="5435640" y="1916280"/>
            <a:ext cx="2836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Афоризмы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0000"/>
                </a:solidFill>
                <a:latin typeface="Arial"/>
              </a:rPr>
              <a:t>«Всякая 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экономика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0000"/>
                </a:solidFill>
                <a:latin typeface="Arial"/>
              </a:rPr>
              <a:t>в конечном счете сводится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экономии </a:t>
            </a:r>
            <a:r>
              <a:rPr b="0" i="1" lang="en-US" sz="4300" spc="-1" strike="noStrike">
                <a:solidFill>
                  <a:srgbClr val="000000"/>
                </a:solidFill>
                <a:latin typeface="Arial"/>
              </a:rPr>
              <a:t>времени»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Карл Маркс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Конец.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ыполнен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еником 5-б класса Ивановым Дмитрие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ителем русского языка Владимировой           Светланой Борисовной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ОУ СОШ 394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расносельского района СПб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прель 2012 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BS00508_"/>
          <p:cNvPicPr/>
          <p:nvPr/>
        </p:nvPicPr>
        <p:blipFill>
          <a:blip r:embed="rId1"/>
          <a:stretch/>
        </p:blipFill>
        <p:spPr>
          <a:xfrm>
            <a:off x="7050240" y="0"/>
            <a:ext cx="2093760" cy="22096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1219320" y="1859040"/>
            <a:ext cx="579096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33"/>
                </a:solidFill>
                <a:latin typeface="Times New Roman"/>
              </a:rPr>
              <a:t>Что такое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33"/>
                </a:solidFill>
                <a:latin typeface="Times New Roman"/>
              </a:rPr>
              <a:t>экономи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791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    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0" name="Picture 9" descr="AG00013_"/>
          <p:cNvPicPr/>
          <p:nvPr/>
        </p:nvPicPr>
        <p:blipFill>
          <a:blip r:embed="rId2"/>
          <a:stretch/>
        </p:blipFill>
        <p:spPr>
          <a:xfrm>
            <a:off x="7162920" y="5029200"/>
            <a:ext cx="171432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0" lang="en-US" sz="3300" spc="-1" strike="noStrike">
                <a:solidFill>
                  <a:srgbClr val="006633"/>
                </a:solidFill>
                <a:latin typeface="Garamond"/>
              </a:rPr>
              <a:t>Большой энциклопедический словарь.</a:t>
            </a:r>
            <a:br>
              <a:rPr sz="3300"/>
            </a:br>
            <a:br>
              <a:rPr sz="2500"/>
            </a:br>
            <a:br>
              <a:rPr sz="2100"/>
            </a:b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403848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Экономика –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пособ организации деятельности людей, направленный на создание благ, необходимых им для потребления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BS02064_"/>
          <p:cNvPicPr/>
          <p:nvPr/>
        </p:nvPicPr>
        <p:blipFill>
          <a:blip r:embed="rId1"/>
          <a:stretch/>
        </p:blipFill>
        <p:spPr>
          <a:xfrm>
            <a:off x="5807160" y="3011400"/>
            <a:ext cx="172080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33"/>
                </a:solidFill>
                <a:latin typeface="Garamond"/>
              </a:rPr>
              <a:t>Малый энциклопедический словарь Брокгауза и Эфрона.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6633"/>
                </a:solidFill>
                <a:latin typeface="Arial"/>
              </a:rPr>
              <a:t>Экономика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обозначает науку, которая исследует, как люди используют имеющиеся ограниченные ресурсы для удовлетворения своих неограниченных потребностей в жизненных блага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BD04912_"/>
          <p:cNvPicPr/>
          <p:nvPr/>
        </p:nvPicPr>
        <p:blipFill>
          <a:blip r:embed="rId1"/>
          <a:stretch/>
        </p:blipFill>
        <p:spPr>
          <a:xfrm>
            <a:off x="5280120" y="2131920"/>
            <a:ext cx="277344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Современный экономический словарь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812f"/>
                </a:solidFill>
                <a:latin typeface="Arial"/>
              </a:rPr>
              <a:t>Экономик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ука о хозяйстве, способах его ведения людьми, отношениях между людьми в процессе производства и обмена товаров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закономерности протекания хозяйственных процес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6633"/>
                </a:solidFill>
                <a:latin typeface="Garamond"/>
              </a:rPr>
              <a:t>Этимология слова</a:t>
            </a: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.</a:t>
            </a:r>
            <a:br>
              <a:rPr sz="3800"/>
            </a:br>
            <a:r>
              <a:rPr b="0" lang="en-US" sz="2600" spc="-1" strike="noStrike">
                <a:solidFill>
                  <a:srgbClr val="006633"/>
                </a:solidFill>
                <a:latin typeface="Garamond"/>
              </a:rPr>
              <a:t>(Школьный этимологический словарь)</a:t>
            </a:r>
            <a:endParaRPr b="0" lang="en-US" sz="2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звание этой науки, было дано велики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еным Древней Греции Аристотелем путем соединения двух слов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«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эйкос</a:t>
            </a: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»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- хозяйств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«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номос</a:t>
            </a: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»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- закон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.е.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 - в буквальном переводе с древнегреческого означает «законы хозяйства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PE01460_"/>
          <p:cNvPicPr/>
          <p:nvPr/>
        </p:nvPicPr>
        <p:blipFill>
          <a:blip r:embed="rId1"/>
          <a:stretch/>
        </p:blipFill>
        <p:spPr>
          <a:xfrm>
            <a:off x="5219640" y="1273320"/>
            <a:ext cx="2790720" cy="34686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4920" y="836640"/>
            <a:ext cx="46083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еке до н.э. древнегреческий ученый Ксенофонт написал книгу 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«Ойкономия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от слов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ойкос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– дом, хозяйство и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номос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правило, закон), где изложил разумные правила ведения домашнего хозяйства и земледел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Garamond"/>
              </a:rPr>
              <a:t>Книга, сходная по содержанию</a:t>
            </a: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 c </a:t>
            </a:r>
            <a:r>
              <a:rPr b="1" lang="ru-RU" sz="3800" spc="-1" strike="noStrike">
                <a:solidFill>
                  <a:srgbClr val="000000"/>
                </a:solidFill>
                <a:latin typeface="Garamond"/>
              </a:rPr>
              <a:t>«Ойкономией», появилась в России при Иване Грозном и называлась              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«Домострой».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"/>
          <p:cNvSpPr/>
          <p:nvPr/>
        </p:nvSpPr>
        <p:spPr>
          <a:xfrm>
            <a:off x="-5940360" y="2205000"/>
            <a:ext cx="176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Книга, сходная по содержа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bookpen"/>
          <p:cNvPicPr/>
          <p:nvPr/>
        </p:nvPicPr>
        <p:blipFill>
          <a:blip r:embed="rId1"/>
          <a:stretch/>
        </p:blipFill>
        <p:spPr>
          <a:xfrm>
            <a:off x="5292720" y="1125360"/>
            <a:ext cx="2643120" cy="1971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-1862280" y="2565360"/>
            <a:ext cx="1286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1T10:45:41Z</dcterms:created>
  <dc:creator>Дима</dc:creator>
  <dc:description/>
  <dc:language>en-US</dc:language>
  <cp:lastModifiedBy>Дима</cp:lastModifiedBy>
  <dcterms:modified xsi:type="dcterms:W3CDTF">2012-04-23T16:06:00Z</dcterms:modified>
  <cp:revision>3</cp:revision>
  <dc:subject/>
  <dc:title>Лексикографический портрет слова</dc:title>
</cp:coreProperties>
</file>