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6578-9F49-49A0-BE07-A11C1161F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36ED-C879-4528-B199-6B0E4401B7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1B2-19C5-415A-92CA-59C8A9F8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DACB-E8BB-490E-91EC-0BBE1AA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E1E-3071-438A-A8F9-E23F8BCE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1F99-DD84-4174-885C-D171F462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E212-3523-4819-B3DA-8C21CE0D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D013-8E83-4795-8A7F-D1436D2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AEBF-5FA1-4215-BB0B-ED71E494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E81C-FC78-4332-B3EC-25D4DC3A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9837-0C19-41DB-9A5F-78C2231D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4027-D558-4F6E-ADA0-51791C9D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1ADD-9477-4C30-A292-1051D96F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09F-C599-4490-B8CA-8F35B20E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EBCF-BED3-4430-9D31-84CEED0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E3F0-14AB-4BD4-BDB1-900D86A2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47BE-223B-4533-92EC-EE1DD9A2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7CF-D7A6-417E-9581-40AE085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F022-A321-484D-B7D4-0B871CB5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798-BFDF-4703-B6B1-22757726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A85-323C-4015-9D06-848AFCE0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F43-28E8-4452-8BEB-856056D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5D1-8468-4E0D-BC5B-6410F846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F2D-C42A-4B26-BB2F-48E3705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103-447D-4D1D-916B-38D14AD4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99F-3B10-45DA-A62C-245B72F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6B72-00D2-4EFE-90CE-BF9538C20D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9B46-F8A1-460B-BD21-BB007E2991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Лексикографический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   портрет    сло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95280" y="3789000"/>
            <a:ext cx="655308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6633"/>
                </a:solidFill>
                <a:latin typeface="Bookman Old Style"/>
              </a:rPr>
              <a:t>эконом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кономический словарь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рез две тысячи лет после Ксенофонта и Аристотеля вновь возникла наука о богатстве и обогащении, она получила названи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«политическая эконом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наука о разумном ведении государственного хозяйств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BD05015_"/>
          <p:cNvPicPr/>
          <p:nvPr/>
        </p:nvPicPr>
        <p:blipFill>
          <a:blip r:embed="rId1"/>
          <a:stretch/>
        </p:blipFill>
        <p:spPr>
          <a:xfrm>
            <a:off x="5538960" y="2620800"/>
            <a:ext cx="22572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ловообразова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и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ич – 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ы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 –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3000" spc="-1" strike="noStrike">
                <a:solidFill>
                  <a:srgbClr val="cc9900"/>
                </a:solidFill>
                <a:latin typeface="Arial"/>
              </a:rPr>
              <a:t>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потребление сло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Экономи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   (прилагательные) 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р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ризисная                                     политическ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PE01561_"/>
          <p:cNvPicPr/>
          <p:nvPr/>
        </p:nvPicPr>
        <p:blipFill>
          <a:blip r:embed="rId1"/>
          <a:stretch/>
        </p:blipFill>
        <p:spPr>
          <a:xfrm>
            <a:off x="4648320" y="2522520"/>
            <a:ext cx="403848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потребление сло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6633"/>
                </a:solidFill>
                <a:uFillTx/>
                <a:latin typeface="Arial"/>
              </a:rPr>
              <a:t>Экономическая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существительные) -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PE02622_"/>
          <p:cNvPicPr/>
          <p:nvPr/>
        </p:nvPicPr>
        <p:blipFill>
          <a:blip r:embed="rId1"/>
          <a:stretch/>
        </p:blipFill>
        <p:spPr>
          <a:xfrm>
            <a:off x="4140360" y="1916280"/>
            <a:ext cx="47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словицы и поговорк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еньги – де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наживн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еньги что в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Дешево и сердит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ookpen"/>
          <p:cNvPicPr/>
          <p:nvPr/>
        </p:nvPicPr>
        <p:blipFill>
          <a:blip r:embed="rId1"/>
          <a:stretch/>
        </p:blipFill>
        <p:spPr>
          <a:xfrm>
            <a:off x="5435640" y="1916280"/>
            <a:ext cx="283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Афоризмы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«Всякая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в конечном счете сводится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экономии </a:t>
            </a:r>
            <a:r>
              <a:rPr b="0" i="1" lang="en-US" sz="4300" spc="-1" strike="noStrike">
                <a:solidFill>
                  <a:srgbClr val="000000"/>
                </a:solidFill>
                <a:latin typeface="Arial"/>
              </a:rPr>
              <a:t>времени»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Карл Маркс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Конец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ыполне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иком 5-б класса Ивановым Дмитр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ем русского языка Владимировой           Светланой Борисовно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У СОШ 39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осельского района СП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прель 2012 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BS00508_"/>
          <p:cNvPicPr/>
          <p:nvPr/>
        </p:nvPicPr>
        <p:blipFill>
          <a:blip r:embed="rId1"/>
          <a:stretch/>
        </p:blipFill>
        <p:spPr>
          <a:xfrm>
            <a:off x="7050240" y="0"/>
            <a:ext cx="2093760" cy="2209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19320" y="1859040"/>
            <a:ext cx="57909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33"/>
                </a:solidFill>
                <a:latin typeface="Times New Roman"/>
              </a:rPr>
              <a:t>Что тако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33"/>
                </a:solidFill>
                <a:latin typeface="Times New Roman"/>
              </a:rPr>
              <a:t>эконом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791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   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9" descr="AG00013_"/>
          <p:cNvPicPr/>
          <p:nvPr/>
        </p:nvPicPr>
        <p:blipFill>
          <a:blip r:embed="rId2"/>
          <a:stretch/>
        </p:blipFill>
        <p:spPr>
          <a:xfrm>
            <a:off x="7162920" y="5029200"/>
            <a:ext cx="17143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Большой энциклопедический словарь.</a:t>
            </a:r>
            <a:br>
              <a:rPr sz="3300"/>
            </a:br>
            <a:br>
              <a:rPr sz="2500"/>
            </a:br>
            <a:br>
              <a:rPr sz="21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Экономика 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 организации деятельности людей, направленный на создание благ, необходимых им для потребления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BS02064_"/>
          <p:cNvPicPr/>
          <p:nvPr/>
        </p:nvPicPr>
        <p:blipFill>
          <a:blip r:embed="rId1"/>
          <a:stretch/>
        </p:blipFill>
        <p:spPr>
          <a:xfrm>
            <a:off x="5807160" y="3011400"/>
            <a:ext cx="1720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Малый энциклопедический словарь Брокгауза и Эфрона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Экономика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обозначает науку, которая исследует, как люди используют имеющиеся ограниченные ресурсы для удовлетворения своих неограниченных потребностей в жизненных благ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BD04912_"/>
          <p:cNvPicPr/>
          <p:nvPr/>
        </p:nvPicPr>
        <p:blipFill>
          <a:blip r:embed="rId1"/>
          <a:stretch/>
        </p:blipFill>
        <p:spPr>
          <a:xfrm>
            <a:off x="5280120" y="2131920"/>
            <a:ext cx="2773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овременный экономический словарь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Экономи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ука о хозяйстве, способах его ведения людьми, отношениях между людьми в процессе производства и обмена товар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кономерности протекания хозяйственных проце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Этимология слова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3800"/>
            </a:br>
            <a:r>
              <a:rPr b="0" lang="en-US" sz="2600" spc="-1" strike="noStrike">
                <a:solidFill>
                  <a:srgbClr val="006633"/>
                </a:solidFill>
                <a:latin typeface="Garamond"/>
              </a:rPr>
              <a:t>(Школьный этимологический словарь)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звание этой науки, было дано велики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ным Древней Греции Аристотелем путем соединения двух сл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эйкос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«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номос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закон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.е.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- в буквальном переводе с древнегреческого означает «законы хозяйств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PE01460_"/>
          <p:cNvPicPr/>
          <p:nvPr/>
        </p:nvPicPr>
        <p:blipFill>
          <a:blip r:embed="rId1"/>
          <a:stretch/>
        </p:blipFill>
        <p:spPr>
          <a:xfrm>
            <a:off x="5219640" y="1273320"/>
            <a:ext cx="2790720" cy="3468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4608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еке до н.э. древнегреческий ученый Ксенофонт написал книгу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«Ойкономия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от слов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йкос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дом, хозяйство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омо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авило, закон), где изложил разумные правила ведения домашнего хозяйства и земле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Книга, сходная по содержанию</a:t>
            </a: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 c </a:t>
            </a:r>
            <a:r>
              <a:rPr b="1" lang="ru-RU" sz="3800" spc="-1" strike="noStrike">
                <a:solidFill>
                  <a:srgbClr val="000000"/>
                </a:solidFill>
                <a:latin typeface="Garamond"/>
              </a:rPr>
              <a:t>«Ойкономией», появилась в России при Иване Грозном и называлась            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Домострой»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-5940360" y="2205000"/>
            <a:ext cx="17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Книга, сходная по содер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bookpen"/>
          <p:cNvPicPr/>
          <p:nvPr/>
        </p:nvPicPr>
        <p:blipFill>
          <a:blip r:embed="rId1"/>
          <a:stretch/>
        </p:blipFill>
        <p:spPr>
          <a:xfrm>
            <a:off x="5292720" y="1125360"/>
            <a:ext cx="2643120" cy="1971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1862280" y="2565360"/>
            <a:ext cx="128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0:45:41Z</dcterms:created>
  <dc:creator>Дима</dc:creator>
  <dc:description/>
  <dc:language>en-US</dc:language>
  <cp:lastModifiedBy>Дима</cp:lastModifiedBy>
  <dcterms:modified xsi:type="dcterms:W3CDTF">2012-04-23T16:06:00Z</dcterms:modified>
  <cp:revision>3</cp:revision>
  <dc:subject/>
  <dc:title>Лексикографический портрет слова</dc:title>
</cp:coreProperties>
</file>