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ED8CC-C28B-40DB-A5AF-52B345EB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E5206-DB36-4A27-81B6-C88034C9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F27B1-5A24-4196-BCB6-E0FE05E7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6D1C5-5451-49BA-9D47-8AB1BE9A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F2A0-2557-421F-8EB8-110AC9E2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B429-EA85-43C1-99C3-F0BD6EE6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27FF-B625-4500-8350-5685CDF6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E729-55F0-403C-9012-7EA70DE4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A0EA-7223-4D76-A5B3-38B58C03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32B6-3322-499A-8A25-BFE4D75C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A204-55ED-4DBF-8E0E-C8573E58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F0D5B-7604-4A23-8366-ED58B66F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BD30-CB30-439F-82D2-6780595D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64D3-70E0-4E9D-AECA-965D28AF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119A-4B3A-4AB1-94E7-224DD2F5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0E2F-C8C6-475A-99D4-486991D0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C696-4DD1-47A4-AF38-D457FF5E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40E09-73D3-4B0A-BEA1-19799A83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0FB25-ED88-4ED9-9E78-AC7B411E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6A49D-FD5C-4AFC-8275-79AE3202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817AD-AF78-419C-9EAE-8EFDA1BC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33D6D-7519-4C0F-90B0-5856FB56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082CF-1576-497F-B2A2-A4F313D3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8C1E1-850F-4B28-BF84-2EB948A0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505f52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8574a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351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b5a4d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c991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cecb2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7838-89D2-4553-AF7C-56B05F4177F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505f52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d87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48574a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4351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66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65648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50000">
                  <a:srgbClr val="526454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d8771"/>
                </a:gs>
                <a:gs pos="100000">
                  <a:srgbClr val="5668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66858"/>
                </a:gs>
                <a:gs pos="100000">
                  <a:srgbClr val="6d87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6564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65648"/>
                </a:gs>
                <a:gs pos="50000">
                  <a:srgbClr val="4b5a4d"/>
                </a:gs>
                <a:gs pos="100000">
                  <a:srgbClr val="46564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ecb2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ececb2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3A4B-D4A8-4A24-8DCE-976C16A3623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cb2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dc0b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f/fe/&#1052;&#1072;&#1103;&#1082;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ntonowleo.narod.ru/g_3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1/Plakat_mayakowski_gross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v-mayakovsky.com/photo/photo-16big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55.radikal.ru/i149/0910/63/ee0f9e63325b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0/39/39963_15t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ushk-info.ru/netcat_files/3459/3259/h_326b597465f8d378f9d582a26f6d4143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gradpetra.info/photo/005671.jpg" TargetMode="External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ayak.cheb.ru/images/mayakovskiy/image018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1754" t="0" r="0" b="0"/>
          <a:stretch/>
        </p:blipFill>
        <p:spPr>
          <a:xfrm>
            <a:off x="349200" y="304920"/>
            <a:ext cx="4375080" cy="6172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114800" y="1143000"/>
            <a:ext cx="44956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ладими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ладимиро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яков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893-19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Первое опубликованное стихотворение называлось «Ночь»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оно вошло в футуристический сборник «Пощёчин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общественному вкусу». А в 1913 году вышел первый сборни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Маяковского «Я» (цикл из четырёх стихотворений). Он бы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написан от руки, снабжён рисунками Василия Чекрыгина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Льва Жегина и размножен литографическим способ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в количестве 300 экземпляров. В качестве первого раздел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этот сборник вошёл в книгу стихов поэта «Простое ка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мычание» (1916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23880" y="3124080"/>
            <a:ext cx="5715000" cy="3416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190760" y="304920"/>
            <a:ext cx="4724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В этом же году поэт обратился 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драматургии. Была написана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поставлена программна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трагедия «Владимир Маяковс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кий». Сам автор выступи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режиссёром и исполнителе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главной роли. В феврале 1914 г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Маяковский был исключен из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училища за публич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выступления. В  1914—1915 год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Маяковский работал над поэм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«Облако в  штанах». Посл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начала Первой мировой вой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вышло стихотворение «Войн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объявлена». В август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Маяковский решил записаться 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добровольцы, но ему н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позволили, объяснив эт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политическ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неблагонадёжность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Файл:Маяк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762120"/>
            <a:ext cx="3621240" cy="5105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495680" y="533160"/>
            <a:ext cx="42674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В 1915—1917 годах Маяковск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проходил военную службу 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Петрограде в автошкол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Солдатам печататься н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разрешали, но его спас Осип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Брик, который выкупи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поэмы «Флейта-позвоночник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и «Облако в штанах» п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50 копеек за строку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напечатал. Также Маяковск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снимался в фильмах п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собственным сценариям. 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августе 1917 года задума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написать «Мистерию Буфф»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которая была закончена 2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октября 1918 года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поставлена к годовщин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c0b"/>
                </a:solidFill>
                <a:latin typeface="Arial"/>
              </a:rPr>
              <a:t>револю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Картинка 76 из 299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609480"/>
            <a:ext cx="3934080" cy="5334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304920"/>
            <a:ext cx="4343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17 декабря 1918 года поэ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впервые прочёл со сце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Матросского театра стих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«Левый марш». В марте 1919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года он  переезжает в Москву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начинает активно сотруднич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в РОСТА, оформляет (как поэ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и как художник) для РОС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агитационно-сатирическ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плакаты («Окна РОСТА»). В 1919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году вышло первое собр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сочинений поэта — «Всё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сочинённое Владимир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Маяковским. 1909—1919».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1918—1919 годах выступает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газете «Искусство коммуны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В 1920 году закончил пис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поэму «150 000 000», в котор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отражена тема миров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револю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Файл:Plakat mayakowski gros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762120"/>
            <a:ext cx="3809880" cy="5238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0" y="762120"/>
            <a:ext cx="419112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В 1918 году Маяковск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организовал группу «Комфут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(коммунистический футуризм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в 1922 году — издательств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МАФ (Московская ассоциац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футуристов), в котором вышл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несколько его книг. В 1923 год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организовал группу ЛЕФ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(Левый фронт искусств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толстый журнал «ЛЕФ» (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1923—1925 годах вышло сем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номеров). Пропагандирова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Лефовские теори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производственн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искусства, социального заказ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литературы фак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Картинка 10 из 299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762120"/>
            <a:ext cx="3809880" cy="5029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rcRect l="732" t="703" r="1134" b="0"/>
          <a:stretch/>
        </p:blipFill>
        <p:spPr>
          <a:xfrm>
            <a:off x="1066680" y="304920"/>
            <a:ext cx="7086600" cy="6311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44960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В 1922—1924 годах Маяковски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совершил несколько поездок з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границу — Латвия, Франция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Германия; писал очерки и стихи 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европейских впечатлениях. В 1925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году состоялось самое длительно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его путешествие: поездка п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Америке. Маяковский посети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Гавану, Мехико и в тече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трёх месяцев выступал в различны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городах США с чтением стихов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докладов. Позже были написа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стихи и очерк «Моё открыт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Америки». В 1925—1928 годах о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много ездил по Советскому Союзу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выступал в самых разны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аудиториях. В эти годы поэ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опубликовал такие произведения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как «По городам Союза» (1927)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«Рассказ литейщика Иван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Козырева…» (1928) и д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605" b="0"/>
          <a:stretch/>
        </p:blipFill>
        <p:spPr>
          <a:xfrm>
            <a:off x="4724280" y="369720"/>
            <a:ext cx="4035600" cy="5954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190760" y="345600"/>
            <a:ext cx="4647960" cy="61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В 1922—1926 годах активн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сотрудничал в «Известиях», в 1926—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1929 годах — в «Комсомольско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правде». Печатался в журналах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«Новый мир», «Молодая гвардия»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«Огонёк», «Крокодил»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«Красная нива» и др. Работа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в агитке и рекламе, за чт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подвергался критике. В 1927 году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восстановил журнал ЛЕФ под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названием «Новый ЛЕФ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Всего вышло 24 номера. Лет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1928 года Маяковский разочаровалс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в ЛЕФе и ушёл из организации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журнала. В этом же году он нача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писать свою личную биографи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«Я сам». С 8 октября по 8 декабря —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поездка за границу, по маршруту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Берлин — Париж. В 1929 году поэ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организовал группу «РЕФ», но уже 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феврале 1930 года ушёл из неё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c0b"/>
                </a:solidFill>
                <a:latin typeface="Arial"/>
              </a:rPr>
              <a:t>вступив в РАПП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12996" t="0" r="14620" b="0"/>
          <a:stretch/>
        </p:blipFill>
        <p:spPr>
          <a:xfrm>
            <a:off x="581040" y="304920"/>
            <a:ext cx="3397320" cy="6172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80880" y="3581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В своих произведениях Маяковский был бескомпромис-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сен, поэтому и неудобен. В произведениях, написанных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им в конце 1920-х годов, стали возникать трагические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мотивы. Критики называли его лишь «попутчиком», а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не «пролетарским писателем», каким он себя хотел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видеть. В 1929 году он пытался провести выставку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посвящённую 20-летию творчества, но ему всяческ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мешали. Личная жизнь поэта тоже обострилась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1644" t="3120" r="569" b="2265"/>
          <a:stretch/>
        </p:blipFill>
        <p:spPr>
          <a:xfrm>
            <a:off x="2133720" y="152280"/>
            <a:ext cx="4647960" cy="3335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8394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Именно эти причины могли привести к тому, что 14 апреля 193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года в 10:15 утра Маяковский покончил с собой выстрелом 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сердце из револьвера. Это произошло в Москве, в доме № 3 п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Лубянскому проезду, кв. № 12. С 15 по 17 апреля через зал Клуб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писателей, где был выставлен гроб с телом поэта, прошло ст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пятьдесят тысяч человек. 17 апреля состоялся траурный митинг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похорон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Картинка 8 из 269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2668680"/>
            <a:ext cx="5867640" cy="3732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809880" y="457200"/>
            <a:ext cx="50292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Владимир Маяков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родился в селе Багдади 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Грузии (Российская империя) 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семье </a:t>
            </a:r>
            <a:r>
              <a:rPr b="1" i="1" lang="ru-RU" sz="2400" spc="-1" strike="noStrike">
                <a:solidFill>
                  <a:srgbClr val="ffdc0b"/>
                </a:solidFill>
                <a:latin typeface="Arial"/>
              </a:rPr>
              <a:t>Владимира Константи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dc0b"/>
                </a:solidFill>
                <a:latin typeface="Arial"/>
              </a:rPr>
              <a:t>новича Маяковского</a:t>
            </a: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служившего лесничим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третьего разряда 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Эриванской губернии. М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поэта, </a:t>
            </a:r>
            <a:r>
              <a:rPr b="1" i="1" lang="ru-RU" sz="2400" spc="-1" strike="noStrike">
                <a:solidFill>
                  <a:srgbClr val="ffdc0b"/>
                </a:solidFill>
                <a:latin typeface="Arial"/>
              </a:rPr>
              <a:t>Александра Алексеев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dc0b"/>
                </a:solidFill>
                <a:latin typeface="Arial"/>
              </a:rPr>
              <a:t>Павленко</a:t>
            </a: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, из рода кубанских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казаков, родилась на Кубан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Также у него было две  сестр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Людмила и Ольга и бра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Константин, который умер 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трёхлетнем возрасте о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c0b"/>
                </a:solidFill>
                <a:latin typeface="Arial"/>
              </a:rPr>
              <a:t>скарлат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19040" y="304920"/>
            <a:ext cx="3162240" cy="5410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91760" y="5790240"/>
            <a:ext cx="309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9916"/>
                </a:solidFill>
                <a:latin typeface="Arial"/>
              </a:rPr>
              <a:t>Володя Маяковск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9916"/>
                </a:solidFill>
                <a:latin typeface="Arial"/>
              </a:rPr>
              <a:t>с сестрой Олей. 1896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409720" y="685800"/>
            <a:ext cx="2971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dc0b"/>
                </a:solidFill>
                <a:latin typeface="Tahoma"/>
              </a:rPr>
              <a:t>Могила Маяковс-</a:t>
            </a:r>
            <a:br>
              <a:rPr sz="4200"/>
            </a:br>
            <a:r>
              <a:rPr b="0" lang="ru-RU" sz="4200" spc="-1" strike="noStrike">
                <a:solidFill>
                  <a:srgbClr val="ffdc0b"/>
                </a:solidFill>
                <a:latin typeface="Tahoma"/>
              </a:rPr>
              <a:t>кого в Москве на Новоде-</a:t>
            </a:r>
            <a:br>
              <a:rPr sz="4200"/>
            </a:br>
            <a:r>
              <a:rPr b="0" lang="ru-RU" sz="4200" spc="-1" strike="noStrike">
                <a:solidFill>
                  <a:srgbClr val="ffdc0b"/>
                </a:solidFill>
                <a:latin typeface="Tahoma"/>
              </a:rPr>
              <a:t>вичьем кладбище</a:t>
            </a:r>
            <a:endParaRPr b="0" lang="en-US" sz="4200" spc="-1" strike="noStrike">
              <a:solidFill>
                <a:srgbClr val="ececb2"/>
              </a:solidFill>
              <a:latin typeface="Tahoma"/>
            </a:endParaRPr>
          </a:p>
        </p:txBody>
      </p:sp>
      <p:pic>
        <p:nvPicPr>
          <p:cNvPr id="1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04920"/>
            <a:ext cx="4572000" cy="6095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Картинка 6 из 6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304920"/>
            <a:ext cx="2228760" cy="2971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Картинка 8 из 67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3808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Картинка 29 из 29906"/>
          <p:cNvPicPr/>
          <p:nvPr/>
        </p:nvPicPr>
        <p:blipFill>
          <a:blip r:embed="rId5"/>
          <a:stretch/>
        </p:blipFill>
        <p:spPr>
          <a:xfrm>
            <a:off x="685800" y="251460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c0b"/>
                </a:solidFill>
                <a:latin typeface="Tahoma"/>
              </a:rPr>
              <a:t>Памятники Маяковскому</a:t>
            </a:r>
            <a:endParaRPr b="0" lang="en-US" sz="4800" spc="-1" strike="noStrike">
              <a:solidFill>
                <a:srgbClr val="ececb2"/>
              </a:solidFill>
              <a:latin typeface="Tahoma"/>
            </a:endParaRPr>
          </a:p>
        </p:txBody>
      </p:sp>
      <p:pic>
        <p:nvPicPr>
          <p:cNvPr id="173" name="" descr="Картинка 10 из 671"/>
          <p:cNvPicPr/>
          <p:nvPr/>
        </p:nvPicPr>
        <p:blipFill>
          <a:blip r:embed="rId6"/>
          <a:stretch/>
        </p:blipFill>
        <p:spPr>
          <a:xfrm>
            <a:off x="3505320" y="609480"/>
            <a:ext cx="2995560" cy="2028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Картинка 22 из 671"/>
          <p:cNvPicPr/>
          <p:nvPr/>
        </p:nvPicPr>
        <p:blipFill>
          <a:blip r:embed="rId7"/>
          <a:stretch/>
        </p:blipFill>
        <p:spPr>
          <a:xfrm>
            <a:off x="6153120" y="2743200"/>
            <a:ext cx="2000160" cy="2666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Картинка 147 из 26987"/>
          <p:cNvPicPr/>
          <p:nvPr/>
        </p:nvPicPr>
        <p:blipFill>
          <a:blip r:embed="rId8"/>
          <a:stretch/>
        </p:blipFill>
        <p:spPr>
          <a:xfrm>
            <a:off x="3048120" y="2754360"/>
            <a:ext cx="3047760" cy="2255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40960" y="2286360"/>
            <a:ext cx="332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c0b"/>
                </a:solidFill>
                <a:latin typeface="Arial"/>
              </a:rPr>
              <a:t>Доч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c0b"/>
                </a:solidFill>
                <a:latin typeface="Arial"/>
              </a:rPr>
              <a:t>Маяковского -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dc0b"/>
                </a:solidFill>
                <a:latin typeface="Arial"/>
              </a:rPr>
              <a:t>Патриц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dc0b"/>
                </a:solidFill>
                <a:latin typeface="Arial"/>
              </a:rPr>
              <a:t>Томпсон</a:t>
            </a:r>
            <a:r>
              <a:rPr b="0" i="1" lang="en-US" sz="1800" spc="-1" strike="noStrike">
                <a:solidFill>
                  <a:srgbClr val="ffdc0b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4284720" cy="5334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952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dc0b"/>
                </a:solidFill>
                <a:latin typeface="Arial"/>
              </a:rPr>
              <a:t>Монета с изображением В.В.Маяковского</a:t>
            </a:r>
            <a:endParaRPr b="0" lang="en-US" sz="3800" spc="-1" strike="noStrike">
              <a:solidFill>
                <a:srgbClr val="ececb2"/>
              </a:solidFill>
              <a:latin typeface="Tahoma"/>
            </a:endParaRPr>
          </a:p>
        </p:txBody>
      </p:sp>
      <p:pic>
        <p:nvPicPr>
          <p:cNvPr id="179" name="" descr="Картинка 42 из 29906"/>
          <p:cNvPicPr/>
          <p:nvPr/>
        </p:nvPicPr>
        <p:blipFill>
          <a:blip r:embed="rId1"/>
          <a:stretch/>
        </p:blipFill>
        <p:spPr>
          <a:xfrm>
            <a:off x="914400" y="641520"/>
            <a:ext cx="7391520" cy="3854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09480" y="1752480"/>
            <a:ext cx="7239240" cy="28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4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е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205240" y="914400"/>
            <a:ext cx="3100680" cy="4724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888840" y="914400"/>
            <a:ext cx="3111840" cy="4724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6960" y="5713560"/>
            <a:ext cx="44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Владимир Константинови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Маяковск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04920" y="5729400"/>
            <a:ext cx="394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Александра Алексеев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Павленко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9916"/>
                </a:solidFill>
                <a:latin typeface="Tahoma"/>
              </a:rPr>
              <a:t>Родители Маяковского</a:t>
            </a:r>
            <a:endParaRPr b="0" lang="en-US" sz="4800" spc="-1" strike="noStrike">
              <a:solidFill>
                <a:srgbClr val="ececb2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673" t="733" r="673" b="997"/>
          <a:stretch/>
        </p:blipFill>
        <p:spPr>
          <a:xfrm>
            <a:off x="762120" y="409680"/>
            <a:ext cx="7696080" cy="5457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62120" y="5958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0b"/>
                </a:solidFill>
                <a:latin typeface="Arial"/>
              </a:rPr>
              <a:t>Село Багдади – родина В. В. Маяковск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4391" t="736" r="1653" b="998"/>
          <a:stretch/>
        </p:blipFill>
        <p:spPr>
          <a:xfrm>
            <a:off x="914400" y="304920"/>
            <a:ext cx="7391520" cy="5597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76280" y="5958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0b"/>
                </a:solidFill>
                <a:latin typeface="Arial"/>
              </a:rPr>
              <a:t>Дом, где родился В. В. Маяков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267080" y="762120"/>
            <a:ext cx="47246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В 1902 году Маяковск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поступил в гимназию 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Кутаиси. В июле 1906 года о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заражения крови умер е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отец. После похорон отц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Маяковский вместе 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матерью и сёстр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переехал в Москву, гд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поступил в IV класс 5-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классической гимназ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(ныне московская шко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№ </a:t>
            </a: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91). В марте 1908 года бы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исключён из V  класса з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c0b"/>
                </a:solidFill>
                <a:latin typeface="Arial"/>
              </a:rPr>
              <a:t>неуплату за обуч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Картинка 43 из 299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533520"/>
            <a:ext cx="3990960" cy="5486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518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182680" y="6021360"/>
            <a:ext cx="47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c0b"/>
                </a:solidFill>
                <a:latin typeface="Arial"/>
              </a:rPr>
              <a:t>Кутаисская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dc0b"/>
                </a:solidFill>
                <a:latin typeface="Arial"/>
              </a:rPr>
              <a:t>гимназ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343400" y="38052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В Москве Маяковск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познакомился с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революционно настроенными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студентами, начал увлекаться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марксистской литературой, в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1908году вступил в РСДРП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Был пропагандистом в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торгово-промышленном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подрайоне, в 1908-9 годах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трижды арестовывался. В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тюрьме  Маяковский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«скандалил»,  поэтому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его часто переводили из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части в часть: Басманная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Мещанская, Мясницкая и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наконец, Бутырская тюрьма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где он  провёл 11 месяцев в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dc0b"/>
                </a:solidFill>
                <a:latin typeface="Arial"/>
              </a:rPr>
              <a:t>одиночной камере № 103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rcRect l="4318" t="2969" r="6303" b="2227"/>
          <a:stretch/>
        </p:blipFill>
        <p:spPr>
          <a:xfrm>
            <a:off x="352440" y="1447920"/>
            <a:ext cx="3838680" cy="3962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87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rcRect l="1120" t="1872" r="1333" b="2690"/>
          <a:stretch/>
        </p:blipFill>
        <p:spPr>
          <a:xfrm>
            <a:off x="1295280" y="228600"/>
            <a:ext cx="6400800" cy="375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28600" y="4022640"/>
            <a:ext cx="8763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Из тюрьмы после третьего ареста он был освобожден в январе 1910 года. Начал обучение в подготовительном классе Строгановского училища, в студиях художников С. Ю. Жуковского и П. И. Келина.В 1911 году поступил в </a:t>
            </a:r>
            <a:r>
              <a:rPr b="1" i="1" lang="ru-RU" sz="2000" spc="-1" strike="noStrike">
                <a:solidFill>
                  <a:srgbClr val="ffdc0b"/>
                </a:solidFill>
                <a:latin typeface="Arial"/>
              </a:rPr>
              <a:t>Московское училище живописи, ваяния и зодчества</a:t>
            </a:r>
            <a:r>
              <a:rPr b="1" lang="ru-RU" sz="2000" spc="-1" strike="noStrike">
                <a:solidFill>
                  <a:srgbClr val="ffdc0b"/>
                </a:solidFill>
                <a:latin typeface="Arial"/>
              </a:rPr>
              <a:t> — единственное место, куда приняли без свидетельства о благонадёжности. Познакомившись с Давидом Бурлюком, основателем футуристической группы «Гилея», вошёл в поэтический кру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4-09T06:12:37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