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8F2A-2F25-49C1-AC2A-9145F3E9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AFE0-5937-454D-8BAC-8D0DFC6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3DFD-D036-4727-9AAA-3CADCA95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827F-A55D-4981-9A37-AA107263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21F-BE15-4C3F-A360-933437A4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E10A-31BE-42DC-9630-916F0288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DBAE-EF5C-4912-B2C3-718B83A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D2B6-3C3A-43AC-819D-3E517F2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8887-2B7D-4B27-ACE5-1E0EF3C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2A2-2453-4025-854E-50ABF75E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19ED-6DA0-4FCE-A49A-7513F26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31CF-3FAC-4386-887B-9B3779B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B9A-81EE-4F7A-9634-5BCCFEF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3405-EE4D-435A-BB91-BCB4A74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A38F-A4D6-4613-933A-06B930C3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E2F2-9954-4C4B-A4AA-7576C02C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82C-7321-40BD-A4D0-DE65020C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43530-B3EA-4653-8954-64A01EA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E3AB6-C31B-447C-A3EB-6DFFCAB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C8BC-85AE-44FA-A30A-AD5A0D4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4232-5C71-4BD6-87A8-C70569F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72B7-DF2A-4502-BC98-E16E8F1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9817-F813-4B33-8CB0-5B86F9AA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045C-0E40-45FB-9BA0-85D57BB6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5085-07C0-49A0-A5FE-07C170C52B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907-6D44-4B24-9FBA-43CE788AAA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f/fe/&#1052;&#1072;&#1103;&#1082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tonowleo.narod.ru/g_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Plakat_mayakowski_gros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-mayakovsky.com/photo/photo-16bi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55.radikal.ru/i149/0910/63/ee0f9e63325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0/39/39963_15t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ushk-info.ru/netcat_files/3459/3259/h_326b597465f8d378f9d582a26f6d4143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radpetra.info/photo/005671.jpg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yak.cheb.ru/images/mayakovskiy/image01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754" t="0" r="0" b="0"/>
          <a:stretch/>
        </p:blipFill>
        <p:spPr>
          <a:xfrm>
            <a:off x="349200" y="304920"/>
            <a:ext cx="4375080" cy="617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114800" y="1143000"/>
            <a:ext cx="4495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я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93-19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ервое опубликованное стихотворение называлось «Ночь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но вошло в футуристический сборник «Пощёчи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бщественному вкусу». А в 1913 году вышел первый сбо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ого «Я» (цикл из четырёх стихотворений). Он бы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писан от руки, снабжён рисунками Василия Чекрыгин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ьва Жегина и размножен литографическим способ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количестве 300 экземпляров. В качестве первого разде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этот сборник вошёл в книгу стихов поэта «Простое ка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ычание» (191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41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190760" y="3049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этом же году поэт обратился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драматургии. Была написан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ставлена программ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трагедия «Владимир Маяковс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кий». Сам автор выступ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режиссёром и исполнител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лавной роли. В феврале 1914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был исключен и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училища за публич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ыступления. В  1914—1915 год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работал над поэ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«Облако в  штанах». Пос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чала Первой мировой во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ышло стихотворение «Вой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бъявлена». В авгус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решил записаться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добровольцы, но ему 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зволили, объяснив э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литиче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еблагонадё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Файл:Маяк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762120"/>
            <a:ext cx="3621240" cy="5105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495680" y="533160"/>
            <a:ext cx="4267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В 1915—1917 годах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роходил военную службу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етрограде в автошкол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олдатам печататься 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разрешали, но его спас Оси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Брик, который выкуп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оэмы «Флейта-позвоночни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и «Облако в штанах»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50 копеек за строку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напечатал. Также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нимался в фильмах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обственным сценариям.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августе 1917 года задум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написать «Мистерию Буфф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которая была закончена 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октября 1918 год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оставлена к годовщи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Картинка 76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09480"/>
            <a:ext cx="393408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04920"/>
            <a:ext cx="4343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7 декабря 1918 года поэ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первые прочёл со сц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тросского театра стих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«Левый марш». В марте 191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а он  переезжает в Москв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чинает активно сотруднич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РОСТА, оформляет (как поэ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 как художник) для РО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агитационно-сатир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лакаты («Окна РОСТА»). В 191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у вышло первое собр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очинений поэта — «Всё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очинённое Владимир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м. 1909—1919».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918—1919 годах выступает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азете «Искусство коммуны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20 году закончил пис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эму «150 000 000», в котор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тражена тема мир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Файл:Plakat mayakowski g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523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0" y="762120"/>
            <a:ext cx="4191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18 году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рганизовал группу «Комфут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(коммунистический футуриз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22 году — изда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Ф (Московская ассоци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футуристов), в котором вышл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есколько его книг. В 1923 го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рганизовал группу ЛЕФ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(Левый фронт искусств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толстый журнал «ЛЕФ» (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923—1925 годах вышло сем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омеров). Пропагандир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ефовские теор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роизводст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скусства, социального зака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итературы фа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Картинка 10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732" t="703" r="1134" b="0"/>
          <a:stretch/>
        </p:blipFill>
        <p:spPr>
          <a:xfrm>
            <a:off x="1066680" y="304920"/>
            <a:ext cx="7086600" cy="6311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44960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1922—1924 годах Маяков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овершил несколько поездок з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раницу — Латвия, Франц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ермания; писал очерки и стих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европейских впечатлениях. В 192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оду состоялось самое дли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его путешествие: поездка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мерике. Маяковский посет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авану, Мехико и в теч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трёх месяцев выступал в различ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ородах США с чтением стихов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докладов. Позже были напис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тихи и очерк «Моё откры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мерики». В 1925—1928 годах о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много ездил по Советскому Союз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ыступал в самых раз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удиториях. В эти годы поэ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опубликовал такие произвед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как «По городам Союза» (1927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Рассказ литейщика Ив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Козырева…» (1928)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605" b="0"/>
          <a:stretch/>
        </p:blipFill>
        <p:spPr>
          <a:xfrm>
            <a:off x="4724280" y="369720"/>
            <a:ext cx="4035600" cy="5954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190760" y="345600"/>
            <a:ext cx="46479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1922—1926 годах активн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отрудничал в «Известиях», в 1926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1929 годах — в «Комсомоль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равде». Печатался в журналах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Новый мир», «Молодая гвардия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Огонёк», «Крокодил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Красная нива» и др. Работа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агитке и рекламе, за чт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одвергался критике. В 1927 го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осстановил журнал ЛЕФ п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названием «Новый ЛЕФ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сего вышло 24 номера. Ле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1928 года Маяковский разочаровал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ЛЕФе и ушёл из организации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журнала. В этом же году он нач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исать свою личную биограф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Я сам». С 8 октября по 8 декабря —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оездка за границу, по маршрут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Берлин — Париж. В 1929 году поэ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организовал группу «РЕФ», но уж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феврале 1930 года ушёл из неё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ступив в РАП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2996" t="0" r="14620" b="0"/>
          <a:stretch/>
        </p:blipFill>
        <p:spPr>
          <a:xfrm>
            <a:off x="581040" y="304920"/>
            <a:ext cx="3397320" cy="6172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 своих произведениях Маяковский был бескомпромис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сен, поэтому и неудобен. В произведениях, написанн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им в конце 1920-х годов, стали возникать трагически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отивы. Критики называли его лишь «попутчиком», 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не «пролетарским писателем», каким он себя хотел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идеть. В 1929 году он пытался провести выставк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свящённую 20-летию творчества, но ему всячес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ешали. Личная жизнь поэта тоже обострила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644" t="3120" r="569" b="2265"/>
          <a:stretch/>
        </p:blipFill>
        <p:spPr>
          <a:xfrm>
            <a:off x="2133720" y="152280"/>
            <a:ext cx="4647960" cy="333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менно эти причины могли привести к тому, что 14 апреля 19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а в 10:15 утра Маяковский покончил с собой выстрелом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ердце из револьвера. Это произошло в Москве, в доме № 3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убянскому проезду, кв. № 12. С 15 по 17 апреля через зал Клу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исателей, где был выставлен гроб с телом поэта, прошло с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ятьдесят тысяч человек. 17 апреля состоялся траурный митинг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хоро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8 из 26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668680"/>
            <a:ext cx="5867640" cy="373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9880" y="457200"/>
            <a:ext cx="5029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родился в селе Багдади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Грузии (Российская империя)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емье </a:t>
            </a: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Владимира Констант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новича Маяковского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лужившего лесничи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ретьего разряда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Эриванской губернии. М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поэта, </a:t>
            </a: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, из рода кубанск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казаков, родилась на Куб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акже у него было две  сест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Людмила и Ольга и бр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Константин, который умер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рёхлетнем возрасте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карлат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316224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1760" y="5790240"/>
            <a:ext cx="30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Arial"/>
              </a:rPr>
              <a:t>Володя Маяков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Arial"/>
              </a:rPr>
              <a:t>с сестрой Олей. 189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09720" y="68580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Могила Маяковс-</a:t>
            </a:r>
            <a:br>
              <a:rPr sz="4200"/>
            </a:b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кого в Москве на Новоде-</a:t>
            </a:r>
            <a:br>
              <a:rPr sz="4200"/>
            </a:b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вичьем кладбище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артинка 6 из 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049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8 из 6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80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29 из 29906"/>
          <p:cNvPicPr/>
          <p:nvPr/>
        </p:nvPicPr>
        <p:blipFill>
          <a:blip r:embed="rId5"/>
          <a:stretch/>
        </p:blipFill>
        <p:spPr>
          <a:xfrm>
            <a:off x="685800" y="25146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c0b"/>
                </a:solidFill>
                <a:latin typeface="Tahoma"/>
              </a:rPr>
              <a:t>Памятники Маяковскому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73" name="" descr="Картинка 10 из 671"/>
          <p:cNvPicPr/>
          <p:nvPr/>
        </p:nvPicPr>
        <p:blipFill>
          <a:blip r:embed="rId6"/>
          <a:stretch/>
        </p:blipFill>
        <p:spPr>
          <a:xfrm>
            <a:off x="3505320" y="609480"/>
            <a:ext cx="299556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22 из 671"/>
          <p:cNvPicPr/>
          <p:nvPr/>
        </p:nvPicPr>
        <p:blipFill>
          <a:blip r:embed="rId7"/>
          <a:stretch/>
        </p:blipFill>
        <p:spPr>
          <a:xfrm>
            <a:off x="615312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147 из 26987"/>
          <p:cNvPicPr/>
          <p:nvPr/>
        </p:nvPicPr>
        <p:blipFill>
          <a:blip r:embed="rId8"/>
          <a:stretch/>
        </p:blipFill>
        <p:spPr>
          <a:xfrm>
            <a:off x="3048120" y="2754360"/>
            <a:ext cx="3047760" cy="2255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40960" y="2286360"/>
            <a:ext cx="332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c0b"/>
                </a:solidFill>
                <a:latin typeface="Arial"/>
              </a:rPr>
              <a:t>Доч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c0b"/>
                </a:solidFill>
                <a:latin typeface="Arial"/>
              </a:rPr>
              <a:t>Маяковского 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c0b"/>
                </a:solidFill>
                <a:latin typeface="Arial"/>
              </a:rPr>
              <a:t>Патри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c0b"/>
                </a:solidFill>
                <a:latin typeface="Arial"/>
              </a:rPr>
              <a:t>Томпсон</a:t>
            </a:r>
            <a:r>
              <a:rPr b="0" i="1" lang="en-US" sz="1800" spc="-1" strike="noStrike">
                <a:solidFill>
                  <a:srgbClr val="ffdc0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28472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c0b"/>
                </a:solidFill>
                <a:latin typeface="Arial"/>
              </a:rPr>
              <a:t>Монета с изображением В.В.Маяковского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79" name="" descr="Картинка 42 из 29906"/>
          <p:cNvPicPr/>
          <p:nvPr/>
        </p:nvPicPr>
        <p:blipFill>
          <a:blip r:embed="rId1"/>
          <a:stretch/>
        </p:blipFill>
        <p:spPr>
          <a:xfrm>
            <a:off x="914400" y="641520"/>
            <a:ext cx="7391520" cy="3854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480" y="1752480"/>
            <a:ext cx="723924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205240" y="914400"/>
            <a:ext cx="3100680" cy="472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88840" y="914400"/>
            <a:ext cx="3111840" cy="4724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6960" y="5713560"/>
            <a:ext cx="44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Владимир Константин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яков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4920" y="5729400"/>
            <a:ext cx="39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авленк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9916"/>
                </a:solidFill>
                <a:latin typeface="Tahoma"/>
              </a:rPr>
              <a:t>Родители Маяковского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673" t="733" r="673" b="997"/>
          <a:stretch/>
        </p:blipFill>
        <p:spPr>
          <a:xfrm>
            <a:off x="762120" y="409680"/>
            <a:ext cx="7696080" cy="545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5958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Село Багдади – родина В. В. Маяк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4391" t="736" r="1653" b="998"/>
          <a:stretch/>
        </p:blipFill>
        <p:spPr>
          <a:xfrm>
            <a:off x="914400" y="304920"/>
            <a:ext cx="7391520" cy="559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6280" y="5958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Дом, где родился В. В. Мая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267080" y="762120"/>
            <a:ext cx="4724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В 1902 году Маяк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оступил в гимназию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Кутаиси. В июле 1906 года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заражения крови умер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отец. После похорон отц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яковский вместе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терью и сёст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ереехал в Москву, г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оступил в IV класс 5-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классической гимназ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(ныне московская шк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№ 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91). В марте 1908 года б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исключён из V  класса 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неуплату за обу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Картинка 43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520"/>
            <a:ext cx="3990960" cy="54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518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82680" y="6021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Кутаисская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гимна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343400" y="38052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 Москве Маяковс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знакомился с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революционно настроенным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студентами, начал увлекатьс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арксистской литературой,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1908году вступил в РСДРП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Был пропагандистом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оргово-промышленн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драйоне, в 1908-9 года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рижды арестовывался.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юрьме  Маяковски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«скандалил»,  поэтому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его часто переводили из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части в часть: Басманная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ещанская, Мясницкая 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наконец, Бутырская тюрьм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где он  провёл 11 месяцев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одиночной камере № 103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4318" t="2969" r="6303" b="2227"/>
          <a:stretch/>
        </p:blipFill>
        <p:spPr>
          <a:xfrm>
            <a:off x="352440" y="1447920"/>
            <a:ext cx="3838680" cy="3962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1120" t="1872" r="1333" b="2690"/>
          <a:stretch/>
        </p:blipFill>
        <p:spPr>
          <a:xfrm>
            <a:off x="1295280" y="228600"/>
            <a:ext cx="640080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4022640"/>
            <a:ext cx="876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з тюрьмы после третьего ареста он был освобожден в январе 1910 года. Начал обучение в подготовительном классе Строгановского училища, в студиях художников С. Ю. Жуковского и П. И. Келина.В 1911 году поступил в </a:t>
            </a:r>
            <a:r>
              <a:rPr b="1" i="1" lang="ru-RU" sz="2000" spc="-1" strike="noStrike">
                <a:solidFill>
                  <a:srgbClr val="ffdc0b"/>
                </a:solidFill>
                <a:latin typeface="Arial"/>
              </a:rPr>
              <a:t>Московское училище живописи, ваяния и зодчества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 — единственное место, куда приняли без свидетельства о благонадёжности. Познакомившись с Давидом Бурлюком, основателем футуристической группы «Гилея», вошёл в поэтический кр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09T06:12:37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