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551C-D102-4830-ABC0-ABB9F797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127D-1614-4F41-B8B3-55F069A7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8F8-4A37-42BB-9A88-13B61CA2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96CE-1127-450B-9C50-291F40B0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320F-BB05-4C2C-B086-A0AD422B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933A-E079-49A9-BC5B-619DAD6F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F270-AAF2-445C-8F9F-2FA3DF3D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1AF4-0C6F-4340-8C92-B4AE01C0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EF1C-8505-4B34-9D32-50E28254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0080-14DC-44DF-9130-D2715DDD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846B-CE51-4E9E-A9B7-DE83E889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03FD-8389-4742-9E01-5E1AE0CD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2579-0EA2-4209-AD67-4C41AE2668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285560"/>
            <a:ext cx="7529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средняя общеобразовательная школа №4 ст.Атаманской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муниципальное образование Павловский райо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85720"/>
            <a:ext cx="612936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атериал на конкурс презентаций трудовых династий «Имя свое крепи делами своими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ематика конкурсного материала: «Старейшая трудовая династия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бота выполнена учителем начальных классов МБОУ СОШ №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Хабибуллиной  Людмилой Михайловн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14292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руду и честь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485784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, которую выполняешь с удовольствием, всегда делаешь легко, не испытывая усталости, не замечая времени, которое на нее потраче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6" descr="C:\Users\Пользователь\Desktop\горбенко\Рисунок (20).jpg"/>
          <p:cNvPicPr/>
          <p:nvPr/>
        </p:nvPicPr>
        <p:blipFill>
          <a:blip r:embed="rId1"/>
          <a:stretch/>
        </p:blipFill>
        <p:spPr>
          <a:xfrm>
            <a:off x="2286000" y="714240"/>
            <a:ext cx="46432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ве сахарной свек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6" descr="C:\Users\Пользователь\AppData\Local\Microsoft\Windows\Temporary Internet Files\Content.Word\Рисунок (16).jpg"/>
          <p:cNvPicPr/>
          <p:nvPr/>
        </p:nvPicPr>
        <p:blipFill>
          <a:blip r:embed="rId1"/>
          <a:stretch/>
        </p:blipFill>
        <p:spPr>
          <a:xfrm>
            <a:off x="2857680" y="1785960"/>
            <a:ext cx="37144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ормка озимой пшен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7" descr="C:\Users\Пользователь\AppData\Local\Microsoft\Windows\Temporary Internet Files\Content.Word\Рисунок (18).jpg"/>
          <p:cNvPicPr/>
          <p:nvPr/>
        </p:nvPicPr>
        <p:blipFill>
          <a:blip r:embed="rId1"/>
          <a:stretch/>
        </p:blipFill>
        <p:spPr>
          <a:xfrm>
            <a:off x="2643120" y="2286000"/>
            <a:ext cx="41418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орка колосовых культу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C:\Users\Пользователь\Desktop\горбенко\Рисунок (19).jpg"/>
          <p:cNvPicPr/>
          <p:nvPr/>
        </p:nvPicPr>
        <p:blipFill>
          <a:blip r:embed="rId1"/>
          <a:stretch/>
        </p:blipFill>
        <p:spPr>
          <a:xfrm>
            <a:off x="1285920" y="1785960"/>
            <a:ext cx="6572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14840" y="285480"/>
            <a:ext cx="5286240" cy="63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ели славных дел</a:t>
            </a: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льском хозяйстве нашей страны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лые, сильные руки нужны.</a:t>
            </a:r>
            <a:br>
              <a:rPr sz="3200"/>
            </a:b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бенко Иван Сергеевич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одился 02.02.1989 г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ет  в ООО «Атаманское» в бригаде №2 с 2009 года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работы-3 г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2" descr="C:\Users\Пользователь\Desktop\S7304741.JPG"/>
          <p:cNvPicPr/>
          <p:nvPr/>
        </p:nvPicPr>
        <p:blipFill>
          <a:blip r:embed="rId1"/>
          <a:stretch/>
        </p:blipFill>
        <p:spPr>
          <a:xfrm>
            <a:off x="357120" y="1357200"/>
            <a:ext cx="3214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1429200"/>
            <a:ext cx="8229600" cy="757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маленьким отец брал меня в поле, и я с удовольствием ему помогал. Теперь я сам механизатор. И когда выезжаю в поле, то чувствую, как сказочно  пахнет весенняя пашня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деду, отцу, дядьям я полюбил нелегкий труд землепашца, а значит и дальше буду трудиться на своей родной земл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i?id=377559641-63-72"/>
          <p:cNvPicPr/>
          <p:nvPr/>
        </p:nvPicPr>
        <p:blipFill>
          <a:blip r:embed="rId1"/>
          <a:stretch/>
        </p:blipFill>
        <p:spPr>
          <a:xfrm>
            <a:off x="2320920" y="3786120"/>
            <a:ext cx="43941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кажу вам так, ребята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сех нужней- механизатор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786120" y="1642680"/>
            <a:ext cx="48578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бенко Павел Сергееви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одился 30.05.1991 г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ет  в ООО «Атаманское» в бригаде №2 с 2010 год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елик еще стаж молодого механизатора, но уже сейчас проявляется его серьезное, ответственное отношение к выполняемой работе, уважение к крестьянскому труд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работы-2 год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C:\Users\Пользователь\Desktop\я любимый.jpg"/>
          <p:cNvPicPr/>
          <p:nvPr/>
        </p:nvPicPr>
        <p:blipFill>
          <a:blip r:embed="rId1"/>
          <a:srcRect l="0" t="-352" r="0" b="0"/>
          <a:stretch/>
        </p:blipFill>
        <p:spPr>
          <a:xfrm>
            <a:off x="785880" y="1857240"/>
            <a:ext cx="242892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опрос, почему Павел в такое трудное для сельского хозяйства время решил продолжить семейную династию, он ответил: «Я понимаю, что профессия механизатора сейчас не считается престижной и что на свете много других, более современных, но мне нравится профессия хлебороб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вердо знаю, что выращивать хлеб- это важная профессия на земл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мужчины нашей семьи – механизаторы. Всю свою жизнь они связали с выращиванием хлеба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i?id=400015495-42-72"/>
          <p:cNvPicPr/>
          <p:nvPr/>
        </p:nvPicPr>
        <p:blipFill>
          <a:blip r:embed="rId1"/>
          <a:stretch/>
        </p:blipFill>
        <p:spPr>
          <a:xfrm>
            <a:off x="2857680" y="4071960"/>
            <a:ext cx="3929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аких крепких хозяевах, испытанных тружениках, замечательных тружениках держится наша земля- матушка, земля- кормилиц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чи тебе, хлебороб, терпения и богатого урожая!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2" descr="C:\Users\Пользователь\Desktop\горбенко\Рисунок (3).jpg"/>
          <p:cNvPicPr/>
          <p:nvPr/>
        </p:nvPicPr>
        <p:blipFill>
          <a:blip r:embed="rId1"/>
          <a:stretch/>
        </p:blipFill>
        <p:spPr>
          <a:xfrm>
            <a:off x="1928880" y="2786040"/>
            <a:ext cx="507204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стия Горбенко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пка семья  Ивана Николаевича и Евдокии Яковлевны. Труд стал для них нормой повседневной жизни. Они родились и выросли в многодетных семьях, их отцы не вернулись с фронта. В последующем молодых людей свела работа в родном колхоз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2" descr="C:\Users\Пользователь\AppData\Local\Microsoft\Windows\Temporary Internet Files\Content.Word\Рисунок (7).jpg"/>
          <p:cNvPicPr/>
          <p:nvPr/>
        </p:nvPicPr>
        <p:blipFill>
          <a:blip r:embed="rId1"/>
          <a:stretch/>
        </p:blipFill>
        <p:spPr>
          <a:xfrm>
            <a:off x="1071720" y="2741760"/>
            <a:ext cx="63579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5640" y="285480"/>
            <a:ext cx="442908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ань- житница России. Это почетное, но и очень ответственное звание. Весь год трудятся земледельцы, заботясь о будущем урожае. Но истинное богатство и достояние Краснодарского края- люди, трудолюбивые и преданные своему кра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i?id=307193976-65-72"/>
          <p:cNvPicPr/>
          <p:nvPr/>
        </p:nvPicPr>
        <p:blipFill>
          <a:blip r:embed="rId1"/>
          <a:stretch/>
        </p:blipFill>
        <p:spPr>
          <a:xfrm>
            <a:off x="142920" y="3786120"/>
            <a:ext cx="2009880" cy="15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i?id=325189219-55-72"/>
          <p:cNvPicPr/>
          <p:nvPr/>
        </p:nvPicPr>
        <p:blipFill>
          <a:blip r:embed="rId2"/>
          <a:stretch/>
        </p:blipFill>
        <p:spPr>
          <a:xfrm>
            <a:off x="142920" y="1000080"/>
            <a:ext cx="209880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i?id=385696524-10-72"/>
          <p:cNvPicPr/>
          <p:nvPr/>
        </p:nvPicPr>
        <p:blipFill>
          <a:blip r:embed="rId3"/>
          <a:stretch/>
        </p:blipFill>
        <p:spPr>
          <a:xfrm>
            <a:off x="6826320" y="1143000"/>
            <a:ext cx="2104920" cy="1571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i?id=296925511-17-72"/>
          <p:cNvPicPr/>
          <p:nvPr/>
        </p:nvPicPr>
        <p:blipFill>
          <a:blip r:embed="rId4"/>
          <a:stretch/>
        </p:blipFill>
        <p:spPr>
          <a:xfrm>
            <a:off x="6786720" y="3714840"/>
            <a:ext cx="207144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без исключения профессии сельских механизаторов важны и почётны. Пожалуй, нет ни одной такой, о которой можно было бы отозваться как о второстепенной. Но одной из самых важных называют профессию тракториста. Трактор участвует почти во всех сельскохозяйственных работах.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то еще умеет так работать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Как российский сельский человек?                                    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Кто-то скажет: до седьмого пота,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А вернее весь земной свой век.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Кто еще умеет жить так дружно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Общиной, большой своей семьей?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Объяснять, по-моему, не нужно: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Человек наш сельский и простой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4143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инастии механизаторов наш рассказ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гок труд на землице. Испокон веков он был в чести среди люде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лендаре земледельца все месяцы-жаркие. Пахота, сев, подкормка, культивация, обработка полей от вредителей- без этого невозможно двигаться дальше. Но самым ответственным этапом труда хлебороба является жатв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от и пришла пора восславить труд землепаш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i?id=295128115-34-72"/>
          <p:cNvPicPr/>
          <p:nvPr/>
        </p:nvPicPr>
        <p:blipFill>
          <a:blip r:embed="rId1"/>
          <a:stretch/>
        </p:blipFill>
        <p:spPr>
          <a:xfrm>
            <a:off x="285840" y="250920"/>
            <a:ext cx="1714320" cy="127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i?id=318163650-42-72"/>
          <p:cNvPicPr/>
          <p:nvPr/>
        </p:nvPicPr>
        <p:blipFill>
          <a:blip r:embed="rId2"/>
          <a:stretch/>
        </p:blipFill>
        <p:spPr>
          <a:xfrm>
            <a:off x="357120" y="5214960"/>
            <a:ext cx="1692360" cy="1423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i?id=530976000-39-72"/>
          <p:cNvPicPr/>
          <p:nvPr/>
        </p:nvPicPr>
        <p:blipFill>
          <a:blip r:embed="rId3"/>
          <a:stretch/>
        </p:blipFill>
        <p:spPr>
          <a:xfrm>
            <a:off x="357120" y="178596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i?id=259628643-23-72"/>
          <p:cNvPicPr/>
          <p:nvPr/>
        </p:nvPicPr>
        <p:blipFill>
          <a:blip r:embed="rId4"/>
          <a:stretch/>
        </p:blipFill>
        <p:spPr>
          <a:xfrm>
            <a:off x="357120" y="3643200"/>
            <a:ext cx="1714680" cy="144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i?id=43624674-17-72"/>
          <p:cNvPicPr/>
          <p:nvPr/>
        </p:nvPicPr>
        <p:blipFill>
          <a:blip r:embed="rId5"/>
          <a:stretch/>
        </p:blipFill>
        <p:spPr>
          <a:xfrm>
            <a:off x="7072200" y="1714680"/>
            <a:ext cx="1714680" cy="141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i?id=28868115-71-72"/>
          <p:cNvPicPr/>
          <p:nvPr/>
        </p:nvPicPr>
        <p:blipFill>
          <a:blip r:embed="rId6"/>
          <a:stretch/>
        </p:blipFill>
        <p:spPr>
          <a:xfrm>
            <a:off x="-2000160" y="0"/>
            <a:ext cx="71280" cy="10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i?id=162960939-13-72"/>
          <p:cNvPicPr/>
          <p:nvPr/>
        </p:nvPicPr>
        <p:blipFill>
          <a:blip r:embed="rId7"/>
          <a:stretch/>
        </p:blipFill>
        <p:spPr>
          <a:xfrm>
            <a:off x="7072200" y="285840"/>
            <a:ext cx="1714680" cy="130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i?id=430988470-68-72"/>
          <p:cNvPicPr/>
          <p:nvPr/>
        </p:nvPicPr>
        <p:blipFill>
          <a:blip r:embed="rId8"/>
          <a:stretch/>
        </p:blipFill>
        <p:spPr>
          <a:xfrm>
            <a:off x="7072200" y="321480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i?id=318134030-09-72"/>
          <p:cNvPicPr/>
          <p:nvPr/>
        </p:nvPicPr>
        <p:blipFill>
          <a:blip r:embed="rId9"/>
          <a:stretch/>
        </p:blipFill>
        <p:spPr>
          <a:xfrm>
            <a:off x="7143840" y="5135400"/>
            <a:ext cx="171432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стия механизаторов Горбенк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2357280" y="1000080"/>
            <a:ext cx="3786480" cy="714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бенко Иван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ж-45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4"/>
          <p:cNvCxnSpPr/>
          <p:nvPr/>
        </p:nvCxnSpPr>
        <p:spPr>
          <a:xfrm flipH="1">
            <a:off x="2214360" y="1785960"/>
            <a:ext cx="4291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Прямоугольник 5"/>
          <p:cNvSpPr/>
          <p:nvPr/>
        </p:nvSpPr>
        <p:spPr>
          <a:xfrm>
            <a:off x="285840" y="2286000"/>
            <a:ext cx="2214360" cy="1128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бенко Александр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ж-3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22"/>
          <p:cNvCxnSpPr>
            <a:stCxn id="59" idx="2"/>
          </p:cNvCxnSpPr>
          <p:nvPr/>
        </p:nvCxnSpPr>
        <p:spPr>
          <a:xfrm>
            <a:off x="4248720" y="1714320"/>
            <a:ext cx="370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Прямоугольник 23"/>
          <p:cNvSpPr/>
          <p:nvPr/>
        </p:nvSpPr>
        <p:spPr>
          <a:xfrm>
            <a:off x="3143160" y="2286000"/>
            <a:ext cx="2057400" cy="1128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бенко Сергей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ж-3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Прямая со стрелкой 25"/>
          <p:cNvCxnSpPr/>
          <p:nvPr/>
        </p:nvCxnSpPr>
        <p:spPr>
          <a:xfrm>
            <a:off x="5928120" y="1714680"/>
            <a:ext cx="35820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Прямоугольник 26"/>
          <p:cNvSpPr/>
          <p:nvPr/>
        </p:nvSpPr>
        <p:spPr>
          <a:xfrm>
            <a:off x="6215040" y="2286000"/>
            <a:ext cx="2214720" cy="107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бенко Николай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ж-2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Прямая со стрелкой 28"/>
          <p:cNvCxnSpPr/>
          <p:nvPr/>
        </p:nvCxnSpPr>
        <p:spPr>
          <a:xfrm flipH="1">
            <a:off x="3142440" y="3500280"/>
            <a:ext cx="42948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Прямоугольник 29"/>
          <p:cNvSpPr/>
          <p:nvPr/>
        </p:nvSpPr>
        <p:spPr>
          <a:xfrm>
            <a:off x="1143000" y="4286160"/>
            <a:ext cx="221472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бенко Иван Серг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ж-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31"/>
          <p:cNvCxnSpPr/>
          <p:nvPr/>
        </p:nvCxnSpPr>
        <p:spPr>
          <a:xfrm>
            <a:off x="4786200" y="3429000"/>
            <a:ext cx="64332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Прямоугольник 32"/>
          <p:cNvSpPr/>
          <p:nvPr/>
        </p:nvSpPr>
        <p:spPr>
          <a:xfrm>
            <a:off x="5357880" y="4643280"/>
            <a:ext cx="7128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3"/>
          <p:cNvSpPr/>
          <p:nvPr/>
        </p:nvSpPr>
        <p:spPr>
          <a:xfrm>
            <a:off x="5286240" y="4286160"/>
            <a:ext cx="2071800" cy="107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бенко Павел Серг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ж-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34"/>
          <p:cNvSpPr/>
          <p:nvPr/>
        </p:nvSpPr>
        <p:spPr>
          <a:xfrm>
            <a:off x="2571840" y="5500800"/>
            <a:ext cx="3714840" cy="1071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й стаж династии-14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14760" y="499680"/>
            <a:ext cx="6000480" cy="671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его руках любое дело  Заслуживало лишь похвал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тель династ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бенко Иван Николаевич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одился 08.08.1936г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 трудовую деятельность в послевоенные годы и трудился в хозяйстве ООО «Атаманское» до 1996 года в качестве механизатор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ловам одностаничников трудолюбивый крестьянин, рачительный хозяин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-45лет.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14200" y="1928880"/>
            <a:ext cx="23958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14400" y="274320"/>
            <a:ext cx="6072120" cy="722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уде хлебороба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колосья поют,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, это особый,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чательный труд. </a:t>
            </a:r>
            <a:br>
              <a:rPr sz="29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 отца продолжили и сыновья Александр и Сергей. Получив удостоверение тракториста-механизатора в СОШ №4ст. Атаманской, работают с 1979 года в ООО «Атаманское»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бенко Александр Иванович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одился 24.01.1962г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аботал в бригаде №1 ООО «Атаманское» с 1979года по 2010 год в качестве механизатора, с 2010- в бригаде №2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работы-33 года.</a:t>
            </a:r>
            <a:br>
              <a:rPr sz="2400"/>
            </a:br>
            <a:br>
              <a:rPr sz="29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C:\Users\Пользователь\Desktop\горбенко\Рисунок (3).jpg"/>
          <p:cNvPicPr/>
          <p:nvPr/>
        </p:nvPicPr>
        <p:blipFill>
          <a:blip r:embed="rId1"/>
          <a:stretch/>
        </p:blipFill>
        <p:spPr>
          <a:xfrm>
            <a:off x="285840" y="1643040"/>
            <a:ext cx="2286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86080" y="356760"/>
            <a:ext cx="5400720" cy="592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их профессий на свете не счесть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ждой профессии- слава и честь.</a:t>
            </a:r>
            <a:br>
              <a:rPr sz="3200"/>
            </a:br>
            <a:br>
              <a:rPr sz="32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бенко Сергей Иванович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одился 24.01.1962 г)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ет с 1979 года в ООО «Атаманское» в  бригаде №2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работы-33 год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C:\Users\Пользователь\Desktop\горбенко\Рисунок (3).jpg"/>
          <p:cNvPicPr/>
          <p:nvPr/>
        </p:nvPicPr>
        <p:blipFill>
          <a:blip r:embed="rId1"/>
          <a:stretch/>
        </p:blipFill>
        <p:spPr>
          <a:xfrm>
            <a:off x="500040" y="1357200"/>
            <a:ext cx="23576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57800" y="1000080"/>
            <a:ext cx="418608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Иванович, добросовестный, ответственный работник, любую работу выполняет на совесть. За добросовестный труд имеет почетную грамоту.</a:t>
            </a:r>
            <a:br>
              <a:rPr sz="2900"/>
            </a:br>
            <a:br>
              <a:rPr sz="2500"/>
            </a:br>
            <a:br>
              <a:rPr sz="25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2" descr="C:\Users\Пользователь\Desktop\горбенко\Рисунок (14).jpg"/>
          <p:cNvPicPr/>
          <p:nvPr/>
        </p:nvPicPr>
        <p:blipFill>
          <a:blip r:embed="rId1"/>
          <a:stretch/>
        </p:blipFill>
        <p:spPr>
          <a:xfrm>
            <a:off x="357120" y="714240"/>
            <a:ext cx="36435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85680" y="274320"/>
            <a:ext cx="590076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а тем рукам, что трудятся чуть свет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ережно хранят отцов своих завет.</a:t>
            </a:r>
            <a:br>
              <a:rPr sz="32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бенко Николай Иванович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одился 28.02.1971 г)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к земле отец смог привить младшему сыну Николаю. Окончив  Павловский учебный комбинат , трудится  в ООО «Атаманское» с 1988 в качестве механизатора.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работы- 24 год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2" descr="C:\Users\Пользователь\Desktop\горбенко\Рисунок (3).jpg"/>
          <p:cNvPicPr/>
          <p:nvPr/>
        </p:nvPicPr>
        <p:blipFill>
          <a:blip r:embed="rId1"/>
          <a:stretch/>
        </p:blipFill>
        <p:spPr>
          <a:xfrm>
            <a:off x="285840" y="1714680"/>
            <a:ext cx="22143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8T04:57:44Z</dcterms:created>
  <dc:creator>Пользователь</dc:creator>
  <dc:description/>
  <dc:language>en-US</dc:language>
  <cp:lastModifiedBy>Пользователь</cp:lastModifiedBy>
  <dcterms:modified xsi:type="dcterms:W3CDTF">2012-12-20T15:21:30Z</dcterms:modified>
  <cp:revision>46</cp:revision>
  <dc:subject/>
  <dc:title>Муниципальное бюд</dc:title>
</cp:coreProperties>
</file>