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png" ContentType="image/pn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43C87-1F21-458F-B552-ED9139D2D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29FC9-C657-409F-A509-52DEBA971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98215-9077-4771-AFBA-43C48C829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88191-36AC-43D9-B2A2-EF4468FD5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E8904-4FD9-4CFA-BA7A-4D538CB6B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83050-6858-4824-8746-A7F089B4C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1007E-B33E-4C34-9CB6-6945B60B1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6C0CB-E180-45AB-89FD-88077AAA9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869B0-9197-48EE-83FD-DC1EF0C95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23458-3E14-41D2-8B8E-69A0AB11E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D9027-056E-4774-8D45-796BE9760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9F551-9304-404F-8560-08ACD3492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53363-2C0A-431E-98A8-3E8817D0C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98B33-7803-4A6A-9BE7-3EE9E6ABB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47B66-009E-4062-B8FA-64C24A9B3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0DC56-B5D9-4CDE-A424-E9F8B8526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DBA2C-8D5E-42F4-84CA-5AD492859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C7890-2431-4B4D-A19C-893798665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66D50-E7BB-484C-AF32-D5E859BEB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45F4C-B9A9-433B-853F-E7033176A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C43A4-2253-4D06-A2C5-B8426982E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C71A5-9EEF-4860-AC55-76E77B162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B76CF-E859-489B-871C-B691B99A0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C7C17-8B4D-4E30-8F5D-279D1BA67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E4495-2A44-4442-A853-5049540E796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186E0-8FAE-4017-82B6-C4507D6B1BE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4" descr="paxmzn9r7vh4jpq6sredo0se0dpvn687_6"/>
          <p:cNvPicPr/>
          <p:nvPr/>
        </p:nvPicPr>
        <p:blipFill>
          <a:blip r:embed="rId1"/>
          <a:stretch/>
        </p:blipFill>
        <p:spPr>
          <a:xfrm>
            <a:off x="0" y="-531720"/>
            <a:ext cx="15239880" cy="11430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179280" y="5661000"/>
            <a:ext cx="8785440" cy="96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Monotype Corsiva"/>
              </a:rPr>
              <a:t>Н.А. Некрасов</a:t>
            </a:r>
            <a:r>
              <a:rPr b="0" lang="ru-RU" sz="5400" spc="-1" strike="noStrike">
                <a:solidFill>
                  <a:srgbClr val="ffffff"/>
                </a:solidFill>
                <a:latin typeface="Monotype Corsiva"/>
              </a:rPr>
              <a:t>    </a:t>
            </a:r>
            <a:r>
              <a:rPr b="0" lang="ru-RU" sz="4400" spc="-1" strike="noStrike">
                <a:solidFill>
                  <a:srgbClr val="ffffff"/>
                </a:solidFill>
                <a:latin typeface="Monotype Corsiva"/>
              </a:rPr>
              <a:t>(1821-1878г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Picture 8" descr="50.jpg (6303 bytes)"/>
          <p:cNvPicPr/>
          <p:nvPr/>
        </p:nvPicPr>
        <p:blipFill>
          <a:blip r:embed="rId1"/>
          <a:stretch/>
        </p:blipFill>
        <p:spPr>
          <a:xfrm>
            <a:off x="1828800" y="189000"/>
            <a:ext cx="5264280" cy="540072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8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Эпитет – образное, художественное определен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лицетворение – представление в образе живого существ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равнение – сопоставление двух предмет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етафора – скрытое образное сравнен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вторы сл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потребление синонимов, антоним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WordArt 4"/>
          <p:cNvSpPr txBox="1"/>
          <p:nvPr/>
        </p:nvSpPr>
        <p:spPr>
          <a:xfrm>
            <a:off x="324000" y="260280"/>
            <a:ext cx="842472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Изобразительные средства язы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" dur="5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" dur="5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" dur="50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" dur="500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" dur="500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457200" y="691920"/>
            <a:ext cx="8229600" cy="54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оевод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чальник войск в давние времена на Рус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ор – сосновый ле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озор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бход для осмотр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ладенья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воя собственнос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AutoShape 4"/>
          <p:cNvSpPr/>
          <p:nvPr/>
        </p:nvSpPr>
        <p:spPr>
          <a:xfrm rot="6713400">
            <a:off x="1700640" y="538920"/>
            <a:ext cx="417600" cy="149040"/>
          </a:xfrm>
          <a:custGeom>
            <a:avLst/>
            <a:gdLst>
              <a:gd name="textAreaLeft" fmla="*/ 0 w 417600"/>
              <a:gd name="textAreaRight" fmla="*/ 417960 w 417600"/>
              <a:gd name="textAreaTop" fmla="*/ 0 h 149040"/>
              <a:gd name="textAreaBottom" fmla="*/ 149400 h 149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AutoShape 6"/>
          <p:cNvSpPr/>
          <p:nvPr/>
        </p:nvSpPr>
        <p:spPr>
          <a:xfrm rot="6713400">
            <a:off x="1485000" y="3131280"/>
            <a:ext cx="417240" cy="149040"/>
          </a:xfrm>
          <a:custGeom>
            <a:avLst/>
            <a:gdLst>
              <a:gd name="textAreaLeft" fmla="*/ 0 w 417240"/>
              <a:gd name="textAreaRight" fmla="*/ 417600 w 417240"/>
              <a:gd name="textAreaTop" fmla="*/ 0 h 149040"/>
              <a:gd name="textAreaBottom" fmla="*/ 149400 h 149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AutoShape 7"/>
          <p:cNvSpPr/>
          <p:nvPr/>
        </p:nvSpPr>
        <p:spPr>
          <a:xfrm rot="6713400">
            <a:off x="1701000" y="4642560"/>
            <a:ext cx="417240" cy="149040"/>
          </a:xfrm>
          <a:custGeom>
            <a:avLst/>
            <a:gdLst>
              <a:gd name="textAreaLeft" fmla="*/ 0 w 417240"/>
              <a:gd name="textAreaRight" fmla="*/ 417600 w 417240"/>
              <a:gd name="textAreaTop" fmla="*/ 0 h 149040"/>
              <a:gd name="textAreaBottom" fmla="*/ 149400 h 149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" dur="1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" dur="10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1000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1000"/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" dur="1000"/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" dur="1000"/>
                                        <p:tgtEl>
                                          <p:spTgt spid="1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Times New Roman"/>
              </a:rPr>
              <a:t>Выразительное чтени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2" name="Group 3"/>
          <p:cNvGrpSpPr/>
          <p:nvPr/>
        </p:nvGrpSpPr>
        <p:grpSpPr>
          <a:xfrm>
            <a:off x="324000" y="1628640"/>
            <a:ext cx="8424360" cy="4824000"/>
            <a:chOff x="324000" y="1628640"/>
            <a:chExt cx="8424360" cy="4824000"/>
          </a:xfrm>
        </p:grpSpPr>
        <p:sp>
          <p:nvSpPr>
            <p:cNvPr id="173" name="Text Box 4"/>
            <p:cNvSpPr/>
            <p:nvPr/>
          </p:nvSpPr>
          <p:spPr>
            <a:xfrm>
              <a:off x="3694680" y="1628640"/>
              <a:ext cx="2142360" cy="12049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Интонация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Text Box 5"/>
            <p:cNvSpPr/>
            <p:nvPr/>
          </p:nvSpPr>
          <p:spPr>
            <a:xfrm>
              <a:off x="324000" y="4442400"/>
              <a:ext cx="1685160" cy="12056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сила голоса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Text Box 6"/>
            <p:cNvSpPr/>
            <p:nvPr/>
          </p:nvSpPr>
          <p:spPr>
            <a:xfrm>
              <a:off x="2328480" y="4442400"/>
              <a:ext cx="764640" cy="12056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тон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Text Box 7"/>
            <p:cNvSpPr/>
            <p:nvPr/>
          </p:nvSpPr>
          <p:spPr>
            <a:xfrm>
              <a:off x="5824440" y="4442400"/>
              <a:ext cx="918720" cy="12056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пауза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Text Box 8"/>
            <p:cNvSpPr/>
            <p:nvPr/>
          </p:nvSpPr>
          <p:spPr>
            <a:xfrm>
              <a:off x="7063200" y="4442400"/>
              <a:ext cx="1685160" cy="20102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логическое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ударение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Text Box 9"/>
            <p:cNvSpPr/>
            <p:nvPr/>
          </p:nvSpPr>
          <p:spPr>
            <a:xfrm>
              <a:off x="4587840" y="4442400"/>
              <a:ext cx="918720" cy="12056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ритм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Text Box 10"/>
            <p:cNvSpPr/>
            <p:nvPr/>
          </p:nvSpPr>
          <p:spPr>
            <a:xfrm>
              <a:off x="3400200" y="4442400"/>
              <a:ext cx="867960" cy="12056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темп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Line 11"/>
            <p:cNvSpPr/>
            <p:nvPr/>
          </p:nvSpPr>
          <p:spPr>
            <a:xfrm flipH="1">
              <a:off x="1089720" y="2833560"/>
              <a:ext cx="3675240" cy="16088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Line 12"/>
            <p:cNvSpPr/>
            <p:nvPr/>
          </p:nvSpPr>
          <p:spPr>
            <a:xfrm flipH="1">
              <a:off x="2775240" y="2833560"/>
              <a:ext cx="1990080" cy="16088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Line 13"/>
            <p:cNvSpPr/>
            <p:nvPr/>
          </p:nvSpPr>
          <p:spPr>
            <a:xfrm flipH="1">
              <a:off x="3846960" y="2833560"/>
              <a:ext cx="918720" cy="16088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Line 14"/>
            <p:cNvSpPr/>
            <p:nvPr/>
          </p:nvSpPr>
          <p:spPr>
            <a:xfrm>
              <a:off x="4765680" y="2833560"/>
              <a:ext cx="307080" cy="16088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Line 15"/>
            <p:cNvSpPr/>
            <p:nvPr/>
          </p:nvSpPr>
          <p:spPr>
            <a:xfrm>
              <a:off x="4765680" y="2833560"/>
              <a:ext cx="1531080" cy="16088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Line 16"/>
            <p:cNvSpPr/>
            <p:nvPr/>
          </p:nvSpPr>
          <p:spPr>
            <a:xfrm>
              <a:off x="4765680" y="2833560"/>
              <a:ext cx="3063240" cy="16088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dissolve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0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179280" y="549360"/>
            <a:ext cx="8507520" cy="55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Гнёт – тяжесть, груз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Обозы – несколько повозок с грузом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Казна – деньги, имущество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Не скудеет - не беднее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AutoShape 4"/>
          <p:cNvSpPr/>
          <p:nvPr/>
        </p:nvSpPr>
        <p:spPr>
          <a:xfrm rot="6168000">
            <a:off x="1094760" y="1577880"/>
            <a:ext cx="617760" cy="144360"/>
          </a:xfrm>
          <a:custGeom>
            <a:avLst/>
            <a:gdLst>
              <a:gd name="textAreaLeft" fmla="*/ 0 w 617760"/>
              <a:gd name="textAreaRight" fmla="*/ 618120 w 617760"/>
              <a:gd name="textAreaTop" fmla="*/ 0 h 144360"/>
              <a:gd name="textAreaBottom" fmla="*/ 144360 h 14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AutoShape 5"/>
          <p:cNvSpPr/>
          <p:nvPr/>
        </p:nvSpPr>
        <p:spPr>
          <a:xfrm rot="6168000">
            <a:off x="2174400" y="4170240"/>
            <a:ext cx="617760" cy="144720"/>
          </a:xfrm>
          <a:custGeom>
            <a:avLst/>
            <a:gdLst>
              <a:gd name="textAreaLeft" fmla="*/ 0 w 617760"/>
              <a:gd name="textAreaRight" fmla="*/ 618120 w 617760"/>
              <a:gd name="textAreaTop" fmla="*/ 0 h 144720"/>
              <a:gd name="textAreaBottom" fmla="*/ 145080 h 14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AutoShape 6"/>
          <p:cNvSpPr/>
          <p:nvPr/>
        </p:nvSpPr>
        <p:spPr>
          <a:xfrm rot="6168000">
            <a:off x="1455480" y="2873520"/>
            <a:ext cx="617400" cy="144360"/>
          </a:xfrm>
          <a:custGeom>
            <a:avLst/>
            <a:gdLst>
              <a:gd name="textAreaLeft" fmla="*/ 0 w 617400"/>
              <a:gd name="textAreaRight" fmla="*/ 617760 w 617400"/>
              <a:gd name="textAreaTop" fmla="*/ 0 h 144360"/>
              <a:gd name="textAreaBottom" fmla="*/ 144360 h 14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2" descr="300px-Centenarydiamond"/>
          <p:cNvPicPr/>
          <p:nvPr/>
        </p:nvPicPr>
        <p:blipFill>
          <a:blip r:embed="rId1"/>
          <a:stretch/>
        </p:blipFill>
        <p:spPr>
          <a:xfrm>
            <a:off x="250920" y="189000"/>
            <a:ext cx="4032000" cy="32274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3" descr=""/>
          <p:cNvPicPr/>
          <p:nvPr/>
        </p:nvPicPr>
        <p:blipFill>
          <a:blip r:embed="rId2"/>
          <a:stretch/>
        </p:blipFill>
        <p:spPr>
          <a:xfrm>
            <a:off x="5219640" y="260280"/>
            <a:ext cx="3708360" cy="316872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4" descr=""/>
          <p:cNvPicPr/>
          <p:nvPr/>
        </p:nvPicPr>
        <p:blipFill>
          <a:blip r:embed="rId3"/>
          <a:stretch/>
        </p:blipFill>
        <p:spPr>
          <a:xfrm>
            <a:off x="2411280" y="3716280"/>
            <a:ext cx="4248360" cy="28558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0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6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0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4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39640" y="119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Какой он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23640" y="2327040"/>
            <a:ext cx="3600360" cy="362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олшебни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ильны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уровы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мелы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Хвастливы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огатыр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48320" y="2349360"/>
            <a:ext cx="4038480" cy="37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елики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огучи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ощны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огущественны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сесильны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Заботливы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дёжны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WordArt 4"/>
          <p:cNvSpPr txBox="1"/>
          <p:nvPr/>
        </p:nvSpPr>
        <p:spPr>
          <a:xfrm>
            <a:off x="1547640" y="333360"/>
            <a:ext cx="61200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Мороз-воевода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ransition>
    <p:dissolve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0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9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6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7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7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8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9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9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0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0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1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5075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Times New Roman"/>
              </a:rPr>
              <a:t>Домашнее задани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79280" y="1267920"/>
            <a:ext cx="87854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6d1ec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ыполнить рисунок Мороза – воевод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86d1ec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очинить о нём сказк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86d1ec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йти пословицы и поговорки о зим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86d1ec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очитать отрывок выразительн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86d1ec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ыучить наизус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4T09:51:10Z</dcterms:created>
  <dc:creator>Учитель</dc:creator>
  <dc:description/>
  <dc:language>en-US</dc:language>
  <cp:lastModifiedBy>Галина Петровна</cp:lastModifiedBy>
  <dcterms:modified xsi:type="dcterms:W3CDTF">2012-11-26T07:57:53Z</dcterms:modified>
  <cp:revision>22</cp:revision>
  <dc:subject/>
  <dc:title>Слайд 1</dc:title>
</cp:coreProperties>
</file>