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E17-C5B1-436B-98B3-21AC3030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42BD-1A4F-444F-8952-FD7055B5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A4F-7670-47DA-AA2F-3DA00293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DE9-5821-475A-A692-F38BA7A2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191E-CE17-4F27-9BD2-2A68378B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340C-939E-492F-8498-31539B13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289E-47EC-455A-A2B5-35B40A40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89D5-2D34-4340-A91E-DD613F61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3EB3-3EAC-4F75-BA7F-5E826CA9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0954-09AC-439C-B0FE-CCA42576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BFA0-86A4-4B3B-A51D-62AACDED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22C-CCAC-43D9-BA49-0116311C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353D-5A6A-43CC-B978-AAE877EA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30BD-C844-4722-8148-AC102A25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DF82-3D2D-4C15-9365-81CA3B22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ED46-494A-48F1-9864-6ECCDD32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E220-CDB7-40E0-A73D-DCF51E51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9F9-1464-41BD-9CB8-310BF922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A231-49FA-4E05-8715-3394B658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82E-731F-4792-974D-D7295BFA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376-057A-444C-8693-48DC5F99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526-91ED-48C4-BE98-968DA6E2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44E-A5AA-4A41-AD01-4BD02D74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C48-C0A5-478B-B8B4-344F19D9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D930-DDF9-4F53-96AA-AFC8C802D8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1CAF-437D-4FF0-8934-286197A54F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paxmzn9r7vh4jpq6sredo0se0dpvn687_6"/>
          <p:cNvPicPr/>
          <p:nvPr/>
        </p:nvPicPr>
        <p:blipFill>
          <a:blip r:embed="rId1"/>
          <a:stretch/>
        </p:blipFill>
        <p:spPr>
          <a:xfrm>
            <a:off x="0" y="-531720"/>
            <a:ext cx="15239880" cy="1143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79280" y="5661000"/>
            <a:ext cx="878544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Н.А. Некрасов</a:t>
            </a: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(1821-1878г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8" descr="50.jpg (6303 bytes)"/>
          <p:cNvPicPr/>
          <p:nvPr/>
        </p:nvPicPr>
        <p:blipFill>
          <a:blip r:embed="rId1"/>
          <a:stretch/>
        </p:blipFill>
        <p:spPr>
          <a:xfrm>
            <a:off x="1828800" y="189000"/>
            <a:ext cx="5264280" cy="5400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питет – образное, художественное опреде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цетворение – представление в образе живого су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авнение – сопоставление двух предме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тафора – скрытое образное срав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торы с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отребление синонимов, антоним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324000" y="260280"/>
            <a:ext cx="84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зобразительные средства язы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евод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альник войск в давние времена на Рус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 – сосновый л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з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ход для осмот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адень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оя собстве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 rot="6713400">
            <a:off x="1700640" y="538920"/>
            <a:ext cx="417600" cy="149040"/>
          </a:xfrm>
          <a:custGeom>
            <a:avLst/>
            <a:gdLst>
              <a:gd name="textAreaLeft" fmla="*/ 0 w 417600"/>
              <a:gd name="textAreaRight" fmla="*/ 417960 w 4176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 rot="6713400">
            <a:off x="1485000" y="3131280"/>
            <a:ext cx="417240" cy="149040"/>
          </a:xfrm>
          <a:custGeom>
            <a:avLst/>
            <a:gdLst>
              <a:gd name="textAreaLeft" fmla="*/ 0 w 417240"/>
              <a:gd name="textAreaRight" fmla="*/ 417600 w 41724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 rot="6713400">
            <a:off x="1701000" y="4642560"/>
            <a:ext cx="417240" cy="149040"/>
          </a:xfrm>
          <a:custGeom>
            <a:avLst/>
            <a:gdLst>
              <a:gd name="textAreaLeft" fmla="*/ 0 w 417240"/>
              <a:gd name="textAreaRight" fmla="*/ 417600 w 41724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Выразительное чт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324000" y="1628640"/>
            <a:ext cx="8424360" cy="4824000"/>
            <a:chOff x="324000" y="1628640"/>
            <a:chExt cx="8424360" cy="4824000"/>
          </a:xfrm>
        </p:grpSpPr>
        <p:sp>
          <p:nvSpPr>
            <p:cNvPr id="173" name="Text Box 4"/>
            <p:cNvSpPr/>
            <p:nvPr/>
          </p:nvSpPr>
          <p:spPr>
            <a:xfrm>
              <a:off x="3694680" y="1628640"/>
              <a:ext cx="2142360" cy="12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нтонац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5"/>
            <p:cNvSpPr/>
            <p:nvPr/>
          </p:nvSpPr>
          <p:spPr>
            <a:xfrm>
              <a:off x="324000" y="4442400"/>
              <a:ext cx="1685160" cy="120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ила голос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6"/>
            <p:cNvSpPr/>
            <p:nvPr/>
          </p:nvSpPr>
          <p:spPr>
            <a:xfrm>
              <a:off x="2328480" y="4442400"/>
              <a:ext cx="764640" cy="120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о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5824440" y="4442400"/>
              <a:ext cx="918720" cy="120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ауз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8"/>
            <p:cNvSpPr/>
            <p:nvPr/>
          </p:nvSpPr>
          <p:spPr>
            <a:xfrm>
              <a:off x="7063200" y="4442400"/>
              <a:ext cx="1685160" cy="2010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логическо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дар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9"/>
            <p:cNvSpPr/>
            <p:nvPr/>
          </p:nvSpPr>
          <p:spPr>
            <a:xfrm>
              <a:off x="4587840" y="4442400"/>
              <a:ext cx="918720" cy="120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ит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3400200" y="4442400"/>
              <a:ext cx="867960" cy="120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емп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 flipH="1">
              <a:off x="1089720" y="2833560"/>
              <a:ext cx="3675240" cy="1608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2"/>
            <p:cNvSpPr/>
            <p:nvPr/>
          </p:nvSpPr>
          <p:spPr>
            <a:xfrm flipH="1">
              <a:off x="2775240" y="2833560"/>
              <a:ext cx="1990080" cy="1608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3"/>
            <p:cNvSpPr/>
            <p:nvPr/>
          </p:nvSpPr>
          <p:spPr>
            <a:xfrm flipH="1">
              <a:off x="3846960" y="2833560"/>
              <a:ext cx="918720" cy="1608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4"/>
            <p:cNvSpPr/>
            <p:nvPr/>
          </p:nvSpPr>
          <p:spPr>
            <a:xfrm>
              <a:off x="4765680" y="2833560"/>
              <a:ext cx="307080" cy="1608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5"/>
            <p:cNvSpPr/>
            <p:nvPr/>
          </p:nvSpPr>
          <p:spPr>
            <a:xfrm>
              <a:off x="4765680" y="2833560"/>
              <a:ext cx="1531080" cy="1608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6"/>
            <p:cNvSpPr/>
            <p:nvPr/>
          </p:nvSpPr>
          <p:spPr>
            <a:xfrm>
              <a:off x="4765680" y="2833560"/>
              <a:ext cx="3063240" cy="1608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50752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нёт – тяжесть, гру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озы – несколько повозок с груз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зна – деньги, имущ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скудеет - не бедне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 rot="6168000">
            <a:off x="1094760" y="1577880"/>
            <a:ext cx="617760" cy="144360"/>
          </a:xfrm>
          <a:custGeom>
            <a:avLst/>
            <a:gdLst>
              <a:gd name="textAreaLeft" fmla="*/ 0 w 617760"/>
              <a:gd name="textAreaRight" fmla="*/ 618120 w 6177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 rot="6168000">
            <a:off x="2174400" y="4170240"/>
            <a:ext cx="617760" cy="144720"/>
          </a:xfrm>
          <a:custGeom>
            <a:avLst/>
            <a:gdLst>
              <a:gd name="textAreaLeft" fmla="*/ 0 w 617760"/>
              <a:gd name="textAreaRight" fmla="*/ 618120 w 6177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 rot="6168000">
            <a:off x="1455480" y="2873520"/>
            <a:ext cx="617400" cy="144360"/>
          </a:xfrm>
          <a:custGeom>
            <a:avLst/>
            <a:gdLst>
              <a:gd name="textAreaLeft" fmla="*/ 0 w 617400"/>
              <a:gd name="textAreaRight" fmla="*/ 617760 w 61740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300px-Centenarydiamond"/>
          <p:cNvPicPr/>
          <p:nvPr/>
        </p:nvPicPr>
        <p:blipFill>
          <a:blip r:embed="rId1"/>
          <a:stretch/>
        </p:blipFill>
        <p:spPr>
          <a:xfrm>
            <a:off x="250920" y="189000"/>
            <a:ext cx="4032000" cy="3227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5219640" y="260280"/>
            <a:ext cx="37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3"/>
          <a:stretch/>
        </p:blipFill>
        <p:spPr>
          <a:xfrm>
            <a:off x="2411280" y="3716280"/>
            <a:ext cx="4248360" cy="285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ой он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3640" y="2327040"/>
            <a:ext cx="360036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лшеб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ро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л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вастли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гатыр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2349360"/>
            <a:ext cx="40384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ли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гуч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щ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гуществе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си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ботли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ёж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1547640" y="333360"/>
            <a:ext cx="612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роз-воевод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ть рисунок Мороза – вое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чинить о нём сказ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ти пословицы и поговорки о зи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итать отрывок выразитель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учить наизу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09:51:10Z</dcterms:created>
  <dc:creator>Учитель</dc:creator>
  <dc:description/>
  <dc:language>en-US</dc:language>
  <cp:lastModifiedBy>Галина Петровна</cp:lastModifiedBy>
  <dcterms:modified xsi:type="dcterms:W3CDTF">2012-11-26T07:57:53Z</dcterms:modified>
  <cp:revision>22</cp:revision>
  <dc:subject/>
  <dc:title>Слайд 1</dc:title>
</cp:coreProperties>
</file>