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1E0-464F-4317-81EE-227C168B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EA0-1EC8-49C2-823D-E0FCA226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8C8-D971-4801-9BF2-9DC7A148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1B7-7844-4AD6-996F-A0D31A55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997-AAF6-4D15-9073-E373666D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312-3496-46B9-9D5E-1C0BEDBF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1141-2244-4892-A09D-62338D37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882-F703-48EB-BA56-0559E277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D7F-29D5-4214-8DCE-111C9D96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0D4-DAB2-4078-9C23-2597EB18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454-4D6F-4BE0-9E77-6AE4CBF5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914-44D0-4E87-A26F-496BD1EF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5AE4-F5E9-4409-AE43-2570AABB5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ender3@proshkolu.ru.-" TargetMode="External"/><Relationship Id="rId2" Type="http://schemas.openxmlformats.org/officeDocument/2006/relationships/hyperlink" Target="mailto:info@nic-snail.ru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-110520" y="1163880"/>
            <a:ext cx="9419040" cy="55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ОРТФОЛИ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х достижений педагогического работ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Молчановой Анны Юрьев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 физ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бюджетного общеобразовательного учре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общеобразовательной школы № 6 г.Бик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2970, Хабаровский край, г.Бикин, ул.Зачеславского,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й адрес образовательного учрежд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 (факс), E-m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Бики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20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90756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.2.4. Совершенствование и развитие известных методов и средств обучения и воспит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апреле 2011 года был обобщен опыт  на муниципальном  уровне в участии конкурса молодых специалистов  «Звездный час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екабре 2011 года показала открытый урок элективного курса в краевом семинаре «Организация различных моделей общеобразовательных учреждений как условия повышения  качества образо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марте 2012 года выступила с докладом на педагогическом совете «Здоровьесберегающие технологии на урок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марте 2012г выступила с докладом на районном педагогическом совете «Современные технологии как фактор повышения качества образо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.2.5. Владение навыками работы с интерактивной доской, электронной почтой, Интернетом, на форумах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105264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ею электронную почту /адрес эл.почт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k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00@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ьзуюсь услугами Интер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регистрирована на следующих  Интернет-сайт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sporna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социальная сеть работников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clas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Открытый класс - сетевое образовательное сообщество)- использование предметной базы учебных материалов, конспекты уроков, цифровые материалы ,участие в сообществе сай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oshkolu.ru.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-порта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nfo@nic-snail.r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Центр "СНЕЙЛ" (конкурсы для школьников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s edu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архив учебных программ)- использование готовых презентаций для уро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ir-konkursov.ru  - Мир конкур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erm.ru - Колос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unikru.ru -Унику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vot-zadachka.ru - Вот задач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оздан персональный мини-сайт /Сертификат о создании своего персонального сайта в  социальной сети работников образования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Web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-адрес сайта:  http://www.nsporta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3. Создание здоровьесберегающей 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3.1. Условия для рационального сочетания труда и отдыха обучающихся в образовательном процессе, которые создает педагогический работ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едметно-пространственную среду учебного кабинета включены не только искусственные объекты, но и естественные, природные - зеленые уголки.  Цвет стен, потолка благоприятствует рабочей атмосфер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4. Система работы с талантливыми  обучающимис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.4.1. Механизмы выявления талантливых обучаю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спланирована с целью: способствовать самореализации творческих, умственных потребностей особо одаренных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яется следующая методика работы с одаренными деть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способных детей к предмету на начальном этапе обучения через тестирование, опросы, наблюдения за учащимися, анкетирование родителей «Одарен ли Ваш ребенок» и составляется Карта одар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ение индивидуального плана совместной работы на каждый учебный год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а по пла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2.4.2. Разработка и реализация индивидуальных «маршрутов» обучения талантливых обучаю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каждого одаренного ребенка создается свой индивидуальный план работы. Пример одного из них ниж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684360" y="1413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дивидуальный план работы с Дорошенко Кириллом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щимся 10а  класса МБОУ СОШ №6 г.Би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2205000"/>
          <a:ext cx="8713800" cy="4416480"/>
        </p:xfrm>
        <a:graphic>
          <a:graphicData uri="http://schemas.openxmlformats.org/drawingml/2006/table">
            <a:tbl>
              <a:tblPr/>
              <a:tblGrid>
                <a:gridCol w="865080"/>
                <a:gridCol w="3960720"/>
                <a:gridCol w="2087640"/>
                <a:gridCol w="1800360"/>
              </a:tblGrid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3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ходное тест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176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раз в неделю (в течение год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3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е олимпиады по предм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21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результатов олимпи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ые олимпиады по предм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82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3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к региональному этапу Всероссийской олимпиады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-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в региональном этапе Всероссийской олимпиады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50920" y="1916280"/>
          <a:ext cx="8713800" cy="2454120"/>
        </p:xfrm>
        <a:graphic>
          <a:graphicData uri="http://schemas.openxmlformats.org/drawingml/2006/table">
            <a:tbl>
              <a:tblPr/>
              <a:tblGrid>
                <a:gridCol w="865080"/>
                <a:gridCol w="3960720"/>
                <a:gridCol w="2087640"/>
                <a:gridCol w="1800360"/>
              </a:tblGrid>
              <a:tr h="4921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кольный интеллектуальный мара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3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790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790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результатов промежуточной аттес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раз в четвер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комство с особенностями ЕГЭ по физике в нов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268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320"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физических олимпиад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"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228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шение физических задач повышенного уровня сло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лчанова А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й 3 «Высокие результаты освоения обучающимися, воспитанниками образовательных программ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1. Динамика учебных достижений обучающихс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250920" y="12477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1.1. Показатели годового значения качества знаний по 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направлению деятельности) в межаттестацион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3560" y="2492280"/>
          <a:ext cx="8229600" cy="13543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24588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уч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 с/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х/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с/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х/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с/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х/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с/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х/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556000" y="4437000"/>
          <a:ext cx="3636720" cy="1227240"/>
        </p:xfrm>
        <a:graphic>
          <a:graphicData uri="http://schemas.openxmlformats.org/drawingml/2006/table">
            <a:tbl>
              <a:tblPr/>
              <a:tblGrid>
                <a:gridCol w="453960"/>
                <a:gridCol w="455400"/>
                <a:gridCol w="454320"/>
                <a:gridCol w="455400"/>
                <a:gridCol w="453960"/>
                <a:gridCol w="454320"/>
                <a:gridCol w="455400"/>
                <a:gridCol w="453960"/>
              </a:tblGrid>
              <a:tr h="246240">
                <a:tc gridSpan="8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уч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1.2. Показатели качества знаний обучающихся  по предмету 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(направлению деятельности) в межаттестационный период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последние два года в педагогической работе наблюдается положительная динамика учебных достижений учащихся: при 100% успеваемости качество обучения составляет от 36 % до 68 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3.1.3. Наличие участников, призеров и победителей Всероссийской олимпиады школьников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836640"/>
          <a:ext cx="8066160" cy="5875200"/>
        </p:xfrm>
        <a:graphic>
          <a:graphicData uri="http://schemas.openxmlformats.org/drawingml/2006/table">
            <a:tbl>
              <a:tblPr/>
              <a:tblGrid>
                <a:gridCol w="576000"/>
                <a:gridCol w="1368720"/>
                <a:gridCol w="3313080"/>
                <a:gridCol w="1366920"/>
                <a:gridCol w="1441440"/>
              </a:tblGrid>
              <a:tr h="73656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учас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лимпиады, конкурса, предмет (направление деяте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милия, имя обучаю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7400">
                <a:tc rowSpan="6">
                  <a:txBody>
                    <a:bodyPr lIns="33120" rIns="33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ев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ой олимпиады школь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яева Ю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ой олимпиады школь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яева Ю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беди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7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ой олимпиады школь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яева Ю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беди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ая научно- практическая конференция «Мир моих увлеч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нжина Ма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смотрова Надеж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ое 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ая научно- практическая конференция «Мир моих увлеч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ызгалова Ю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ая научно- практическая конференция «Мир моих увлеч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женкова Я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хтина Кристи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79280" y="189000"/>
          <a:ext cx="8856720" cy="669132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3311640"/>
                <a:gridCol w="2232000"/>
                <a:gridCol w="1224000"/>
              </a:tblGrid>
              <a:tr h="1233720">
                <a:tc rowSpan="6">
                  <a:txBody>
                    <a:bodyPr lIns="13320" rIns="13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йонная научно- практическая конференция «Мир моих увлеч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икина Мария Дорошенко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хотина Васи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убинская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ое 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ая научно- практическая конференция «Мир моих увлеч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расенко 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ое 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1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ая научно- практическая конференция «Мир моих увлеч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рашева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тье 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6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ион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й конкурс «Энергия и среда обита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икина Ма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ошенко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хотина Васи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бинская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 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ая дистанционная игра –конкурс «Лабиринтами Знаний на поиски Чаши Граал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мчук Т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2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осок весен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янова В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на Лю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былева Т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ргакова 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место из 34 (по регион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2335320" y="139680"/>
            <a:ext cx="4572000" cy="16700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396720" y="1573200"/>
            <a:ext cx="8498160" cy="4797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08000" y="44280"/>
          <a:ext cx="8856720" cy="6707520"/>
        </p:xfrm>
        <a:graphic>
          <a:graphicData uri="http://schemas.openxmlformats.org/drawingml/2006/table">
            <a:tbl>
              <a:tblPr/>
              <a:tblGrid>
                <a:gridCol w="576360"/>
                <a:gridCol w="1511280"/>
                <a:gridCol w="3313080"/>
                <a:gridCol w="2232000"/>
                <a:gridCol w="1224000"/>
              </a:tblGrid>
              <a:tr h="1979640">
                <a:tc rowSpan="5">
                  <a:txBody>
                    <a:bodyPr lIns="13320" rIns="133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3320" marR="133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дер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Всероссийская дистанционная творческая викторина «Универсал-турни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лферова Са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былева Т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ргакова 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машевский Миха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убинин Гле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место (97,1бал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(85,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(82,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(6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6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й конкурс «Энергия и среда обита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икина М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ошенко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хотина Васи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бинская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 мес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стиваль творческих идей и инициатив «Леонардо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икина М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ошенко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хотина Васи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бинская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дер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ая Интернет-викторина для детей-инвалидов «Эруди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баченко Наст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й конкурс «Энергия и среда обита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икина М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ошенко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хотина Васи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бинская 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3320" rIns="13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320" marR="13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3. Результаты деятельности педагогического работника в области социализации обучающихся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3.1. Создание условий для успешной социализации обучающих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3.2. Участие обучающихся в самоуправлении в пределах возрастных компетенц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классе действует система. Во главе  класса стоит орган ученического самоуправления – Совет класса, который возглавляет командир класса. Он  избирается собранием класса или по личной инициатив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классе существует следующее распределение обязанностей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ктор учебный, сектор досуга, спортивный сектор, сектор помощи учителю, трудовой секто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им образом, каждый участник организации входит в сектор  в соответствии со своими возможностями. Каждый сектор возглавляет ответственный за него ученик, который избирается большинством голос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лассный коллектив сплоченный. Совместно с родителями класса планируем и проводим КТД по разным направлениям. Коллектив и отдельные ученики  многократно получали благодарность от администрации школы за активное участие в школьных мероприятия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3.3. Вовлеченность обучающихся в социально-значимые дела, социально-образовательные проек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4360" y="1549440"/>
          <a:ext cx="7343640" cy="4869000"/>
        </p:xfrm>
        <a:graphic>
          <a:graphicData uri="http://schemas.openxmlformats.org/drawingml/2006/table">
            <a:tbl>
              <a:tblPr/>
              <a:tblGrid>
                <a:gridCol w="1366560"/>
                <a:gridCol w="4105440"/>
                <a:gridCol w="1871640"/>
              </a:tblGrid>
              <a:tr h="946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социально-значимых дел, социально-образовательных 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2920">
                <a:tc rowSpan="7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ь пожилы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День призывни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«Энергосберега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ни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я «Судьба семьи в судьбе страны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каты на пожарную темат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я по благоустройству города «Граффи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4. Познавательная активность обучающихся по предмету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направлению деятельности)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4.1. Вовлеченность обучающихся во внеурочную деятельность по предмету (направлению деятельности) Формы организованной занятости учащихся класса представлен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00000" y="3068640"/>
          <a:ext cx="7272360" cy="1008000"/>
        </p:xfrm>
        <a:graphic>
          <a:graphicData uri="http://schemas.openxmlformats.org/drawingml/2006/table">
            <a:tbl>
              <a:tblPr/>
              <a:tblGrid>
                <a:gridCol w="2371680"/>
                <a:gridCol w="2506680"/>
                <a:gridCol w="2394000"/>
              </a:tblGrid>
              <a:tr h="3366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хват обучающихся внеурочной деятельностью  (в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201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3.4.2. Количество обучающихся, занимающихся в кружках, секциях, факультативах по предмету (направлению деятельности), которыми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руководит педагогический работни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916280"/>
          <a:ext cx="8281800" cy="3241440"/>
        </p:xfrm>
        <a:graphic>
          <a:graphicData uri="http://schemas.openxmlformats.org/drawingml/2006/table">
            <a:tbl>
              <a:tblPr/>
              <a:tblGrid>
                <a:gridCol w="4349520"/>
                <a:gridCol w="1965600"/>
                <a:gridCol w="1966680"/>
              </a:tblGrid>
              <a:tr h="5702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кружка, секции, факультатива по предмету (направлению деятельн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г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г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2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тоды решения задач повышенной сложности по физ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1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кола Молодого Иннова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терий 4 «Результаты деятельности педагогического работника в профессиональном сообществе»</a:t>
            </a:r>
            <a:br>
              <a:rPr sz="2000"/>
            </a:b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.1. Инновационная деятельность педагогического работника (если имеет место)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.1.1. Участие в работе проблемной (творческой) группы, временного научно-исследовательского коллектив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2276640"/>
          <a:ext cx="8642160" cy="2592360"/>
        </p:xfrm>
        <a:graphic>
          <a:graphicData uri="http://schemas.openxmlformats.org/drawingml/2006/table">
            <a:tbl>
              <a:tblPr/>
              <a:tblGrid>
                <a:gridCol w="1054080"/>
                <a:gridCol w="1752480"/>
                <a:gridCol w="3732120"/>
                <a:gridCol w="1227240"/>
                <a:gridCol w="876240"/>
              </a:tblGrid>
              <a:tr h="31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МО «физико –математический и ИКТ цик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ый за монитори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ериментальная площа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ев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5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МО «физико –математический и ИКТ цик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ступления на научно-практических и научно-теоретических семинарах, конференция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125360"/>
          <a:ext cx="8785440" cy="5667480"/>
        </p:xfrm>
        <a:graphic>
          <a:graphicData uri="http://schemas.openxmlformats.org/drawingml/2006/table">
            <a:tbl>
              <a:tblPr/>
              <a:tblGrid>
                <a:gridCol w="1300320"/>
                <a:gridCol w="5829120"/>
                <a:gridCol w="1656000"/>
              </a:tblGrid>
              <a:tr h="1278000"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, дата, место пр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а у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79800">
                <a:tc rowSpan="4"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ае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росси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краевом семинаре «Организация различных моделей общеобразовательных учреждений как условия повышения  качества образования», декабрь 2011г, МБОУ СОШ №6 г.Бик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рытый у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ический совет по теме «Здоровьесберегающие технологии на уроках», март 2012г, МБОУ СОШ №6 г.Бик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кл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йонный педагогический совет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Современные технологии как фактор повышения качества образования», март 2012г, МБОУ СОШ №6 г.Бик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кла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во Всероссийской Интернет- олимпиаде учителей «Учитель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XI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века», март-май 2012 г, Онлай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нлай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ичие публикаций в специализированных педагогических изданиях, размещение авторских материалов в сети Интернет</a:t>
            </a:r>
            <a:br>
              <a:rPr sz="2400"/>
            </a:b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4.2. Распространение педагогического опыта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4.2.1. Информация о внесении педагогического опыта в банк данных инновационного педагогического опы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2997360"/>
          <a:ext cx="8229600" cy="1892160"/>
        </p:xfrm>
        <a:graphic>
          <a:graphicData uri="http://schemas.openxmlformats.org/drawingml/2006/table">
            <a:tbl>
              <a:tblPr/>
              <a:tblGrid>
                <a:gridCol w="1450800"/>
                <a:gridCol w="4032360"/>
                <a:gridCol w="2746440"/>
              </a:tblGrid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педагогическ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мер и дата документа о внесении опыта в соответствующий банк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Краев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нный жур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едакции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indent="44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4.2.2. Диссеминация инновационного педагогического опыт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9640" y="1413000"/>
          <a:ext cx="7777440" cy="4925880"/>
        </p:xfrm>
        <a:graphic>
          <a:graphicData uri="http://schemas.openxmlformats.org/drawingml/2006/table">
            <a:tbl>
              <a:tblPr/>
              <a:tblGrid>
                <a:gridCol w="863640"/>
                <a:gridCol w="720720"/>
                <a:gridCol w="4319640"/>
                <a:gridCol w="1873440"/>
              </a:tblGrid>
              <a:tr h="95220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, место проведения мероприятия по диссемин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а участия, 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33640">
                <a:tc rowSpan="3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е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евой семинар «Организация различных моделей общеобразовательных учреждений как условия повышения  качества образования», декабрь, 2011 год, МБОУ СОШ №6 г.Бик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рытый у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5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россий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 «Энергосбережение и энергетическая эффективность МБОУ СОШ №6 г.Бикина» размещен на сайт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odel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мещение проекта на сай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4.3. Методическая работа </a:t>
            </a: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4.3.1. Информация об участии в работе или руководстве деятельностью методических  объединений, советов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127320"/>
          <a:ext cx="8229600" cy="2452680"/>
        </p:xfrm>
        <a:graphic>
          <a:graphicData uri="http://schemas.openxmlformats.org/drawingml/2006/table">
            <a:tbl>
              <a:tblPr/>
              <a:tblGrid>
                <a:gridCol w="1141560"/>
                <a:gridCol w="3198600"/>
                <a:gridCol w="3889440"/>
              </a:tblGrid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и уровень методических  объединений, сов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чем заключалось участие, результаты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ическое объединение физико-математического и ИКТ цик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лен М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Раздел 1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«Общие сведения о педагогическом работнике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197000"/>
          <a:ext cx="8280360" cy="5540400"/>
        </p:xfrm>
        <a:graphic>
          <a:graphicData uri="http://schemas.openxmlformats.org/drawingml/2006/table">
            <a:tbl>
              <a:tblPr/>
              <a:tblGrid>
                <a:gridCol w="841320"/>
                <a:gridCol w="3641760"/>
                <a:gridCol w="3797280"/>
              </a:tblGrid>
              <a:tr h="47304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милия, имя, отч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чанова Анна Юрьев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84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ро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04.19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0148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ое образование: наименование образовательного учреждения, год окончания, полученная специальность и квалификация по диплом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ГГУ, 2008г, Квалификация по диплому: физик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ая квалификация: преподав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ж педагогической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196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ж работы в данном учреж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052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жность, по которой аттестуется педагогический работ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 физ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ж работы в данной дол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196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квалификационной категории по данной долж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0520"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явленная квалификационная катег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5257800" y="1150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4.3.2. Информация об участии в деятельности профессиональных клубов, ассоциаций, сетевых сообществах педагогов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631880"/>
          <a:ext cx="8805960" cy="4100760"/>
        </p:xfrm>
        <a:graphic>
          <a:graphicData uri="http://schemas.openxmlformats.org/drawingml/2006/table">
            <a:tbl>
              <a:tblPr/>
              <a:tblGrid>
                <a:gridCol w="2146320"/>
                <a:gridCol w="3328920"/>
                <a:gridCol w="3330720"/>
              </a:tblGrid>
              <a:tr h="1261800"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и уровень профессиональных клубов, ассоциаций, сетевых сообщест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чем заключалось участие, результат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5720">
                <a:tc rowSpan="5"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hkolu.r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сообществе сай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class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сообществе сай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-n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сообществе сай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ба-В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ие в сообществе сай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portal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убликация работ учащихся, методических наработок, размещение электронного Портфолио, свой мини-са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й 5 «Профессиональные и личные достижения педагога в межаттестационный период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5.1. Повышение квалификации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.1.1. Повышение квалификации по дополнительным профессиональным образовательным программам по профилю преподаваемого предмета (направлению деятельности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2933640"/>
          <a:ext cx="7704000" cy="2454480"/>
        </p:xfrm>
        <a:graphic>
          <a:graphicData uri="http://schemas.openxmlformats.org/drawingml/2006/table">
            <a:tbl>
              <a:tblPr/>
              <a:tblGrid>
                <a:gridCol w="1058760"/>
                <a:gridCol w="1438200"/>
                <a:gridCol w="1822320"/>
                <a:gridCol w="1224000"/>
                <a:gridCol w="2160720"/>
              </a:tblGrid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 повышения квал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бразовательного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бразовательной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 и результаты реализации новых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колу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 «Источник зна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.1.2. Повышение квалификации по актуальным проблемам 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0920" y="1052640"/>
          <a:ext cx="8713800" cy="5903640"/>
        </p:xfrm>
        <a:graphic>
          <a:graphicData uri="http://schemas.openxmlformats.org/drawingml/2006/table">
            <a:tbl>
              <a:tblPr/>
              <a:tblGrid>
                <a:gridCol w="358560"/>
                <a:gridCol w="2667240"/>
                <a:gridCol w="3024000"/>
                <a:gridCol w="1295640"/>
                <a:gridCol w="1368360"/>
              </a:tblGrid>
              <a:tr h="173196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бразовательного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бразовательной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пособы и результаты реализации новых зн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656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К ИП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и методика преподавания курса информатики в основной и средней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0320"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ГОУ ДПО «ХК ИР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ременный образовательный 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1360"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ГОУ ДПО «ХК ИР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ременный образовательный 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82440"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туальный университет социальной сети работников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фликты в педагогическом коллекти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1000"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ртуальный университет социальной сети работников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ы компьютерной грамо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200" rIns="252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200" marR="25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5.2. Сертифицированные достижения педагогического работника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5.2.2. Грамоты, поощрения, благодарственные письма разных уровней; государственные или отраслевые награды, звания – копи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1916280"/>
          <a:ext cx="8280360" cy="4767120"/>
        </p:xfrm>
        <a:graphic>
          <a:graphicData uri="http://schemas.openxmlformats.org/drawingml/2006/table">
            <a:tbl>
              <a:tblPr/>
              <a:tblGrid>
                <a:gridCol w="1079280"/>
                <a:gridCol w="1368360"/>
                <a:gridCol w="5832720"/>
              </a:tblGrid>
              <a:tr h="1296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одарность главы Бикинского муниципального района за добросовестный труд и активное участие в общественной жизни рай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ота управления образования за качественную подготовку дипломанта муниципального этапа всероссийской олимпиады школьнико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ота управления образования за подготовку дипломанта муниципального этапа всероссийской олимпиады школь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лагодарность от департамента приморского края за профессионал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5.3. Участие в профессиональных конкурс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16000" y="2997360"/>
          <a:ext cx="7201080" cy="2303280"/>
        </p:xfrm>
        <a:graphic>
          <a:graphicData uri="http://schemas.openxmlformats.org/drawingml/2006/table">
            <a:tbl>
              <a:tblPr/>
              <a:tblGrid>
                <a:gridCol w="944640"/>
                <a:gridCol w="1185840"/>
                <a:gridCol w="2479680"/>
                <a:gridCol w="2590920"/>
              </a:tblGrid>
              <a:tr h="115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учас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кон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ультат участия (участник/призер/победите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5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ници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курс молодых специалистов «Звездный час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й 6 «Личностные качества педагогического работника»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6.2.1. Уровень эмпатии во взаимодействии с участниками образовательного процесс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95280" y="3336840"/>
          <a:ext cx="8280360" cy="1752840"/>
        </p:xfrm>
        <a:graphic>
          <a:graphicData uri="http://schemas.openxmlformats.org/drawingml/2006/table">
            <a:tbl>
              <a:tblPr/>
              <a:tblGrid>
                <a:gridCol w="2055960"/>
                <a:gridCol w="2071440"/>
                <a:gridCol w="2076480"/>
                <a:gridCol w="2076480"/>
              </a:tblGrid>
              <a:tr h="7016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тег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спонд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респондентов (в %), определивших уровень проявления эмпатийности аттестуемого педагога к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6.2.2. Проявление толерантности в отношениях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1341360"/>
          <a:ext cx="8280360" cy="3959280"/>
        </p:xfrm>
        <a:graphic>
          <a:graphicData uri="http://schemas.openxmlformats.org/drawingml/2006/table">
            <a:tbl>
              <a:tblPr/>
              <a:tblGrid>
                <a:gridCol w="2055960"/>
                <a:gridCol w="2071440"/>
                <a:gridCol w="2076480"/>
                <a:gridCol w="2076480"/>
              </a:tblGrid>
              <a:tr h="18241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тег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спонд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респондентов (в %), определивших уровень проявления толерантности в отношениях аттестуемого педагога к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7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6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6.2.3. Умение конструктивно разрешать конфлик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2133720"/>
          <a:ext cx="8136000" cy="2697120"/>
        </p:xfrm>
        <a:graphic>
          <a:graphicData uri="http://schemas.openxmlformats.org/drawingml/2006/table">
            <a:tbl>
              <a:tblPr/>
              <a:tblGrid>
                <a:gridCol w="2019240"/>
                <a:gridCol w="2035080"/>
                <a:gridCol w="2041560"/>
                <a:gridCol w="2040120"/>
              </a:tblGrid>
              <a:tr h="10522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тег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спонд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респондентов (в %), определивших уровень проявления толерантности в отношениях аттестуемого педагога к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-2011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-2012 уч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Сведения, представленные в информационно-аналитическом отчете о профессиональной деятельности в межаттестационный период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Молчановой Анны Юрьев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790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Раздел 2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«Информационно-аналитический отчет педагогического работника о профессиональной деятельности в межаттестационный период»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по должности «учитель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й 1. «Знание информационной основы деятельности»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2693880"/>
          <a:ext cx="8785080" cy="4060800"/>
        </p:xfrm>
        <a:graphic>
          <a:graphicData uri="http://schemas.openxmlformats.org/drawingml/2006/table">
            <a:tbl>
              <a:tblPr/>
              <a:tblGrid>
                <a:gridCol w="493560"/>
                <a:gridCol w="1165320"/>
                <a:gridCol w="2033640"/>
                <a:gridCol w="2933640"/>
                <a:gridCol w="215892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а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21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ч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29 сентября 2008 года по 09 октября 2008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и методика преподавания курса информатики в основной и средней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К ИП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80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05 октября 2009 года по 22 октября 2009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ременный образовательный 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ГОУ ДПО «ХК ИР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613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07 по 17 ноября 2011 года (очно), с 18 ноября по 18 декабря 2011 года (дистанционн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ременный образовательный 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ГОУ ДПО «ХК ИР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1"/>
          <p:cNvSpPr/>
          <p:nvPr/>
        </p:nvSpPr>
        <p:spPr>
          <a:xfrm>
            <a:off x="412200" y="216252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2. Повышение квалифик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й 2 «Обеспечение повышения качества образования на основе эффективного использования современных образовательных технологий, совершенствования методов обучения и воспитания»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2.1. Использование педагогическим работником программы, учебно-методического обеспечения образовательного процес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23590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2.1.1. Обоснование выбора программы, учебно-методического обеспе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воей деятельности я использую учебник Мякишев Г.Я., Буховцев  Б.Б., Сотский Н.Н.   Физика 10, 11  класс,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т учебник включают весь необходимый теоретический материал по физике для изучения в общеобразовательных учреждениях, отличаются простотой и доступностью изложения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ждая глава и раздел курса посвящены той или иной фундаментальной теме. Предусматривается выполнение упражнений, которые помогают не только закрепить пройденный теоретический материал, но и научиться применять законы физики на практи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определении последовательности и глубины изложения материала в учебниках учитывались, в частности, традиции советской школы, а также необходимость соблюдения внутрипредметных связей и соответствия между объективной сложностью каждого конкретного вопроса и возможностью его восприятия учащимися данного возрас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, прошедшие обучение по данному учебнику, неизменно показывают хороший результат  при итоговой аттестации и в педагогической диагности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1125000"/>
            <a:ext cx="8229600" cy="543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2.1.2. Обоснование календарно-тематического плана/рабочей образовательной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реализации программных требований была разработана рабочая программа по физике для 10- 11классов различных профилей. Рабочая программа составлена на основе Примерной программы среднего (полного) общего образования (базовый уровень), на основе авторской программы  Г.Я.Мякише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ор         авторской программы для разработки рабочей программы обусловлен тем, что данная программа создана в соответствии с «Обязательным  минимумом содержания основного общего образования по физике». В ней представлено развёрнутое учебное содержание предмета, примерное количество часов на изучение основных разделов кур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личительной особенностью данной программы является то, что программа шире  образовательного стандарта, соблюдается преемственность с любым предыдущим курсом физики 7 - 9 класса, ее  отличает полнота представления содержания, краткость курса физики, отличаются простотой и доступностью изложения матери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.2.  Использование современных образовательных технологий, включая информационные, а также цифровых образовательных ресурсов и сред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2.2.1. - 2.2.2. Обоснование выбора конкретных современных образовательных технологий, используемых в практической деятельности, и описание способов их примен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рмы организации образовательного процес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дивидуально-обособлен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лективн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в пар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ов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т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блемного обуч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роблемное изложение, частично-поисковые или    эвристические, исследовательски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рганизации учебно-познавательной 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ловесные, наглядные, практические; аналитические, синтетические, аналитико-синтетические, индуктивные, дедуктивные; репродуктивные, проблемно-поисковые; самостоятельной работы и работы под руководство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тимулирования и мотивац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стимулирования к учению: познавательные игры, учебные дискуссии, создание эмоционально-нравственных ситуаций; стимулирования долга и ответственности: убеждения, предъявление требований, поощрения, наказани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нтроля и самоконтрол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ндивидуальный опрос, фронтальный опрос,  устная проверка знаний, контрольные письменные работы, письменный самоконтроль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амостоятельной познаватель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подготовка учащихся к восприятию нового материала, усвоение учащимися новых знаний, закрепление и совершенствование усвоенных знаний и умений, выработка и совершенствование навыков; наблюдение, работа с книгой; работа по заданному образцу, по правилу или системе правил, конструктивные, требующие творческого подход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хнологии обуч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ющего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чностно ориентированного        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о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о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ятельностного мет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6:50:36Z</dcterms:created>
  <dc:creator>анна</dc:creator>
  <dc:description/>
  <dc:language>en-US</dc:language>
  <cp:lastModifiedBy>Молчанова АЮ</cp:lastModifiedBy>
  <dcterms:modified xsi:type="dcterms:W3CDTF">2012-10-30T04:05:29Z</dcterms:modified>
  <cp:revision>30</cp:revision>
  <dc:subject/>
  <dc:title>Слайд 1</dc:title>
</cp:coreProperties>
</file>