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gif" ContentType="image/gif"/>
  <Override PartName="/ppt/media/image14.gif" ContentType="image/gif"/>
  <Override PartName="/ppt/media/image1.wmf" ContentType="image/x-wmf"/>
  <Override PartName="/ppt/media/image9.jpeg" ContentType="image/jpeg"/>
  <Override PartName="/ppt/media/image2.gif" ContentType="image/gif"/>
  <Override PartName="/ppt/media/image7.jpeg" ContentType="image/jpeg"/>
  <Override PartName="/ppt/media/image11.png" ContentType="image/png"/>
  <Override PartName="/ppt/media/image3.gif" ContentType="image/gif"/>
  <Override PartName="/ppt/media/image4.jpeg" ContentType="image/jpeg"/>
  <Override PartName="/ppt/media/image5.jpeg" ContentType="image/jpeg"/>
  <Override PartName="/ppt/media/image8.png" ContentType="image/png"/>
  <Override PartName="/ppt/media/image13.png" ContentType="image/png"/>
  <Override PartName="/ppt/media/image6.jpeg" ContentType="image/jpe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D2892-AF32-42A2-BDEA-7563DB718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1E94D-3738-45A7-9F34-CDCCEAA48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C8F7E-FA3B-44EE-B359-33A135865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33B94-8DF9-4520-B1A1-8B8378868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21ABA-3752-4296-A838-E597A6500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F95C6-1050-480B-956E-9B787A879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5BBAA-C054-46B7-9BC2-B5C821B63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5DBEE-0BC9-422C-94FC-1CC2A6338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AB51F-3CAF-47B9-9D8A-D2A2C6BCE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4C80A-3199-4A92-9D1B-168F8E607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4B27A-22A4-460F-A7A0-688B28089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E5EE0-544B-4F1D-A721-C50F7AA9C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EA8E4-5B71-49C3-B7C7-0DFCCB448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9D0C9-7968-4E71-A396-194E2DEC6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272C8-3320-4B49-86EF-49364E582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F1BE8-0861-4C89-9D14-B8E878A6B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2BD42-6BED-416D-ADD5-78913CE4E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738D2-D889-461B-B90D-0E4A26F89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C98A7-508E-4B3D-A71B-5E5D222CD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0B15C-275F-4A47-8312-DD6A6D38A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FB124-9FDD-47AA-AFD0-16CE5E97E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5D4A1-F8E6-4B11-984D-7C706E03F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CEAB0-0C33-4C50-9A46-5F28177AA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85950-BA5F-4B83-B13D-8BF7B8B91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5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5985"/>
              </a:gs>
              <a:gs pos="100000">
                <a:srgbClr val="0066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254a"/>
                </a:gs>
                <a:gs pos="100000">
                  <a:srgbClr val="0066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c8a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5c8a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6293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f8f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681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98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c8a"/>
                  </a:gs>
                  <a:gs pos="100000">
                    <a:srgbClr val="006699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985"/>
                  </a:gs>
                  <a:gs pos="100000">
                    <a:srgbClr val="0066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5f8f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9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5985"/>
                  </a:gs>
                  <a:gs pos="100000">
                    <a:srgbClr val="0066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c8a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5985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5f8f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5985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5c8a"/>
                  </a:gs>
                  <a:gs pos="100000">
                    <a:srgbClr val="0066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5c8a"/>
                  </a:gs>
                  <a:gs pos="100000">
                    <a:srgbClr val="0066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c8a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681"/>
                  </a:gs>
                  <a:gs pos="100000">
                    <a:srgbClr val="0066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c8a"/>
                  </a:gs>
                  <a:gs pos="100000">
                    <a:srgbClr val="0066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37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98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98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98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6a9b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6a9b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6e9e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76a9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6a9b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6a9b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6a9b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5f8f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6293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254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254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254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254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54a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54a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254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254a"/>
                    </a:gs>
                    <a:gs pos="100000">
                      <a:srgbClr val="006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99"/>
                    </a:gs>
                    <a:gs pos="100000">
                      <a:srgbClr val="00254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254a"/>
                    </a:gs>
                    <a:gs pos="100000">
                      <a:srgbClr val="006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99"/>
                    </a:gs>
                    <a:gs pos="100000">
                      <a:srgbClr val="00254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c0c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0c0c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f8fb5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374DD-215C-494B-8868-952DF407A172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5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254a"/>
                </a:gs>
                <a:gs pos="100000">
                  <a:srgbClr val="0066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c8a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5c8a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6293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f8f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681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98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c8a"/>
                  </a:gs>
                  <a:gs pos="100000">
                    <a:srgbClr val="006699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985"/>
                  </a:gs>
                  <a:gs pos="100000">
                    <a:srgbClr val="0066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5f8f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9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5985"/>
                  </a:gs>
                  <a:gs pos="100000">
                    <a:srgbClr val="0066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c8a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5985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5f8f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5985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5c8a"/>
                  </a:gs>
                  <a:gs pos="100000">
                    <a:srgbClr val="0066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5c8a"/>
                  </a:gs>
                  <a:gs pos="100000">
                    <a:srgbClr val="0066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c8a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681"/>
                  </a:gs>
                  <a:gs pos="100000">
                    <a:srgbClr val="0066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c8a"/>
                  </a:gs>
                  <a:gs pos="100000">
                    <a:srgbClr val="0066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37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98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98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98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6a9b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6a9b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6e9e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76a9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6a9b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6a9b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6a9b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5f8f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6293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254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254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254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254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54a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54a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254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254a"/>
                    </a:gs>
                    <a:gs pos="100000">
                      <a:srgbClr val="006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99"/>
                    </a:gs>
                    <a:gs pos="100000">
                      <a:srgbClr val="00254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254a"/>
                    </a:gs>
                    <a:gs pos="100000">
                      <a:srgbClr val="006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99"/>
                    </a:gs>
                    <a:gs pos="100000">
                      <a:srgbClr val="00254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c0c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03688-50FA-45B3-8DEF-954866A2D21D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8f8fb5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cc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2.gif"/><Relationship Id="rId4" Type="http://schemas.openxmlformats.org/officeDocument/2006/relationships/image" Target="../media/image12.gi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5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3635280" y="4005360"/>
            <a:ext cx="2016360" cy="1511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ffff">
                  <a:alpha val="55294"/>
                </a:srgbClr>
              </a:gs>
              <a:gs pos="50000">
                <a:srgbClr val="00254a"/>
              </a:gs>
              <a:gs pos="100000">
                <a:srgbClr val="66ffff">
                  <a:alpha val="55294"/>
                </a:srgbClr>
              </a:gs>
            </a:gsLst>
            <a:lin ang="5400000"/>
          </a:gradFill>
          <a:ln w="7632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08000" y="404640"/>
            <a:ext cx="7993080" cy="302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9181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Правописание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НЕ с наречиями 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6107040" y="3941640"/>
            <a:ext cx="2568600" cy="229572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436680" y="2924280"/>
            <a:ext cx="2151000" cy="360036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2843280" y="4197240"/>
            <a:ext cx="3024000" cy="201636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5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539640" y="1916280"/>
            <a:ext cx="4753080" cy="151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Не  сложно,  а  легко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611280" y="4221000"/>
            <a:ext cx="468144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Не   редко, а   часто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4140360" y="2708280"/>
            <a:ext cx="453528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Не  ясно, а   правильно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4140360" y="4938840"/>
            <a:ext cx="4464000" cy="136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Не  много, а  мало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1332000" y="549360"/>
            <a:ext cx="6264360" cy="107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Четвёртый лишний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8028000" y="620640"/>
            <a:ext cx="6620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?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6227640" y="1844640"/>
            <a:ext cx="6620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?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6877080" y="4005360"/>
            <a:ext cx="66204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?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1606680" y="3573360"/>
            <a:ext cx="66168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?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395280" y="1197000"/>
            <a:ext cx="6620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?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2614680" y="5589720"/>
            <a:ext cx="66204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?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checker dir="horz"/>
  </p:transition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79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80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81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482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5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 txBox="1"/>
          <p:nvPr/>
        </p:nvSpPr>
        <p:spPr>
          <a:xfrm>
            <a:off x="539640" y="1916280"/>
            <a:ext cx="4753080" cy="151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Небрежно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611280" y="4221000"/>
            <a:ext cx="468144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Ненастно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4140360" y="2708280"/>
            <a:ext cx="453528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Негодующе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4140360" y="5011560"/>
            <a:ext cx="4464000" cy="1370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Несмело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1332000" y="549360"/>
            <a:ext cx="6264360" cy="107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Четвёртый лишний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8028000" y="620640"/>
            <a:ext cx="6620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?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6227640" y="1844640"/>
            <a:ext cx="6620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?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6877080" y="4005360"/>
            <a:ext cx="66204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?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1606680" y="3573360"/>
            <a:ext cx="66168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?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395280" y="1197000"/>
            <a:ext cx="6620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?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2614680" y="5589720"/>
            <a:ext cx="66204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?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checker dir="horz"/>
  </p:transition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88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89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90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491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5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 txBox="1"/>
          <p:nvPr/>
        </p:nvSpPr>
        <p:spPr>
          <a:xfrm>
            <a:off x="539640" y="1916280"/>
            <a:ext cx="4753080" cy="144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Некого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611280" y="4149720"/>
            <a:ext cx="468144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Некуда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4140360" y="2708280"/>
            <a:ext cx="453528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Некогда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4140360" y="5011560"/>
            <a:ext cx="4464000" cy="1370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Негде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1332000" y="549360"/>
            <a:ext cx="6264360" cy="107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Четвёртый лишний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8028000" y="620640"/>
            <a:ext cx="6620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?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6227640" y="1844640"/>
            <a:ext cx="6620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?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6877080" y="4005360"/>
            <a:ext cx="66204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?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1606680" y="3573360"/>
            <a:ext cx="66168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?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395280" y="1197000"/>
            <a:ext cx="6620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?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2614680" y="5589720"/>
            <a:ext cx="66204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?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checker dir="vert"/>
  </p:transition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97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98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99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500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5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3" name=""/>
          <p:cNvSpPr txBox="1"/>
          <p:nvPr/>
        </p:nvSpPr>
        <p:spPr>
          <a:xfrm>
            <a:off x="250920" y="549360"/>
            <a:ext cx="4751280" cy="18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65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Карта уро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434" name=""/>
          <p:cNvSpPr/>
          <p:nvPr/>
        </p:nvSpPr>
        <p:spPr>
          <a:xfrm flipV="1">
            <a:off x="2195640" y="2781360"/>
            <a:ext cx="1728720" cy="504720"/>
          </a:xfrm>
          <a:prstGeom prst="line">
            <a:avLst/>
          </a:prstGeom>
          <a:ln w="76320">
            <a:solidFill>
              <a:srgbClr val="ff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3635280" y="1989000"/>
            <a:ext cx="151128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80008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Веселые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80008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80008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картинки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80008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6227640" y="1628640"/>
            <a:ext cx="12258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80008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Эрудит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80008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37" name=""/>
          <p:cNvSpPr/>
          <p:nvPr/>
        </p:nvSpPr>
        <p:spPr>
          <a:xfrm flipV="1">
            <a:off x="5219640" y="2133720"/>
            <a:ext cx="1008000" cy="287280"/>
          </a:xfrm>
          <a:prstGeom prst="line">
            <a:avLst/>
          </a:prstGeom>
          <a:ln w="76320">
            <a:solidFill>
              <a:srgbClr val="ff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 flipH="1">
            <a:off x="4427280" y="2205000"/>
            <a:ext cx="2376360" cy="1511280"/>
          </a:xfrm>
          <a:prstGeom prst="line">
            <a:avLst/>
          </a:prstGeom>
          <a:ln w="76320">
            <a:solidFill>
              <a:srgbClr val="ff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6300720" y="2421000"/>
            <a:ext cx="157320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2661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80008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Четвертый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80008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80008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лишний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80008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6012000" y="4076640"/>
            <a:ext cx="129672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80008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Грамотей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80008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41" name=""/>
          <p:cNvSpPr/>
          <p:nvPr/>
        </p:nvSpPr>
        <p:spPr>
          <a:xfrm flipV="1">
            <a:off x="4716360" y="3357720"/>
            <a:ext cx="1727280" cy="792000"/>
          </a:xfrm>
          <a:prstGeom prst="line">
            <a:avLst/>
          </a:prstGeom>
          <a:ln w="76320">
            <a:solidFill>
              <a:srgbClr val="ff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3421080" y="3500280"/>
            <a:ext cx="151128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80008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Волшебные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80008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80008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квадраты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80008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43" name=""/>
          <p:cNvSpPr/>
          <p:nvPr/>
        </p:nvSpPr>
        <p:spPr>
          <a:xfrm flipH="1">
            <a:off x="6516720" y="3284640"/>
            <a:ext cx="719280" cy="936360"/>
          </a:xfrm>
          <a:prstGeom prst="line">
            <a:avLst/>
          </a:prstGeom>
          <a:ln w="76320">
            <a:solidFill>
              <a:srgbClr val="ff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0" dur="1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5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/>
          </p:nvPr>
        </p:nvSpPr>
        <p:spPr>
          <a:xfrm>
            <a:off x="395280" y="1557000"/>
            <a:ext cx="8353440" cy="463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И навестим поля пустые, леса, (не)давно столь густые… (А. Пушкин)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Кусака убежала на край сада и оттуда (не)отступно глядела на видимый ей уголок террасы. (Л. Андреев)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Новые знакомства в лесу происходят (не)редко, а довольно часто.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4. </a:t>
            </a: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Вглядываясь в растительный мир, окружающий нас, мы делаем (не)обыкновенно интересные открытия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5. </a:t>
            </a: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Калитку отворив чуть-чуть, выходит девушка (не)смело. (Н. Некрасов)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6. </a:t>
            </a: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Справа от нас, (не)далеко, а где-то близко, журчал ручеек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7. </a:t>
            </a: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Идти, хоть и в темноте, по знакомой дороге было ничуть (не)страшно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8. </a:t>
            </a: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На улице хоть и (не)настно, но на душе светло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395280" y="404640"/>
            <a:ext cx="8496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Графический диктант</a:t>
            </a:r>
            <a:endParaRPr b="0" lang="en-US" sz="1800" spc="1" strike="noStrike">
              <a:ln w="0">
                <a:noFill/>
              </a:ln>
              <a:solidFill>
                <a:srgbClr val="008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checke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5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"/>
          <p:cNvSpPr txBox="1"/>
          <p:nvPr/>
        </p:nvSpPr>
        <p:spPr>
          <a:xfrm>
            <a:off x="2195640" y="404640"/>
            <a:ext cx="39607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тветы</a:t>
            </a:r>
            <a:endParaRPr b="0" lang="en-US" sz="1800" spc="1" strike="noStrike">
              <a:ln w="0">
                <a:noFill/>
              </a:ln>
              <a:solidFill>
                <a:srgbClr val="008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47" name=""/>
          <p:cNvSpPr/>
          <p:nvPr/>
        </p:nvSpPr>
        <p:spPr>
          <a:xfrm>
            <a:off x="1692360" y="4324320"/>
            <a:ext cx="5327640" cy="257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00"/>
                </a:solidFill>
                <a:latin typeface="Arial"/>
              </a:rPr>
              <a:t>Критерии оценки диктант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00"/>
                </a:solidFill>
                <a:latin typeface="Arial"/>
              </a:rPr>
              <a:t>«5» - нет ошибок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00"/>
                </a:solidFill>
                <a:latin typeface="Arial"/>
              </a:rPr>
              <a:t>«4» - 1-2 ошибки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00"/>
                </a:solidFill>
                <a:latin typeface="Arial"/>
              </a:rPr>
              <a:t>«3» - 3-4 ошибки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08000" y="1699920"/>
            <a:ext cx="90360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ff3300"/>
                </a:solidFill>
                <a:latin typeface="Arial"/>
              </a:rPr>
              <a:t>1.+     3.-     5.+     7.- </a:t>
            </a:r>
            <a:br>
              <a:rPr sz="5200"/>
            </a:br>
            <a:r>
              <a:rPr b="1" lang="en-US" sz="5200" spc="-1" strike="noStrike">
                <a:solidFill>
                  <a:srgbClr val="ff3300"/>
                </a:solidFill>
                <a:latin typeface="Arial"/>
              </a:rPr>
              <a:t>2.+     4.+    6.-      8.+</a:t>
            </a:r>
            <a:endParaRPr b="0" lang="en-US" sz="5200" spc="-1" strike="noStrike">
              <a:solidFill>
                <a:srgbClr val="c0c0c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5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0" name=""/>
          <p:cNvSpPr txBox="1"/>
          <p:nvPr/>
        </p:nvSpPr>
        <p:spPr>
          <a:xfrm>
            <a:off x="250920" y="549360"/>
            <a:ext cx="4751280" cy="18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65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Карта уро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451" name=""/>
          <p:cNvSpPr/>
          <p:nvPr/>
        </p:nvSpPr>
        <p:spPr>
          <a:xfrm flipV="1">
            <a:off x="2195640" y="2781360"/>
            <a:ext cx="1728720" cy="504720"/>
          </a:xfrm>
          <a:prstGeom prst="line">
            <a:avLst/>
          </a:prstGeom>
          <a:ln w="76320">
            <a:solidFill>
              <a:srgbClr val="ff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3635280" y="1989000"/>
            <a:ext cx="151128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80008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Веселые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80008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80008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картинки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80008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6227640" y="1628640"/>
            <a:ext cx="12258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80008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Эрудит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80008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54" name=""/>
          <p:cNvSpPr/>
          <p:nvPr/>
        </p:nvSpPr>
        <p:spPr>
          <a:xfrm flipV="1">
            <a:off x="5219640" y="2133720"/>
            <a:ext cx="1008000" cy="287280"/>
          </a:xfrm>
          <a:prstGeom prst="line">
            <a:avLst/>
          </a:prstGeom>
          <a:ln w="76320">
            <a:solidFill>
              <a:srgbClr val="ff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 flipH="1">
            <a:off x="4427280" y="2205000"/>
            <a:ext cx="2376360" cy="1511280"/>
          </a:xfrm>
          <a:prstGeom prst="line">
            <a:avLst/>
          </a:prstGeom>
          <a:ln w="76320">
            <a:solidFill>
              <a:srgbClr val="ff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6300720" y="2421000"/>
            <a:ext cx="157320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2661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80008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Четвертый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80008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80008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лишний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80008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6012000" y="4076640"/>
            <a:ext cx="129672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80008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Грамотей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80008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58" name=""/>
          <p:cNvSpPr/>
          <p:nvPr/>
        </p:nvSpPr>
        <p:spPr>
          <a:xfrm flipV="1">
            <a:off x="4716360" y="3357720"/>
            <a:ext cx="1727280" cy="792000"/>
          </a:xfrm>
          <a:prstGeom prst="line">
            <a:avLst/>
          </a:prstGeom>
          <a:ln w="76320">
            <a:solidFill>
              <a:srgbClr val="ff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3421080" y="3500280"/>
            <a:ext cx="151128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80008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Волшебные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80008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80008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квадраты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80008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60" name=""/>
          <p:cNvSpPr/>
          <p:nvPr/>
        </p:nvSpPr>
        <p:spPr>
          <a:xfrm flipH="1">
            <a:off x="6516720" y="3284640"/>
            <a:ext cx="719280" cy="936360"/>
          </a:xfrm>
          <a:prstGeom prst="line">
            <a:avLst/>
          </a:prstGeom>
          <a:ln w="76320">
            <a:solidFill>
              <a:srgbClr val="ff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6659640" y="4724280"/>
            <a:ext cx="73080" cy="720720"/>
          </a:xfrm>
          <a:prstGeom prst="line">
            <a:avLst/>
          </a:prstGeom>
          <a:ln w="76320">
            <a:solidFill>
              <a:srgbClr val="ff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5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2555640" y="907560"/>
            <a:ext cx="618948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ccff"/>
                </a:solidFill>
                <a:latin typeface="SkazkaForSerge"/>
              </a:rPr>
              <a:t>Составьте текст-миниатюру,</a:t>
            </a:r>
            <a:br>
              <a:rPr sz="3000"/>
            </a:br>
            <a:r>
              <a:rPr b="0" lang="en-US" sz="3000" spc="-1" strike="noStrike">
                <a:solidFill>
                  <a:srgbClr val="33ccff"/>
                </a:solidFill>
                <a:latin typeface="SkazkaForSerge"/>
              </a:rPr>
              <a:t>использовав в нём </a:t>
            </a:r>
            <a:br>
              <a:rPr sz="3000"/>
            </a:br>
            <a:r>
              <a:rPr b="0" lang="en-US" sz="3000" spc="-1" strike="noStrike">
                <a:solidFill>
                  <a:srgbClr val="33ccff"/>
                </a:solidFill>
                <a:latin typeface="SkazkaForSerge"/>
              </a:rPr>
              <a:t>как можно больше </a:t>
            </a:r>
            <a:br>
              <a:rPr sz="3000"/>
            </a:br>
            <a:r>
              <a:rPr b="0" lang="en-US" sz="3000" spc="-1" strike="noStrike">
                <a:solidFill>
                  <a:srgbClr val="33ccff"/>
                </a:solidFill>
                <a:latin typeface="SkazkaForSerge"/>
              </a:rPr>
              <a:t>слов с частицей НЕ</a:t>
            </a:r>
            <a:endParaRPr b="0" lang="en-US" sz="3000" spc="-1" strike="noStrike">
              <a:solidFill>
                <a:srgbClr val="c0c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17" dur="2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5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250560" y="1557000"/>
            <a:ext cx="889308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 u="sng">
                <a:solidFill>
                  <a:srgbClr val="c0c0c0"/>
                </a:solidFill>
                <a:uFillTx/>
                <a:latin typeface="SkazkaForSerge"/>
              </a:rPr>
              <a:t>Домашнее задание:</a:t>
            </a:r>
            <a:br>
              <a:rPr sz="7200"/>
            </a:br>
            <a:r>
              <a:rPr b="0" lang="en-US" sz="6600" spc="-1" strike="noStrike">
                <a:solidFill>
                  <a:srgbClr val="c0c0c0"/>
                </a:solidFill>
                <a:latin typeface="SkazkaForSerge"/>
              </a:rPr>
              <a:t>- теория –стр.37-38</a:t>
            </a:r>
            <a:br>
              <a:rPr sz="6600"/>
            </a:br>
            <a:r>
              <a:rPr b="0" lang="en-US" sz="6600" spc="-1" strike="noStrike">
                <a:solidFill>
                  <a:srgbClr val="c0c0c0"/>
                </a:solidFill>
                <a:latin typeface="SkazkaForSerge"/>
              </a:rPr>
              <a:t>- упр. № 566</a:t>
            </a:r>
            <a:br>
              <a:rPr sz="6600"/>
            </a:br>
            <a:br>
              <a:rPr sz="6600"/>
            </a:br>
            <a:endParaRPr b="0" lang="en-US" sz="6600" spc="-1" strike="noStrike">
              <a:solidFill>
                <a:srgbClr val="c0c0c0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2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5" dur="2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2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5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10920" y="1557360"/>
            <a:ext cx="7918200" cy="317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c0c0"/>
                </a:solidFill>
                <a:latin typeface="SkazkaForSerge"/>
              </a:rPr>
              <a:t>Спасибо за внимание!</a:t>
            </a:r>
            <a:endParaRPr b="0" lang="en-US" sz="8000" spc="-1" strike="noStrike">
              <a:solidFill>
                <a:srgbClr val="c0c0c0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2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4" dur="2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2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5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 txBox="1"/>
          <p:nvPr/>
        </p:nvSpPr>
        <p:spPr>
          <a:xfrm>
            <a:off x="250920" y="549360"/>
            <a:ext cx="4751280" cy="18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65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Карта уро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2195640" y="2781360"/>
            <a:ext cx="1728720" cy="504720"/>
          </a:xfrm>
          <a:prstGeom prst="line">
            <a:avLst/>
          </a:prstGeom>
          <a:ln w="76320">
            <a:solidFill>
              <a:srgbClr val="ff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3635280" y="1989000"/>
            <a:ext cx="151128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80008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Веселые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80008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80008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картинки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80008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checke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5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971640" y="328680"/>
            <a:ext cx="3024000" cy="162252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15760" y="1784520"/>
            <a:ext cx="3468600" cy="7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c0c0"/>
                </a:solidFill>
                <a:latin typeface="Arial"/>
              </a:rPr>
              <a:t>Тащить </a:t>
            </a:r>
            <a:r>
              <a:rPr b="0" i="1" lang="en-US" sz="2000" spc="-1" strike="noStrike">
                <a:solidFill>
                  <a:srgbClr val="c0c0c0"/>
                </a:solidFill>
                <a:latin typeface="Arial"/>
              </a:rPr>
              <a:t>н</a:t>
            </a:r>
            <a:r>
              <a:rPr b="0" i="1" lang="en-US" sz="2000" spc="-1" strike="noStrike" u="sng">
                <a:solidFill>
                  <a:srgbClr val="c0c0c0"/>
                </a:solidFill>
                <a:uFillTx/>
                <a:latin typeface="Arial"/>
              </a:rPr>
              <a:t>ел</a:t>
            </a:r>
            <a:r>
              <a:rPr b="0" i="1" lang="en-US" sz="2000" spc="-1" strike="noStrike">
                <a:solidFill>
                  <a:srgbClr val="c0c0c0"/>
                </a:solidFill>
                <a:latin typeface="Arial"/>
              </a:rPr>
              <a:t>егко (тяжело)</a:t>
            </a:r>
            <a:endParaRPr b="0" lang="en-US" sz="2000" spc="-1" strike="noStrike">
              <a:solidFill>
                <a:srgbClr val="c0c0c0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2"/>
          <a:stretch/>
        </p:blipFill>
        <p:spPr>
          <a:xfrm>
            <a:off x="5005440" y="322200"/>
            <a:ext cx="3022560" cy="162720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3"/>
          <a:stretch/>
        </p:blipFill>
        <p:spPr>
          <a:xfrm>
            <a:off x="971640" y="2417760"/>
            <a:ext cx="3024000" cy="162072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4"/>
          <a:stretch/>
        </p:blipFill>
        <p:spPr>
          <a:xfrm>
            <a:off x="5003640" y="2413080"/>
            <a:ext cx="3024360" cy="162396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5"/>
          <a:stretch/>
        </p:blipFill>
        <p:spPr>
          <a:xfrm>
            <a:off x="971640" y="4651200"/>
            <a:ext cx="3024000" cy="161928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6"/>
          <a:stretch/>
        </p:blipFill>
        <p:spPr>
          <a:xfrm>
            <a:off x="5005440" y="4641840"/>
            <a:ext cx="3022560" cy="162720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4572000" y="1773360"/>
            <a:ext cx="40435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c0c0"/>
                </a:solidFill>
                <a:latin typeface="Arial"/>
              </a:rPr>
              <a:t>Ударить </a:t>
            </a:r>
            <a:r>
              <a:rPr b="0" i="1" lang="en-US" sz="2000" spc="-1" strike="noStrike">
                <a:solidFill>
                  <a:srgbClr val="c0c0c0"/>
                </a:solidFill>
                <a:latin typeface="Arial"/>
              </a:rPr>
              <a:t>н</a:t>
            </a:r>
            <a:r>
              <a:rPr b="0" i="1" lang="en-US" sz="2000" spc="-1" strike="noStrike" u="sng">
                <a:solidFill>
                  <a:srgbClr val="c0c0c0"/>
                </a:solidFill>
                <a:uFillTx/>
                <a:latin typeface="Arial"/>
              </a:rPr>
              <a:t>еч</a:t>
            </a:r>
            <a:r>
              <a:rPr b="0" i="1" lang="en-US" sz="2000" spc="-1" strike="noStrike">
                <a:solidFill>
                  <a:srgbClr val="c0c0c0"/>
                </a:solidFill>
                <a:latin typeface="Arial"/>
              </a:rPr>
              <a:t>аянно, н</a:t>
            </a:r>
            <a:r>
              <a:rPr b="0" i="1" lang="en-US" sz="2000" spc="-1" strike="noStrike" u="sng">
                <a:solidFill>
                  <a:srgbClr val="c0c0c0"/>
                </a:solidFill>
                <a:uFillTx/>
                <a:latin typeface="Arial"/>
              </a:rPr>
              <a:t>ен</a:t>
            </a:r>
            <a:r>
              <a:rPr b="0" i="1" lang="en-US" sz="2000" spc="-1" strike="noStrike">
                <a:solidFill>
                  <a:srgbClr val="c0c0c0"/>
                </a:solidFill>
                <a:latin typeface="Arial"/>
              </a:rPr>
              <a:t>ароко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11280" y="3944880"/>
            <a:ext cx="377964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c0c0"/>
                </a:solidFill>
                <a:latin typeface="Arial"/>
              </a:rPr>
              <a:t>Идти </a:t>
            </a:r>
            <a:r>
              <a:rPr b="0" i="1" lang="en-US" sz="2000" spc="-1" strike="noStrike">
                <a:solidFill>
                  <a:srgbClr val="c0c0c0"/>
                </a:solidFill>
                <a:latin typeface="Arial"/>
              </a:rPr>
              <a:t>н</a:t>
            </a:r>
            <a:r>
              <a:rPr b="0" i="1" lang="en-US" sz="2000" spc="-1" strike="noStrike" u="sng">
                <a:solidFill>
                  <a:srgbClr val="c0c0c0"/>
                </a:solidFill>
                <a:uFillTx/>
                <a:latin typeface="Arial"/>
              </a:rPr>
              <a:t>е б</a:t>
            </a:r>
            <a:r>
              <a:rPr b="0" i="1" lang="en-US" sz="2000" spc="-1" strike="noStrike">
                <a:solidFill>
                  <a:srgbClr val="c0c0c0"/>
                </a:solidFill>
                <a:latin typeface="Arial"/>
              </a:rPr>
              <a:t>ыстро, а медленно</a:t>
            </a:r>
            <a:br>
              <a:rPr sz="2000"/>
            </a:br>
            <a:r>
              <a:rPr b="0" i="1" lang="en-US" sz="2000" spc="-1" strike="noStrike">
                <a:solidFill>
                  <a:srgbClr val="c0c0c0"/>
                </a:solidFill>
                <a:latin typeface="Arial"/>
              </a:rPr>
              <a:t>Говорить н</a:t>
            </a:r>
            <a:r>
              <a:rPr b="0" i="1" lang="en-US" sz="2000" spc="-1" strike="noStrike" u="sng">
                <a:solidFill>
                  <a:srgbClr val="c0c0c0"/>
                </a:solidFill>
                <a:uFillTx/>
                <a:latin typeface="Arial"/>
              </a:rPr>
              <a:t>е </a:t>
            </a:r>
            <a:r>
              <a:rPr b="0" i="1" lang="en-US" sz="2000" spc="-1" strike="noStrike">
                <a:solidFill>
                  <a:srgbClr val="c0c0c0"/>
                </a:solidFill>
                <a:latin typeface="Arial"/>
              </a:rPr>
              <a:t>громко, а тих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898560" y="6176880"/>
            <a:ext cx="3457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c0c0"/>
                </a:solidFill>
                <a:latin typeface="Arial"/>
              </a:rPr>
              <a:t>Вовсе </a:t>
            </a:r>
            <a:r>
              <a:rPr b="0" i="1" lang="en-US" sz="2000" spc="-1" strike="noStrike">
                <a:solidFill>
                  <a:srgbClr val="c0c0c0"/>
                </a:solidFill>
                <a:latin typeface="Arial"/>
              </a:rPr>
              <a:t>н</a:t>
            </a:r>
            <a:r>
              <a:rPr b="0" i="1" lang="en-US" sz="2000" spc="-1" strike="noStrike" u="sng">
                <a:solidFill>
                  <a:srgbClr val="c0c0c0"/>
                </a:solidFill>
                <a:uFillTx/>
                <a:latin typeface="Arial"/>
              </a:rPr>
              <a:t>е б</a:t>
            </a:r>
            <a:r>
              <a:rPr b="0" i="1" lang="en-US" sz="2000" spc="-1" strike="noStrike">
                <a:solidFill>
                  <a:srgbClr val="c0c0c0"/>
                </a:solidFill>
                <a:latin typeface="Arial"/>
              </a:rPr>
              <a:t>лизко</a:t>
            </a:r>
            <a:br>
              <a:rPr sz="2000"/>
            </a:br>
            <a:r>
              <a:rPr b="0" i="1" lang="en-US" sz="2000" spc="-1" strike="noStrike">
                <a:solidFill>
                  <a:srgbClr val="c0c0c0"/>
                </a:solidFill>
                <a:latin typeface="Arial"/>
              </a:rPr>
              <a:t>Дойти ничуть н</a:t>
            </a:r>
            <a:r>
              <a:rPr b="0" i="1" lang="en-US" sz="2000" spc="-1" strike="noStrike" u="sng">
                <a:solidFill>
                  <a:srgbClr val="c0c0c0"/>
                </a:solidFill>
                <a:uFillTx/>
                <a:latin typeface="Arial"/>
              </a:rPr>
              <a:t>е </a:t>
            </a:r>
            <a:r>
              <a:rPr b="0" i="1" lang="en-US" sz="2000" spc="-1" strike="noStrike">
                <a:solidFill>
                  <a:srgbClr val="c0c0c0"/>
                </a:solidFill>
                <a:latin typeface="Arial"/>
              </a:rPr>
              <a:t>тяжел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427640" y="3944880"/>
            <a:ext cx="404316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c0c0"/>
                </a:solidFill>
                <a:latin typeface="Arial"/>
              </a:rPr>
              <a:t>Смотреть </a:t>
            </a:r>
            <a:r>
              <a:rPr b="0" i="1" lang="en-US" sz="2000" spc="-1" strike="noStrike">
                <a:solidFill>
                  <a:srgbClr val="c0c0c0"/>
                </a:solidFill>
                <a:latin typeface="Arial"/>
              </a:rPr>
              <a:t>н</a:t>
            </a:r>
            <a:r>
              <a:rPr b="0" i="1" lang="en-US" sz="2000" spc="-1" strike="noStrike" u="sng">
                <a:solidFill>
                  <a:srgbClr val="c0c0c0"/>
                </a:solidFill>
                <a:uFillTx/>
                <a:latin typeface="Arial"/>
              </a:rPr>
              <a:t>ед</a:t>
            </a:r>
            <a:r>
              <a:rPr b="0" i="1" lang="en-US" sz="2000" spc="-1" strike="noStrike">
                <a:solidFill>
                  <a:srgbClr val="c0c0c0"/>
                </a:solidFill>
                <a:latin typeface="Arial"/>
              </a:rPr>
              <a:t>ружелюбно (враждебно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356000" y="6165720"/>
            <a:ext cx="40435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c0c0"/>
                </a:solidFill>
                <a:latin typeface="Arial"/>
              </a:rPr>
              <a:t>Уйти </a:t>
            </a:r>
            <a:r>
              <a:rPr b="0" i="1" lang="en-US" sz="2000" spc="-1" strike="noStrike">
                <a:solidFill>
                  <a:srgbClr val="c0c0c0"/>
                </a:solidFill>
                <a:latin typeface="Arial"/>
              </a:rPr>
              <a:t>н</a:t>
            </a:r>
            <a:r>
              <a:rPr b="0" i="1" lang="en-US" sz="2000" spc="-1" strike="noStrike" u="sng">
                <a:solidFill>
                  <a:srgbClr val="c0c0c0"/>
                </a:solidFill>
                <a:uFillTx/>
                <a:latin typeface="Arial"/>
              </a:rPr>
              <a:t>ек</a:t>
            </a:r>
            <a:r>
              <a:rPr b="0" i="1" lang="en-US" sz="2000" spc="-1" strike="noStrike">
                <a:solidFill>
                  <a:srgbClr val="c0c0c0"/>
                </a:solidFill>
                <a:latin typeface="Arial"/>
              </a:rPr>
              <a:t>уда</a:t>
            </a:r>
            <a:br>
              <a:rPr sz="2000"/>
            </a:br>
            <a:r>
              <a:rPr b="0" i="1" lang="en-US" sz="2000" spc="-1" strike="noStrike">
                <a:solidFill>
                  <a:srgbClr val="c0c0c0"/>
                </a:solidFill>
                <a:latin typeface="Arial"/>
              </a:rPr>
              <a:t>Спрятаться н</a:t>
            </a:r>
            <a:r>
              <a:rPr b="0" i="1" lang="en-US" sz="2000" spc="-1" strike="noStrike" u="sng">
                <a:solidFill>
                  <a:srgbClr val="c0c0c0"/>
                </a:solidFill>
                <a:uFillTx/>
                <a:latin typeface="Arial"/>
              </a:rPr>
              <a:t>ег</a:t>
            </a:r>
            <a:r>
              <a:rPr b="0" i="1" lang="en-US" sz="2000" spc="-1" strike="noStrike">
                <a:solidFill>
                  <a:srgbClr val="c0c0c0"/>
                </a:solidFill>
                <a:latin typeface="Arial"/>
              </a:rPr>
              <a:t>д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5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2" name=""/>
          <p:cNvGraphicFramePr/>
          <p:nvPr/>
        </p:nvGraphicFramePr>
        <p:xfrm>
          <a:off x="539640" y="1197000"/>
          <a:ext cx="7993080" cy="5256360"/>
        </p:xfrm>
        <a:graphic>
          <a:graphicData uri="http://schemas.openxmlformats.org/drawingml/2006/table">
            <a:tbl>
              <a:tblPr/>
              <a:tblGrid>
                <a:gridCol w="3997440"/>
                <a:gridCol w="3995640"/>
              </a:tblGrid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слитно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раздельно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52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    Если слово без Н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е употребляется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        </a:t>
                      </a:r>
                      <a:r>
                        <a:rPr b="1" i="1" lang="en-US" sz="16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Неряшливо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     НЕ придаёт слову противоположное значение, и получившееся слово можно заменить синонимом без Н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       </a:t>
                      </a:r>
                      <a:r>
                        <a:rPr b="1" i="1" lang="en-US" sz="16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Неглубоко (мелко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*   Отрицательные наречия с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   </a:t>
                      </a:r>
                      <a:r>
                        <a:rPr b="1" i="1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НЕ пишутся всегда слитн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6040" indent="-17604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176040" indent="-17604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176040" indent="-17604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176040" indent="-17604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 В предложении есть или подразумевается противопоставление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176040" indent="-176040"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Не быстро, а медленно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176040" indent="-17604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 Отрицание усилено словами </a:t>
                      </a: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овсе не, отнюдь не, далеко не, нисколько не, ничуть н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176040" indent="-17604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16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Вовсе не красиво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176040" indent="-17604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176040" indent="-17604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176040" indent="-176040">
                        <a:spcBef>
                          <a:spcPts val="451"/>
                        </a:spcBef>
                        <a:buClr>
                          <a:srgbClr val="99ccff"/>
                        </a:buClr>
                        <a:buSzPct val="8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Наречия не на –о (-е)  с  НЕ пишутся раздельн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3" name=""/>
          <p:cNvSpPr txBox="1"/>
          <p:nvPr/>
        </p:nvSpPr>
        <p:spPr>
          <a:xfrm>
            <a:off x="2124000" y="334800"/>
            <a:ext cx="4680000" cy="64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Запомни!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3"/>
          <a:stretch/>
        </p:blipFill>
        <p:spPr>
          <a:xfrm>
            <a:off x="395280" y="-243000"/>
            <a:ext cx="1346040" cy="1629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4"/>
          <a:stretch/>
        </p:blipFill>
        <p:spPr>
          <a:xfrm flipH="1">
            <a:off x="7092720" y="0"/>
            <a:ext cx="1369800" cy="161136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 txBox="1"/>
          <p:nvPr/>
        </p:nvSpPr>
        <p:spPr>
          <a:xfrm>
            <a:off x="2773440" y="2060640"/>
            <a:ext cx="331128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Наречия на -О, -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39640" y="5445000"/>
            <a:ext cx="7993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2050920" y="2421000"/>
            <a:ext cx="936720" cy="43164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435640" y="2421000"/>
            <a:ext cx="649080" cy="43164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5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 txBox="1"/>
          <p:nvPr/>
        </p:nvSpPr>
        <p:spPr>
          <a:xfrm>
            <a:off x="250920" y="549360"/>
            <a:ext cx="4751280" cy="18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65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Карта уро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2195640" y="2781360"/>
            <a:ext cx="1728720" cy="504720"/>
          </a:xfrm>
          <a:prstGeom prst="line">
            <a:avLst/>
          </a:prstGeom>
          <a:ln w="76320">
            <a:solidFill>
              <a:srgbClr val="ff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3635280" y="1989000"/>
            <a:ext cx="151128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80008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Веселые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80008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80008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картинки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80008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227640" y="1628640"/>
            <a:ext cx="12258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80008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Эрудит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80008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219640" y="2133720"/>
            <a:ext cx="1008000" cy="287280"/>
          </a:xfrm>
          <a:prstGeom prst="line">
            <a:avLst/>
          </a:prstGeom>
          <a:ln w="76320">
            <a:solidFill>
              <a:srgbClr val="ff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5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250920" y="404640"/>
            <a:ext cx="230508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о горизонтали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1. трудно - 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2. легкомысленно - 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3. внезапно - …</a:t>
            </a: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4. встревоженно - 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5. срочно - 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6. спокойно - 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7. тихо - 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067280" y="2349360"/>
            <a:ext cx="288720" cy="28908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914560" y="2349360"/>
            <a:ext cx="289080" cy="28908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201840" y="2349360"/>
            <a:ext cx="289080" cy="28908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489480" y="2349360"/>
            <a:ext cx="288720" cy="28908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778200" y="2349360"/>
            <a:ext cx="289080" cy="28908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п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354560" y="2349360"/>
            <a:ext cx="288720" cy="28908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643280" y="2349360"/>
            <a:ext cx="289080" cy="28908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930920" y="2349360"/>
            <a:ext cx="288720" cy="28908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219640" y="2349360"/>
            <a:ext cx="289080" cy="28908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5506920" y="2349360"/>
            <a:ext cx="289080" cy="28908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914560" y="2637000"/>
            <a:ext cx="289080" cy="2887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914560" y="2925720"/>
            <a:ext cx="289080" cy="28908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г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914560" y="3213000"/>
            <a:ext cx="289080" cy="28908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916360" y="3498840"/>
            <a:ext cx="288720" cy="28908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913120" y="3789360"/>
            <a:ext cx="288720" cy="28908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б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914560" y="4076640"/>
            <a:ext cx="289080" cy="28908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914560" y="4365720"/>
            <a:ext cx="289080" cy="2887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913120" y="4653000"/>
            <a:ext cx="288720" cy="2887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218200" y="3789360"/>
            <a:ext cx="288720" cy="28908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з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5218200" y="4078440"/>
            <a:ext cx="288720" cy="2887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5218200" y="2637000"/>
            <a:ext cx="288720" cy="2887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218200" y="2925720"/>
            <a:ext cx="288720" cy="28908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б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218200" y="3213000"/>
            <a:ext cx="288720" cy="28908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5218200" y="3502080"/>
            <a:ext cx="288720" cy="2887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627280" y="4076640"/>
            <a:ext cx="289080" cy="28908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2340000" y="4076640"/>
            <a:ext cx="289080" cy="28908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ш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0920" y="4076640"/>
            <a:ext cx="289080" cy="28908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762200" y="4075200"/>
            <a:ext cx="288720" cy="2887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898560" y="4076640"/>
            <a:ext cx="288720" cy="28908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1187280" y="4076640"/>
            <a:ext cx="289080" cy="28908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1474920" y="4076640"/>
            <a:ext cx="288720" cy="28908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763640" y="3211560"/>
            <a:ext cx="289080" cy="2887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763640" y="2924280"/>
            <a:ext cx="289080" cy="2887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763640" y="3789360"/>
            <a:ext cx="289080" cy="28908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763640" y="3500280"/>
            <a:ext cx="289080" cy="28908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1763640" y="4363920"/>
            <a:ext cx="289080" cy="28908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1765440" y="4653000"/>
            <a:ext cx="288720" cy="2887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763640" y="4940280"/>
            <a:ext cx="289080" cy="28908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3201840" y="1197000"/>
            <a:ext cx="289080" cy="28908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490920" y="1197000"/>
            <a:ext cx="289080" cy="28908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778200" y="1197000"/>
            <a:ext cx="289080" cy="28908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067280" y="1197000"/>
            <a:ext cx="288720" cy="28908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4356000" y="1197000"/>
            <a:ext cx="289080" cy="28908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г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4643280" y="1197000"/>
            <a:ext cx="289080" cy="28908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930920" y="1197000"/>
            <a:ext cx="288720" cy="28908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067280" y="909720"/>
            <a:ext cx="288720" cy="2887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067280" y="1486080"/>
            <a:ext cx="288720" cy="2887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067280" y="1773360"/>
            <a:ext cx="288720" cy="2887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067280" y="2062080"/>
            <a:ext cx="288720" cy="28908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4067280" y="2637000"/>
            <a:ext cx="288720" cy="2887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067280" y="2925720"/>
            <a:ext cx="288720" cy="28908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4067280" y="3213000"/>
            <a:ext cx="288720" cy="28908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067280" y="3502080"/>
            <a:ext cx="288720" cy="2887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067280" y="3789360"/>
            <a:ext cx="288720" cy="28908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067280" y="4078440"/>
            <a:ext cx="288720" cy="2887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625840" y="1773360"/>
            <a:ext cx="288720" cy="2887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914560" y="1773360"/>
            <a:ext cx="289080" cy="2887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201840" y="1773360"/>
            <a:ext cx="289080" cy="2887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489480" y="1773360"/>
            <a:ext cx="288720" cy="2887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ж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778200" y="1773360"/>
            <a:ext cx="289080" cy="2887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354560" y="1773360"/>
            <a:ext cx="288720" cy="2887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4643280" y="1773360"/>
            <a:ext cx="289080" cy="2887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930920" y="1773360"/>
            <a:ext cx="288720" cy="2887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218200" y="1773360"/>
            <a:ext cx="288720" cy="2887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354560" y="3789360"/>
            <a:ext cx="288720" cy="28908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4643280" y="3789360"/>
            <a:ext cx="289080" cy="28908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4930920" y="3789360"/>
            <a:ext cx="288720" cy="28908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065480" y="620640"/>
            <a:ext cx="2890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3300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913120" y="1197000"/>
            <a:ext cx="2887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33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5506920" y="1197000"/>
            <a:ext cx="2890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33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556000" y="2347920"/>
            <a:ext cx="2887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33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916360" y="2060640"/>
            <a:ext cx="28872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3300"/>
                </a:solidFill>
                <a:latin typeface="Arial"/>
              </a:rPr>
              <a:t>9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780000" y="3789360"/>
            <a:ext cx="2887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3300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5796000" y="2925720"/>
            <a:ext cx="2887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3300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5219640" y="2060640"/>
            <a:ext cx="289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3300"/>
                </a:solidFill>
                <a:latin typeface="Arial"/>
              </a:rPr>
              <a:t>1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12720" y="4076640"/>
            <a:ext cx="2890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3300"/>
                </a:solidFill>
                <a:latin typeface="Arial"/>
              </a:rPr>
              <a:t>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1765440" y="2635200"/>
            <a:ext cx="2887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3300"/>
                </a:solidFill>
                <a:latin typeface="Arial"/>
              </a:rPr>
              <a:t>8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5505480" y="3789360"/>
            <a:ext cx="288720" cy="28908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5794200" y="3789360"/>
            <a:ext cx="289080" cy="28908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6083280" y="3789360"/>
            <a:ext cx="289080" cy="28908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6370560" y="3789360"/>
            <a:ext cx="289080" cy="28908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6659640" y="3789360"/>
            <a:ext cx="288720" cy="28908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6945480" y="3789360"/>
            <a:ext cx="288720" cy="28908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6946920" y="3502080"/>
            <a:ext cx="289080" cy="2887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946920" y="3213000"/>
            <a:ext cx="289080" cy="28908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6945480" y="2924280"/>
            <a:ext cx="288720" cy="2887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6946920" y="2637000"/>
            <a:ext cx="289080" cy="2887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6946920" y="2349360"/>
            <a:ext cx="289080" cy="28908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ж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6945480" y="2060640"/>
            <a:ext cx="288720" cy="2887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6946920" y="1773360"/>
            <a:ext cx="289080" cy="2887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6945480" y="1484280"/>
            <a:ext cx="288720" cy="28908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6946920" y="1197000"/>
            <a:ext cx="289080" cy="28908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946920" y="909720"/>
            <a:ext cx="289080" cy="2887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п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946920" y="620640"/>
            <a:ext cx="289080" cy="28908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6946920" y="333360"/>
            <a:ext cx="289080" cy="28908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659640" y="2925720"/>
            <a:ext cx="288720" cy="28908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6081840" y="2925720"/>
            <a:ext cx="288720" cy="28908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370560" y="2925720"/>
            <a:ext cx="289080" cy="28908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7234200" y="2925720"/>
            <a:ext cx="289080" cy="28908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7521480" y="2925720"/>
            <a:ext cx="289080" cy="28908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7810560" y="2925720"/>
            <a:ext cx="288720" cy="28908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8101080" y="2925720"/>
            <a:ext cx="288720" cy="28908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8388360" y="2925720"/>
            <a:ext cx="289080" cy="28908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8675640" y="2925720"/>
            <a:ext cx="289080" cy="28908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792760" y="1197000"/>
            <a:ext cx="289080" cy="28908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6081840" y="1197000"/>
            <a:ext cx="288720" cy="28908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6369120" y="1197000"/>
            <a:ext cx="288720" cy="28908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6657840" y="1197000"/>
            <a:ext cx="289080" cy="28908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7234200" y="1197000"/>
            <a:ext cx="289080" cy="28908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7523280" y="1197000"/>
            <a:ext cx="288720" cy="28908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7810560" y="1197000"/>
            <a:ext cx="288720" cy="28908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з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8099280" y="1197000"/>
            <a:ext cx="289080" cy="28908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8388360" y="1197000"/>
            <a:ext cx="289080" cy="28908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6732720" y="4581360"/>
            <a:ext cx="18716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По вертикали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8. близко - 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9. мелко - 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10. много раз - 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11. далеко - 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12. свободно -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3203640" y="4724280"/>
            <a:ext cx="3456000" cy="172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Кроссворд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6948360" y="0"/>
            <a:ext cx="2890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3300"/>
                </a:solidFill>
                <a:latin typeface="Arial"/>
              </a:rPr>
              <a:t>1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2338560" y="1773360"/>
            <a:ext cx="28872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33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500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" dur="5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500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" dur="500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7" dur="500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" dur="5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" dur="50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" dur="50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" dur="50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7" dur="50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0" dur="5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500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8" dur="500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1" dur="500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4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7" dur="500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0" dur="500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500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6" dur="500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1" dur="50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4" dur="500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7" dur="50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" dur="500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3" dur="5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8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1" dur="500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7" dur="500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0" dur="500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6" dur="500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9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2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500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5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65" name=""/>
          <p:cNvSpPr txBox="1"/>
          <p:nvPr/>
        </p:nvSpPr>
        <p:spPr>
          <a:xfrm>
            <a:off x="250920" y="549360"/>
            <a:ext cx="4751280" cy="18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65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Карта уро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366" name=""/>
          <p:cNvSpPr/>
          <p:nvPr/>
        </p:nvSpPr>
        <p:spPr>
          <a:xfrm flipV="1">
            <a:off x="2195640" y="2781360"/>
            <a:ext cx="1728720" cy="504720"/>
          </a:xfrm>
          <a:prstGeom prst="line">
            <a:avLst/>
          </a:prstGeom>
          <a:ln w="76320">
            <a:solidFill>
              <a:srgbClr val="ff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3635280" y="1989000"/>
            <a:ext cx="151128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80008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Веселые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80008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80008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картинки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80008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6227640" y="1628640"/>
            <a:ext cx="12258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80008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Эрудит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80008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69" name=""/>
          <p:cNvSpPr/>
          <p:nvPr/>
        </p:nvSpPr>
        <p:spPr>
          <a:xfrm flipV="1">
            <a:off x="5219640" y="2133720"/>
            <a:ext cx="1008000" cy="287280"/>
          </a:xfrm>
          <a:prstGeom prst="line">
            <a:avLst/>
          </a:prstGeom>
          <a:ln w="76320">
            <a:solidFill>
              <a:srgbClr val="ff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 flipH="1">
            <a:off x="4427280" y="2205000"/>
            <a:ext cx="2376360" cy="1511280"/>
          </a:xfrm>
          <a:prstGeom prst="line">
            <a:avLst/>
          </a:prstGeom>
          <a:ln w="76320">
            <a:solidFill>
              <a:srgbClr val="ff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3635280" y="3429000"/>
            <a:ext cx="151128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80008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Волшебные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80008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80008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квадраты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80008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checker dir="horz"/>
  </p:transition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5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5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2" name=""/>
          <p:cNvGraphicFramePr/>
          <p:nvPr/>
        </p:nvGraphicFramePr>
        <p:xfrm>
          <a:off x="468360" y="244440"/>
          <a:ext cx="8229600" cy="58485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1461600"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не)хорошо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не)ожиданно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не)крепко, а слабо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не)всерьёз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63400"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не)чаянно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не)принужденно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не)трудно, а легко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овсем (не)весело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61600"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тнюдь (не)спокойно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не)быстро,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 медленно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не)брежно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не)по-моему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61960"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не)куда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овсе (не)интересно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не)ярко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не)зачем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3" name=""/>
          <p:cNvSpPr/>
          <p:nvPr/>
        </p:nvSpPr>
        <p:spPr>
          <a:xfrm>
            <a:off x="468360" y="260280"/>
            <a:ext cx="2087640" cy="14400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468360" y="3213000"/>
            <a:ext cx="2089080" cy="1582920"/>
          </a:xfrm>
          <a:prstGeom prst="rect">
            <a:avLst/>
          </a:prstGeom>
          <a:solidFill>
            <a:srgbClr val="33cc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468360" y="4653000"/>
            <a:ext cx="2089080" cy="144000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6588000" y="3213000"/>
            <a:ext cx="2089440" cy="151308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6588000" y="1700280"/>
            <a:ext cx="2089440" cy="1512720"/>
          </a:xfrm>
          <a:prstGeom prst="rect">
            <a:avLst/>
          </a:prstGeom>
          <a:solidFill>
            <a:srgbClr val="33cc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6588000" y="260280"/>
            <a:ext cx="2089440" cy="144000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2556000" y="260280"/>
            <a:ext cx="2016000" cy="151308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4572000" y="3213000"/>
            <a:ext cx="2016000" cy="151128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4572000" y="260280"/>
            <a:ext cx="2016000" cy="151308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4572000" y="4653000"/>
            <a:ext cx="2016000" cy="1440000"/>
          </a:xfrm>
          <a:prstGeom prst="rect">
            <a:avLst/>
          </a:prstGeom>
          <a:solidFill>
            <a:srgbClr val="33cc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2556000" y="1700280"/>
            <a:ext cx="2016000" cy="1511280"/>
          </a:xfrm>
          <a:prstGeom prst="rect">
            <a:avLst/>
          </a:prstGeom>
          <a:solidFill>
            <a:srgbClr val="33cc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556000" y="3213000"/>
            <a:ext cx="2016000" cy="151308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4572000" y="1700280"/>
            <a:ext cx="2016000" cy="151272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556000" y="4653000"/>
            <a:ext cx="2016000" cy="144144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588000" y="4653000"/>
            <a:ext cx="2089440" cy="144144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68360" y="1700280"/>
            <a:ext cx="2087640" cy="151272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xit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3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4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xit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3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4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xit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3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4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xit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3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4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xit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39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4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xit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4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4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xit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40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4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xit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4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4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xit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4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4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xit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4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4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xit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4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4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xit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4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4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xit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4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4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xit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4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4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xit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4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4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xit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4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4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5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0" name=""/>
          <p:cNvSpPr txBox="1"/>
          <p:nvPr/>
        </p:nvSpPr>
        <p:spPr>
          <a:xfrm>
            <a:off x="250920" y="549360"/>
            <a:ext cx="4751280" cy="18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65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Карта уро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391" name=""/>
          <p:cNvSpPr/>
          <p:nvPr/>
        </p:nvSpPr>
        <p:spPr>
          <a:xfrm flipV="1">
            <a:off x="2195640" y="2781360"/>
            <a:ext cx="1728720" cy="504720"/>
          </a:xfrm>
          <a:prstGeom prst="line">
            <a:avLst/>
          </a:prstGeom>
          <a:ln w="76320">
            <a:solidFill>
              <a:srgbClr val="ff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3635280" y="1989000"/>
            <a:ext cx="151128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80008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Веселые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80008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80008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картинки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80008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6227640" y="1628640"/>
            <a:ext cx="12258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80008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Эрудит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80008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94" name=""/>
          <p:cNvSpPr/>
          <p:nvPr/>
        </p:nvSpPr>
        <p:spPr>
          <a:xfrm flipV="1">
            <a:off x="5219640" y="2133720"/>
            <a:ext cx="1008000" cy="287280"/>
          </a:xfrm>
          <a:prstGeom prst="line">
            <a:avLst/>
          </a:prstGeom>
          <a:ln w="76320">
            <a:solidFill>
              <a:srgbClr val="ff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 flipH="1">
            <a:off x="4427280" y="2205000"/>
            <a:ext cx="2376360" cy="1511280"/>
          </a:xfrm>
          <a:prstGeom prst="line">
            <a:avLst/>
          </a:prstGeom>
          <a:ln w="76320">
            <a:solidFill>
              <a:srgbClr val="ff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3635280" y="3429000"/>
            <a:ext cx="151128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80008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Волшебные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80008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80008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квадраты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80008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6167520" y="2637000"/>
            <a:ext cx="1573200" cy="100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2661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80008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Четвертый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80008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80008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лишний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80008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98" name=""/>
          <p:cNvSpPr/>
          <p:nvPr/>
        </p:nvSpPr>
        <p:spPr>
          <a:xfrm flipV="1">
            <a:off x="5003640" y="3429000"/>
            <a:ext cx="1297080" cy="504720"/>
          </a:xfrm>
          <a:prstGeom prst="line">
            <a:avLst/>
          </a:prstGeom>
          <a:ln w="76320">
            <a:solidFill>
              <a:srgbClr val="ff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3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2T11:32:58Z</dcterms:created>
  <dc:creator>Irina</dc:creator>
  <dc:description/>
  <dc:language>en-US</dc:language>
  <cp:lastModifiedBy>Customer</cp:lastModifiedBy>
  <dcterms:modified xsi:type="dcterms:W3CDTF">2010-02-16T15:40:48Z</dcterms:modified>
  <cp:revision>107</cp:revision>
  <dc:subject/>
  <dc:title>Слайд 1</dc:title>
</cp:coreProperties>
</file>