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9D4-F5E4-4B1E-A13B-ADEEBF3E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D51-107F-43D5-95A1-6F31C658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C0A-A060-47CD-A44F-5F67135F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510-8588-4FD2-823B-CD036CBA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283-35BA-458A-AAC2-0CBC6A3C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18EC-CE81-4D00-98F9-44CC93C7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0EF6-2545-4726-A48A-3D18168C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B25D-20AB-438B-9122-D9A2D376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E696-43F3-4297-AFC7-1B47585B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0468-41EC-4E47-9838-FD9A7AD0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C722-22CF-4EB6-B431-B14CBDB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149-6157-4681-BA47-22D732D1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2D2C-C534-42F4-94B8-401AFF6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DA43-A526-4B58-B0C3-C2BCE569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96AC-AB13-4C21-A6BB-43CB4BCE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0604-C045-43AB-A1B5-AB81AABF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FA9E-6B5A-424D-8B37-12F5F437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31B-506A-44A0-AFD5-E4C498C6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23F-578E-431E-8DC6-7EBF7E86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72A-B2B7-4059-8451-975D2358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805-7965-4836-9377-A30695B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E86-B0B5-41EF-AE62-ED39F8BC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3A8-EA6A-4299-971F-A15D5F3F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12D-82B6-42AD-A140-AA33F70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1FF-A0B7-419D-AB56-6738B229DA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371B-5176-4F12-BF88-F5FE93FF8E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35280" y="4005360"/>
            <a:ext cx="2016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>
                  <a:alpha val="55294"/>
                </a:srgbClr>
              </a:gs>
              <a:gs pos="50000">
                <a:srgbClr val="00254a"/>
              </a:gs>
              <a:gs pos="100000">
                <a:srgbClr val="66ffff">
                  <a:alpha val="55294"/>
                </a:srgbClr>
              </a:gs>
            </a:gsLst>
            <a:lin ang="5400000"/>
          </a:gradFill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8000" y="404640"/>
            <a:ext cx="7993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описа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 с наречиями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07040" y="3941640"/>
            <a:ext cx="2568600" cy="2295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36680" y="2924280"/>
            <a:ext cx="2151000" cy="3600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843280" y="4197240"/>
            <a:ext cx="3024000" cy="201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39640" y="1916280"/>
            <a:ext cx="475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сложно,  а  легк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1280" y="4221000"/>
            <a:ext cx="468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 редко, а   част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70828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ясно, а   правиль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40360" y="4938840"/>
            <a:ext cx="446400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много, а  мал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332000" y="549360"/>
            <a:ext cx="62643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вёртый лишни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028000" y="620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227640" y="1844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77080" y="400536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606680" y="3573360"/>
            <a:ext cx="661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119700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614680" y="558972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1916280"/>
            <a:ext cx="475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бреж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1280" y="4221000"/>
            <a:ext cx="468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наст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140360" y="270828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годующ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40360" y="5011560"/>
            <a:ext cx="446400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смел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332000" y="549360"/>
            <a:ext cx="62643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вёртый лишни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028000" y="620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27640" y="1844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77080" y="400536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606680" y="3573360"/>
            <a:ext cx="661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95280" y="119700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614680" y="558972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916280"/>
            <a:ext cx="475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к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1280" y="4149720"/>
            <a:ext cx="4681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ку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140360" y="270828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ког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140360" y="5011560"/>
            <a:ext cx="446400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гд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332000" y="549360"/>
            <a:ext cx="62643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вёртый лишни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028000" y="620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227640" y="1844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77080" y="400536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606680" y="3573360"/>
            <a:ext cx="661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95280" y="119700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614680" y="558972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427280" y="2205000"/>
            <a:ext cx="2376360" cy="1511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300720" y="2421000"/>
            <a:ext cx="1573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тверт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ш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12000" y="4076640"/>
            <a:ext cx="129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мот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716360" y="3357720"/>
            <a:ext cx="1727280" cy="7920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421080" y="3500280"/>
            <a:ext cx="15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516720" y="3284640"/>
            <a:ext cx="719280" cy="93636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 навестим поля пустые, леса, (не)давно столь густые… (А. Пушкин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усака убежала на край сада и оттуда (не)отступно глядела на видимый ей уголок террасы. (Л. Андреев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Новые знакомства в лесу происходят (не)редко, а довольно часто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глядываясь в растительный мир, окружающий нас, мы делаем (не)обыкновенно интересные открыт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алитку отворив чуть-чуть, выходит девушка (не)смело. (Н. Некрасов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права от нас, (не)далеко, а где-то близко, журчал ручеек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дти, хоть и в темноте, по знакомой дороге было ничуть (не)страшн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На улице хоть и (не)настно, но на душе светл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5280" y="404640"/>
            <a:ext cx="849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ческий диктан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195640" y="40464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вет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4324320"/>
            <a:ext cx="532764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Критерии оценки диктан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«5» - нет ошиб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«4» - 1-2 ошиб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«3» - 3-4 ошиб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9036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3300"/>
                </a:solidFill>
                <a:latin typeface="Arial"/>
              </a:rPr>
              <a:t>1.+     3.-     5.+     7.- </a:t>
            </a:r>
            <a:br>
              <a:rPr sz="5200"/>
            </a:br>
            <a:r>
              <a:rPr b="1" lang="en-US" sz="5200" spc="-1" strike="noStrike">
                <a:solidFill>
                  <a:srgbClr val="ff3300"/>
                </a:solidFill>
                <a:latin typeface="Arial"/>
              </a:rPr>
              <a:t>2.+     4.+    6.-      8.+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427280" y="2205000"/>
            <a:ext cx="2376360" cy="1511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300720" y="2421000"/>
            <a:ext cx="1573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тверт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ш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012000" y="4076640"/>
            <a:ext cx="129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мот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16360" y="3357720"/>
            <a:ext cx="1727280" cy="7920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421080" y="3500280"/>
            <a:ext cx="15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516720" y="3284640"/>
            <a:ext cx="719280" cy="93636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59640" y="4724280"/>
            <a:ext cx="73080" cy="720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55640" y="907560"/>
            <a:ext cx="6189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SkazkaForSerge"/>
              </a:rPr>
              <a:t>Составьте текст-миниатюру,</a:t>
            </a:r>
            <a:br>
              <a:rPr sz="3000"/>
            </a:br>
            <a:r>
              <a:rPr b="0" lang="en-US" sz="3000" spc="-1" strike="noStrike">
                <a:solidFill>
                  <a:srgbClr val="33ccff"/>
                </a:solidFill>
                <a:latin typeface="SkazkaForSerge"/>
              </a:rPr>
              <a:t>использовав в нём </a:t>
            </a:r>
            <a:br>
              <a:rPr sz="3000"/>
            </a:br>
            <a:r>
              <a:rPr b="0" lang="en-US" sz="3000" spc="-1" strike="noStrike">
                <a:solidFill>
                  <a:srgbClr val="33ccff"/>
                </a:solidFill>
                <a:latin typeface="SkazkaForSerge"/>
              </a:rPr>
              <a:t>как можно больше </a:t>
            </a:r>
            <a:br>
              <a:rPr sz="3000"/>
            </a:br>
            <a:r>
              <a:rPr b="0" lang="en-US" sz="3000" spc="-1" strike="noStrike">
                <a:solidFill>
                  <a:srgbClr val="33ccff"/>
                </a:solidFill>
                <a:latin typeface="SkazkaForSerge"/>
              </a:rPr>
              <a:t>слов с частицей НЕ</a:t>
            </a:r>
            <a:endParaRPr b="0" lang="en-US" sz="3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0c0c0"/>
                </a:solidFill>
                <a:uFillTx/>
                <a:latin typeface="SkazkaForSerge"/>
              </a:rPr>
              <a:t>Домашнее задание:</a:t>
            </a:r>
            <a:br>
              <a:rPr sz="7200"/>
            </a:br>
            <a:r>
              <a:rPr b="0" lang="en-US" sz="6600" spc="-1" strike="noStrike">
                <a:solidFill>
                  <a:srgbClr val="c0c0c0"/>
                </a:solidFill>
                <a:latin typeface="SkazkaForSerge"/>
              </a:rPr>
              <a:t>- теория –стр.37-38</a:t>
            </a:r>
            <a:br>
              <a:rPr sz="6600"/>
            </a:br>
            <a:r>
              <a:rPr b="0" lang="en-US" sz="6600" spc="-1" strike="noStrike">
                <a:solidFill>
                  <a:srgbClr val="c0c0c0"/>
                </a:solidFill>
                <a:latin typeface="SkazkaForSerge"/>
              </a:rPr>
              <a:t>- упр. № 566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79182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c0c0"/>
                </a:solidFill>
                <a:latin typeface="SkazkaForSerge"/>
              </a:rPr>
              <a:t>Спасибо за внимание!</a:t>
            </a:r>
            <a:endParaRPr b="0" lang="en-US" sz="8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71640" y="328680"/>
            <a:ext cx="3024000" cy="1622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15760" y="1784520"/>
            <a:ext cx="3468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Тащить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л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егко (тяжело)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005440" y="322200"/>
            <a:ext cx="3022560" cy="1627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971640" y="2417760"/>
            <a:ext cx="3024000" cy="1620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003640" y="2413080"/>
            <a:ext cx="3024360" cy="1623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71640" y="4651200"/>
            <a:ext cx="3024000" cy="16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005440" y="4641840"/>
            <a:ext cx="3022560" cy="1627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0" y="1773360"/>
            <a:ext cx="4043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Ударить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ч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аянно, 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н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аро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3944880"/>
            <a:ext cx="3779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Идти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 б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ыстро, а медленно</a:t>
            </a:r>
            <a:br>
              <a:rPr sz="2000"/>
            </a:b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Говорить 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громко, а ти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8560" y="6176880"/>
            <a:ext cx="3457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Вовсе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 б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лизко</a:t>
            </a:r>
            <a:br>
              <a:rPr sz="2000"/>
            </a:b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Дойти ничуть 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тяже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944880"/>
            <a:ext cx="4043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Смотреть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д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ружелюбно (враждеб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6165720"/>
            <a:ext cx="404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Уйти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к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уда</a:t>
            </a:r>
            <a:br>
              <a:rPr sz="2000"/>
            </a:b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Спрятаться 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г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539640" y="1197000"/>
          <a:ext cx="7993080" cy="525636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слитн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раздельн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   Если слово без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употребляетс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еряшли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    НЕ придаёт слову противоположное значение, и получившееся слово можно заменить синонимом без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</a:t>
                      </a: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еглубоко (мелк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*   Отрицательные наречия 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Е пишутся всегда слит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 предложении есть или подразумевается противопоставл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е быстро, а медле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Отрицание усилено словами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все не, отнюдь не, далеко не, нисколько не, ничуть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овсе не краси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речия не на –о (-е)  с  НЕ пишутся разд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 txBox="1"/>
          <p:nvPr/>
        </p:nvSpPr>
        <p:spPr>
          <a:xfrm>
            <a:off x="2124000" y="334800"/>
            <a:ext cx="4680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95280" y="-243000"/>
            <a:ext cx="1346040" cy="1629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 flipH="1">
            <a:off x="7092720" y="0"/>
            <a:ext cx="1369800" cy="1611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773440" y="2060640"/>
            <a:ext cx="3311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речия на -О, -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5445000"/>
            <a:ext cx="79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050920" y="2421000"/>
            <a:ext cx="936720" cy="43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2421000"/>
            <a:ext cx="649080" cy="43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50920" y="404640"/>
            <a:ext cx="2305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. труд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. легкомыслен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. внезапно - …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. встревожен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5. сроч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6. спокой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7. тих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234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1456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184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89480" y="234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7820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4560" y="234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4328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30920" y="234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964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692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14560" y="263700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1456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4560" y="3213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16360" y="349884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1312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456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14560" y="436572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3120" y="46530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1820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8200" y="407844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8200" y="26370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1820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18200" y="3213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18200" y="350208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728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092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62200" y="40752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98560" y="407664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4920" y="407664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3640" y="32115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292428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6364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63640" y="350028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63640" y="43639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65440" y="46530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494028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184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7820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6728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600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3092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7280" y="90972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67280" y="148608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6728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67280" y="206208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67280" y="26370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06728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3213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7280" y="350208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6728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67280" y="407844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2584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1456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184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8948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7820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5456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092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1820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5456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3092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65480" y="62064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13120" y="119700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06920" y="119700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34792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16360" y="2060640"/>
            <a:ext cx="28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80000" y="378936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96000" y="292572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19640" y="2060640"/>
            <a:ext cx="289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2720" y="407664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65440" y="263520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0548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420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8328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7056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5964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4548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46920" y="350208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46920" y="3213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45480" y="292428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6920" y="263700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692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45480" y="206064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4692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45480" y="148428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4692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6920" y="90972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46920" y="620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46920" y="333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65964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8184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3420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148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1056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10108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836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67564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276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8184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6912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5784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420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2328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056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9928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836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32720" y="4581360"/>
            <a:ext cx="187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 вертикал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8. близк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9. мелк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0. много раз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1. далек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2. свободно 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03640" y="4724280"/>
            <a:ext cx="3456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россвор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948360" y="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38560" y="1773360"/>
            <a:ext cx="28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427280" y="2205000"/>
            <a:ext cx="2376360" cy="1511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635280" y="3429000"/>
            <a:ext cx="15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68360" y="244440"/>
          <a:ext cx="8229600" cy="5848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616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хорош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ожидан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крепко, а слаб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всерьё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чаян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принужден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трудно, а легк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сем (не)весел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16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юдь (не)спокой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быстро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 медлен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бреж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по-моем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ку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все (не)интерес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ярк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заче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468360" y="260280"/>
            <a:ext cx="208764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3213000"/>
            <a:ext cx="2089080" cy="15829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4653000"/>
            <a:ext cx="2089080" cy="1440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88000" y="3213000"/>
            <a:ext cx="2089440" cy="1513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88000" y="1700280"/>
            <a:ext cx="2089440" cy="15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260280"/>
            <a:ext cx="2089440" cy="1440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56000" y="260280"/>
            <a:ext cx="2016000" cy="1513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213000"/>
            <a:ext cx="2016000" cy="15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60280"/>
            <a:ext cx="2016000" cy="1513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4653000"/>
            <a:ext cx="2016000" cy="1440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56000" y="1700280"/>
            <a:ext cx="2016000" cy="1511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56000" y="3213000"/>
            <a:ext cx="2016000" cy="1513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1700280"/>
            <a:ext cx="201600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56000" y="4653000"/>
            <a:ext cx="2016000" cy="1441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88000" y="4653000"/>
            <a:ext cx="208944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1700280"/>
            <a:ext cx="2087640" cy="1512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427280" y="2205000"/>
            <a:ext cx="2376360" cy="1511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635280" y="3429000"/>
            <a:ext cx="15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67520" y="2637000"/>
            <a:ext cx="15732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тверт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ш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003640" y="3429000"/>
            <a:ext cx="129708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1:32:58Z</dcterms:created>
  <dc:creator>Irina</dc:creator>
  <dc:description/>
  <dc:language>en-US</dc:language>
  <cp:lastModifiedBy>Customer</cp:lastModifiedBy>
  <dcterms:modified xsi:type="dcterms:W3CDTF">2010-02-16T15:40:48Z</dcterms:modified>
  <cp:revision>107</cp:revision>
  <dc:subject/>
  <dc:title>Слайд 1</dc:title>
</cp:coreProperties>
</file>