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bomb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DFE-4DD4-4DA5-ABD8-9E944A1B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9BF-5B19-4B95-823D-B00272D5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6E1-9DF3-4B12-A34C-68D1B464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DBB-68E5-4A1F-8D62-E5008AA9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A964-1B73-464D-B5AB-CFA4480C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55DDE-6496-425B-8299-28958F45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DA532-D22C-4B06-98A9-3D402AB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36132-9ACC-4B9F-A113-1E570D4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093CE-C646-46C2-B70F-D676A9FE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BD6E-613C-4B3E-980F-4FBBAE8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7A2D-3B9B-472E-A82B-F9F966E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E41-0BA5-4CB8-9DF4-6807630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DBB2D-54A3-4E5A-8ED0-97C1FAA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D55F2-FE15-4E0E-B82D-7E05987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DE6F-6739-452D-AF79-328B72E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C436E-EE9B-464A-9D72-056713C7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06A68-2BFD-4773-82FC-8506C6E7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787-A7AF-4A1D-BBDB-5A7E228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C42-B0C9-4CC1-896B-63887E70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7A5-8E92-4A5E-A51B-02C55BDB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106-3E4B-4EC8-A513-FA7A0D0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A0C-5529-4E5E-A1C9-33A5241F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E7B-E70E-4869-8815-5C98F5A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5AA-B3B9-49A5-9729-FC04D02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058-AACB-4A2F-9D1D-6A59F0D21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28D-CCF8-4162-8F13-C356775345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ст по ОБ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-9 класс</a:t>
            </a: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криминогенных ситуациях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.  Вам позвонили в дверь и сказали: "Телеграмма, нужно расписаться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надев дверную цепочку, откроете двер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просите прочесть телеграмму через дверь, в противном случае отнести ее на поч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редложите оставить телеграмму в двери - вы потом ее забер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2.  Вы пришли домой и замечаете, что в квартире кто-то побывал (распахнута дверь, выбито окно и т.п.)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войдете в квартиру, осмотрите ее, установите, какие вещи исчезли, и сообщите об этом в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войдете в квартиру и сразу сообщите в милицию по телефону 0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не будете входить в квартиру, а вызовете милицию по телефону от сосе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3.  Возвращаясь вечером домой, вы буд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идти кратчайшим путем, пролегающим через дворы, свал­ки и плохо освещенные ме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идти по освещенному тротуару и как можно ближе к краю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воспользуетесь попутны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4.   Подростки-хулиганы часто нападают на маленьких детей. Вы посоветуете в данном случае дет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смело вступать в драку и отстаивать свои игрушки, одежду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позвать на помощь друзей или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уступить требованиям и никому не рассказывать о случившемся, даже род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5.  Вам кажется, что кто-то идет за вами следом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ерейдете несколько раз улицу и, убедившись в своих подозрениях, побежите в людно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остановитесь и уясните причину пре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 броситесь бежать к телефонной б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6. На улице к вам подъехала машина, и водитель стал вести себя агрессивно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вступите в разговор с неизвестным вам вод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броситесь бежать в сторону своего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закричите и будете убегать в направлении, противополож­ном движению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47628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в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Б в г д е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Б в д ж з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Д в е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Е б д и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Д и ж з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4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.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6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e3e3ff"/>
                </a:solidFill>
                <a:latin typeface="Times New Roman"/>
              </a:rPr>
              <a:t>Оценка</a:t>
            </a:r>
            <a:r>
              <a:rPr b="1" lang="ru-RU" sz="51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5»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38 до 32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31 до 28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27 до 24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олодцы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дайте тетради учител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 Вы находитесь с родителями в своей квартире. Подойдя к двери на звонок, вы услышали: "Здравствуйте, я сантехник, должен отремонтировать у вас водопроводный кран!". Определите, что вашим родителям следует предпринять в такой ситуации, выбрав из предложенных вариантов правильные отве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Прошу вас, проходите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впустить человека и потребовать служебное удостове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уточнить фамилию работника, позвонить в службу, кото­рую он представляет, и узнать, есть ли там такой сотрудник, получал ли он  такое зад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попросить посетителя позвонить соседям и одновременно с ними открыть дверь, не освобождая ее от цепоч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открыв дверь, сказать: "Извините, но у нас с сантехникой все в порядке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впустив посетителя, продолжить заниматься своими дела­ми. Сказать: "Вот ванная, вот туалет. Если что, зовите -помогу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 впустив сантехника, присутствовать при выполнении им  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  Ваша семья живет в квартире с лоджией на четвертом этаже. В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вартире находятся только дети. Родители придут не скоро. Вы услышали, что входную дверь пытаются взломать какие-то злоумышленники. Определите, что вы сделаете для того, чтобы обезопасить себя и кварти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Извините, но, видимо, вы ошиблись адресом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включить магнитофон с записью разговора нескольких муж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звонить в милицию, сообщить, что в квартиру пытаются ворваться злоумышл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 в окно сообщить прохожим о происшествии, просить о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приготовить все необходимое, чтобы в случае необходимос­ти выбежать из квартиры и спасаться бег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через глазок или через окно постараться разглядеть и за­помнить приметы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приготовить все необходимое, чтобы в случае необходимос­ти спрятаться от грабителей в ванной, туалете или кладов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вынести на лоджию предметы, которыми можно защищать­ся, если придется укрываться там от граб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3.  Ваша квартира расположена на третьем этаже девятиэтажного дома. Вы возвратились домой и обнаружили, что дверь приоткрыта, видны следы взлома, из квартиры слышны незнакомые голоса. Определите, что вы предпримете в этой ситу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войти в квартиру и спросить: «Кто здесь?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закрыть дверь на ключ, не вынимая его из зам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обратиться за помощью к сосед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тихо войти в квартиру и незаметно выяснить, что проис­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доступным способом (по телефону соседей и т.п.) вызвать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вместе с соседями зайти в квартиру, чтобы задержать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 по телефону позвонить домой, чтобы узнать, что в ней проис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попросить кого-либо из соседей дежурить у подъезда, чтобы выяснить, на какой машине и куда уедут во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) наблюдая за квартирой, приготовиться к тому, чтобы за­помнить "гостей" (лица, одежду, телослож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) приготовить тяжелые или острые предметы, чтобы задер­жать "визитеров" на лестнич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.   Вы находитесь дома один. Вдруг раздается звонок в дверь. Вы подходите к двери и видите в глазок незнакомого челове­ка. Он пытается уговорить вас открыть дверь. Выберите из предлагаемых вариантов ваши дальнейшие действия и опре­делите их очередность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позвонить родителям или в мили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открыть дверь и узнать, что ему нуж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попробовать громко разговаривать с родителями (обману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 сказать, что дома никого нет, а открывать дверь запрети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)  не вступать в разгов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 сказать, что вы вызвали мили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.   Вы заходите в свой подъезд и слышите громкие крики, смех, шум и понимаете, что этажом выше на лестничной клетке находится пьяная компания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спокойно подниматься до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ждать, пока они уйд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дождаться взрослого знакомого человека, входящего в подъезд, и попросить проводить вас до квар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   Вы идете из школы домой. К вам подходит незнакомец и предлагает покататься на машине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вы с ним заговорите и начнете расспрашивать, где вы бу­дете кат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скажете, что сейчас не можете, но с удовольствием покатае­тесь в следующий раз и попросите позвонить вам по домашнему телефону, чтобы договориться о времени и месте вст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скажете: "Нет. Я не поеду" и отойдете или перейдете на другую сторону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согласитесь покататься только 10—15 минут при условии, что он потом проводит вас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7.   Вы с родителями пошли на футбольный матч. По окончании его на выходе возникли давка и суматоха, к тому же отключилось освещение. Началась паника. Вас оттеснили от родителей, и вы потеряли их из виду. У вас упала сумка. Выберите из предлагаемых вариантов ваши дальнейшие действия и определите их очереднос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кричать, звать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держаться в середине толпы и после прохода узких мест постараться выбраться из не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попытаться растолкать людей и найт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 наклониться и поднять сум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 искать своих родителей после окончания сутол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 забыть о сумке, застегнуть одежду, стараться не пад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постараться выбраться из толпы, используя столб, тумбу, памятн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 позвонить домой, сообщить, что все в поря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) обратиться в милицию, сообщить о том, что потер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8.   Вы гуляете зимой в парке. Вдруг на вас выбегает с лаем большая собака. У вас в руках клюшка, сумка с коньками. Выберите из предлагаемых вариантов дальнейшие действия и определите их очередность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)  замахнуться клюшкой и отогна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)  убежать от не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)  закричать, отгоняя ее клюшкой, бросить в нее сум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)  упасть на земл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) остановиться, повернувшись к собаке лицом вполоборо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)  подразни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ж)  громко позвать хозяи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з) при подготовке собаки к прыжку упереться, закрыв горло и лицо согнутой в локте ру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) сохранять спокойстви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) при покусах промыть рану, обратиться в травмпункт по месту жительств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9.  Молодой человек интеллигентного вида подходит к вам и говорит, что является знакомым родителей и просит впустить его в квартиру, чтобы там подождать папу или маму и сделать им сюрприз. Ваши действ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спросите у незнакомца фамилию, имя, отчество папы и мамы, где они работают, и, получив правильный ответ, впустите его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уточните у незнакомца более широкие сведения о родите­лях (например, откуда он их знает), после чего впустите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не впустите незнакомца в квартиру ни при каких обстоятель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0. Вы остались дома одни. В квартиру позвонили. На ваш во­прос: "Кто?" ответили: "Сантехник, необходимо перекрыть горячую воду, иначе зальет весь дом, а кран в вашей квартире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откроете дверь и впустите сантех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предложите сантехнику прийти с милиционер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просите сантехника зайти с кем-нибудь из взрослых со­седей, которых вы зн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55:53Z</dcterms:created>
  <dc:creator>slater</dc:creator>
  <dc:description/>
  <dc:language>en-US</dc:language>
  <cp:lastModifiedBy>101</cp:lastModifiedBy>
  <dcterms:modified xsi:type="dcterms:W3CDTF">2012-12-17T10:24:38Z</dcterms:modified>
  <cp:revision>10</cp:revision>
  <dc:subject/>
  <dc:title>Слайд 1</dc:title>
</cp:coreProperties>
</file>