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applause.wav" ContentType="audio/x-wav"/>
  <Override PartName="/ppt/media/bomb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369-96C1-41F1-A8AE-1F6554D8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236-73AF-42F0-9E4E-BB791C0C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409-41F6-4E67-B5FE-BE8116F1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DDD-7718-4C2B-8CA8-18040B5A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41951-753E-48B2-B719-E2E2EEA2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D983C-95EA-4FA3-B363-325FAACA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D9252-5ED2-47B4-834B-A7A53568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F465B-B651-4538-B263-8B855832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5CB74-881F-46D4-A3EE-14B7A23D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D6774-86CA-4C85-AE71-0E8DAA06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DDDBC-837B-44E6-886E-E9CAFE6D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26F-30A7-4FF1-B690-8DB13683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B65D6-4328-451B-B3FC-29EBC368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3EAB5-2F4C-4DCB-ADF2-D6826DF3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2F5BC-74B4-4AD8-B133-E9957FED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CA823-51F7-4F73-908D-A40B5B28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D214C-3471-4918-93A6-4FB3D3EB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418-40F2-4C9D-8B62-D8F04433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C92-1D9D-4B26-BDA5-22DF59A0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343-E85F-4F05-B4DF-B8229394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689-F2D7-4E55-884D-CF90F135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853-0BF0-49D9-935D-BA17965A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951A-5BEF-4BDF-A981-28CB25D9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CA5-CD03-44F7-9A1D-37D64A26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C001-29FB-4A66-BF64-768E0C97A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2324-BD0A-4BB8-9553-3E2DEA26EE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ст по ОБЖ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8-9 класс</a:t>
            </a:r>
            <a:br>
              <a:rPr sz="36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в криминогенных ситуациях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»</a:t>
            </a:r>
            <a:br>
              <a:rPr sz="4000"/>
            </a:b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1.  Вам позвонили в дверь и сказали: "Телеграмма, нужно расписаться". Ваши действ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надев дверную цепочку, откроете двер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попросите прочесть телеграмму через дверь, в противном случае отнести ее на почт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предложите оставить телеграмму в двери - вы потом ее забере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2.  Вы пришли домой и замечаете, что в квартире кто-то побывал (распахнута дверь, выбито окно и т.п.). Ваши действ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войдете в квартиру, осмотрите ее, установите, какие вещи исчезли, и сообщите об этом в милиц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войдете в квартиру и сразу сообщите в милицию по телефону 0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не будете входить в квартиру, а вызовете милицию по телефону от сосед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3.  Возвращаясь вечером домой, вы буде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идти кратчайшим путем, пролегающим через дворы, свал­ки и плохо освещенные мес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идти по освещенному тротуару и как можно ближе к краю доро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 воспользуетесь попутным транспор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4.   Подростки-хулиганы часто нападают на маленьких детей. Вы посоветуете в данном случае детя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смело вступать в драку и отстаивать свои игрушки, одежду и т.д.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 позвать на помощь друзей или взрослы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уступить требованиям и никому не рассказывать о случившемся, даже родител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5.  Вам кажется, что кто-то идет за вами следом. Ваши дейст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перейдете несколько раз улицу и, убедившись в своих подозрениях, побежите в людное мест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 остановитесь и уясните причину преслед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 броситесь бежать к телефонной буд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6. На улице к вам подъехала машина, и водитель стал вести себя агрессивно. Ваши дейст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 вступите в разговор с неизвестным вам водителе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 броситесь бежать в сторону своего до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закричите и будете убегать в направлении, противополож­ном движению ма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920" y="476280"/>
            <a:ext cx="84978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в 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Б в г д е 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Б в д ж з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Д в е 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6.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7. Е б д и 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8. Д и ж з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9.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0.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1.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3.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4.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5.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6.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e3e3ff"/>
                </a:solidFill>
                <a:latin typeface="Times New Roman"/>
              </a:rPr>
              <a:t>Оценка</a:t>
            </a:r>
            <a:r>
              <a:rPr b="1" lang="ru-RU" sz="5100" spc="-1" strike="noStrike">
                <a:solidFill>
                  <a:srgbClr val="e3e3ff"/>
                </a:solidFill>
                <a:latin typeface="Arial"/>
              </a:rPr>
              <a:t>:</a:t>
            </a:r>
            <a:endParaRPr b="0" lang="en-US" sz="5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«5»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 38 до 32 правильных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«4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т 31 до 28 правильных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«3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т 27 до 24 правильных отв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Молодцы!!!!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дайте тетради учителю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. Вы находитесь с родителями в своей квартире. Подойдя к двери на звонок, вы услышали: "Здравствуйте, я сантехник, должен отремонтировать у вас водопроводный кран!". Определите, что вашим родителям следует предпринять в такой ситуации, выбрав из предложенных вариантов правильные ответ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открыть дверь со словами: "Прошу вас, проходите!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впустить человека и потребовать служебное удостовер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уточнить фамилию работника, позвонить в службу, кото­рую он представляет, и узнать, есть ли там такой сотрудник, получал ли он  такое зад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попросить посетителя позвонить соседям и одновременно с ними открыть дверь, не освобождая ее от цепоч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) открыв дверь, сказать: "Извините, но у нас с сантехникой все в порядке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) впустив посетителя, продолжить заниматься своими дела­ми. Сказать: "Вот ванная, вот туалет. Если что, зовите -помогу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)  впустив сантехника, присутствовать при выполнении им   рабо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2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2.  Ваша семья живет в квартире с лоджией на четвертом этаже. В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вартире находятся только дети. Родители придут не скоро. Вы услышали, что входную дверь пытаются взломать какие-то злоумышленники. Определите, что вы сделаете для того, чтобы обезопасить себя и квартир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открыть дверь со словами: "Извините, но, видимо, вы ошиблись адресом!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 включить магнитофон с записью разговора нескольких мужчин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позвонить в милицию, сообщить, что в квартиру пытаются ворваться злоумышленни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 в окно сообщить прохожим о происшествии, просить о помощ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) приготовить все необходимое, чтобы в случае необходимос­ти выбежать из квартиры и спасаться бегств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) через глазок или через окно постараться разглядеть и за­помнить приметы "визитеров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) приготовить все необходимое, чтобы в случае необходимос­ти спрятаться от грабителей в ванной, туалете или кладов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) вынести на лоджию предметы, которыми можно защищать­ся, если придется укрываться там от грабите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6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3.  Ваша квартира расположена на третьем этаже девятиэтажного дома. Вы возвратились домой и обнаружили, что дверь приоткрыта, видны следы взлома, из квартиры слышны незнакомые голоса. Определите, что вы предпримете в этой ситу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войти в квартиру и спросить: «Кто здесь?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закрыть дверь на ключ, не вынимая его из зам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обратиться за помощью к соседя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тихо войти в квартиру и незаметно выяснить, что проис­ходи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) доступным способом (по телефону соседей и т.п.) вызвать милиц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) вместе с соседями зайти в квартиру, чтобы задержать "визитеров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)  по телефону позвонить домой, чтобы узнать, что в ней происходи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) попросить кого-либо из соседей дежурить у подъезда, чтобы выяснить, на какой машине и куда уедут вор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) наблюдая за квартирой, приготовиться к тому, чтобы за­помнить "гостей" (лица, одежду, телосложени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) приготовить тяжелые или острые предметы, чтобы задер­жать "визитеров" на лестничной площад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6 бал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4.   Вы находитесь дома один. Вдруг раздается звонок в дверь. Вы подходите к двери и видите в глазок незнакомого челове­ка. Он пытается уговорить вас открыть дверь. Выберите из предлагаемых вариантов ваши дальнейшие действия и опре­делите их очередность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 позвонить родителям или в милиц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 открыть дверь и узнать, что ему нуж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попробовать громко разговаривать с родителями (обману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) сказать, что дома никого нет, а открывать дверь запрети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)  не вступать в разгов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)  сказать, что вы вызвали мили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4 ба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5.   Вы заходите в свой подъезд и слышите громкие крики, смех, шум и понимаете, что этажом выше на лестничной клетке находится пьяная компания. Выберите из предлагаемых вариантов действий правильны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спокойно подниматься дом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 ждать, пока они уйд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дождаться взрослого знакомого человека, входящего в подъезд, и попросить проводить вас до кварти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.   Вы идете из школы домой. К вам подходит незнакомец и предлагает покататься на машине. Выберите из предлагаемых вариантов действий правильны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вы с ним заговорите и начнете расспрашивать, где вы бу­дете катать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скажете, что сейчас не можете, но с удовольствием покатае­тесь в следующий раз и попросите позвонить вам по домашнему телефону, чтобы договориться о времени и месте встреч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 скажете: "Нет. Я не поеду" и отойдете или перейдете на другую сторону дорог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согласитесь покататься только 10—15 минут при условии, что он потом проводит вас до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7.   Вы с родителями пошли на футбольный матч. По окончании его на выходе возникли давка и суматоха, к тому же отключилось освещение. Началась паника. Вас оттеснили от родителей, и вы потеряли их из виду. У вас упала сумка. Выберите из предлагаемых вариантов ваши дальнейшие действия и определите их очередность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кричать, звать родите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 держаться в середине толпы и после прохода узких мест постараться выбраться из не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 попытаться растолкать людей и найти родите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 наклониться и поднять сумк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)  искать своих родителей после окончания сутоло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)  забыть о сумке, застегнуть одежду, стараться не пад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) постараться выбраться из толпы, используя столб, тумбу, памятни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)  позвонить домой, сообщить, что все в поряд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) обратиться в милицию, сообщить о том, что потеряли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5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8.   Вы гуляете зимой в парке. Вдруг на вас выбегает с лаем большая собака. У вас в руках клюшка, сумка с коньками. Выберите из предлагаемых вариантов дальнейшие действия и определите их очередность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)  замахнуться клюшкой и отогнать собаку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)  убежать от нее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)  закричать, отгоняя ее клюшкой, бросить в нее сумкой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)  упасть на землю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д) остановиться, повернувшись к собаке лицом вполоборот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е)  подразнить собаку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ж)  громко позвать хозяин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з) при подготовке собаки к прыжку упереться, закрыв горло и лицо согнутой в локте рукой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) сохранять спокойствие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) при покусах промыть рану, обратиться в травмпункт по месту жительства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5 бал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9.  Молодой человек интеллигентного вида подходит к вам и говорит, что является знакомым родителей и просит впустить его в квартиру, чтобы там подождать папу или маму и сделать им сюрприз. Ваши действия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спросите у незнакомца фамилию, имя, отчество папы и мамы, где они работают, и, получив правильный ответ, впустите его в кварти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уточните у незнакомца более широкие сведения о родите­лях (например, откуда он их знает), после чего впустите в кварти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не впустите незнакомца в квартиру ни при каких обстоятельств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0. Вы остались дома одни. В квартиру позвонили. На ваш во­прос: "Кто?" ответили: "Сантехник, необходимо перекрыть горячую воду, иначе зальет весь дом, а кран в вашей квартире". Ваши действ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 откроете дверь и впустите сантех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 предложите сантехнику прийти с милиционер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попросите сантехника зайти с кем-нибудь из взрослых со­седей, которых вы зна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  <p:sndAc>
      <p:stSnd>
        <p:snd r:embed="rId1" name="bomb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6:55:53Z</dcterms:created>
  <dc:creator>slater</dc:creator>
  <dc:description/>
  <dc:language>en-US</dc:language>
  <cp:lastModifiedBy>101</cp:lastModifiedBy>
  <dcterms:modified xsi:type="dcterms:W3CDTF">2012-12-17T10:24:38Z</dcterms:modified>
  <cp:revision>10</cp:revision>
  <dc:subject/>
  <dc:title>Слайд 1</dc:title>
</cp:coreProperties>
</file>