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5E70-AE43-45D1-8F9F-1373113092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95A1-ED14-4993-8269-3BFE7A50B9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E71D-45F7-4B54-AC16-CD5E8D1812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752D-8279-4D4C-9A4B-29B414F2EB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4CF-19AB-4224-9077-B3545651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C35C-2E7E-428A-9D62-ABCFAC4D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2A13-4094-4084-A407-E445759B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01D-4B91-4355-94A9-9C71CEC5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ED3B-B135-499B-ABD3-230C4722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CFE9-5014-426F-A79B-41E18590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C08E-B1A0-4B53-A9A0-4B3458B4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10F5-ACF0-4AD7-96B7-849F3177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46BB-6FD8-43D1-8907-1B6206A1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0095-74D1-456F-8039-DA2FEE4F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62D6-9C78-4EBE-BA4E-537E7E3C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18B9-E13F-4F4F-A84F-3EE436FA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C92A-D19B-41D1-8D55-1B43A518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696E-61CA-459A-90D2-4DA8B9BF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2668-5FB9-484D-B517-D788E1C8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45AC-68BE-490C-A999-F41F8767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CD4E-E357-48B3-86B0-4297D4B4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2A589-DCEF-4F0D-B412-12C7CDC2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C4F74-A970-4F77-9611-89FEB774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1BD1A-FFC2-4958-B16E-7BBA165A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AABD3-6232-4252-AFC7-6A13E588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A77CF-3557-45DA-A4DF-86F02B5D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C366-949E-4F90-90DB-3EB45D47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0D891-273A-40F5-84E0-E39E06D7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246FC-6C72-40A3-B134-88B36905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A26A1-E33A-4A0E-B029-74F2B969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C054A-2C5F-43BB-899E-09F2579A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E93B6-9D64-43EB-8D41-C3907BFC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2FD73-E3AB-4796-9914-D118BDEB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D5450-7AEF-4439-94C6-21BAA4FA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A92AE-B5B2-4B73-8A3C-B8511DFC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41127-38DE-4078-A97E-8E3E40D9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3BCBB-C196-4E71-B35D-BFB996F1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C324-3020-4A33-B9C4-7DBDF752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838B3-E3D0-4535-86A5-AB0DE979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B36F9-705C-4958-9B05-2DAD6DF3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AB640-7EF2-4158-9EB7-9456A695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DC554-DA87-4735-917E-F9C70CD3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4A9A2-5856-45AC-92CE-0C5A449C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03A94-9A32-4420-8D44-E425FF54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1A8DC-9089-4737-88A6-902962AB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CBF4D-3B69-4EA1-B050-A6CADD62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74FD4-44B1-415B-85C4-F5D1975F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B4F-F871-4BFC-B4F3-DBC7B611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AD6-0F85-4E48-9AB7-D1B9C3F5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CBE7-9C63-4A87-82C3-45A4722E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8867-85E6-4A7D-AED8-EF0EEE44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4CB-E129-4689-9F92-A5F16946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46B9-FABF-4D15-98E2-1FEF0F61D08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7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BDF1-1CD1-4BB4-8DCE-A6918F1C383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7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1BA4-7D83-44DB-B9EC-EE9A71BF100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DD84-269D-416C-8424-D71DF24FA10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4617b"/>
                </a:solidFill>
                <a:latin typeface="Comic Sans MS"/>
              </a:rPr>
              <a:t>Telling stories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Admin\Мои документы\Мои рисунки\печкин.jpg"/>
          <p:cNvPicPr/>
          <p:nvPr/>
        </p:nvPicPr>
        <p:blipFill>
          <a:blip r:embed="rId2"/>
          <a:stretch/>
        </p:blipFill>
        <p:spPr>
          <a:xfrm>
            <a:off x="928800" y="1928880"/>
            <a:ext cx="5072040" cy="4389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Admin\Мои документы\Мои рисунки\Envelope.png"/>
          <p:cNvPicPr/>
          <p:nvPr/>
        </p:nvPicPr>
        <p:blipFill>
          <a:blip r:embed="rId3"/>
          <a:stretch/>
        </p:blipFill>
        <p:spPr>
          <a:xfrm>
            <a:off x="6572160" y="2000160"/>
            <a:ext cx="1857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6423 0.44745 C -0.54149 0.39051 -0.51857 0.33379 -0.48819 0.28565 C -0.45781 0.2375 -0.42552 0.19491 -0.38211 0.15856 C -0.33871 0.12222 -0.29114 0.09444 -0.22743 0.06805 C -0.16371 0.04166 -0.08194 0.02083 7.22222E-006 2.22222E-006 E">
                                      <p:cBhvr>
                                        <p:cTn id="6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ad and find the odd wor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w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t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went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1" lang="en-US" sz="3700" spc="-1" strike="noStrike">
                <a:solidFill>
                  <a:srgbClr val="000000"/>
                </a:solidFill>
                <a:latin typeface="Book Antiqua"/>
              </a:rPr>
              <a:t>‘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pe</a:t>
            </a:r>
            <a:r>
              <a:rPr b="1" lang="ru-RU" sz="3700" spc="-1" strike="noStrike">
                <a:solidFill>
                  <a:srgbClr val="000000"/>
                </a:solidFill>
                <a:latin typeface="Constantia"/>
              </a:rPr>
              <a:t>ŋ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gwın]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waıt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pleıd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ʃi:p]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wɛə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w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z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1" lang="en-US" sz="3700" spc="-1" strike="noStrike">
                <a:solidFill>
                  <a:srgbClr val="000000"/>
                </a:solidFill>
                <a:latin typeface="Book Antiqua"/>
              </a:rPr>
              <a:t>‘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mʌ</a:t>
            </a:r>
            <a:r>
              <a:rPr b="1" lang="ru-RU" sz="3700" spc="-1" strike="noStrike">
                <a:solidFill>
                  <a:srgbClr val="000000"/>
                </a:solidFill>
                <a:latin typeface="Constantia"/>
              </a:rPr>
              <a:t>ŋ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kı]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waı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sed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1" lang="en-US" sz="3700" spc="-1" strike="noStrike">
                <a:solidFill>
                  <a:srgbClr val="000000"/>
                </a:solidFill>
                <a:latin typeface="Book Antiqua"/>
              </a:rPr>
              <a:t>‘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taıgə]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hu:m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du: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ʤı</a:t>
            </a:r>
            <a:r>
              <a:rPr b="1" lang="en-US" sz="3700" spc="-1" strike="noStrike">
                <a:solidFill>
                  <a:srgbClr val="000000"/>
                </a:solidFill>
                <a:latin typeface="Book Antiqua"/>
              </a:rPr>
              <a:t>‘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1" lang="ru-RU" sz="3700" spc="-1" strike="noStrike">
                <a:solidFill>
                  <a:srgbClr val="000000"/>
                </a:solidFill>
                <a:latin typeface="Constantia"/>
              </a:rPr>
              <a:t>ɑ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:f]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wen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n-US" sz="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met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[faıv]</a:t>
            </a: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Box 3"/>
          <p:cNvSpPr/>
          <p:nvPr/>
        </p:nvSpPr>
        <p:spPr>
          <a:xfrm rot="10800000">
            <a:off x="1211400" y="2041200"/>
            <a:ext cx="503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nstantia"/>
              </a:rPr>
              <a:t>ɑ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4"/>
          <p:cNvSpPr/>
          <p:nvPr/>
        </p:nvSpPr>
        <p:spPr>
          <a:xfrm rot="10800000">
            <a:off x="3571920" y="3379320"/>
            <a:ext cx="574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nstantia"/>
              </a:rPr>
              <a:t>ɑ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hat did you do yesterday and the day before  yesterday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3" descr="C:\Documents and Settings\Admin\Мои документы\Мои рисунки\лыжи.jpg"/>
          <p:cNvPicPr/>
          <p:nvPr/>
        </p:nvPicPr>
        <p:blipFill>
          <a:blip r:embed="rId2"/>
          <a:stretch/>
        </p:blipFill>
        <p:spPr>
          <a:xfrm>
            <a:off x="357120" y="1928880"/>
            <a:ext cx="1216080" cy="1143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C:\Documents and Settings\Admin\Мои документы\Мои рисунки\книга.jpg"/>
          <p:cNvPicPr/>
          <p:nvPr/>
        </p:nvPicPr>
        <p:blipFill>
          <a:blip r:embed="rId3"/>
          <a:stretch/>
        </p:blipFill>
        <p:spPr>
          <a:xfrm>
            <a:off x="1928880" y="1928880"/>
            <a:ext cx="1057320" cy="1143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C:\Documents and Settings\Admin\Мои документы\Мои рисунки\лес.jpg"/>
          <p:cNvPicPr/>
          <p:nvPr/>
        </p:nvPicPr>
        <p:blipFill>
          <a:blip r:embed="rId4"/>
          <a:stretch/>
        </p:blipFill>
        <p:spPr>
          <a:xfrm>
            <a:off x="3357720" y="2000160"/>
            <a:ext cx="110628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C:\Documents and Settings\Admin\Мои документы\Мои рисунки\коньки.jpg"/>
          <p:cNvPicPr/>
          <p:nvPr/>
        </p:nvPicPr>
        <p:blipFill>
          <a:blip r:embed="rId5"/>
          <a:stretch/>
        </p:blipFill>
        <p:spPr>
          <a:xfrm>
            <a:off x="4929120" y="195264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C:\Documents and Settings\Admin\Мои документы\Мои рисунки\карандаши.jpg"/>
          <p:cNvPicPr/>
          <p:nvPr/>
        </p:nvPicPr>
        <p:blipFill>
          <a:blip r:embed="rId6"/>
          <a:stretch/>
        </p:blipFill>
        <p:spPr>
          <a:xfrm>
            <a:off x="6654960" y="1924200"/>
            <a:ext cx="1631880" cy="1223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C:\Documents and Settings\Admin\Мои документы\Мои рисунки\разговор.jpg"/>
          <p:cNvPicPr/>
          <p:nvPr/>
        </p:nvPicPr>
        <p:blipFill>
          <a:blip r:embed="rId7"/>
          <a:stretch/>
        </p:blipFill>
        <p:spPr>
          <a:xfrm>
            <a:off x="285840" y="3286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C:\Documents and Settings\Admin\Мои документы\Мои рисунки\хоккей.jpg"/>
          <p:cNvPicPr/>
          <p:nvPr/>
        </p:nvPicPr>
        <p:blipFill>
          <a:blip r:embed="rId8"/>
          <a:stretch/>
        </p:blipFill>
        <p:spPr>
          <a:xfrm>
            <a:off x="1785960" y="32860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C:\Documents and Settings\Admin\Мои документы\Мои рисунки\санки.jpg"/>
          <p:cNvPicPr/>
          <p:nvPr/>
        </p:nvPicPr>
        <p:blipFill>
          <a:blip r:embed="rId9"/>
          <a:stretch/>
        </p:blipFill>
        <p:spPr>
          <a:xfrm>
            <a:off x="3357720" y="3286080"/>
            <a:ext cx="1417320" cy="1285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C:\Documents and Settings\Admin\Мои документы\Мои рисунки\слушать музыку.jpg"/>
          <p:cNvPicPr/>
          <p:nvPr/>
        </p:nvPicPr>
        <p:blipFill>
          <a:blip r:embed="rId10"/>
          <a:stretch/>
        </p:blipFill>
        <p:spPr>
          <a:xfrm>
            <a:off x="4948200" y="3306600"/>
            <a:ext cx="1838520" cy="1298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C:\Documents and Settings\Admin\Мои документы\Мои рисунки\танцевать.jpg"/>
          <p:cNvPicPr/>
          <p:nvPr/>
        </p:nvPicPr>
        <p:blipFill>
          <a:blip r:embed="rId11"/>
          <a:stretch/>
        </p:blipFill>
        <p:spPr>
          <a:xfrm>
            <a:off x="7143840" y="3321000"/>
            <a:ext cx="1071360" cy="1608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C:\Documents and Settings\Admin\Мои документы\Мои рисунки\лейка.jpg"/>
          <p:cNvPicPr/>
          <p:nvPr/>
        </p:nvPicPr>
        <p:blipFill>
          <a:blip r:embed="rId12"/>
          <a:stretch/>
        </p:blipFill>
        <p:spPr>
          <a:xfrm>
            <a:off x="285840" y="5040360"/>
            <a:ext cx="1785960" cy="1317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5" descr="C:\Documents and Settings\Admin\Мои документы\Мои рисунки\стих.jpg"/>
          <p:cNvPicPr/>
          <p:nvPr/>
        </p:nvPicPr>
        <p:blipFill>
          <a:blip r:embed="rId13"/>
          <a:stretch/>
        </p:blipFill>
        <p:spPr>
          <a:xfrm>
            <a:off x="2643120" y="5072040"/>
            <a:ext cx="1785960" cy="1274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C:\Documents and Settings\Admin\Мои документы\Мои рисунки\магазин.jpg"/>
          <p:cNvPicPr/>
          <p:nvPr/>
        </p:nvPicPr>
        <p:blipFill>
          <a:blip r:embed="rId14"/>
          <a:stretch/>
        </p:blipFill>
        <p:spPr>
          <a:xfrm>
            <a:off x="5000760" y="5054760"/>
            <a:ext cx="17380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7120" y="19998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Dear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 boys  and  girls!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We  live  in  Prostokvashino.  We  like  to  watch  TV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walk  and  play  in the  forest. We  have  a  cow.  It  gives  us  milk.  Matroskin  likes  his  cow very  much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Yesterday  it 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be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  sunny  and  frosty.  We  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go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  to  the  forest.  We  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ski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skate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  and  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toboggan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.  We  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see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  a  white  hare  and  a  squirrel.   There are  no  birds  in  the  forest.  They  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fly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  to  the  warm  countri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In  the  evening  we  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watch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 TV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play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  chess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listen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  to   music  and 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paint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So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 we  (</a:t>
            </a:r>
            <a:r>
              <a:rPr b="1" i="1" lang="en-US" sz="1800" spc="-1" strike="noStrike">
                <a:solidFill>
                  <a:srgbClr val="ff0000"/>
                </a:solidFill>
                <a:latin typeface="Constantia"/>
              </a:rPr>
              <a:t>have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)  a  wonderful  day  yesterday 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And  what  did  you  do  yesterday  and  the  day  before  yesterday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Your frien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Matroskin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 and   Sharik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3" descr="C:\Documents and Settings\Admin\Мои документы\Мои рисунки\клякса.jpg"/>
          <p:cNvPicPr/>
          <p:nvPr/>
        </p:nvPicPr>
        <p:blipFill>
          <a:blip r:embed="rId2"/>
          <a:stretch/>
        </p:blipFill>
        <p:spPr>
          <a:xfrm>
            <a:off x="7929720" y="5214960"/>
            <a:ext cx="1076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1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C:\Documents and Settings\Admin\Мои документы\Мои рисунки\6525violin_key[1].jpg"/>
          <p:cNvPicPr/>
          <p:nvPr/>
        </p:nvPicPr>
        <p:blipFill>
          <a:blip r:embed="rId2"/>
          <a:stretch/>
        </p:blipFill>
        <p:spPr>
          <a:xfrm>
            <a:off x="3643200" y="1285920"/>
            <a:ext cx="3057480" cy="3567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3"/>
          <a:stretch/>
        </p:blipFill>
        <p:spPr>
          <a:xfrm>
            <a:off x="7000920" y="2214720"/>
            <a:ext cx="1236600" cy="1285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4"/>
          <a:stretch/>
        </p:blipFill>
        <p:spPr>
          <a:xfrm>
            <a:off x="857160" y="5000760"/>
            <a:ext cx="986040" cy="1220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5"/>
          <a:stretch/>
        </p:blipFill>
        <p:spPr>
          <a:xfrm>
            <a:off x="1285920" y="2286000"/>
            <a:ext cx="785880" cy="907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6"/>
          <a:stretch/>
        </p:blipFill>
        <p:spPr>
          <a:xfrm>
            <a:off x="2643120" y="3929040"/>
            <a:ext cx="1771560" cy="1492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7"/>
          <a:stretch/>
        </p:blipFill>
        <p:spPr>
          <a:xfrm>
            <a:off x="6000840" y="4929120"/>
            <a:ext cx="89532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a hu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600" spc="-1" strike="noStrike">
                <a:solidFill>
                  <a:srgbClr val="ff00ff"/>
                </a:solidFill>
                <a:latin typeface="Constantia"/>
              </a:rPr>
              <a:t>[hʌt]-</a:t>
            </a:r>
            <a:r>
              <a:rPr b="0" lang="ru-RU" sz="2600" spc="-1" strike="noStrike">
                <a:solidFill>
                  <a:srgbClr val="00b050"/>
                </a:solidFill>
                <a:latin typeface="Constantia"/>
              </a:rPr>
              <a:t>хиж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a powe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600" spc="-1" strike="noStrike">
                <a:solidFill>
                  <a:srgbClr val="ff00ff"/>
                </a:solidFill>
                <a:latin typeface="Constantia"/>
              </a:rPr>
              <a:t>['pauə]-</a:t>
            </a:r>
            <a:r>
              <a:rPr b="0" lang="ru-RU" sz="2600" spc="-1" strike="noStrike">
                <a:solidFill>
                  <a:srgbClr val="00b050"/>
                </a:solidFill>
                <a:latin typeface="Constantia"/>
              </a:rPr>
              <a:t>вла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a strength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00ff"/>
                </a:solidFill>
                <a:latin typeface="Constantia"/>
              </a:rPr>
              <a:t>[streŋ</a:t>
            </a:r>
            <a:r>
              <a:rPr b="1" lang="el-GR" sz="2600" spc="-1" strike="noStrike">
                <a:solidFill>
                  <a:srgbClr val="ff00ff"/>
                </a:solidFill>
                <a:latin typeface="Constantia"/>
              </a:rPr>
              <a:t>θ</a:t>
            </a:r>
            <a:r>
              <a:rPr b="1" lang="en-US" sz="2600" spc="-1" strike="noStrike">
                <a:solidFill>
                  <a:srgbClr val="ff00ff"/>
                </a:solidFill>
                <a:latin typeface="Constantia"/>
              </a:rPr>
              <a:t>]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600" spc="-1" strike="noStrike">
                <a:solidFill>
                  <a:srgbClr val="00b050"/>
                </a:solidFill>
                <a:latin typeface="Constantia"/>
              </a:rPr>
              <a:t>вла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a lucky day </a:t>
            </a:r>
            <a:r>
              <a:rPr b="1" lang="en-US" sz="2600" spc="-1" strike="noStrike">
                <a:solidFill>
                  <a:srgbClr val="ff00ff"/>
                </a:solidFill>
                <a:latin typeface="Constantia"/>
              </a:rPr>
              <a:t>['lʌkɪ deɪ]-</a:t>
            </a:r>
            <a:r>
              <a:rPr b="0" lang="ru-RU" sz="2600" spc="-1" strike="noStrike">
                <a:solidFill>
                  <a:srgbClr val="00b050"/>
                </a:solidFill>
                <a:latin typeface="Constantia"/>
              </a:rPr>
              <a:t>удачный ден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a net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00ff"/>
                </a:solidFill>
                <a:latin typeface="Constantia"/>
              </a:rPr>
              <a:t>[net]-</a:t>
            </a:r>
            <a:r>
              <a:rPr b="0" lang="ru-RU" sz="2600" spc="-1" strike="noStrike">
                <a:solidFill>
                  <a:srgbClr val="00b050"/>
                </a:solidFill>
                <a:latin typeface="Constantia"/>
              </a:rPr>
              <a:t>нево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empt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600" spc="-1" strike="noStrike">
                <a:solidFill>
                  <a:srgbClr val="ff00ff"/>
                </a:solidFill>
                <a:latin typeface="Constantia"/>
              </a:rPr>
              <a:t>[emptɪ]- </a:t>
            </a:r>
            <a:r>
              <a:rPr b="0" lang="ru-RU" sz="2600" spc="-1" strike="noStrike">
                <a:solidFill>
                  <a:srgbClr val="00b050"/>
                </a:solidFill>
                <a:latin typeface="Constantia"/>
              </a:rPr>
              <a:t>пуст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to kil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600" spc="-1" strike="noStrike">
                <a:solidFill>
                  <a:srgbClr val="ff00ff"/>
                </a:solidFill>
                <a:latin typeface="Constantia"/>
              </a:rPr>
              <a:t>[kɪl]-</a:t>
            </a:r>
            <a:r>
              <a:rPr b="0" lang="ru-RU" sz="2600" spc="-1" strike="noStrike">
                <a:solidFill>
                  <a:srgbClr val="00b050"/>
                </a:solidFill>
                <a:latin typeface="Constantia"/>
              </a:rPr>
              <a:t>убива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ina</cp:lastModifiedBy>
  <dcterms:modified xsi:type="dcterms:W3CDTF">2010-01-24T18:44:50Z</dcterms:modified>
  <cp:revision>68</cp:revision>
  <dc:subject/>
  <dc:title>Rea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42815814</vt:r8>
  </property>
</Properties>
</file>