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A19-025A-4EB8-B9DA-D9F400D7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1A6-29F2-4D5A-8F43-4A2AA1AD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58C1-370D-4400-98CD-47046DC3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790-C892-4CCA-852D-29761407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D39-3CF0-4836-BDF0-4D6479C4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EFA-9CA3-4074-BBEC-9B97E79F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9CA-F3E3-4209-ADA4-98C40BF4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224-C279-4B83-9E4F-A9F1BADF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E29-267D-408A-977E-2963A78F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BBC-E4B7-4E83-8714-89AE9D34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FD1-E011-4D64-9F7C-E53CF25D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A28-EAB3-45D6-B840-EC4D1F89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3F10-0F09-4F06-97F7-432C186A1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с двумя скругленными противолежащими углами 2"/>
          <p:cNvSpPr/>
          <p:nvPr/>
        </p:nvSpPr>
        <p:spPr>
          <a:xfrm>
            <a:off x="285840" y="214200"/>
            <a:ext cx="8572320" cy="62150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1036800" y="1616040"/>
            <a:ext cx="6864120" cy="25779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6408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елка сидит 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НАВЕТК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иша вышел на 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У ЛИЦ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юшевого - плюше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гов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ковром - ко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рв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, на лугах – на 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гал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нки - 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с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и, кричат – 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к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на - ве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с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, школа – 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ш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ла, ноябрь - ноя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б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ь, дружно - дру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ж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, Александр – Алексан</a:t>
            </a:r>
            <a:r>
              <a:rPr b="0" i="1" lang="ru-RU" sz="2800" spc="-1" strike="noStrike">
                <a:solidFill>
                  <a:srgbClr val="c0504d"/>
                </a:solidFill>
                <a:latin typeface="Arial"/>
              </a:rPr>
              <a:t>д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986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грамматическая дис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чина возникновения – недоразвитие грамматического строя реч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арактерные ошиб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нение падежных оконча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авильное употреблении предлогов, рода, числ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пуск членов предложе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ие последовательности слов в предложени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ение смысловых связей в предложении и между предлож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5112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злята – коз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л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дерев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 столом –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него –около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н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беж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51640" y="3068640"/>
            <a:ext cx="305748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Оптическая дис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а возникновения – несформированность зрительно-пространственных функ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ные ошиб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а букв, состоящего из одного количества одинаковых элемен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 и Ш, Ц и Ш, П и Т, А и М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а похожих, но по-разному расположенных в пространстве элемен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и Д, Б и Д, Ш и 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дописывание элементов бук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зеркальное» изображение бук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03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дописывание элементов букв: «и» вместо «ш», «ш» вместо «щ», «л» вместо «м», «х» вместо «ж», «и» вместо «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авление лишних элементов «ш» вместо «и», четыре палочки у «ш» или «щ»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авильное расположении элементов букв в пространстве по отношению друг к другу с возможными видоизменениями самих элементов «в» вместо «д», «б» вместо «д», включая сюда и зеркальное изображение бук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мешанная форма дисгра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формированность не одной, а сразу двух или нескольких операций письма, что значительно усложняет общую картину пись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3_klass_disgrafiya_sovmestno_s_dizorfografiej-1"/>
          <p:cNvPicPr/>
          <p:nvPr/>
        </p:nvPicPr>
        <p:blipFill>
          <a:blip r:embed="rId2"/>
          <a:stretch/>
        </p:blipFill>
        <p:spPr>
          <a:xfrm>
            <a:off x="1258920" y="2665440"/>
            <a:ext cx="6985080" cy="346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с двумя скругленными противолежащими углами 4"/>
          <p:cNvSpPr/>
          <p:nvPr/>
        </p:nvSpPr>
        <p:spPr>
          <a:xfrm>
            <a:off x="285840" y="214200"/>
            <a:ext cx="8572320" cy="62150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Пути коррек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ьное произношение всех звуков родного языка в словах и во фразовой реч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зрительного и слухового вни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фонематического слух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звукового анализа и синтеза с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грамматического строя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Управляющая кнопка: назад 3">
            <a:hlinkClick r:id="rId10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с двумя скругленными противолежащими углами 2"/>
          <p:cNvSpPr/>
          <p:nvPr/>
        </p:nvSpPr>
        <p:spPr>
          <a:xfrm>
            <a:off x="285840" y="214200"/>
            <a:ext cx="8572320" cy="62150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f72717"/>
                </a:solidFill>
                <a:latin typeface="Arial"/>
              </a:rPr>
              <a:t>На что нужно обратить</a:t>
            </a:r>
            <a:r>
              <a:rPr b="1" i="1" lang="ru-RU" sz="4400" spc="-1" strike="noStrike">
                <a:solidFill>
                  <a:srgbClr val="f72717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72717"/>
                </a:solidFill>
                <a:latin typeface="Arial"/>
              </a:rPr>
              <a:t>особое внимание</a:t>
            </a:r>
            <a:r>
              <a:rPr b="1" i="1" lang="ru-RU" sz="2000" spc="-1" strike="noStrike">
                <a:solidFill>
                  <a:srgbClr val="f72717"/>
                </a:solidFill>
                <a:latin typeface="Arial"/>
              </a:rPr>
              <a:t>:</a:t>
            </a:r>
            <a:br>
              <a:rPr sz="20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 Если Ваш ребенок левша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 Если Ваш ребенок посещал логопедическую группу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Если в семье говорят на двух или более языках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Если Ваш ребенок слишком рано пошел в школу (если у ребенка еще не наступила психологическая готовность к обучению.)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Если у Вашего ребенка есть проблемы с памятью, вниманием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. На письме наблюдается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смешение букв по оптическому сходству: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-п, т-п, а-о, е-з, д-у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ошибки, вызванные нарушенным произношением, ребенок пишет то, что говорит: лека (река), суба (шуба)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смешение гласных о-у, ё-ю, согласных р-л, й-ль, парные звонкие и глухие согласные, свистящие и шипящие, звуки ц, ч, щ. Например: тыня (дыня), клёква (клюква).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- пропуски букв, слогов, недописывание слов. Например: прта - парта, моко - молоко, весёлы (весёлы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с двумя скругленными противолежащими углами 4"/>
          <p:cNvSpPr/>
          <p:nvPr/>
        </p:nvSpPr>
        <p:spPr>
          <a:xfrm>
            <a:off x="285840" y="214200"/>
            <a:ext cx="8572320" cy="62150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2717"/>
                </a:solidFill>
                <a:latin typeface="Arial"/>
              </a:rPr>
              <a:t>Уважаемы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72717"/>
                </a:solidFill>
                <a:latin typeface="Arial"/>
              </a:rPr>
              <a:t>Родители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177336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вы заметили специфические ошибки в тетрадях вашего ребенка, необходимо проконсультироваться с логопедом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16000" y="4508640"/>
            <a:ext cx="7056360" cy="1684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2"/>
          <p:cNvSpPr/>
          <p:nvPr/>
        </p:nvSpPr>
        <p:spPr>
          <a:xfrm>
            <a:off x="285840" y="214200"/>
            <a:ext cx="8572320" cy="62150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28760" y="9997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4f6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4f6128"/>
                </a:solidFill>
                <a:uFillTx/>
                <a:latin typeface="Arial"/>
                <a:hlinkClick r:id="rId2" action="ppaction://hlinksldjump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f6128"/>
                </a:solidFill>
                <a:uFillTx/>
                <a:latin typeface="Arial"/>
                <a:hlinkClick r:id="rId3" action="ppaction://hlinksldjump"/>
              </a:rPr>
              <a:t>Виды </a:t>
            </a:r>
            <a:r>
              <a:rPr b="0" lang="ru-RU" sz="3600" spc="-1" strike="noStrike" u="sng">
                <a:solidFill>
                  <a:srgbClr val="4f6128"/>
                </a:solidFill>
                <a:uFillTx/>
                <a:latin typeface="Arial"/>
                <a:hlinkClick r:id="rId4" action="ppaction://hlinksldjump"/>
              </a:rPr>
              <a:t>дисграф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f6128"/>
                </a:solidFill>
                <a:uFillTx/>
                <a:latin typeface="Arial"/>
                <a:hlinkClick r:id="rId5" action="ppaction://hlinksldjump"/>
              </a:rPr>
              <a:t>Пути коррекции  и профил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ис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это специфическое расстройство письменной речи, проявляющееся в многочисленных типичных ошибках стойкого характ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условлено несформированностью высших психических функций, участвующих в процессе овладения навыками пись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Управляющая кнопка: назад 3">
            <a:hlinkClick r:id="rId2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4" descr=""/>
          <p:cNvPicPr/>
          <p:nvPr/>
        </p:nvPicPr>
        <p:blipFill>
          <a:blip r:embed="rId2"/>
          <a:stretch/>
        </p:blipFill>
        <p:spPr>
          <a:xfrm>
            <a:off x="1066680" y="1170000"/>
            <a:ext cx="7156440" cy="10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75404543_shkola"/>
          <p:cNvPicPr/>
          <p:nvPr/>
        </p:nvPicPr>
        <p:blipFill>
          <a:blip r:embed="rId3"/>
          <a:stretch/>
        </p:blipFill>
        <p:spPr>
          <a:xfrm>
            <a:off x="1979640" y="2349360"/>
            <a:ext cx="5238720" cy="3476880"/>
          </a:xfrm>
          <a:prstGeom prst="rect">
            <a:avLst/>
          </a:prstGeom>
          <a:ln w="0">
            <a:noFill/>
          </a:ln>
        </p:spPr>
      </p:pic>
      <p:sp>
        <p:nvSpPr>
          <p:cNvPr id="50" name="Управляющая кнопка: назад 3">
            <a:hlinkClick r:id="rId4" action="ppaction://hlinksldjump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кустическая дис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иной возникновения этого является нарушение дифференциации, распознавания близких звуков реч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исьме проявляется в заменах букв, обозначающих свистящие и шипящие, звонкие и глухие, твердые и мягкие (б-п, д-т, з-с, в-ф, г-к, ж-ш, ц-с, ц-т, ч-щ, о-у е-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136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Замена букв, соответствующих фонетически близким звука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истящие-шипящ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КА – 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К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вонкие-глух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(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ЫМ – </a:t>
            </a: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Д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еправильное обозначении мягкости      согласных на письм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пи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", "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ит", "бо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516720" y="189000"/>
            <a:ext cx="2495520" cy="2063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ртикуляторно-акустическая дисграф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чиной возникновения этого вида нарушений является неправильное произношение звуков реч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пишет слова так, как их произносит. Отражает дефектное произношение на пись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75120" y="1197000"/>
            <a:ext cx="60688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Пример: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ребёнок говор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c0504d"/>
                </a:solidFill>
                <a:latin typeface="Arial"/>
              </a:rPr>
              <a:t>САР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место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</a:rPr>
              <a:t>ШАР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</a:rPr>
              <a:t>ЛАКЕ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место </a:t>
            </a:r>
            <a:r>
              <a:rPr b="0" lang="en-US" sz="3200" spc="-1" strike="noStrike">
                <a:solidFill>
                  <a:srgbClr val="c0504d"/>
                </a:solidFill>
                <a:latin typeface="Arial"/>
              </a:rPr>
              <a:t>РАКЕ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чаще всего именно так он и пишет эти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39640" y="189000"/>
            <a:ext cx="2830680" cy="2660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Дисграфия на почве нарушений языкового анализа и синте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чина возникновения – затруднения при делении предложений на слова, слов на слоги, зву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арактерные ошибки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пуски согласны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пуски гласны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становки бук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бавления бук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пуски, добавления, перестановки слог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итное написание сл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ьное написание сл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итное написание предлогов с другими слова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дельное написание приставки и кор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10:04:18Z</dcterms:created>
  <dc:creator>Запивалова С.И.</dc:creator>
  <dc:description/>
  <dc:language>en-US</dc:language>
  <cp:lastModifiedBy>user</cp:lastModifiedBy>
  <dcterms:modified xsi:type="dcterms:W3CDTF">2012-08-27T17:34:16Z</dcterms:modified>
  <cp:revision>35</cp:revision>
  <dc:subject/>
  <dc:title>Заголовок слайда</dc:title>
</cp:coreProperties>
</file>