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CD7-0E22-487D-8399-884D54C7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52A-1D3D-4BE4-989E-A73D1ABE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1FE-5C9F-4723-A963-6F7F68C6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82F-F6DB-4133-95F2-7F470B9F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EB8-FC63-4BE7-8065-57383315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AF3-602D-45B9-AC0B-3208A681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462-CD86-4827-95D4-C4D629EB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964-AB90-4A60-9ACA-B96AD4CC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4FD-AE9B-4EBF-AC68-364AD679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498-EB3E-4706-AAC5-4AC540F2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6E0-213B-4DE5-BE94-DB8BBD0C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1C8-4D87-4A9E-953C-D231D07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CEE2-EE38-444F-9A12-F6663ACFB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1036800" y="1616040"/>
            <a:ext cx="6864120" cy="2577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640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лка сидит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НАВЕТ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ша вышел на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У ЛИЦ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юшевого - плюше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гов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ковром - ко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рв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, на лугах – на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гал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нки -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с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и, кричат –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на - ве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с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, школа –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ш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а, ноябрь - ноя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б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ь, дружно - дру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ж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, Александр – Алексан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д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986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грамма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чина возникновения – недоразвитие грамматического строя реч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ие падежных оконч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е употреблении предлогов, рода, чис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пуск членов предло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последовательности слов в предложен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смысловых связей в предложении и между предлож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5112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злята – коз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дерев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столом –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него –около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беж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30574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п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возникновения – несформированность зрительно-пространственных фун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букв, состоящего из одного количества одинаковых элем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и Ш, Ц и Ш, П и Т, А и М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похожих, но по-разному расположенных в пространстве элем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и Д, Б и Д, Ш и 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дописывание элементов 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зеркальное» изображение бук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писывание элементов букв: «и» вместо «ш», «ш» вместо «щ», «л» вместо «м», «х» вместо «ж», «и» вместо «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лишних элементов «ш» вместо «и», четыре палочки у «ш» или «щ»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е расположении элементов букв в пространстве по отношению друг к другу с возможными видоизменениями самих элементов «в» вместо «д», «б» вместо «д», включая сюда и зеркальное изображение бук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мешанная форма дис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формированность не одной, а сразу двух или нескольких операций письма, что значительно усложняет общую картину пись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3_klass_disgrafiya_sovmestno_s_dizorfografiej-1"/>
          <p:cNvPicPr/>
          <p:nvPr/>
        </p:nvPicPr>
        <p:blipFill>
          <a:blip r:embed="rId2"/>
          <a:stretch/>
        </p:blipFill>
        <p:spPr>
          <a:xfrm>
            <a:off x="1258920" y="2665440"/>
            <a:ext cx="6985080" cy="34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ути корр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ьное произношение всех звуков родного языка в словах и во фразовой ре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зрительного и слухового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фонематического слух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звукового анализа и синтеза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грамматического строя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Управляющая кнопка: назад 3">
            <a:hlinkClick r:id="rId10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f72717"/>
                </a:solidFill>
                <a:latin typeface="Arial"/>
              </a:rPr>
              <a:t>На что нужно обратить</a:t>
            </a:r>
            <a:r>
              <a:rPr b="1" i="1" lang="ru-RU" sz="4400" spc="-1" strike="noStrike">
                <a:solidFill>
                  <a:srgbClr val="f72717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72717"/>
                </a:solidFill>
                <a:latin typeface="Arial"/>
              </a:rPr>
              <a:t>особое внимание</a:t>
            </a:r>
            <a:r>
              <a:rPr b="1" i="1" lang="ru-RU" sz="2000" spc="-1" strike="noStrike">
                <a:solidFill>
                  <a:srgbClr val="f72717"/>
                </a:solidFill>
                <a:latin typeface="Arial"/>
              </a:rPr>
              <a:t>:</a:t>
            </a:r>
            <a:br>
              <a:rPr sz="2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Если Ваш ребенок левш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Если Ваш ребенок посещал логопедическую группу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Если в семье говорят на двух или более языках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Если Ваш ребенок слишком рано пошел в школу (если у ребенка еще не наступила психологическая готовность к обучению.)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Если у Вашего ребенка есть проблемы с памятью, вниманием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На письме наблюдается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смешение букв по оптическому сходству: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-п, т-п, а-о, е-з, д-у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ошибки, вызванные нарушенным произношением, ребенок пишет то, что говорит: лека (река), суба (шуба)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смешение гласных о-у, ё-ю, согласных р-л, й-ль, парные звонкие и глухие согласные, свистящие и шипящие, звуки ц, ч, щ. Например: тыня (дыня), клёква (клюква)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пропуски букв, слогов, недописывание слов. Например: прта - парта, моко - молоко, весёлы (весёлы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2717"/>
                </a:solidFill>
                <a:latin typeface="Arial"/>
              </a:rPr>
              <a:t>Уважаемы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2717"/>
                </a:solidFill>
                <a:latin typeface="Arial"/>
              </a:rPr>
              <a:t>Родители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заметили специфические ошибки в тетрадях вашего ребенка, необходимо проконсультироваться с логопедом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7056360" cy="1684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28760" y="9997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4f6128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f6128"/>
                </a:solidFill>
                <a:uFillTx/>
                <a:latin typeface="Arial"/>
                <a:hlinkClick r:id="rId3" action="ppaction://hlinksldjump"/>
              </a:rPr>
              <a:t>Виды </a:t>
            </a:r>
            <a:r>
              <a:rPr b="0" lang="ru-RU" sz="3600" spc="-1" strike="noStrike" u="sng">
                <a:solidFill>
                  <a:srgbClr val="4f6128"/>
                </a:solidFill>
                <a:uFillTx/>
                <a:latin typeface="Arial"/>
                <a:hlinkClick r:id="rId4" action="ppaction://hlinksldjump"/>
              </a:rPr>
              <a:t>дисгра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f6128"/>
                </a:solidFill>
                <a:uFillTx/>
                <a:latin typeface="Arial"/>
                <a:hlinkClick r:id="rId5" action="ppaction://hlinksldjump"/>
              </a:rPr>
              <a:t>Пути коррекции  и профил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о специфическое расстройство письменной речи, проявляющееся в многочисленных типичных ошибках стойкого характ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условлено несформированностью высших психических функций, участвующих в процессе овладения навыками пись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правляющая кнопка: назад 3">
            <a:hlinkClick r:id="rId2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2"/>
          <a:stretch/>
        </p:blipFill>
        <p:spPr>
          <a:xfrm>
            <a:off x="1066680" y="1170000"/>
            <a:ext cx="715644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75404543_shkola"/>
          <p:cNvPicPr/>
          <p:nvPr/>
        </p:nvPicPr>
        <p:blipFill>
          <a:blip r:embed="rId3"/>
          <a:stretch/>
        </p:blipFill>
        <p:spPr>
          <a:xfrm>
            <a:off x="1979640" y="2349360"/>
            <a:ext cx="5238720" cy="347688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назад 3">
            <a:hlinkClick r:id="rId4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кус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ой возникновения этого является нарушение дифференциации, распознавания близких звуков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исьме проявляется в заменах букв, обозначающих свистящие и шипящие, звонкие и глухие, твердые и мягкие (б-п, д-т, з-с, в-ф, г-к, ж-ш, ц-с, ц-т, ч-щ, о-у е-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13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мена букв, соответствующих фонетически близким звука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истящие-шипящ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КА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вонкие-глух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М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Д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еправильное обозначении мягкости      согласных на письм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пи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", "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ит", "бо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495520" cy="2063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ртикуляторно-акустическая дис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иной возникновения этого вида нарушений является неправильное произношение звуков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пишет слова так, как их произносит. Отражает дефектное произношение на пись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75120" y="1197000"/>
            <a:ext cx="6068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ебёнок говор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САР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ШАР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ЛАК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РАК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чаще всего именно так он и пишет эти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189000"/>
            <a:ext cx="2830680" cy="266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исграфия на почве нарушений языкового анализа и синт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чина возникновения – затруднения при делении предложений на слова, слов на слоги, зву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уски согласны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уски гласны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становки бук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авления бук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уски, добавления, перестановки слог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итное написание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ьное написание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итное написание предлогов с другими слов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ьное написание приставки и кор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user</cp:lastModifiedBy>
  <dcterms:modified xsi:type="dcterms:W3CDTF">2012-08-27T17:34:16Z</dcterms:modified>
  <cp:revision>35</cp:revision>
  <dc:subject/>
  <dc:title>Заголовок слайда</dc:title>
</cp:coreProperties>
</file>