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FD8-D94F-48A8-8303-D3A35EC5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2CC-C70C-4D8D-BDE0-9D2C99F2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EB3-46E0-4CE5-AA19-141704FD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98484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92B-B6BB-4E31-B574-D76B2549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361-1F4E-419C-A72E-6214F8BB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B28-0C31-4348-946E-B9752FC0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4DC-5A06-42BD-8FE8-D47BE02B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9F9A-D10E-4B8E-8C8D-6CB4E936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4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BBA-2D30-44A8-9533-9B6627E1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7EB-FDC0-481D-AF7A-78369A8D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98484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7CD-AE82-4AF5-AFCD-FF5A7E06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8484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102-BE30-401A-A087-B9A1D97D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C Futura Casu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1" marL="579240" indent="-22284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2" marL="89136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3" marL="12481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4" marL="1604520" indent="-178200">
              <a:spcBef>
                <a:spcPts val="11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5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  <a:p>
            <a:pPr lvl="6" marL="1604520" indent="-1782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C Futura Casu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9A26-417B-4C9B-820E-89730725A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ook Antiqua"/>
              </a:rPr>
              <a:t>Русский язык 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Book Antiqua"/>
              </a:rPr>
              <a:t>2 класс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Book Antiqua"/>
              </a:rPr>
              <a:t>система 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Book Antiqua"/>
              </a:rPr>
              <a:t>Л.В. Занкова</a:t>
            </a:r>
            <a:endParaRPr b="0" lang="en-US" sz="8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600" y="609120"/>
            <a:ext cx="7891560" cy="53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Алгоритм нахождения приставки в слове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1.Подбери однокоренные слов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2.Обозначь корень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3.Найди часть слова перед корнем, которой слова различаются. Это приставка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Book Antiqua"/>
              </a:rPr>
              <a:t>4. Назови приставку.</a:t>
            </a:r>
            <a:br>
              <a:rPr sz="2800"/>
            </a:br>
            <a:endParaRPr b="0" lang="en-US" sz="40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Фигура, имеющая форму буквы L 21"/>
          <p:cNvSpPr/>
          <p:nvPr/>
        </p:nvSpPr>
        <p:spPr>
          <a:xfrm rot="10800000">
            <a:off x="785880" y="2142720"/>
            <a:ext cx="3000240" cy="1428840"/>
          </a:xfrm>
          <a:custGeom>
            <a:avLst/>
            <a:gdLst>
              <a:gd name="textAreaLeft" fmla="*/ 0 w 3000240"/>
              <a:gd name="textAreaRight" fmla="*/ 3000600 w 3000240"/>
              <a:gd name="textAreaTop" fmla="*/ 965160 h 1428840"/>
              <a:gd name="textAreaBottom" fmla="*/ 1429200 h 1428840"/>
            </a:gdLst>
            <a:ahLst/>
            <a:rect l="textAreaLeft" t="textAreaTop" r="textAreaRight" b="textAreaBottom"/>
            <a:pathLst>
              <a:path w="3000375" h="1428750">
                <a:moveTo>
                  <a:pt x="0" y="0"/>
                </a:moveTo>
                <a:lnTo>
                  <a:pt x="346743" y="0"/>
                </a:lnTo>
                <a:lnTo>
                  <a:pt x="346743" y="965035"/>
                </a:lnTo>
                <a:lnTo>
                  <a:pt x="3000375" y="965035"/>
                </a:lnTo>
                <a:lnTo>
                  <a:pt x="3000375" y="1428750"/>
                </a:lnTo>
                <a:lnTo>
                  <a:pt x="0" y="1428750"/>
                </a:lnTo>
                <a:close/>
              </a:path>
            </a:pathLst>
          </a:custGeom>
          <a:solidFill>
            <a:srgbClr val="dddddd"/>
          </a:solidFill>
          <a:ln w="25560">
            <a:solidFill>
              <a:srgbClr val="a2a2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есяц 22"/>
          <p:cNvSpPr/>
          <p:nvPr/>
        </p:nvSpPr>
        <p:spPr>
          <a:xfrm rot="5400000">
            <a:off x="5286240" y="714240"/>
            <a:ext cx="1428840" cy="385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953" y="772"/>
                  <a:pt x="4306" y="5080"/>
                  <a:pt x="4306" y="10800"/>
                </a:cubicBezTo>
                <a:cubicBezTo>
                  <a:pt x="4306" y="16520"/>
                  <a:pt x="12953" y="2082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5-tub-ru.yandex.net/i?id=495616736-52-72&amp;n=17"/>
          <p:cNvPicPr/>
          <p:nvPr/>
        </p:nvPicPr>
        <p:blipFill>
          <a:blip r:embed="rId1"/>
          <a:stretch/>
        </p:blipFill>
        <p:spPr>
          <a:xfrm>
            <a:off x="706320" y="857160"/>
            <a:ext cx="78883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642960" y="598320"/>
            <a:ext cx="8929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Book Antiqua"/>
                <a:ea typeface="Calibri"/>
              </a:rPr>
              <a:t>Зелёная  карточк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Book Antiqua"/>
                <a:ea typeface="Calibri"/>
              </a:rPr>
              <a:t>налить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Book Antiqua"/>
                <a:ea typeface="Calibri"/>
              </a:rPr>
              <a:t>перелить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Book Antiqua"/>
                <a:ea typeface="Calibri"/>
              </a:rPr>
              <a:t>полить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Book Antiqua"/>
                <a:ea typeface="Calibri"/>
              </a:rPr>
              <a:t>вылит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3"/>
          <p:cNvSpPr/>
          <p:nvPr/>
        </p:nvSpPr>
        <p:spPr>
          <a:xfrm>
            <a:off x="785880" y="1928880"/>
            <a:ext cx="9288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ая соединительная линия 8"/>
          <p:cNvSpPr/>
          <p:nvPr/>
        </p:nvSpPr>
        <p:spPr>
          <a:xfrm>
            <a:off x="1714680" y="1928880"/>
            <a:ext cx="0" cy="2142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ая соединительная линия 11"/>
          <p:cNvSpPr/>
          <p:nvPr/>
        </p:nvSpPr>
        <p:spPr>
          <a:xfrm>
            <a:off x="642960" y="2857680"/>
            <a:ext cx="20001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15"/>
          <p:cNvSpPr/>
          <p:nvPr/>
        </p:nvSpPr>
        <p:spPr>
          <a:xfrm>
            <a:off x="2643120" y="2857680"/>
            <a:ext cx="0" cy="2142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ая соединительная линия 20"/>
          <p:cNvSpPr/>
          <p:nvPr/>
        </p:nvSpPr>
        <p:spPr>
          <a:xfrm>
            <a:off x="714240" y="3929040"/>
            <a:ext cx="107172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ая соединительная линия 25"/>
          <p:cNvSpPr/>
          <p:nvPr/>
        </p:nvSpPr>
        <p:spPr>
          <a:xfrm>
            <a:off x="1785960" y="3929040"/>
            <a:ext cx="0" cy="2858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ая соединительная линия 31"/>
          <p:cNvSpPr/>
          <p:nvPr/>
        </p:nvSpPr>
        <p:spPr>
          <a:xfrm>
            <a:off x="714240" y="4929120"/>
            <a:ext cx="121464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ая соединительная линия 34"/>
          <p:cNvSpPr/>
          <p:nvPr/>
        </p:nvSpPr>
        <p:spPr>
          <a:xfrm>
            <a:off x="1928880" y="4929120"/>
            <a:ext cx="0" cy="21456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782028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Book Antiqua"/>
              </a:rPr>
              <a:t>Синяя карточка</a:t>
            </a:r>
            <a:br>
              <a:rPr sz="5400"/>
            </a:b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написал письмо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дописал рассказ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записал в тетрадь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переписал красиво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Book Antiqua"/>
              </a:rPr>
              <a:t>выписал из словаря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65" name="Прямая соединительная линия 3"/>
          <p:cNvSpPr/>
          <p:nvPr/>
        </p:nvSpPr>
        <p:spPr>
          <a:xfrm>
            <a:off x="642960" y="1357200"/>
            <a:ext cx="100008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ая соединительная линия 6"/>
          <p:cNvSpPr/>
          <p:nvPr/>
        </p:nvSpPr>
        <p:spPr>
          <a:xfrm>
            <a:off x="1643040" y="1357200"/>
            <a:ext cx="0" cy="2858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ая соединительная линия 9"/>
          <p:cNvSpPr/>
          <p:nvPr/>
        </p:nvSpPr>
        <p:spPr>
          <a:xfrm>
            <a:off x="714240" y="2286000"/>
            <a:ext cx="9288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ая соединительная линия 12"/>
          <p:cNvSpPr/>
          <p:nvPr/>
        </p:nvSpPr>
        <p:spPr>
          <a:xfrm>
            <a:off x="1643040" y="2286000"/>
            <a:ext cx="0" cy="2142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ая соединительная линия 14"/>
          <p:cNvSpPr/>
          <p:nvPr/>
        </p:nvSpPr>
        <p:spPr>
          <a:xfrm>
            <a:off x="714240" y="3214800"/>
            <a:ext cx="78588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ая соединительная линия 18"/>
          <p:cNvSpPr/>
          <p:nvPr/>
        </p:nvSpPr>
        <p:spPr>
          <a:xfrm>
            <a:off x="1500120" y="3214800"/>
            <a:ext cx="0" cy="28548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ая соединительная линия 21"/>
          <p:cNvSpPr/>
          <p:nvPr/>
        </p:nvSpPr>
        <p:spPr>
          <a:xfrm>
            <a:off x="857160" y="4071960"/>
            <a:ext cx="164304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ая соединительная линия 24"/>
          <p:cNvSpPr/>
          <p:nvPr/>
        </p:nvSpPr>
        <p:spPr>
          <a:xfrm>
            <a:off x="2500200" y="4071960"/>
            <a:ext cx="0" cy="2142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ая соединительная линия 27"/>
          <p:cNvSpPr/>
          <p:nvPr/>
        </p:nvSpPr>
        <p:spPr>
          <a:xfrm>
            <a:off x="642960" y="4929120"/>
            <a:ext cx="121428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ая соединительная линия 30"/>
          <p:cNvSpPr/>
          <p:nvPr/>
        </p:nvSpPr>
        <p:spPr>
          <a:xfrm>
            <a:off x="1857240" y="4929120"/>
            <a:ext cx="0" cy="3571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Красная карточка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Book Antiqua"/>
              </a:rPr>
              <a:t>налить  чай в чашку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Book Antiqua"/>
              </a:rPr>
              <a:t>полить цветы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Book Antiqua"/>
              </a:rPr>
              <a:t>вылить воду из ведра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Book Antiqua"/>
              </a:rPr>
              <a:t>перелить сок из банки в кувшин</a:t>
            </a:r>
            <a:br>
              <a:rPr sz="6600"/>
            </a:br>
            <a:endParaRPr b="0" lang="en-US" sz="5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76" name="Прямая соединительная линия 3"/>
          <p:cNvSpPr/>
          <p:nvPr/>
        </p:nvSpPr>
        <p:spPr>
          <a:xfrm>
            <a:off x="571680" y="1500120"/>
            <a:ext cx="8571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ая соединительная линия 5"/>
          <p:cNvSpPr/>
          <p:nvPr/>
        </p:nvSpPr>
        <p:spPr>
          <a:xfrm>
            <a:off x="1428840" y="1500120"/>
            <a:ext cx="0" cy="21456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ая соединительная линия 7"/>
          <p:cNvSpPr/>
          <p:nvPr/>
        </p:nvSpPr>
        <p:spPr>
          <a:xfrm>
            <a:off x="571680" y="2357280"/>
            <a:ext cx="92844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ая соединительная линия 9"/>
          <p:cNvSpPr/>
          <p:nvPr/>
        </p:nvSpPr>
        <p:spPr>
          <a:xfrm>
            <a:off x="1500120" y="2357280"/>
            <a:ext cx="0" cy="21456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ая соединительная линия 11"/>
          <p:cNvSpPr/>
          <p:nvPr/>
        </p:nvSpPr>
        <p:spPr>
          <a:xfrm>
            <a:off x="642960" y="3143160"/>
            <a:ext cx="100008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ая соединительная линия 13"/>
          <p:cNvSpPr/>
          <p:nvPr/>
        </p:nvSpPr>
        <p:spPr>
          <a:xfrm>
            <a:off x="1643040" y="3143160"/>
            <a:ext cx="0" cy="21456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ая соединительная линия 15"/>
          <p:cNvSpPr/>
          <p:nvPr/>
        </p:nvSpPr>
        <p:spPr>
          <a:xfrm>
            <a:off x="642960" y="3929040"/>
            <a:ext cx="157176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ая соединительная линия 19"/>
          <p:cNvSpPr/>
          <p:nvPr/>
        </p:nvSpPr>
        <p:spPr>
          <a:xfrm>
            <a:off x="2214720" y="3929040"/>
            <a:ext cx="0" cy="2142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517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«Я» (как чувствовал себя, с каким настроением работал, доволен ли собой),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«Мы» (комфортно ли было работать в малой группе, какие затруднения были в общении), «Дело» (достиг ли цели учения, какие затруднения возникли, как преодолеть свои учебные проблемы)</a:t>
            </a:r>
            <a:endParaRPr b="0" lang="en-US" sz="3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185688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1.карточка;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2. тетрадь №2, упр.14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571680" y="500040"/>
            <a:ext cx="700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Домашнее задание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по выбор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42960" y="3214800"/>
            <a:ext cx="737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ворческое задание по желани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642960" y="4572000"/>
            <a:ext cx="855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1.сочинить рассказ о приставк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\Рабочий стол\i.jpeg"/>
          <p:cNvPicPr/>
          <p:nvPr/>
        </p:nvPicPr>
        <p:blipFill>
          <a:blip r:embed="rId1"/>
          <a:stretch/>
        </p:blipFill>
        <p:spPr>
          <a:xfrm>
            <a:off x="820800" y="642960"/>
            <a:ext cx="76089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214280"/>
            <a:ext cx="80010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Book Antiqua"/>
              </a:rPr>
              <a:t>Слово слово родит, третье само бежит.</a:t>
            </a:r>
            <a:br>
              <a:rPr sz="8800"/>
            </a:br>
            <a:endParaRPr b="0" lang="en-US" sz="88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&amp;Pcy;&amp;rcy;&amp;ocy;&amp;iecy;&amp;kcy;&amp;tcy; &amp;vcy; &amp;dcy;&amp;iecy;&amp;tcy;&amp;scy;&amp;kcy;&amp;ocy;&amp;mcy; &amp;scy;&amp;acy;&amp;dcy;&amp;ucy; &amp;pcy;&amp;ocy;&amp;dcy;&amp;vcy;&amp;icy;&amp;zhcy;&amp;ncy;&amp;ycy;&amp;iecy; &amp;icy;&amp;gcy;&amp;rcy;&amp;ycy; &amp;kcy;&amp;acy;&amp;kcy; &amp;pcy;&amp;rcy;&amp;ocy;&amp;fcy;&amp;icy;&amp;lcy;&amp;acy;&amp;kcy;&amp;tcy;&amp;icy;&amp;kcy;&amp;acy; &amp;gcy;&amp;icy;&amp;pcy;&amp;ocy;&amp;dcy;&amp;icy;&amp;ncy;&amp;acy;&amp;mcy;&amp;icy;&amp;icy; &amp;ucy; &amp;dcy;&amp;iecy;&amp;tcy;&amp;iecy;&amp;jcy;"/>
          <p:cNvPicPr/>
          <p:nvPr/>
        </p:nvPicPr>
        <p:blipFill>
          <a:blip r:embed="rId1"/>
          <a:srcRect l="16514" t="3853" r="13092" b="7318"/>
          <a:stretch/>
        </p:blipFill>
        <p:spPr>
          <a:xfrm>
            <a:off x="2479680" y="790560"/>
            <a:ext cx="41846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00008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Book Antiqua"/>
              </a:rPr>
              <a:t>море – приморский,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Book Antiqua"/>
              </a:rPr>
              <a:t>дорога - придорожный,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Book Antiqua"/>
              </a:rPr>
              <a:t>школа - пришкольный,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Book Antiqua"/>
              </a:rPr>
              <a:t>берег - прибрежный,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Book Antiqua"/>
              </a:rPr>
              <a:t>город – пригородный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CAC Futura Casu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785880" y="4429080"/>
            <a:ext cx="7427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Book Antiqua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находящийся рядом, около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море –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Book Antiqua"/>
              </a:rPr>
              <a:t>при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морский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дорога -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Book Antiqua"/>
              </a:rPr>
              <a:t>при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дорожный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школа -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Book Antiqua"/>
              </a:rPr>
              <a:t>при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школьный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берег -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Book Antiqua"/>
              </a:rPr>
              <a:t>при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брежный,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город –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Book Antiqua"/>
              </a:rPr>
              <a:t>при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городный</a:t>
            </a:r>
            <a:endParaRPr b="0" lang="en-US" sz="48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5-tub-ru.yandex.net/i?id=491883568-11-72&amp;n=21"/>
          <p:cNvPicPr/>
          <p:nvPr/>
        </p:nvPicPr>
        <p:blipFill>
          <a:blip r:embed="rId1"/>
          <a:stretch/>
        </p:blipFill>
        <p:spPr>
          <a:xfrm>
            <a:off x="857160" y="714240"/>
            <a:ext cx="75726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517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Book Antiqua"/>
              </a:rPr>
              <a:t>забежал,  выбежал,</a:t>
            </a:r>
            <a:br>
              <a:rPr sz="7200"/>
            </a:br>
            <a:r>
              <a:rPr b="1" lang="ru-RU" sz="7200" spc="-1" strike="noStrike">
                <a:solidFill>
                  <a:srgbClr val="ffffff"/>
                </a:solidFill>
                <a:latin typeface="Book Antiqua"/>
              </a:rPr>
              <a:t>прибежал, перебежал, отбежал</a:t>
            </a:r>
            <a:endParaRPr b="0" lang="en-US" sz="72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800100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Book Antiqua"/>
              </a:rPr>
              <a:t>Тема урока: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Book Antiqua"/>
              </a:rPr>
              <a:t>«Роль приставок в образовании слов. Маркировка приставки.» </a:t>
            </a:r>
            <a:endParaRPr b="0" lang="en-US" sz="6600" spc="-1" strike="noStrike">
              <a:solidFill>
                <a:srgbClr val="ffffff"/>
              </a:solidFill>
              <a:latin typeface="CAC Futur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5:54:47Z</dcterms:created>
  <dc:creator>А</dc:creator>
  <dc:description/>
  <dc:language>en-US</dc:language>
  <cp:lastModifiedBy>Admin</cp:lastModifiedBy>
  <dcterms:modified xsi:type="dcterms:W3CDTF">2012-11-27T17:13:35Z</dcterms:modified>
  <cp:revision>17</cp:revision>
  <dc:subject/>
  <dc:title>Презентация PowerPoint</dc:title>
</cp:coreProperties>
</file>