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A15-AD8F-4647-A1F5-562D98AD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65A-51D1-43DF-A395-D5AFE025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139-E93B-461E-9B8B-71075D12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A30-BEAB-4C16-9B53-DC0500AB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19CB-FF1A-4366-9920-F57F2767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03F0-423D-4F7F-AE80-28341CDC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8396-7A2E-4B7D-8E2A-273736CB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9BE7-B170-486E-87BE-6C5FE959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A181-812C-4DD3-B639-64C24D87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E13D-35B0-4D58-99E9-A7BFC59F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28D8-C689-4510-9F95-8A25F5A8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B16-4408-4044-BA24-91F19EE5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A6C7-5AEC-420B-9C8E-071AFCDF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D1A6-F6DF-41DF-ABF8-EF3AEABC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8EA3-666A-40EE-A1F2-387020EB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2367-B0EB-4CAD-84FB-89FF63B5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92D8-4DCB-4A49-BEEF-00492CB3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880B-EBA9-4D20-A7F9-C30F232C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3411-6DA2-4195-823D-F98BBDE9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63EC-C96B-4B3E-8860-8C0F2A61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0115-172B-4ED3-910C-2FBD4582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A09B-9807-4E73-8133-5B53FD7E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2CAB-5D90-4B2D-B8B9-7A8E346E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2A14-7247-411E-B738-8DFE7F4A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6940-260C-4DE6-9D4F-94EE06F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253D-25B0-4E60-8D0F-C17D4A83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9D87-D924-44E6-997F-64DF95FA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77D5-1952-42E1-9EE7-A1850D8B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D56F-A319-49E3-A802-39CFFED6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4A96-6B3B-4D73-914F-E23BDBDF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CD4D-A455-4C80-AAB6-992364C8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B7CED-4B1C-48BF-9F23-F5A18AB5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0D22-0D35-4A79-884B-2F4FA3A2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3FEF-98B0-4EC0-A52B-37B5E9EC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1B47-425D-491D-B90E-D8E09BB7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D1C5-5693-4EC3-BE84-1C3A5834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3A88F-2963-495F-85D1-20947DE4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326E-FAF7-4EA4-94BC-7C3FD5A0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E49D-587B-45C0-BCB0-75ED088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1150D-901B-4359-93C0-1CEC5E47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AC85-AF60-4506-9C06-2F8B135A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1703-F879-4F15-87A0-F735FADC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912F8-BA76-4E78-BEB6-71207BD0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7D6-3665-423D-AFC9-F3696644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A3F-AC0B-44D0-A903-CDF86AFF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A1C-054F-40EE-8933-157C508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016-4CE3-4566-AFB7-C6C1F07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617-A22C-461D-8AB5-F1640292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6839-629B-4CCC-93D3-0E7286CCB14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D8BD-3B6D-4C0B-880B-6CFAE323784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2EEF-7E22-4203-994F-EFC048EA080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56B7-0F56-4222-82C1-A057BBD3180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520" y="1143000"/>
            <a:ext cx="7162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оект: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одоление тенденции формирования эгоизма у подростк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МОУ «Первомайская СОШ»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Васькина Оксана Александровна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1016280" cy="1600200"/>
          </a:xfrm>
          <a:prstGeom prst="rect">
            <a:avLst/>
          </a:prstGeom>
          <a:ln w="7632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Этапы реализации проект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.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Организационн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февраль-март 2007) – анализ ситуации в классе, отношений между учащимися, проведение диагностики, непосредственное планирование, согласование планов, сведение их в единый комплексный план с учётом обстановки, изучение потребностей учащих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.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Деятельностн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апрель 2007-апрель2008) – координация действий, осуществление запланированных мероприятий, разработка системы контроля за их реализаци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.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Итогов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май-июнь 2008) – анализ и подведение итогов работы. Планирование воспитательной работы на следующий год с учётом рекомендаций, выводов полученных в результате анализ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етоды работ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76520" y="761760"/>
            <a:ext cx="7162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).  Метод переубеждения, объяснения (предоставляющий   возможность приведения убедительных аргументов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ключения их в  критический анализ своих поступков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).   Коррекционные методы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 пед.поддержк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 усвоение положительных образцов поведен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 сказкотерап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 игр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индивидуальное и коллективное консультировани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3).   Методы стимулирования и поощрения.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Формы рабо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индивидуальная, групповая работа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дискусси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мозговые штурм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бесед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встречи, общения с людьм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тренинг поведения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тест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конкурсы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родительские лектории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 ролевые иг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241280" y="2505240"/>
            <a:ext cx="4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41280" y="2505240"/>
            <a:ext cx="5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41280" y="2505240"/>
            <a:ext cx="45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41280" y="2505240"/>
            <a:ext cx="54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Мероприятия диагностического эта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блюдение за учащимися в  учебное и внеуроч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иагностика нравственной мотив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иагностика отношения к жизненным ценностя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роприятия деятельностного эта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Темы классных разговоров и дискуссий 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Тенденция формирования эгоизма у современной молодёжи  – достоинство или недостаток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Кто я? Какой я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Я  в мире  люд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Что объединяет людей (по письмам Д.С.Лихачёва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Я познаю себя. Я познаю других.   Я сам изменяюсь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Свобода и ответственность или абсолютная свобода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Свобода и закон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Патриотизм, необходимо ли это в современном мире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Что я хочу от жизни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Ты и твоё поколение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Самовоспитание и достижение жизненных цел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Помощь твоей семьи в преодолении жизненных трудност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Труд во имя людей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Путь к успеху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Любовью к Родине дыша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роприятия деятельностного этап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Индивидуальные бесед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южетно – ролевые игры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Коллективное посещение театра, музея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Участие в общешкольных внеклассных мероприятия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Организация классных календарных праздников 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День учителя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Новый год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День защитника Отечеств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Международный женский день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en-US" sz="1200" spc="-1" strike="noStrike">
                <a:solidFill>
                  <a:srgbClr val="003366"/>
                </a:solidFill>
                <a:latin typeface="Arial Narrow"/>
              </a:rPr>
              <a:t>День юмор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Коллективное участие в спортивных соревнованиях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Субботники, помощь ветерану ВОВ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Посещение школьного  клуба «Гармония»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r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Факультатив «Основы православной культуры»,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темы занятий 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Роскошь погубляет душ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амоволие и самолюб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амомнение и самонадеянность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амоотрече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амопозн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Свобода дороже всего на свете</a:t>
            </a:r>
            <a:r>
              <a:rPr b="0" i="1" lang="ru-RU" sz="1000" spc="-1" strike="noStrike">
                <a:solidFill>
                  <a:srgbClr val="003366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Беседы  с родителями на темы  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Как мы общаемся с деть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Знаете ли вы своего ребёнка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Как научить своего ребёнка жить в мире люд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 Narro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3366"/>
                </a:solidFill>
                <a:latin typeface="Arial Narrow"/>
              </a:rPr>
              <a:t>Уберечь от эгоизма (по статьям Сухомлинского В.А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ероприятия итогового этап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Наблюдение за учащимися в  учебное и внеурочное врем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иагностика нравственной мотивац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иагностика отношения к жизненным ценностя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иагностика этики повед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Диагностика нравственной самооце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Ожидаемые результаты 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предотвращение развития эгоизма у подростк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82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нравственных качеств, представлений об общечеловеческих ценностя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82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нравственных критериев оценки  поступков  человека по отношению к самому себе и к други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вед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оциально-экономическая ситуация, социальная дифференциация, происходящая в молодёжной среде, оказали и продолжают оказывать негативное влияние на подрастающее покол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 школе заметно проявляется нигилизм подростка, вызывающее поведение. К сожалению в их среде бытует мнение, кто наглее, бессовестнее, тот победитель, «авторитет». Большинство ребят пользуются принципом: «лучшая защита – это нападение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дливают масло в огонь и средства массовой информации, демонстрируя процветание жестокости, лжи, воровства, криминала, ясно дают понять - «кто сильнее, тот и прав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иагнос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 ходе наблюдения за 8 классом были замечены эгоистические наклонности ребят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81000" y="2362320"/>
          <a:ext cx="7336080" cy="3324240"/>
        </p:xfrm>
        <a:graphic>
          <a:graphicData uri="http://schemas.openxmlformats.org/drawingml/2006/table">
            <a:tbl>
              <a:tblPr/>
              <a:tblGrid>
                <a:gridCol w="2439360"/>
                <a:gridCol w="677880"/>
                <a:gridCol w="2715480"/>
                <a:gridCol w="1503360"/>
              </a:tblGrid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Эгоистически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Число учеников, проявляя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ющие эти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% показател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 Нечуткость,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еотзывчивость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. Забота о собственной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выгоде, интерес к себе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. Узость личных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интересов,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эгоистический интерес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. Тщеславие, работа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«напоказ»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. Обособленность о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коллектива,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тказ от поручений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  челове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  челове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  челове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  челове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  челове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609480" y="5638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анные таблицы свидетельствуют о том, что  в целом склонность к эгоизму проявляется у   47%   учащих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1905120"/>
            <a:ext cx="3886200" cy="3657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380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Далее была  проведена диагностика, которая и подтвердила предположения классного руководителя. Учитель оказался перед фактом наличия у детей задатков равнодушия, агресси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38080" y="2305080"/>
            <a:ext cx="2699640" cy="2608200"/>
            <a:chOff x="838080" y="2305080"/>
            <a:chExt cx="2699640" cy="2608200"/>
          </a:xfrm>
        </p:grpSpPr>
        <p:sp>
          <p:nvSpPr>
            <p:cNvPr id="257" name=""/>
            <p:cNvSpPr/>
            <p:nvPr/>
          </p:nvSpPr>
          <p:spPr>
            <a:xfrm>
              <a:off x="2169720" y="3167280"/>
              <a:ext cx="367200" cy="217800"/>
            </a:xfrm>
            <a:custGeom>
              <a:avLst/>
              <a:gdLst/>
              <a:ahLst/>
              <a:rect l="l" t="t" r="r" b="b"/>
              <a:pathLst>
                <a:path w="578" h="343">
                  <a:moveTo>
                    <a:pt x="0" y="0"/>
                  </a:moveTo>
                  <a:lnTo>
                    <a:pt x="72" y="0"/>
                  </a:lnTo>
                  <a:lnTo>
                    <a:pt x="144" y="0"/>
                  </a:lnTo>
                  <a:lnTo>
                    <a:pt x="199" y="0"/>
                  </a:lnTo>
                  <a:lnTo>
                    <a:pt x="253" y="0"/>
                  </a:lnTo>
                  <a:lnTo>
                    <a:pt x="325" y="0"/>
                  </a:lnTo>
                  <a:lnTo>
                    <a:pt x="397" y="18"/>
                  </a:lnTo>
                  <a:lnTo>
                    <a:pt x="451" y="18"/>
                  </a:lnTo>
                  <a:lnTo>
                    <a:pt x="506" y="18"/>
                  </a:lnTo>
                  <a:lnTo>
                    <a:pt x="578" y="36"/>
                  </a:lnTo>
                  <a:lnTo>
                    <a:pt x="0" y="3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20120" y="3167280"/>
              <a:ext cx="849240" cy="217800"/>
            </a:xfrm>
            <a:custGeom>
              <a:avLst/>
              <a:gdLst/>
              <a:ahLst/>
              <a:rect l="l" t="t" r="r" b="b"/>
              <a:pathLst>
                <a:path w="1337" h="343">
                  <a:moveTo>
                    <a:pt x="0" y="343"/>
                  </a:moveTo>
                  <a:lnTo>
                    <a:pt x="0" y="325"/>
                  </a:lnTo>
                  <a:lnTo>
                    <a:pt x="0" y="307"/>
                  </a:lnTo>
                  <a:lnTo>
                    <a:pt x="18" y="289"/>
                  </a:lnTo>
                  <a:lnTo>
                    <a:pt x="36" y="271"/>
                  </a:lnTo>
                  <a:lnTo>
                    <a:pt x="54" y="253"/>
                  </a:lnTo>
                  <a:lnTo>
                    <a:pt x="72" y="235"/>
                  </a:lnTo>
                  <a:lnTo>
                    <a:pt x="108" y="217"/>
                  </a:lnTo>
                  <a:lnTo>
                    <a:pt x="144" y="181"/>
                  </a:lnTo>
                  <a:lnTo>
                    <a:pt x="181" y="163"/>
                  </a:lnTo>
                  <a:lnTo>
                    <a:pt x="217" y="163"/>
                  </a:lnTo>
                  <a:lnTo>
                    <a:pt x="271" y="145"/>
                  </a:lnTo>
                  <a:lnTo>
                    <a:pt x="307" y="126"/>
                  </a:lnTo>
                  <a:lnTo>
                    <a:pt x="361" y="108"/>
                  </a:lnTo>
                  <a:lnTo>
                    <a:pt x="415" y="90"/>
                  </a:lnTo>
                  <a:lnTo>
                    <a:pt x="470" y="72"/>
                  </a:lnTo>
                  <a:lnTo>
                    <a:pt x="524" y="72"/>
                  </a:lnTo>
                  <a:lnTo>
                    <a:pt x="614" y="54"/>
                  </a:lnTo>
                  <a:lnTo>
                    <a:pt x="668" y="36"/>
                  </a:lnTo>
                  <a:lnTo>
                    <a:pt x="723" y="36"/>
                  </a:lnTo>
                  <a:lnTo>
                    <a:pt x="813" y="18"/>
                  </a:lnTo>
                  <a:lnTo>
                    <a:pt x="885" y="18"/>
                  </a:lnTo>
                  <a:lnTo>
                    <a:pt x="939" y="18"/>
                  </a:lnTo>
                  <a:lnTo>
                    <a:pt x="1030" y="0"/>
                  </a:lnTo>
                  <a:lnTo>
                    <a:pt x="1102" y="0"/>
                  </a:lnTo>
                  <a:lnTo>
                    <a:pt x="1174" y="0"/>
                  </a:lnTo>
                  <a:lnTo>
                    <a:pt x="1265" y="0"/>
                  </a:lnTo>
                  <a:lnTo>
                    <a:pt x="1337" y="0"/>
                  </a:lnTo>
                  <a:lnTo>
                    <a:pt x="1337" y="34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ff00"/>
            </a:solidFill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20120" y="3385440"/>
              <a:ext cx="1710000" cy="459360"/>
            </a:xfrm>
            <a:custGeom>
              <a:avLst/>
              <a:gdLst/>
              <a:ahLst/>
              <a:rect l="l" t="t" r="r" b="b"/>
              <a:pathLst>
                <a:path w="2692" h="724">
                  <a:moveTo>
                    <a:pt x="2692" y="0"/>
                  </a:moveTo>
                  <a:lnTo>
                    <a:pt x="2692" y="19"/>
                  </a:lnTo>
                  <a:lnTo>
                    <a:pt x="2674" y="55"/>
                  </a:lnTo>
                  <a:lnTo>
                    <a:pt x="2674" y="73"/>
                  </a:lnTo>
                  <a:lnTo>
                    <a:pt x="2656" y="91"/>
                  </a:lnTo>
                  <a:lnTo>
                    <a:pt x="2620" y="109"/>
                  </a:lnTo>
                  <a:lnTo>
                    <a:pt x="2601" y="127"/>
                  </a:lnTo>
                  <a:lnTo>
                    <a:pt x="2583" y="145"/>
                  </a:lnTo>
                  <a:lnTo>
                    <a:pt x="2547" y="163"/>
                  </a:lnTo>
                  <a:lnTo>
                    <a:pt x="2511" y="181"/>
                  </a:lnTo>
                  <a:lnTo>
                    <a:pt x="2475" y="199"/>
                  </a:lnTo>
                  <a:lnTo>
                    <a:pt x="2421" y="218"/>
                  </a:lnTo>
                  <a:lnTo>
                    <a:pt x="2367" y="236"/>
                  </a:lnTo>
                  <a:lnTo>
                    <a:pt x="2330" y="254"/>
                  </a:lnTo>
                  <a:lnTo>
                    <a:pt x="2258" y="272"/>
                  </a:lnTo>
                  <a:lnTo>
                    <a:pt x="2204" y="272"/>
                  </a:lnTo>
                  <a:lnTo>
                    <a:pt x="2150" y="290"/>
                  </a:lnTo>
                  <a:lnTo>
                    <a:pt x="2078" y="308"/>
                  </a:lnTo>
                  <a:lnTo>
                    <a:pt x="2023" y="308"/>
                  </a:lnTo>
                  <a:lnTo>
                    <a:pt x="1951" y="326"/>
                  </a:lnTo>
                  <a:lnTo>
                    <a:pt x="1861" y="326"/>
                  </a:lnTo>
                  <a:lnTo>
                    <a:pt x="1807" y="344"/>
                  </a:lnTo>
                  <a:lnTo>
                    <a:pt x="1734" y="344"/>
                  </a:lnTo>
                  <a:lnTo>
                    <a:pt x="1644" y="344"/>
                  </a:lnTo>
                  <a:lnTo>
                    <a:pt x="1572" y="344"/>
                  </a:lnTo>
                  <a:lnTo>
                    <a:pt x="1499" y="362"/>
                  </a:lnTo>
                  <a:lnTo>
                    <a:pt x="1409" y="362"/>
                  </a:lnTo>
                  <a:lnTo>
                    <a:pt x="1337" y="362"/>
                  </a:lnTo>
                  <a:lnTo>
                    <a:pt x="1265" y="362"/>
                  </a:lnTo>
                  <a:lnTo>
                    <a:pt x="1174" y="362"/>
                  </a:lnTo>
                  <a:lnTo>
                    <a:pt x="1102" y="344"/>
                  </a:lnTo>
                  <a:lnTo>
                    <a:pt x="1030" y="344"/>
                  </a:lnTo>
                  <a:lnTo>
                    <a:pt x="939" y="344"/>
                  </a:lnTo>
                  <a:lnTo>
                    <a:pt x="885" y="344"/>
                  </a:lnTo>
                  <a:lnTo>
                    <a:pt x="813" y="326"/>
                  </a:lnTo>
                  <a:lnTo>
                    <a:pt x="723" y="326"/>
                  </a:lnTo>
                  <a:lnTo>
                    <a:pt x="668" y="308"/>
                  </a:lnTo>
                  <a:lnTo>
                    <a:pt x="614" y="308"/>
                  </a:lnTo>
                  <a:lnTo>
                    <a:pt x="524" y="290"/>
                  </a:lnTo>
                  <a:lnTo>
                    <a:pt x="470" y="272"/>
                  </a:lnTo>
                  <a:lnTo>
                    <a:pt x="415" y="272"/>
                  </a:lnTo>
                  <a:lnTo>
                    <a:pt x="361" y="254"/>
                  </a:lnTo>
                  <a:lnTo>
                    <a:pt x="307" y="236"/>
                  </a:lnTo>
                  <a:lnTo>
                    <a:pt x="271" y="218"/>
                  </a:lnTo>
                  <a:lnTo>
                    <a:pt x="217" y="199"/>
                  </a:lnTo>
                  <a:lnTo>
                    <a:pt x="181" y="181"/>
                  </a:lnTo>
                  <a:lnTo>
                    <a:pt x="144" y="163"/>
                  </a:lnTo>
                  <a:lnTo>
                    <a:pt x="108" y="145"/>
                  </a:lnTo>
                  <a:lnTo>
                    <a:pt x="72" y="127"/>
                  </a:lnTo>
                  <a:lnTo>
                    <a:pt x="54" y="109"/>
                  </a:lnTo>
                  <a:lnTo>
                    <a:pt x="36" y="91"/>
                  </a:lnTo>
                  <a:lnTo>
                    <a:pt x="18" y="73"/>
                  </a:lnTo>
                  <a:lnTo>
                    <a:pt x="0" y="55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0" y="380"/>
                  </a:lnTo>
                  <a:lnTo>
                    <a:pt x="0" y="416"/>
                  </a:lnTo>
                  <a:lnTo>
                    <a:pt x="18" y="435"/>
                  </a:lnTo>
                  <a:lnTo>
                    <a:pt x="36" y="453"/>
                  </a:lnTo>
                  <a:lnTo>
                    <a:pt x="54" y="471"/>
                  </a:lnTo>
                  <a:lnTo>
                    <a:pt x="72" y="489"/>
                  </a:lnTo>
                  <a:lnTo>
                    <a:pt x="108" y="507"/>
                  </a:lnTo>
                  <a:lnTo>
                    <a:pt x="144" y="525"/>
                  </a:lnTo>
                  <a:lnTo>
                    <a:pt x="181" y="543"/>
                  </a:lnTo>
                  <a:lnTo>
                    <a:pt x="217" y="561"/>
                  </a:lnTo>
                  <a:lnTo>
                    <a:pt x="271" y="579"/>
                  </a:lnTo>
                  <a:lnTo>
                    <a:pt x="307" y="597"/>
                  </a:lnTo>
                  <a:lnTo>
                    <a:pt x="361" y="615"/>
                  </a:lnTo>
                  <a:lnTo>
                    <a:pt x="415" y="634"/>
                  </a:lnTo>
                  <a:lnTo>
                    <a:pt x="470" y="634"/>
                  </a:lnTo>
                  <a:lnTo>
                    <a:pt x="524" y="652"/>
                  </a:lnTo>
                  <a:lnTo>
                    <a:pt x="614" y="670"/>
                  </a:lnTo>
                  <a:lnTo>
                    <a:pt x="668" y="670"/>
                  </a:lnTo>
                  <a:lnTo>
                    <a:pt x="723" y="688"/>
                  </a:lnTo>
                  <a:lnTo>
                    <a:pt x="813" y="688"/>
                  </a:lnTo>
                  <a:lnTo>
                    <a:pt x="885" y="706"/>
                  </a:lnTo>
                  <a:lnTo>
                    <a:pt x="939" y="706"/>
                  </a:lnTo>
                  <a:lnTo>
                    <a:pt x="1030" y="706"/>
                  </a:lnTo>
                  <a:lnTo>
                    <a:pt x="1102" y="706"/>
                  </a:lnTo>
                  <a:lnTo>
                    <a:pt x="1174" y="724"/>
                  </a:lnTo>
                  <a:lnTo>
                    <a:pt x="1265" y="724"/>
                  </a:lnTo>
                  <a:lnTo>
                    <a:pt x="1337" y="724"/>
                  </a:lnTo>
                  <a:lnTo>
                    <a:pt x="1409" y="724"/>
                  </a:lnTo>
                  <a:lnTo>
                    <a:pt x="1499" y="724"/>
                  </a:lnTo>
                  <a:lnTo>
                    <a:pt x="1572" y="706"/>
                  </a:lnTo>
                  <a:lnTo>
                    <a:pt x="1644" y="706"/>
                  </a:lnTo>
                  <a:lnTo>
                    <a:pt x="1734" y="706"/>
                  </a:lnTo>
                  <a:lnTo>
                    <a:pt x="1807" y="706"/>
                  </a:lnTo>
                  <a:lnTo>
                    <a:pt x="1861" y="688"/>
                  </a:lnTo>
                  <a:lnTo>
                    <a:pt x="1951" y="688"/>
                  </a:lnTo>
                  <a:lnTo>
                    <a:pt x="2023" y="670"/>
                  </a:lnTo>
                  <a:lnTo>
                    <a:pt x="2078" y="670"/>
                  </a:lnTo>
                  <a:lnTo>
                    <a:pt x="2150" y="652"/>
                  </a:lnTo>
                  <a:lnTo>
                    <a:pt x="2204" y="634"/>
                  </a:lnTo>
                  <a:lnTo>
                    <a:pt x="2258" y="634"/>
                  </a:lnTo>
                  <a:lnTo>
                    <a:pt x="2330" y="615"/>
                  </a:lnTo>
                  <a:lnTo>
                    <a:pt x="2367" y="597"/>
                  </a:lnTo>
                  <a:lnTo>
                    <a:pt x="2421" y="579"/>
                  </a:lnTo>
                  <a:lnTo>
                    <a:pt x="2475" y="561"/>
                  </a:lnTo>
                  <a:lnTo>
                    <a:pt x="2511" y="543"/>
                  </a:lnTo>
                  <a:lnTo>
                    <a:pt x="2547" y="525"/>
                  </a:lnTo>
                  <a:lnTo>
                    <a:pt x="2583" y="507"/>
                  </a:lnTo>
                  <a:lnTo>
                    <a:pt x="2601" y="489"/>
                  </a:lnTo>
                  <a:lnTo>
                    <a:pt x="2620" y="471"/>
                  </a:lnTo>
                  <a:lnTo>
                    <a:pt x="2656" y="453"/>
                  </a:lnTo>
                  <a:lnTo>
                    <a:pt x="2674" y="435"/>
                  </a:lnTo>
                  <a:lnTo>
                    <a:pt x="2674" y="416"/>
                  </a:lnTo>
                  <a:lnTo>
                    <a:pt x="2692" y="380"/>
                  </a:lnTo>
                  <a:lnTo>
                    <a:pt x="2692" y="362"/>
                  </a:lnTo>
                  <a:lnTo>
                    <a:pt x="2692" y="0"/>
                  </a:lnTo>
                  <a:close/>
                </a:path>
              </a:pathLst>
            </a:custGeom>
            <a:solidFill>
              <a:srgbClr val="339966"/>
            </a:solidFill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20120" y="3190320"/>
              <a:ext cx="1710000" cy="424800"/>
            </a:xfrm>
            <a:custGeom>
              <a:avLst/>
              <a:gdLst/>
              <a:ahLst/>
              <a:rect l="l" t="t" r="r" b="b"/>
              <a:pathLst>
                <a:path w="2692" h="669">
                  <a:moveTo>
                    <a:pt x="1915" y="0"/>
                  </a:moveTo>
                  <a:lnTo>
                    <a:pt x="1969" y="0"/>
                  </a:lnTo>
                  <a:lnTo>
                    <a:pt x="2059" y="18"/>
                  </a:lnTo>
                  <a:lnTo>
                    <a:pt x="2114" y="18"/>
                  </a:lnTo>
                  <a:lnTo>
                    <a:pt x="2168" y="36"/>
                  </a:lnTo>
                  <a:lnTo>
                    <a:pt x="2222" y="54"/>
                  </a:lnTo>
                  <a:lnTo>
                    <a:pt x="2294" y="54"/>
                  </a:lnTo>
                  <a:lnTo>
                    <a:pt x="2349" y="72"/>
                  </a:lnTo>
                  <a:lnTo>
                    <a:pt x="2385" y="90"/>
                  </a:lnTo>
                  <a:lnTo>
                    <a:pt x="2439" y="109"/>
                  </a:lnTo>
                  <a:lnTo>
                    <a:pt x="2475" y="127"/>
                  </a:lnTo>
                  <a:lnTo>
                    <a:pt x="2511" y="145"/>
                  </a:lnTo>
                  <a:lnTo>
                    <a:pt x="2547" y="163"/>
                  </a:lnTo>
                  <a:lnTo>
                    <a:pt x="2583" y="181"/>
                  </a:lnTo>
                  <a:lnTo>
                    <a:pt x="2620" y="199"/>
                  </a:lnTo>
                  <a:lnTo>
                    <a:pt x="2638" y="217"/>
                  </a:lnTo>
                  <a:lnTo>
                    <a:pt x="2656" y="235"/>
                  </a:lnTo>
                  <a:lnTo>
                    <a:pt x="2674" y="253"/>
                  </a:lnTo>
                  <a:lnTo>
                    <a:pt x="2674" y="271"/>
                  </a:lnTo>
                  <a:lnTo>
                    <a:pt x="2692" y="289"/>
                  </a:lnTo>
                  <a:lnTo>
                    <a:pt x="2692" y="307"/>
                  </a:lnTo>
                  <a:lnTo>
                    <a:pt x="2692" y="344"/>
                  </a:lnTo>
                  <a:lnTo>
                    <a:pt x="2674" y="362"/>
                  </a:lnTo>
                  <a:lnTo>
                    <a:pt x="2674" y="380"/>
                  </a:lnTo>
                  <a:lnTo>
                    <a:pt x="2656" y="398"/>
                  </a:lnTo>
                  <a:lnTo>
                    <a:pt x="2620" y="416"/>
                  </a:lnTo>
                  <a:lnTo>
                    <a:pt x="2601" y="434"/>
                  </a:lnTo>
                  <a:lnTo>
                    <a:pt x="2583" y="452"/>
                  </a:lnTo>
                  <a:lnTo>
                    <a:pt x="2547" y="470"/>
                  </a:lnTo>
                  <a:lnTo>
                    <a:pt x="2511" y="488"/>
                  </a:lnTo>
                  <a:lnTo>
                    <a:pt x="2475" y="506"/>
                  </a:lnTo>
                  <a:lnTo>
                    <a:pt x="2439" y="525"/>
                  </a:lnTo>
                  <a:lnTo>
                    <a:pt x="2367" y="543"/>
                  </a:lnTo>
                  <a:lnTo>
                    <a:pt x="2330" y="561"/>
                  </a:lnTo>
                  <a:lnTo>
                    <a:pt x="2276" y="561"/>
                  </a:lnTo>
                  <a:lnTo>
                    <a:pt x="2222" y="579"/>
                  </a:lnTo>
                  <a:lnTo>
                    <a:pt x="2150" y="597"/>
                  </a:lnTo>
                  <a:lnTo>
                    <a:pt x="2096" y="597"/>
                  </a:lnTo>
                  <a:lnTo>
                    <a:pt x="2041" y="615"/>
                  </a:lnTo>
                  <a:lnTo>
                    <a:pt x="1969" y="615"/>
                  </a:lnTo>
                  <a:lnTo>
                    <a:pt x="1897" y="633"/>
                  </a:lnTo>
                  <a:lnTo>
                    <a:pt x="1825" y="633"/>
                  </a:lnTo>
                  <a:lnTo>
                    <a:pt x="1752" y="651"/>
                  </a:lnTo>
                  <a:lnTo>
                    <a:pt x="1698" y="651"/>
                  </a:lnTo>
                  <a:lnTo>
                    <a:pt x="1590" y="651"/>
                  </a:lnTo>
                  <a:lnTo>
                    <a:pt x="1536" y="669"/>
                  </a:lnTo>
                  <a:lnTo>
                    <a:pt x="1463" y="669"/>
                  </a:lnTo>
                  <a:lnTo>
                    <a:pt x="1373" y="669"/>
                  </a:lnTo>
                  <a:lnTo>
                    <a:pt x="1301" y="669"/>
                  </a:lnTo>
                  <a:lnTo>
                    <a:pt x="1228" y="669"/>
                  </a:lnTo>
                  <a:lnTo>
                    <a:pt x="1156" y="669"/>
                  </a:lnTo>
                  <a:lnTo>
                    <a:pt x="1066" y="651"/>
                  </a:lnTo>
                  <a:lnTo>
                    <a:pt x="994" y="651"/>
                  </a:lnTo>
                  <a:lnTo>
                    <a:pt x="921" y="651"/>
                  </a:lnTo>
                  <a:lnTo>
                    <a:pt x="867" y="633"/>
                  </a:lnTo>
                  <a:lnTo>
                    <a:pt x="777" y="633"/>
                  </a:lnTo>
                  <a:lnTo>
                    <a:pt x="705" y="615"/>
                  </a:lnTo>
                  <a:lnTo>
                    <a:pt x="650" y="615"/>
                  </a:lnTo>
                  <a:lnTo>
                    <a:pt x="596" y="597"/>
                  </a:lnTo>
                  <a:lnTo>
                    <a:pt x="506" y="597"/>
                  </a:lnTo>
                  <a:lnTo>
                    <a:pt x="452" y="579"/>
                  </a:lnTo>
                  <a:lnTo>
                    <a:pt x="397" y="561"/>
                  </a:lnTo>
                  <a:lnTo>
                    <a:pt x="343" y="543"/>
                  </a:lnTo>
                  <a:lnTo>
                    <a:pt x="289" y="543"/>
                  </a:lnTo>
                  <a:lnTo>
                    <a:pt x="253" y="525"/>
                  </a:lnTo>
                  <a:lnTo>
                    <a:pt x="217" y="506"/>
                  </a:lnTo>
                  <a:lnTo>
                    <a:pt x="163" y="488"/>
                  </a:lnTo>
                  <a:lnTo>
                    <a:pt x="126" y="470"/>
                  </a:lnTo>
                  <a:lnTo>
                    <a:pt x="108" y="452"/>
                  </a:lnTo>
                  <a:lnTo>
                    <a:pt x="72" y="434"/>
                  </a:lnTo>
                  <a:lnTo>
                    <a:pt x="54" y="416"/>
                  </a:lnTo>
                  <a:lnTo>
                    <a:pt x="36" y="398"/>
                  </a:lnTo>
                  <a:lnTo>
                    <a:pt x="18" y="380"/>
                  </a:lnTo>
                  <a:lnTo>
                    <a:pt x="0" y="362"/>
                  </a:lnTo>
                  <a:lnTo>
                    <a:pt x="0" y="326"/>
                  </a:lnTo>
                  <a:lnTo>
                    <a:pt x="0" y="307"/>
                  </a:lnTo>
                  <a:lnTo>
                    <a:pt x="1337" y="307"/>
                  </a:lnTo>
                  <a:lnTo>
                    <a:pt x="1915" y="0"/>
                  </a:lnTo>
                  <a:close/>
                </a:path>
              </a:pathLst>
            </a:custGeom>
            <a:solidFill>
              <a:srgbClr val="339966"/>
            </a:solidFill>
            <a:ln w="1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" y="2305080"/>
              <a:ext cx="24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иагностика нравственной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74720" y="2546280"/>
              <a:ext cx="97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мотивации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28840" y="29494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1840" y="38336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8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26880" y="30290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4166640"/>
              <a:ext cx="2662560" cy="74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94960" y="4258440"/>
              <a:ext cx="80640" cy="80640"/>
            </a:xfrm>
            <a:prstGeom prst="rect">
              <a:avLst/>
            </a:prstGeom>
            <a:solidFill>
              <a:srgbClr val="00ffff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17720" y="4201920"/>
              <a:ext cx="25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сокий уровень мотивации –  7 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960" y="4500000"/>
              <a:ext cx="80640" cy="80640"/>
            </a:xfrm>
            <a:prstGeom prst="rect">
              <a:avLst/>
            </a:prstGeom>
            <a:solidFill>
              <a:srgbClr val="0080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18080" y="4443120"/>
              <a:ext cx="1847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редний уровень –   68 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4960" y="4741200"/>
              <a:ext cx="80640" cy="79920"/>
            </a:xfrm>
            <a:prstGeom prst="rect">
              <a:avLst/>
            </a:prstGeom>
            <a:solidFill>
              <a:srgbClr val="ffff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19880" y="4683240"/>
              <a:ext cx="164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изкий уровень -  25 %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949560" cy="3619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057400" y="5791320"/>
            <a:ext cx="6172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опрос о преодолении формирования эгоизма встал ребр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Как путь решения сложившейся ситуации и   возник данный проект.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Актуальность проекта заключается в необходимости воспитания позитивных нравственных качеств личности, приобщении к таким ценностям жизни как человек, здоровье, так как формирующийся эгоизм затрудняет взаимодействие, общение человека с человеком, построенных на доверии, сопереживании, взаимопонимании, чест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ь проек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Предупреждение формирования эгоизма у подростков, коррекция негативного поведения и воспитание позитивных качеств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дачи проекта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. Провести диагностические мероприятия для определения развития негативных качеств лич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. Провести коррекционные мероприятия для преодоления развития эго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. Организовать мероприятия, стимулирующие формирование ценностных ориентаций лич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4. Способствовать развитию самосознания, самовоспитания у подрост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980720" y="2285640"/>
            <a:ext cx="6324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Директор шко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Социальный педаго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 Заместитель директора по В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 Учитель основ православной культур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. Родите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. Актив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22860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Решать эти проблемы невозможно в одиночк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создавшихся условиях необходимо объединить усилия всех педагогов, психолога, социального педагога, родителей и др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одержание проект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5-12-31T20:29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