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52C-3D09-4AE9-A3EA-BA997B8E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17B-43C3-4D01-B434-EF8346D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4E3-D682-4500-BBF2-997AB833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3FB-4A4A-4FD4-82EF-EF68EF6D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B5FE-4456-4515-87AE-6AF58C1D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7C9C-A8EE-41E6-9816-2806A01C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225E-D71C-4A50-A5DA-811640DF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D6AF-53D6-46D7-AA60-183901D2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ADD3-AAAB-415F-A159-2D2D66EC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F2C1-C146-45EF-AA72-A5BCEAD6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2C0E-C5A6-497D-9305-91499E1A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FD1-9CAE-4B8A-B925-57ED45B8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61D8-D2BA-44EA-8341-675733C0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BD20-8131-434C-837E-57371339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9B6-A7E9-4C9E-8A94-06F6FF46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645A-7B8C-42B5-B9EA-F94C6F43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C201-88A2-4A85-AAE9-8C635C56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783D-8939-4E5D-94E2-3A000A82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360D-6696-49A8-B978-774FA38D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3198-BB62-4A24-86C1-4A206326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B295-2646-4080-886C-309D970A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4D4B-FA43-4CF1-B9CA-DD0C0E44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A11-A5C8-4A2C-A8DA-646FE6B1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DF4E-2369-4352-B7F4-3E6F0F74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F9F3-C609-410E-90C6-5697CC6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6418-524D-47FD-8856-0F21872A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1072-9E5A-4283-9B22-C5D60828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554B-EC51-4C37-96D2-D574EF70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A215-D3D9-4CC2-9356-B5F176B4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4EB9-2897-4FF9-8BEA-CB4AC7F7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A6106-8FC5-4854-9FB0-D606C7BF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F4FE-341F-434A-BAD2-341F97B4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C6AEC-334B-4BA7-9136-19FD5F42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E9B-70EA-4081-8D8D-40BABAA6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519B-0F64-4D10-AFAF-D9C0B59A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C4F6-BCD2-4EA4-AEFD-8A20EBA2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0350-F6CD-4780-9D5B-CD7F04DD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373FE-2E47-48C2-8B93-FA14706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DB99-BCD9-43D7-A3C2-6CBBE8FE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B62C9-1A19-4016-8CA2-0A16250A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40C1-3A8F-42AF-9C86-12BFC59A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D367-352B-4AD5-9183-FF8598DF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9F3A-7E2C-43FD-9F06-43F1FBDB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BC6-4021-42B8-8CCC-CF6C2570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1C8-A0AF-4F02-9AD9-99304F6A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608-5074-4103-8660-B37DA1D0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B3F-2520-401C-88F3-FD1D61F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8D0-1AEC-4FC6-94EE-2BA7AB21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F232-9060-45D1-A010-8FF54AF7FAF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32CE-8EF5-414F-8CD3-332DD92FD34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F66F-CE4F-44AD-979F-827CC8753E5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A725-AF9B-46E5-95F8-DC1ED9B3CC5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520" y="1143000"/>
            <a:ext cx="7162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оект: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одоление тенденции формирования эгоизма у подростк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МОУ «Первомайская СОШ»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Васькина Оксана Александровна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1016280" cy="160020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Этапы реализации проект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.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Организационн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февраль-март 2007) – анализ ситуации в классе, отношений между учащимися, проведение диагностики, непосредственное планирование, согласование планов, сведение их в единый комплексный план с учётом обстановки, изучение потребностей учащих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.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Деятельностн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апрель 2007-апрель2008) – координация действий, осуществление запланированных мероприятий, разработка системы контроля за их реализаци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.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Итогов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май-июнь 2008) – анализ и подведение итогов работы. Планирование воспитательной работы на следующий год с учётом рекомендаций, выводов полученных в результате анализ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етоды работ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76520" y="761760"/>
            <a:ext cx="7162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).  Метод переубеждения, объяснения (предоставляющий   возможность приведения убедительных аргументов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ключения их в  критический анализ своих поступков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).   Коррекционные методы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 пед.поддержк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 усвоение положительных образцов поведен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 сказкотерап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 игр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индивидуальное и коллективное консультировани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).   Методы стимулирования и поощрения.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ормы рабо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индивидуальная, групповая работ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дискусси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мозговые штурм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бесед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встречи, общения с людь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тренинг поведен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тест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конкурс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родительские лектори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ролевые иг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241280" y="2505240"/>
            <a:ext cx="4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41280" y="2505240"/>
            <a:ext cx="5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41280" y="2505240"/>
            <a:ext cx="4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41280" y="2505240"/>
            <a:ext cx="5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ероприятия диагностического эта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блюдение за учащимися в  учебное и внеуроч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иагностика нравственной мотив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иагностика отношения к жизненным ценностя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роприятия деятельностного эта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Темы классных разговоров и дискуссий 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Тенденция формирования эгоизма у современной молодёжи  – достоинство или недостаток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Кто я? Какой я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Я  в мире  люд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Что объединяет людей (по письмам Д.С.Лихачёва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Я познаю себя. Я познаю других.   Я сам изменяюсь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Свобода и ответственность или абсолютная свобода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Свобода и зако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Патриотизм, необходимо ли это в современном мире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Что я хочу от жизни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Ты и твоё поколение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Самовоспитание и достижение жизненных цел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Помощь твоей семьи в преодолении жизненных трудност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Труд во имя люд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Путь к успеху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Любовью к Родине дыша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роприятия деятельностного эта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Индивидуальные бесед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южетно – ролевые игр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Коллективное посещение театра, музе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Участие в общешкольных внеклассных мероприятия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рганизация классных календарных праздников 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День учител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Нов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День защитника Отече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Международный женский день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День юмор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Коллективное участие в спортивных соревнования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убботники, помощь ветерану В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осещение школьного  клуба «Гармония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Факультатив «Основы православной культуры»,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темы занятий 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Роскошь погубляет душ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амоволие и самолюб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амомнение и самонадеянность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амоотрече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амопозн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вобода дороже всего на свете</a:t>
            </a:r>
            <a:r>
              <a:rPr b="0" i="1" lang="ru-RU" sz="1000" spc="-1" strike="noStrike">
                <a:solidFill>
                  <a:srgbClr val="003366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Беседы  с родителями на темы  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Как мы общаемся с деть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Знаете ли вы своего ребёнка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Как научить своего ребёнка жить в мире люд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Уберечь от эгоизма (по статьям Сухомлинского В.А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роприятия итогового этап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Наблюдение за учащимися в  учебное и внеурочное врем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иагностика нравственной мотив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иагностика отношения к жизненным ценност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иагностика этики пове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иагностика нравственной само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жидаемые результаты 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предотвращение развития эгоизма у подростк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82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нравственных качеств, представлений об общечеловеческих ценностя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82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нравственных критериев оценки  поступков  человека по отношению к самому себе и к друг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вед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оциально-экономическая ситуация, социальная дифференциация, происходящая в молодёжной среде, оказали и продолжают оказывать негативное влияние на подрастающее покол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 школе заметно проявляется нигилизм подростка, вызывающее поведение. К сожалению в их среде бытует мнение, кто наглее, бессовестнее, тот победитель, «авторитет». Большинство ребят пользуются принципом: «лучшая защита – это нападение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дливают масло в огонь и средства массовой информации, демонстрируя процветание жестокости, лжи, воровства, криминала, ясно дают понять - «кто сильнее, тот и прав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иагнос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 ходе наблюдения за 8 классом были замечены эгоистические наклонности ребят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81000" y="2362320"/>
          <a:ext cx="7336080" cy="3324240"/>
        </p:xfrm>
        <a:graphic>
          <a:graphicData uri="http://schemas.openxmlformats.org/drawingml/2006/table">
            <a:tbl>
              <a:tblPr/>
              <a:tblGrid>
                <a:gridCol w="2439360"/>
                <a:gridCol w="677880"/>
                <a:gridCol w="2715480"/>
                <a:gridCol w="1503360"/>
              </a:tblGrid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Эгоистически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Число учеников, проявляя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ющие эти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% показател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 Нечуткость,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еотзывчивость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. Забота о собственной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выгоде, интерес к себе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. Узость личных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интересов,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эгоистический интерес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. Тщеславие, работа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«напоказ»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. Обособленность о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коллектива,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тказ от поручений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  челове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  челове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  челове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  челове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  челове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609480" y="5638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анные таблицы свидетельствуют о том, что  в целом склонность к эгоизму проявляется у   47%   учащих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1905120"/>
            <a:ext cx="3886200" cy="36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380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алее была  проведена диагностика, которая и подтвердила предположения классного руководителя. Учитель оказался перед фактом наличия у детей задатков равнодушия, агресси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38080" y="2305080"/>
            <a:ext cx="2699640" cy="2608200"/>
            <a:chOff x="838080" y="2305080"/>
            <a:chExt cx="2699640" cy="2608200"/>
          </a:xfrm>
        </p:grpSpPr>
        <p:sp>
          <p:nvSpPr>
            <p:cNvPr id="257" name=""/>
            <p:cNvSpPr/>
            <p:nvPr/>
          </p:nvSpPr>
          <p:spPr>
            <a:xfrm>
              <a:off x="2169720" y="3167280"/>
              <a:ext cx="367200" cy="217800"/>
            </a:xfrm>
            <a:custGeom>
              <a:avLst/>
              <a:gdLst/>
              <a:ahLst/>
              <a:rect l="l" t="t" r="r" b="b"/>
              <a:pathLst>
                <a:path w="578" h="343">
                  <a:moveTo>
                    <a:pt x="0" y="0"/>
                  </a:moveTo>
                  <a:lnTo>
                    <a:pt x="72" y="0"/>
                  </a:lnTo>
                  <a:lnTo>
                    <a:pt x="144" y="0"/>
                  </a:lnTo>
                  <a:lnTo>
                    <a:pt x="199" y="0"/>
                  </a:lnTo>
                  <a:lnTo>
                    <a:pt x="253" y="0"/>
                  </a:lnTo>
                  <a:lnTo>
                    <a:pt x="325" y="0"/>
                  </a:lnTo>
                  <a:lnTo>
                    <a:pt x="397" y="18"/>
                  </a:lnTo>
                  <a:lnTo>
                    <a:pt x="451" y="18"/>
                  </a:lnTo>
                  <a:lnTo>
                    <a:pt x="506" y="18"/>
                  </a:lnTo>
                  <a:lnTo>
                    <a:pt x="578" y="36"/>
                  </a:lnTo>
                  <a:lnTo>
                    <a:pt x="0" y="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20120" y="3167280"/>
              <a:ext cx="849240" cy="217800"/>
            </a:xfrm>
            <a:custGeom>
              <a:avLst/>
              <a:gdLst/>
              <a:ahLst/>
              <a:rect l="l" t="t" r="r" b="b"/>
              <a:pathLst>
                <a:path w="1337" h="343">
                  <a:moveTo>
                    <a:pt x="0" y="343"/>
                  </a:moveTo>
                  <a:lnTo>
                    <a:pt x="0" y="325"/>
                  </a:lnTo>
                  <a:lnTo>
                    <a:pt x="0" y="307"/>
                  </a:lnTo>
                  <a:lnTo>
                    <a:pt x="18" y="289"/>
                  </a:lnTo>
                  <a:lnTo>
                    <a:pt x="36" y="271"/>
                  </a:lnTo>
                  <a:lnTo>
                    <a:pt x="54" y="253"/>
                  </a:lnTo>
                  <a:lnTo>
                    <a:pt x="72" y="235"/>
                  </a:lnTo>
                  <a:lnTo>
                    <a:pt x="108" y="217"/>
                  </a:lnTo>
                  <a:lnTo>
                    <a:pt x="144" y="181"/>
                  </a:lnTo>
                  <a:lnTo>
                    <a:pt x="181" y="163"/>
                  </a:lnTo>
                  <a:lnTo>
                    <a:pt x="217" y="163"/>
                  </a:lnTo>
                  <a:lnTo>
                    <a:pt x="271" y="145"/>
                  </a:lnTo>
                  <a:lnTo>
                    <a:pt x="307" y="126"/>
                  </a:lnTo>
                  <a:lnTo>
                    <a:pt x="361" y="108"/>
                  </a:lnTo>
                  <a:lnTo>
                    <a:pt x="415" y="90"/>
                  </a:lnTo>
                  <a:lnTo>
                    <a:pt x="470" y="72"/>
                  </a:lnTo>
                  <a:lnTo>
                    <a:pt x="524" y="72"/>
                  </a:lnTo>
                  <a:lnTo>
                    <a:pt x="614" y="54"/>
                  </a:lnTo>
                  <a:lnTo>
                    <a:pt x="668" y="36"/>
                  </a:lnTo>
                  <a:lnTo>
                    <a:pt x="723" y="36"/>
                  </a:lnTo>
                  <a:lnTo>
                    <a:pt x="813" y="18"/>
                  </a:lnTo>
                  <a:lnTo>
                    <a:pt x="885" y="18"/>
                  </a:lnTo>
                  <a:lnTo>
                    <a:pt x="939" y="18"/>
                  </a:lnTo>
                  <a:lnTo>
                    <a:pt x="1030" y="0"/>
                  </a:lnTo>
                  <a:lnTo>
                    <a:pt x="1102" y="0"/>
                  </a:lnTo>
                  <a:lnTo>
                    <a:pt x="1174" y="0"/>
                  </a:lnTo>
                  <a:lnTo>
                    <a:pt x="1265" y="0"/>
                  </a:lnTo>
                  <a:lnTo>
                    <a:pt x="1337" y="0"/>
                  </a:lnTo>
                  <a:lnTo>
                    <a:pt x="1337" y="34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ff00"/>
            </a:solidFill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20120" y="3385440"/>
              <a:ext cx="1710000" cy="459360"/>
            </a:xfrm>
            <a:custGeom>
              <a:avLst/>
              <a:gdLst/>
              <a:ahLst/>
              <a:rect l="l" t="t" r="r" b="b"/>
              <a:pathLst>
                <a:path w="2692" h="724">
                  <a:moveTo>
                    <a:pt x="2692" y="0"/>
                  </a:moveTo>
                  <a:lnTo>
                    <a:pt x="2692" y="19"/>
                  </a:lnTo>
                  <a:lnTo>
                    <a:pt x="2674" y="55"/>
                  </a:lnTo>
                  <a:lnTo>
                    <a:pt x="2674" y="73"/>
                  </a:lnTo>
                  <a:lnTo>
                    <a:pt x="2656" y="91"/>
                  </a:lnTo>
                  <a:lnTo>
                    <a:pt x="2620" y="109"/>
                  </a:lnTo>
                  <a:lnTo>
                    <a:pt x="2601" y="127"/>
                  </a:lnTo>
                  <a:lnTo>
                    <a:pt x="2583" y="145"/>
                  </a:lnTo>
                  <a:lnTo>
                    <a:pt x="2547" y="163"/>
                  </a:lnTo>
                  <a:lnTo>
                    <a:pt x="2511" y="181"/>
                  </a:lnTo>
                  <a:lnTo>
                    <a:pt x="2475" y="199"/>
                  </a:lnTo>
                  <a:lnTo>
                    <a:pt x="2421" y="218"/>
                  </a:lnTo>
                  <a:lnTo>
                    <a:pt x="2367" y="236"/>
                  </a:lnTo>
                  <a:lnTo>
                    <a:pt x="2330" y="254"/>
                  </a:lnTo>
                  <a:lnTo>
                    <a:pt x="2258" y="272"/>
                  </a:lnTo>
                  <a:lnTo>
                    <a:pt x="2204" y="272"/>
                  </a:lnTo>
                  <a:lnTo>
                    <a:pt x="2150" y="290"/>
                  </a:lnTo>
                  <a:lnTo>
                    <a:pt x="2078" y="308"/>
                  </a:lnTo>
                  <a:lnTo>
                    <a:pt x="2023" y="308"/>
                  </a:lnTo>
                  <a:lnTo>
                    <a:pt x="1951" y="326"/>
                  </a:lnTo>
                  <a:lnTo>
                    <a:pt x="1861" y="326"/>
                  </a:lnTo>
                  <a:lnTo>
                    <a:pt x="1807" y="344"/>
                  </a:lnTo>
                  <a:lnTo>
                    <a:pt x="1734" y="344"/>
                  </a:lnTo>
                  <a:lnTo>
                    <a:pt x="1644" y="344"/>
                  </a:lnTo>
                  <a:lnTo>
                    <a:pt x="1572" y="344"/>
                  </a:lnTo>
                  <a:lnTo>
                    <a:pt x="1499" y="362"/>
                  </a:lnTo>
                  <a:lnTo>
                    <a:pt x="1409" y="362"/>
                  </a:lnTo>
                  <a:lnTo>
                    <a:pt x="1337" y="362"/>
                  </a:lnTo>
                  <a:lnTo>
                    <a:pt x="1265" y="362"/>
                  </a:lnTo>
                  <a:lnTo>
                    <a:pt x="1174" y="362"/>
                  </a:lnTo>
                  <a:lnTo>
                    <a:pt x="1102" y="344"/>
                  </a:lnTo>
                  <a:lnTo>
                    <a:pt x="1030" y="344"/>
                  </a:lnTo>
                  <a:lnTo>
                    <a:pt x="939" y="344"/>
                  </a:lnTo>
                  <a:lnTo>
                    <a:pt x="885" y="344"/>
                  </a:lnTo>
                  <a:lnTo>
                    <a:pt x="813" y="326"/>
                  </a:lnTo>
                  <a:lnTo>
                    <a:pt x="723" y="326"/>
                  </a:lnTo>
                  <a:lnTo>
                    <a:pt x="668" y="308"/>
                  </a:lnTo>
                  <a:lnTo>
                    <a:pt x="614" y="308"/>
                  </a:lnTo>
                  <a:lnTo>
                    <a:pt x="524" y="290"/>
                  </a:lnTo>
                  <a:lnTo>
                    <a:pt x="470" y="272"/>
                  </a:lnTo>
                  <a:lnTo>
                    <a:pt x="415" y="272"/>
                  </a:lnTo>
                  <a:lnTo>
                    <a:pt x="361" y="254"/>
                  </a:lnTo>
                  <a:lnTo>
                    <a:pt x="307" y="236"/>
                  </a:lnTo>
                  <a:lnTo>
                    <a:pt x="271" y="218"/>
                  </a:lnTo>
                  <a:lnTo>
                    <a:pt x="217" y="199"/>
                  </a:lnTo>
                  <a:lnTo>
                    <a:pt x="181" y="181"/>
                  </a:lnTo>
                  <a:lnTo>
                    <a:pt x="144" y="163"/>
                  </a:lnTo>
                  <a:lnTo>
                    <a:pt x="108" y="145"/>
                  </a:lnTo>
                  <a:lnTo>
                    <a:pt x="72" y="127"/>
                  </a:lnTo>
                  <a:lnTo>
                    <a:pt x="54" y="109"/>
                  </a:lnTo>
                  <a:lnTo>
                    <a:pt x="36" y="91"/>
                  </a:lnTo>
                  <a:lnTo>
                    <a:pt x="18" y="73"/>
                  </a:lnTo>
                  <a:lnTo>
                    <a:pt x="0" y="55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0" y="380"/>
                  </a:lnTo>
                  <a:lnTo>
                    <a:pt x="0" y="416"/>
                  </a:lnTo>
                  <a:lnTo>
                    <a:pt x="18" y="435"/>
                  </a:lnTo>
                  <a:lnTo>
                    <a:pt x="36" y="453"/>
                  </a:lnTo>
                  <a:lnTo>
                    <a:pt x="54" y="471"/>
                  </a:lnTo>
                  <a:lnTo>
                    <a:pt x="72" y="489"/>
                  </a:lnTo>
                  <a:lnTo>
                    <a:pt x="108" y="507"/>
                  </a:lnTo>
                  <a:lnTo>
                    <a:pt x="144" y="525"/>
                  </a:lnTo>
                  <a:lnTo>
                    <a:pt x="181" y="543"/>
                  </a:lnTo>
                  <a:lnTo>
                    <a:pt x="217" y="561"/>
                  </a:lnTo>
                  <a:lnTo>
                    <a:pt x="271" y="579"/>
                  </a:lnTo>
                  <a:lnTo>
                    <a:pt x="307" y="597"/>
                  </a:lnTo>
                  <a:lnTo>
                    <a:pt x="361" y="615"/>
                  </a:lnTo>
                  <a:lnTo>
                    <a:pt x="415" y="634"/>
                  </a:lnTo>
                  <a:lnTo>
                    <a:pt x="470" y="634"/>
                  </a:lnTo>
                  <a:lnTo>
                    <a:pt x="524" y="652"/>
                  </a:lnTo>
                  <a:lnTo>
                    <a:pt x="614" y="670"/>
                  </a:lnTo>
                  <a:lnTo>
                    <a:pt x="668" y="670"/>
                  </a:lnTo>
                  <a:lnTo>
                    <a:pt x="723" y="688"/>
                  </a:lnTo>
                  <a:lnTo>
                    <a:pt x="813" y="688"/>
                  </a:lnTo>
                  <a:lnTo>
                    <a:pt x="885" y="706"/>
                  </a:lnTo>
                  <a:lnTo>
                    <a:pt x="939" y="706"/>
                  </a:lnTo>
                  <a:lnTo>
                    <a:pt x="1030" y="706"/>
                  </a:lnTo>
                  <a:lnTo>
                    <a:pt x="1102" y="706"/>
                  </a:lnTo>
                  <a:lnTo>
                    <a:pt x="1174" y="724"/>
                  </a:lnTo>
                  <a:lnTo>
                    <a:pt x="1265" y="724"/>
                  </a:lnTo>
                  <a:lnTo>
                    <a:pt x="1337" y="724"/>
                  </a:lnTo>
                  <a:lnTo>
                    <a:pt x="1409" y="724"/>
                  </a:lnTo>
                  <a:lnTo>
                    <a:pt x="1499" y="724"/>
                  </a:lnTo>
                  <a:lnTo>
                    <a:pt x="1572" y="706"/>
                  </a:lnTo>
                  <a:lnTo>
                    <a:pt x="1644" y="706"/>
                  </a:lnTo>
                  <a:lnTo>
                    <a:pt x="1734" y="706"/>
                  </a:lnTo>
                  <a:lnTo>
                    <a:pt x="1807" y="706"/>
                  </a:lnTo>
                  <a:lnTo>
                    <a:pt x="1861" y="688"/>
                  </a:lnTo>
                  <a:lnTo>
                    <a:pt x="1951" y="688"/>
                  </a:lnTo>
                  <a:lnTo>
                    <a:pt x="2023" y="670"/>
                  </a:lnTo>
                  <a:lnTo>
                    <a:pt x="2078" y="670"/>
                  </a:lnTo>
                  <a:lnTo>
                    <a:pt x="2150" y="652"/>
                  </a:lnTo>
                  <a:lnTo>
                    <a:pt x="2204" y="634"/>
                  </a:lnTo>
                  <a:lnTo>
                    <a:pt x="2258" y="634"/>
                  </a:lnTo>
                  <a:lnTo>
                    <a:pt x="2330" y="615"/>
                  </a:lnTo>
                  <a:lnTo>
                    <a:pt x="2367" y="597"/>
                  </a:lnTo>
                  <a:lnTo>
                    <a:pt x="2421" y="579"/>
                  </a:lnTo>
                  <a:lnTo>
                    <a:pt x="2475" y="561"/>
                  </a:lnTo>
                  <a:lnTo>
                    <a:pt x="2511" y="543"/>
                  </a:lnTo>
                  <a:lnTo>
                    <a:pt x="2547" y="525"/>
                  </a:lnTo>
                  <a:lnTo>
                    <a:pt x="2583" y="507"/>
                  </a:lnTo>
                  <a:lnTo>
                    <a:pt x="2601" y="489"/>
                  </a:lnTo>
                  <a:lnTo>
                    <a:pt x="2620" y="471"/>
                  </a:lnTo>
                  <a:lnTo>
                    <a:pt x="2656" y="453"/>
                  </a:lnTo>
                  <a:lnTo>
                    <a:pt x="2674" y="435"/>
                  </a:lnTo>
                  <a:lnTo>
                    <a:pt x="2674" y="416"/>
                  </a:lnTo>
                  <a:lnTo>
                    <a:pt x="2692" y="380"/>
                  </a:lnTo>
                  <a:lnTo>
                    <a:pt x="2692" y="362"/>
                  </a:lnTo>
                  <a:lnTo>
                    <a:pt x="2692" y="0"/>
                  </a:lnTo>
                  <a:close/>
                </a:path>
              </a:pathLst>
            </a:custGeom>
            <a:solidFill>
              <a:srgbClr val="339966"/>
            </a:solidFill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20120" y="3190320"/>
              <a:ext cx="1710000" cy="424800"/>
            </a:xfrm>
            <a:custGeom>
              <a:avLst/>
              <a:gdLst/>
              <a:ahLst/>
              <a:rect l="l" t="t" r="r" b="b"/>
              <a:pathLst>
                <a:path w="2692" h="669">
                  <a:moveTo>
                    <a:pt x="1915" y="0"/>
                  </a:moveTo>
                  <a:lnTo>
                    <a:pt x="1969" y="0"/>
                  </a:lnTo>
                  <a:lnTo>
                    <a:pt x="2059" y="18"/>
                  </a:lnTo>
                  <a:lnTo>
                    <a:pt x="2114" y="18"/>
                  </a:lnTo>
                  <a:lnTo>
                    <a:pt x="2168" y="36"/>
                  </a:lnTo>
                  <a:lnTo>
                    <a:pt x="2222" y="54"/>
                  </a:lnTo>
                  <a:lnTo>
                    <a:pt x="2294" y="54"/>
                  </a:lnTo>
                  <a:lnTo>
                    <a:pt x="2349" y="72"/>
                  </a:lnTo>
                  <a:lnTo>
                    <a:pt x="2385" y="90"/>
                  </a:lnTo>
                  <a:lnTo>
                    <a:pt x="2439" y="109"/>
                  </a:lnTo>
                  <a:lnTo>
                    <a:pt x="2475" y="127"/>
                  </a:lnTo>
                  <a:lnTo>
                    <a:pt x="2511" y="145"/>
                  </a:lnTo>
                  <a:lnTo>
                    <a:pt x="2547" y="163"/>
                  </a:lnTo>
                  <a:lnTo>
                    <a:pt x="2583" y="181"/>
                  </a:lnTo>
                  <a:lnTo>
                    <a:pt x="2620" y="199"/>
                  </a:lnTo>
                  <a:lnTo>
                    <a:pt x="2638" y="217"/>
                  </a:lnTo>
                  <a:lnTo>
                    <a:pt x="2656" y="235"/>
                  </a:lnTo>
                  <a:lnTo>
                    <a:pt x="2674" y="253"/>
                  </a:lnTo>
                  <a:lnTo>
                    <a:pt x="2674" y="271"/>
                  </a:lnTo>
                  <a:lnTo>
                    <a:pt x="2692" y="289"/>
                  </a:lnTo>
                  <a:lnTo>
                    <a:pt x="2692" y="307"/>
                  </a:lnTo>
                  <a:lnTo>
                    <a:pt x="2692" y="344"/>
                  </a:lnTo>
                  <a:lnTo>
                    <a:pt x="2674" y="362"/>
                  </a:lnTo>
                  <a:lnTo>
                    <a:pt x="2674" y="380"/>
                  </a:lnTo>
                  <a:lnTo>
                    <a:pt x="2656" y="398"/>
                  </a:lnTo>
                  <a:lnTo>
                    <a:pt x="2620" y="416"/>
                  </a:lnTo>
                  <a:lnTo>
                    <a:pt x="2601" y="434"/>
                  </a:lnTo>
                  <a:lnTo>
                    <a:pt x="2583" y="452"/>
                  </a:lnTo>
                  <a:lnTo>
                    <a:pt x="2547" y="470"/>
                  </a:lnTo>
                  <a:lnTo>
                    <a:pt x="2511" y="488"/>
                  </a:lnTo>
                  <a:lnTo>
                    <a:pt x="2475" y="506"/>
                  </a:lnTo>
                  <a:lnTo>
                    <a:pt x="2439" y="525"/>
                  </a:lnTo>
                  <a:lnTo>
                    <a:pt x="2367" y="543"/>
                  </a:lnTo>
                  <a:lnTo>
                    <a:pt x="2330" y="561"/>
                  </a:lnTo>
                  <a:lnTo>
                    <a:pt x="2276" y="561"/>
                  </a:lnTo>
                  <a:lnTo>
                    <a:pt x="2222" y="579"/>
                  </a:lnTo>
                  <a:lnTo>
                    <a:pt x="2150" y="597"/>
                  </a:lnTo>
                  <a:lnTo>
                    <a:pt x="2096" y="597"/>
                  </a:lnTo>
                  <a:lnTo>
                    <a:pt x="2041" y="615"/>
                  </a:lnTo>
                  <a:lnTo>
                    <a:pt x="1969" y="615"/>
                  </a:lnTo>
                  <a:lnTo>
                    <a:pt x="1897" y="633"/>
                  </a:lnTo>
                  <a:lnTo>
                    <a:pt x="1825" y="633"/>
                  </a:lnTo>
                  <a:lnTo>
                    <a:pt x="1752" y="651"/>
                  </a:lnTo>
                  <a:lnTo>
                    <a:pt x="1698" y="651"/>
                  </a:lnTo>
                  <a:lnTo>
                    <a:pt x="1590" y="651"/>
                  </a:lnTo>
                  <a:lnTo>
                    <a:pt x="1536" y="669"/>
                  </a:lnTo>
                  <a:lnTo>
                    <a:pt x="1463" y="669"/>
                  </a:lnTo>
                  <a:lnTo>
                    <a:pt x="1373" y="669"/>
                  </a:lnTo>
                  <a:lnTo>
                    <a:pt x="1301" y="669"/>
                  </a:lnTo>
                  <a:lnTo>
                    <a:pt x="1228" y="669"/>
                  </a:lnTo>
                  <a:lnTo>
                    <a:pt x="1156" y="669"/>
                  </a:lnTo>
                  <a:lnTo>
                    <a:pt x="1066" y="651"/>
                  </a:lnTo>
                  <a:lnTo>
                    <a:pt x="994" y="651"/>
                  </a:lnTo>
                  <a:lnTo>
                    <a:pt x="921" y="651"/>
                  </a:lnTo>
                  <a:lnTo>
                    <a:pt x="867" y="633"/>
                  </a:lnTo>
                  <a:lnTo>
                    <a:pt x="777" y="633"/>
                  </a:lnTo>
                  <a:lnTo>
                    <a:pt x="705" y="615"/>
                  </a:lnTo>
                  <a:lnTo>
                    <a:pt x="650" y="615"/>
                  </a:lnTo>
                  <a:lnTo>
                    <a:pt x="596" y="597"/>
                  </a:lnTo>
                  <a:lnTo>
                    <a:pt x="506" y="597"/>
                  </a:lnTo>
                  <a:lnTo>
                    <a:pt x="452" y="579"/>
                  </a:lnTo>
                  <a:lnTo>
                    <a:pt x="397" y="561"/>
                  </a:lnTo>
                  <a:lnTo>
                    <a:pt x="343" y="543"/>
                  </a:lnTo>
                  <a:lnTo>
                    <a:pt x="289" y="543"/>
                  </a:lnTo>
                  <a:lnTo>
                    <a:pt x="253" y="525"/>
                  </a:lnTo>
                  <a:lnTo>
                    <a:pt x="217" y="506"/>
                  </a:lnTo>
                  <a:lnTo>
                    <a:pt x="163" y="488"/>
                  </a:lnTo>
                  <a:lnTo>
                    <a:pt x="126" y="470"/>
                  </a:lnTo>
                  <a:lnTo>
                    <a:pt x="108" y="452"/>
                  </a:lnTo>
                  <a:lnTo>
                    <a:pt x="72" y="434"/>
                  </a:lnTo>
                  <a:lnTo>
                    <a:pt x="54" y="416"/>
                  </a:lnTo>
                  <a:lnTo>
                    <a:pt x="36" y="398"/>
                  </a:lnTo>
                  <a:lnTo>
                    <a:pt x="18" y="380"/>
                  </a:lnTo>
                  <a:lnTo>
                    <a:pt x="0" y="362"/>
                  </a:lnTo>
                  <a:lnTo>
                    <a:pt x="0" y="326"/>
                  </a:lnTo>
                  <a:lnTo>
                    <a:pt x="0" y="307"/>
                  </a:lnTo>
                  <a:lnTo>
                    <a:pt x="1337" y="307"/>
                  </a:lnTo>
                  <a:lnTo>
                    <a:pt x="1915" y="0"/>
                  </a:lnTo>
                  <a:close/>
                </a:path>
              </a:pathLst>
            </a:custGeom>
            <a:solidFill>
              <a:srgbClr val="339966"/>
            </a:solidFill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" y="2305080"/>
              <a:ext cx="24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иагностика нравственной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74720" y="2546280"/>
              <a:ext cx="97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отивации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28840" y="29494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1840" y="38336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26880" y="30290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4166640"/>
              <a:ext cx="2662560" cy="74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94960" y="4258440"/>
              <a:ext cx="80640" cy="80640"/>
            </a:xfrm>
            <a:prstGeom prst="rect">
              <a:avLst/>
            </a:prstGeom>
            <a:solidFill>
              <a:srgbClr val="00ff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17720" y="4201920"/>
              <a:ext cx="25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сокий уровень мотивации –  7 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4500000"/>
              <a:ext cx="80640" cy="80640"/>
            </a:xfrm>
            <a:prstGeom prst="rect">
              <a:avLst/>
            </a:prstGeom>
            <a:solidFill>
              <a:srgbClr val="0080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18080" y="4443120"/>
              <a:ext cx="184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редний уровень –   68 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4960" y="4741200"/>
              <a:ext cx="80640" cy="79920"/>
            </a:xfrm>
            <a:prstGeom prst="rect">
              <a:avLst/>
            </a:prstGeom>
            <a:solidFill>
              <a:srgbClr val="ffff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19880" y="4683240"/>
              <a:ext cx="164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изкий уровень -  25 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949560" cy="3619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057400" y="5791320"/>
            <a:ext cx="6172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опрос о преодолении формирования эгоизма встал ребр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Как путь решения сложившейся ситуации и   возник данный проект.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ктуальность проекта заключается в необходимости воспитания позитивных нравственных качеств личности, приобщении к таким ценностям жизни как человек, здоровье, так как формирующийся эгоизм затрудняет взаимодействие, общение человека с человеком, построенных на доверии, сопереживании, взаимопонимании, чест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ь проек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Предупреждение формирования эгоизма у подростков, коррекция негативного поведения и воспитание позитивных качеств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проекта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. Провести диагностические мероприятия для определения развития негативных качеств лич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. Провести коррекционные мероприятия для преодоления развития эго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. Организовать мероприятия, стимулирующие формирование ценностных ориентаций лич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4. Способствовать развитию самосознания, самовоспитания у подрост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980720" y="2285640"/>
            <a:ext cx="6324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Директор шко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Социальный педаго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Заместитель директора по В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 Учитель основ православной культур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. Родите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. Актив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22860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Решать эти проблемы невозможно в одиночк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создавшихся условиях необходимо объединить усилия всех педагогов, психолога, социального педагога, родителей и д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одержание проект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5-12-31T20:29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