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4FC6-F698-4240-B6A1-8BEFE3B579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EF11-F476-47CE-98B7-FC1E529D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DDD74-D467-44BC-8556-1CF15741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0C77-8BDC-4584-8CE6-BBBA1172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77F82-5F88-42E1-8424-2BE0D065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65851-AD41-4703-BE16-D35CA54F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F8E6-907D-4AA3-BA86-DC0632B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3C14-832D-44BA-8C76-3299166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ADD9F-FB1D-47CF-B5E8-6F20F2E9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F070B-A64A-4705-B80F-9EC593E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A278-7C4D-4FE0-A6DE-87B5CEAE9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01B2-CE14-489B-8384-8A04CED5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DEC9-0E07-4069-AAE4-2595566FD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0724A-D81F-425A-B58A-092883656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850DB-93E0-4F11-8EF8-C379CF79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6D825-07F9-4FC0-AEA2-FA8A797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44DA1-96B0-47D4-8B4B-0C9356F2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14269-1177-4599-80B4-B148A427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E4236-3F16-475C-97D7-66A70D46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6DA28-4B5C-4746-9030-52E9D737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FC37-7CF4-472B-A548-3B7CA8E5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042D0-46F6-41D8-A44E-A66B97BE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ABDAA-AEA5-4987-B174-8270B2F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7F6ED-93F3-4352-B2A4-6D673C9A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84F51-02B8-4A41-A2CD-311804C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3C867-B3C9-47EE-A508-E5397A5A7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2B14-6B4B-44D3-BC0D-AF2CFF485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0C81-F756-4ADC-AB7D-FF4616B2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13E5-1A21-44D9-9B80-961EA95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408B-63BA-4C8B-9A54-2D9FF0E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7CED-4670-458B-8305-68C95DD7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D77D-2E48-48BF-88D2-E2B59EF0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E6B4-89B5-4FB5-925F-04246F56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3019-99CE-4FB4-ACDD-40D5EA0F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72BF-E48A-4E87-8C04-2F2F61D6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348E-138D-4227-BCA5-56F8C53C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729E-A9C5-496A-AEC2-831336E8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B686-F4CF-4609-ABBA-AA8DE4C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59E3-B910-4184-9C93-C402E87AF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A565C-EB9F-46C4-8890-0D0B23271D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A308B-A93A-4983-BBA3-7D3E65B1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671CA-A858-4938-89C5-D7984D6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129C-96EE-4C54-BBB8-38FCECDD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C0429-656A-413D-AAB5-DA86AEC8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21AEC-897C-4E5F-9A2C-FDFEA7D1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F0162-FD7A-4C30-A813-0A80CB62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6002F-39F3-444F-AAF7-48BA10C1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7A805-792C-4C68-86E6-B85E219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50C7B-1D61-4766-A260-F47349E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671D8-98A9-4EB4-8623-CE3E3918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07F98-6CE0-4FFA-9D4D-5489E1E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E40A1-099A-4D95-AF33-6B142A0AA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87AE1-71BE-44D3-867C-8DEEEA464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59B9-47C7-4336-B2EF-FF77D494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3C351-1F42-4477-9E52-CD9CE6A6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9FF38-91D9-4CFE-A10F-D48F46C3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B2B9B-D7D2-4D9E-8F97-F5FA1A0D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F771F-ED60-4F3B-ADC2-EF594D4C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90880-8554-433F-B8F3-1C0565C8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4365DB-25F5-4FCD-9CB9-79D5BD7E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38B8C-84A7-4568-8038-25B2772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A9FA9-2B67-4F00-9F67-FF6A4FB9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2A4E6F-081E-4C3D-904E-F261E19C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322F6-E7E5-453D-B932-3310F39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361F6-91D2-4459-96FA-08FD0359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257B3-8B4F-4664-80DD-C562F67BF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E9DD-4121-437A-B028-C8B667EBE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3878-951F-4B4A-9E6F-3EA1B37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B017-12CB-4AD6-A9A3-BCEA16EA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905AD-E2FB-4AD2-BD39-AEDF32B1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05D9-E181-4086-88D1-19626A53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9C56-EB29-4DF6-AC32-978FC39D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CD95-70F4-43E9-8BB8-94D172A0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179C8-41EA-4F83-B13C-7418E1F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C6D8-A6E0-44EC-B827-7DFC2F83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6C8DD-13C7-4C28-852A-67BB520C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A505-D202-4E55-AE77-ADEDBAA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BD37-874E-426B-9F38-C735BF3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AB39-5526-4A9B-AD3D-5B2563B72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9BCA3-82ED-41DB-AB12-26683B4C9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47297-4E47-4C04-8F03-9B5E44AD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5A022-07BB-4D92-AF7D-3A6AF09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B4050-83DF-44BE-8087-C4FEBBD9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990C4-16AF-4379-B922-71BC1C24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EC747-B15A-4A21-B955-76865E55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5C559-8E34-472E-AD01-B4BC66FB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7E40-BB28-473A-89B4-18B41838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CA0DD-A743-46ED-B5B6-928646B9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2DA3C-D3DE-4C80-AEB0-3BEEB795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B0BE7-FBC7-452A-A3D3-10A3BEEE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A63F3-758A-4B19-BFF0-2BDCD88F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2F62D-2D20-459E-998E-DF06AE257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A4D73-4A0D-4A44-9EF5-C03666A5D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CFEDA-8ACE-4706-BB90-A22A89A3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D8F79A-A583-4196-A5C1-9F8AF378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501E2-E2AC-4BAF-BC1A-BB5FBB09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0A150-7A7B-4DA0-85B5-C3806795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0125-3AC5-49BF-AEB2-E4DEFF8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5A1AE0-26BC-4669-ABBF-6D65D999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6C673-E1FE-474A-ADB9-9C68E02F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5595F4-6418-4AF2-BDA6-84B9E5AB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74ADF8-6C7B-4047-9A74-D4F9672A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668F9-1A5D-4A8D-85F4-9A3441EB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D1210-09DC-47B6-9EC9-C6582B21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FAD56-4535-4A6A-9DB2-E5C8D12444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C94A-1FE7-451C-A41E-E8B7D0B6E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004E-A5A3-4837-9C76-EDD6A26D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0AEAF-A0C4-476D-8516-7FC5A2B2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6760"/>
            <a:ext cx="7603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218409-40CC-4A82-B39B-97E3640249B1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9E826BB-D30C-441A-9684-F3463D478EB3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13C0D69-C89F-4009-8560-9CF9D1994C8C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E5A754F-8210-49CB-9FA4-F3D04BA6305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85FB4D4-32EA-4FA2-BC38-54B6BCD7B78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9C8FD42-3AE9-4981-B9B2-41DC1DCB4CBC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3557765-0FC7-4D5D-B4AE-421F421B6FBB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0B76C2-053E-4FD9-B403-2C4241E41E3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3B7D2A2-4F6D-492A-9D52-0CB063F2C5E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225360" y="2273400"/>
            <a:ext cx="8632800" cy="2463840"/>
            <a:chOff x="225360" y="2273400"/>
            <a:chExt cx="8632800" cy="2463840"/>
          </a:xfrm>
        </p:grpSpPr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225360" y="2273400"/>
              <a:ext cx="863280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225360" y="2273400"/>
              <a:ext cx="863280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24000" y="11970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Из опыта работы ГБОУ ДОД ЦВР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Фрунзен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36400" y="5425920"/>
            <a:ext cx="8467920" cy="9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133200" y="450720"/>
            <a:ext cx="8864640" cy="1060560"/>
            <a:chOff x="133200" y="450720"/>
            <a:chExt cx="8864640" cy="1060560"/>
          </a:xfrm>
        </p:grpSpPr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8864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33200" y="450720"/>
              <a:ext cx="88646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7524720" y="1700280"/>
            <a:ext cx="1076400" cy="13525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042920" y="1735200"/>
            <a:ext cx="70581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РАЙОННОЕ МЕТОДИЧЕСКОЕ ОБЪЕДИНЕНИЕ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ТВЕТСТВЕННЫХ ЗА ПРОФОРИЕНТАЦИОННУЮ РАБОТУ В ОУ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Georgia"/>
                <a:ea typeface="Calibri"/>
              </a:rPr>
              <a:t>Тема «Нормативно-правовая документация по профориентации в ОУ»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Анкета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Какой опыт показался Вам наиболее интересен?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2.  Какая информация была для Вас полезна, пригодится для дальнейшей работы?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3.  Ваши пожелания, предложения, замечания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4. Оцените, пожалуйста,  мероприятие по 5-бальной шкале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Спасибо. Нам важна Ваша оценка!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244440" y="1981080"/>
            <a:ext cx="8697960" cy="2316240"/>
            <a:chOff x="244440" y="1981080"/>
            <a:chExt cx="8697960" cy="231624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244440" y="1981080"/>
              <a:ext cx="8697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44440" y="1981080"/>
              <a:ext cx="8697960" cy="23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33200" y="450720"/>
            <a:ext cx="8871120" cy="1060560"/>
            <a:chOff x="133200" y="450720"/>
            <a:chExt cx="8871120" cy="106056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88711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33200" y="450720"/>
              <a:ext cx="887112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4920" y="1554120"/>
            <a:ext cx="8334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йонное методическое объединение создано на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основании Распоряжения администрации Фрунзенского района Санкт-Петербурга № 1371-р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от  12 .09.2012г           «О мерах по совершенствованию деятельности образовательных учреждений, подведомственных администрации Фрунзенского района Санкт-Петербурга в сфере воспитания и дополнительного образования детей» и 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функционально закреплено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за ГБОУ ДОД Центром внешкольной работ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2700360" cy="3959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3060720" y="1619280"/>
            <a:ext cx="2879640" cy="3968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6119640" y="1619280"/>
            <a:ext cx="2880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оздать районную систему действенной профориентации учащихся, способствующей формированию у подростков и молодежи профессионального самоопределения в соответствии с желаниями, способностями, индивидуальными особенностями каждой личности и с учетом социокультурной и экономической ситуации в район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витие нормативно-правовой базы в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овершенствование научно-методического, информационного и технического обеспечения системы профориентации учащихся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оздание профориентационной службы в ОУ, помогающей учащимся в профессиональном самоопределении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Объединение усилий заинтересованных ведомств,  для создания эффективной системы профориентации в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работка форм и методов социального партнерства учреждений профессионального образования и ОУ по вопросам профессионального самоопределения обучающихся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работка механизма содействия трудоустройству выпускников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Формирование единого информационного пространства по профориентации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День проведени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 четвертый вторник каждого месяц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Время проведения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15.00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Дни консультаций для педагогов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 четверг 15.00-17.00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ветственный: методист ГБОУ ДОД ЦВР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рунзенского района Санкт-Петербурга-Высоцкая З.С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324000" y="1268280"/>
          <a:ext cx="8686800" cy="4997520"/>
        </p:xfrm>
        <a:graphic>
          <a:graphicData uri="http://schemas.openxmlformats.org/drawingml/2006/table">
            <a:tbl>
              <a:tblPr/>
              <a:tblGrid>
                <a:gridCol w="2171520"/>
                <a:gridCol w="3156120"/>
                <a:gridCol w="1512720"/>
                <a:gridCol w="184644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сто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05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рт РМО.  Корректировка плана проведения Р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ДОД Ц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Д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нкт-Петербург, (Будапештская ул., д. 30, к. 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планов работы на год, ответственных за профориентацию в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к районному смот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ДОД Ц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Будапештская 29, корп. 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совместной работы с НПО и С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инар  по программе «Ориенти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ледж информационных технолог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ездное 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Загребский бульвар, д.23, корпус 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ика проведения интегрированного урока с элементами профори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средняя школа № 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ездно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Дунайский проспект, 48к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й смотр презент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ыбираю професси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ПО СПб ГУК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ференция «Организация межсетевого взаимодействия в рамках работы с детьми с ограниченными возможностями здоровь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министрация Фрунзе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ездное 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дение итогов работы РМ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ДОД Ц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Будапештская 29, корп. 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33200" y="450720"/>
            <a:ext cx="8864640" cy="1060560"/>
            <a:chOff x="133200" y="450720"/>
            <a:chExt cx="8864640" cy="1060560"/>
          </a:xfrm>
        </p:grpSpPr>
        <p:pic>
          <p:nvPicPr>
            <p:cNvPr id="428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8864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33200" y="450720"/>
              <a:ext cx="88646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отношение выездных мероприятий и мероприятий на базе учреждения 1:1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Целесообразность мероприятий в соответствии с целями работы района, учреждения, педагогов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отношение теоретических мероприятий с практическими 1:2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32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5280" y="1088640"/>
            <a:ext cx="842472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Государственное бюджетное образовательное учреждение дополнительного образования детей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ентр внешкольной работы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Фрунзен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йонный опорный Центр по социализации детей и подростков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йонное методическое объединение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ветственных за профориентационную работу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токол № 1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ма «Старт РМО. Цели и задачи на 2012-2013 учебный год»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уковод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Высоцкая З.С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сутствова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ОУ: 205, 226, 441, 8, 303, 311, 553, 201, 202, 212, 298, 302, 313, 314, 322, 364, 365, 367, 448, 603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екретар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Зайцева И. Ю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Повестка дня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ерспективы работы на 2012-2013 уч.г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зможности сотрудничества ОУ и РОЦ в рамках профориентационной работы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кущее планирование деятельности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туп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Высоцкая З.С. С вопросом о перспективах развития направления профориентации в районе и городе. Участники были оповещены о стратегии развития данного направления в городе, основных городских и районных мероприятиях, возможности повышения квалификации на базе АППО. Состоялось обсуждение целей, задач и плана работы РМО на учебный год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туп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Зайцева И.Ю. С вопросом о возможностях РОЦ в рамках сотрудничества с ОУ района. В частности обсуждались вопросы о заключении договоров с ОУ, подача заявок на осуществление плановых диагностик, проведения мероприятий, мастер-классов, выхода на собрание педагогических и родительских коллективов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щее обс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и корректировка плана мероприятий профориентационного направления на уч. г.  Обсуждалась необходимость изменения концепции проведения районных выставок «Образовательных возможностей»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ешение: информирование ответственных в  ГКУ «Вектор» о необходимости модернизации выставок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тупил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оцкая З.С. с вопросом о сроках сдачи документации по профпланам и профнамерениям учащихся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писок участников РМО прилагается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ата: 10.10.2012г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1:43:00Z</dcterms:created>
  <dc:creator>Высоцкая</dc:creator>
  <dc:description/>
  <dc:language>en-US</dc:language>
  <cp:lastModifiedBy>Высоцкая</cp:lastModifiedBy>
  <dcterms:modified xsi:type="dcterms:W3CDTF">2012-12-13T13:12:57Z</dcterms:modified>
  <cp:revision>9</cp:revision>
  <dc:subject/>
  <dc:title>Технология создания районного методического объединения ответственных за профориентационную работу в ОУ</dc:title>
</cp:coreProperties>
</file>