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F5CB3-5999-4101-A3FE-B0728A1A46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3CEAA-933E-4968-A859-66B2D79D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B079A-0AF1-40DF-A22F-ADCF564C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8AB40-7D8C-47D7-BAB7-A5F340D6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C2C04-1F21-47C4-87E4-FD03DE41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A2DDD-2F55-4DD0-B302-CBD08A42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67556-7106-4666-BF05-631D6112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B3824-F836-4058-B836-82324C03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9E321-326E-43B6-A999-DD492035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C6110-B4DB-4178-A624-0D3E70AC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D3ED5-4374-4809-B3C1-25011223D5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9850A-8D25-4BAE-8E99-FDB5F54A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07509-44D1-4D4F-A866-8DB53C7652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AB7B7-7AFB-46C6-92B6-1CAD73DFD4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4FB64-A93F-4905-81E0-611CB495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36092-36B1-493D-84A0-9D4A4665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AD351-ADDC-4715-9E66-74FC2D4B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A203F-5C00-40BF-AE0E-A72F6E3E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8DC59-9355-4B43-B889-E16743E0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E54EB-01D2-4F81-A9F8-2FA2350D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1B13A-EC4F-4700-875A-E57746E5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7E414-6763-43CF-9FE1-737037DF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3CA18-937B-4313-8A5B-568069A8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16BD2-9581-4350-81CD-D58532F4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4B78C-E403-43AC-9DCB-44821CD3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75C2B-929F-4576-AEB3-B94B071195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1A32-09A8-41AF-AD43-D54F597F79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C211-5821-49A2-B379-0C6B2859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90A1-3974-4E7A-B168-3EC98F66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4C1A-6F45-4176-A188-CE8C7774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D34B-AAB5-481B-B999-095A169F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59F17-E526-405B-A251-EE55E41C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994A-6705-46EE-BD51-5D83A0EA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0955-1593-4F6D-A72B-8C244E42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B984-23EE-456B-A806-78D05B93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415A-5797-427B-8276-5FB1B19E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5609-59CD-405F-8657-A85BE322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0F56-1D8F-49EF-9E75-B8451818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DAD6-F97B-4C70-AB91-603B4D1F85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247BF-EF6B-4C94-8198-4543F192DF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367A5B-86B6-43B6-B1FA-2D5BB0DC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AFC618-A332-4589-A412-C6604464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98A43-9F6D-4B94-B05C-53AD19C6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AC1A6-1EBD-40A1-BE87-1F057A74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DFD764-C5B7-40E3-A5BB-3F98B972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9C7E46-E1E3-40C9-92EA-446FDAF8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E9870-AB37-4081-81E7-3CC50301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48910-AB4F-4937-B8DA-AB16ED63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1BC2F4-610E-49B3-A41D-CA4D8FF3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11B67-4FC5-4668-9D75-DF4ED33F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E817FF-A674-4D27-86DC-401AA977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56F1BE-3E48-419B-8428-F80FCBD6C8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9B66AB-BF06-414E-AE85-2D83E5C436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D75E7-1595-488C-AF42-5F8B8744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732735-24AF-4DFF-85E9-3FA42DE3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A48CF3-A384-41E3-97CA-236D567F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56091D-80BA-4937-A55C-A376B834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90365D-8889-4A19-9035-EFE577EC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2F7FB0-919F-4F2D-B4AB-54011BB5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999698-3B7C-4077-9D25-C3F3BFB9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AD04EF-D189-42C3-973C-2CB6C5E1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0B77BA-8A81-4204-A741-15DD91C0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0EA893-41FD-4CDB-B967-31860F60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DB2B46-5ED4-42F4-9D16-52832CAA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8EFDE-BA0E-41FC-AE05-073D8B51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F10D06-01EE-4AB1-8140-0075DD8B40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B1D9D-3EEE-45D8-91A1-9F11224AFA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3938D-AD38-48A5-B5A9-232F3743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CBBB9-F87C-48B8-B0FF-7F617E5D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D3F20-FE91-413E-BFE8-3628EE73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915A9-C9BC-4E4D-95FB-5DB8B2EB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8FCDD-4020-4682-A260-56032E3B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4C61D-D604-49A5-8F12-065181CE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11AED-0F08-496B-824D-B89717A0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19F46-B374-4AF1-A999-59CAB02F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FDDE1-C488-4D03-917F-920B4438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F2D67-15B3-4935-A576-01A50C9F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71929-BBF2-4B30-8D5B-12E7C18D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4F4BF-FAB8-45DB-BDED-5605D54434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7182BD-8430-4AA7-A95C-430FAAF67F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73BA48-B759-4775-8382-9871C77F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4F626E-FF20-4A78-BCEB-81146F65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2A3273-542D-4179-BDDA-2E9F463C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10CFA4-6D80-4A20-AB31-5DEC3891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FCB287-50FB-417F-8808-C615E33A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A20556-4922-4130-AD8C-01D44A3C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B02C3-EB12-4BAC-B57B-AFA8C21B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FF0580-9704-4ACA-BD10-4B1E295F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B1450B-98D2-4ECC-AD54-4F8C5197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B0C353-5A3E-4F11-B271-54ABCA1D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6E9B70-3812-4D9A-8B1A-B473ACB6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0F691D-87E3-45C6-829E-87AE002808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7C6206-A0C9-48A4-B290-504A29AC6A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E2154D-D81C-4BC1-B114-172F2AF9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D75949-7E84-4E39-801C-E7005C59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9C0368-7A56-4414-B844-1D25A51B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57C63E-4A75-4D6B-B972-F185BE55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A7849-E928-493F-9365-F058930E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9400A1-3167-4D7D-B42D-1D325F26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A662C3-8CD0-40DF-87C8-52804C7E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603FE8-BC50-4995-879D-5BB5A846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AFF30B-16E1-4EDF-8A7B-67099A73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EAE6D1-FEAF-411B-837F-0020FB1E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336A8B-E27E-4F6B-8B2B-51047F3E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743E1F-5C13-48A5-85AE-3DF69F8E90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CE58C-5674-4E39-BA6B-0A3ED88FF8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9169A-84DC-4C2E-AAE9-673840BA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2B998-3225-4104-8817-37F867CE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0" y="6476760"/>
            <a:ext cx="7603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362B4F-5029-4E8F-95DA-D21A49C74FB4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124F2BD-9049-4D4A-B08B-68FA9737EBF7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8A4E732-0D80-41AB-BF4C-E384A0F3210E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A189EA0-6B62-4C3E-9EFA-6427C7429076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D64EA31-BF16-49A4-B48B-CA2C3A572FE5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DE88841-E920-4703-853B-35263A71E48B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BDAC6A5-F3F6-4376-8277-5FC9C3FC3C9D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7C54927-81AB-4253-815B-0098CA2DC082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9361C09-2C80-460C-8F51-25FAC6FD7CBA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225360" y="2273400"/>
            <a:ext cx="8632800" cy="2463840"/>
            <a:chOff x="225360" y="2273400"/>
            <a:chExt cx="8632800" cy="2463840"/>
          </a:xfrm>
        </p:grpSpPr>
        <p:pic>
          <p:nvPicPr>
            <p:cNvPr id="400" name="" descr=""/>
            <p:cNvPicPr/>
            <p:nvPr/>
          </p:nvPicPr>
          <p:blipFill>
            <a:blip r:embed="rId2"/>
            <a:stretch/>
          </p:blipFill>
          <p:spPr>
            <a:xfrm>
              <a:off x="225360" y="2273400"/>
              <a:ext cx="8632800" cy="24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225360" y="2273400"/>
              <a:ext cx="863280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324000" y="11970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Из опыта работы ГБОУ ДОД ЦВР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Фрунзенского района Санкт-Петербурга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536400" y="5425920"/>
            <a:ext cx="8467920" cy="9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133200" y="450720"/>
            <a:ext cx="8864640" cy="1060560"/>
            <a:chOff x="133200" y="450720"/>
            <a:chExt cx="8864640" cy="1060560"/>
          </a:xfrm>
        </p:grpSpPr>
        <p:pic>
          <p:nvPicPr>
            <p:cNvPr id="436" name="" descr=""/>
            <p:cNvPicPr/>
            <p:nvPr/>
          </p:nvPicPr>
          <p:blipFill>
            <a:blip r:embed="rId2"/>
            <a:stretch/>
          </p:blipFill>
          <p:spPr>
            <a:xfrm>
              <a:off x="133200" y="450720"/>
              <a:ext cx="886464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133200" y="450720"/>
              <a:ext cx="886464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7524720" y="1700280"/>
            <a:ext cx="1076400" cy="13525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042920" y="1735200"/>
            <a:ext cx="705816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РАЙОННОЕ МЕТОДИЧЕСКОЕ ОБЪЕДИНЕНИЕ 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Calibri"/>
              </a:rPr>
              <a:t>ОТВЕТСТВЕННЫХ ЗА ПРОФОРИЕНТАЦИОННУЮ РАБОТУ В ОУ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Georgia"/>
                <a:ea typeface="Calibri"/>
              </a:rPr>
              <a:t>Тема «Нормативно-правовая документация по профориентации в ОУ»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Анкета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Какой опыт показался Вам наиболее интересен?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__________________________________________________________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2.  Какая информация была для Вас полезна, пригодится для дальнейшей работы?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3.  Ваши пожелания, предложения, замечания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4. Оцените, пожалуйста,  мероприятие по 5-бальной шкале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Спасибо. Нам важна Ваша оценка!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244440" y="1981080"/>
            <a:ext cx="8697960" cy="2316240"/>
            <a:chOff x="244440" y="1981080"/>
            <a:chExt cx="8697960" cy="2316240"/>
          </a:xfrm>
        </p:grpSpPr>
        <p:pic>
          <p:nvPicPr>
            <p:cNvPr id="442" name="" descr=""/>
            <p:cNvPicPr/>
            <p:nvPr/>
          </p:nvPicPr>
          <p:blipFill>
            <a:blip r:embed="rId2"/>
            <a:stretch/>
          </p:blipFill>
          <p:spPr>
            <a:xfrm>
              <a:off x="244440" y="1981080"/>
              <a:ext cx="869796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44440" y="1981080"/>
              <a:ext cx="8697960" cy="23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133200" y="450720"/>
            <a:ext cx="8871120" cy="1060560"/>
            <a:chOff x="133200" y="450720"/>
            <a:chExt cx="8871120" cy="1060560"/>
          </a:xfrm>
        </p:grpSpPr>
        <p:pic>
          <p:nvPicPr>
            <p:cNvPr id="405" name="" descr=""/>
            <p:cNvPicPr/>
            <p:nvPr/>
          </p:nvPicPr>
          <p:blipFill>
            <a:blip r:embed="rId2"/>
            <a:stretch/>
          </p:blipFill>
          <p:spPr>
            <a:xfrm>
              <a:off x="133200" y="450720"/>
              <a:ext cx="887112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133200" y="450720"/>
              <a:ext cx="887112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04920" y="1554120"/>
            <a:ext cx="8334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айонное методическое объединение создано на </a:t>
            </a: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основании Распоряжения администрации Фрунзенского района Санкт-Петербурга № 1371-р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от  12 .09.2012г           «О мерах по совершенствованию деятельности образовательных учреждений, подведомственных администрации Фрунзенского района Санкт-Петербурга в сфере воспитания и дополнительного образования детей» и  </a:t>
            </a: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функционально закреплено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за ГБОУ ДОД Центром внешкольной работы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179280" y="1619280"/>
            <a:ext cx="2700360" cy="39592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3060720" y="1619280"/>
            <a:ext cx="2879640" cy="39686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6119640" y="1619280"/>
            <a:ext cx="2880000" cy="39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103320" y="450720"/>
            <a:ext cx="8894520" cy="1152720"/>
            <a:chOff x="103320" y="450720"/>
            <a:chExt cx="8894520" cy="1152720"/>
          </a:xfrm>
        </p:grpSpPr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103320" y="450720"/>
              <a:ext cx="88945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103320" y="450720"/>
              <a:ext cx="889452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оздать районную систему действенной профориентации учащихся, способствующей формированию у подростков и молодежи профессионального самоопределения в соответствии с желаниями, способностями, индивидуальными особенностями каждой личности и с учетом социокультурной и экономической ситуации в районе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103320" y="450720"/>
            <a:ext cx="8894520" cy="1152720"/>
            <a:chOff x="103320" y="450720"/>
            <a:chExt cx="8894520" cy="115272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3320" y="450720"/>
              <a:ext cx="88945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103320" y="450720"/>
              <a:ext cx="889452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Развитие нормативно-правовой базы в ОУ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Совершенствование научно-методического, информационного и технического обеспечения системы профориентации учащихся ОУ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Создание профориентационной службы в ОУ, помогающей учащимся в профессиональном самоопределении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Объединение усилий заинтересованных ведомств,  для создания эффективной системы профориентации в ОУ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Разработка форм и методов социального партнерства учреждений профессионального образования и ОУ по вопросам профессионального самоопределения обучающихся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Разработка механизма содействия трудоустройству выпускников ОУ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Формирование единого информационного пространства по профориентации.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103320" y="450720"/>
            <a:ext cx="8894520" cy="1152720"/>
            <a:chOff x="103320" y="450720"/>
            <a:chExt cx="8894520" cy="1152720"/>
          </a:xfrm>
        </p:grpSpPr>
        <p:pic>
          <p:nvPicPr>
            <p:cNvPr id="420" name="" descr=""/>
            <p:cNvPicPr/>
            <p:nvPr/>
          </p:nvPicPr>
          <p:blipFill>
            <a:blip r:embed="rId2"/>
            <a:stretch/>
          </p:blipFill>
          <p:spPr>
            <a:xfrm>
              <a:off x="103320" y="450720"/>
              <a:ext cx="88945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103320" y="450720"/>
              <a:ext cx="889452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2640" indent="-5126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День проведения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: четвертый вторник каждого месяца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512640" indent="-5126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Время проведения: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15.00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512640" indent="-5126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Дни консультаций для педагогов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: четверг 15.00-17.00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512640" indent="-5126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тветственный: методист ГБОУ ДОД ЦВР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512640" indent="-512640">
              <a:spcBef>
                <a:spcPts val="799"/>
              </a:spcBef>
              <a:tabLst>
                <a:tab algn="l" pos="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Фрунзенского района Санкт-Петербурга-Высоцкая З.С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103320" y="450720"/>
            <a:ext cx="8894520" cy="1152720"/>
            <a:chOff x="103320" y="450720"/>
            <a:chExt cx="8894520" cy="115272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103320" y="450720"/>
              <a:ext cx="88945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103320" y="450720"/>
              <a:ext cx="889452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aphicFrame>
        <p:nvGraphicFramePr>
          <p:cNvPr id="426" name=""/>
          <p:cNvGraphicFramePr/>
          <p:nvPr/>
        </p:nvGraphicFramePr>
        <p:xfrm>
          <a:off x="324000" y="1268280"/>
          <a:ext cx="8686800" cy="4997520"/>
        </p:xfrm>
        <a:graphic>
          <a:graphicData uri="http://schemas.openxmlformats.org/drawingml/2006/table">
            <a:tbl>
              <a:tblPr/>
              <a:tblGrid>
                <a:gridCol w="2171520"/>
                <a:gridCol w="3156120"/>
                <a:gridCol w="1512720"/>
                <a:gridCol w="1846440"/>
              </a:tblGrid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одерж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есто пр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Фор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105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рт РМО.  Корректировка плана проведения Р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БОУ ДОД ЦВ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углый ст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Д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анкт-Петербург, (Будапештская ул., д. 30, к. 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я планов работы на год, ответственных за профориентацию в О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готовка к районному смотр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БОУ ДОД ЦВ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углый ст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Будапештская 29, корп. 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30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совместной работы с НПО и С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минар  по программе «Ориентир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ледж информационных технолог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ездное 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Загребский бульвар, д.23, корпус 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3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ика проведения интегрированного урока с элементами профориен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БОУ средняя школа № 3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ездно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Дунайский проспект, 48к2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йонный смотр презент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Выбираю профессию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ПО СПб ГУК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кур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3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ференция «Организация межсетевого взаимодействия в рамках работы с детьми с ограниченными возможностями здоровь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дминистрация Фрунзенского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ездное 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ведение итогов работы РМ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БОУ ДОД ЦВ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углый ст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Будапештская 29, корп. 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133200" y="450720"/>
            <a:ext cx="8864640" cy="1060560"/>
            <a:chOff x="133200" y="450720"/>
            <a:chExt cx="8864640" cy="1060560"/>
          </a:xfrm>
        </p:grpSpPr>
        <p:pic>
          <p:nvPicPr>
            <p:cNvPr id="428" name="" descr=""/>
            <p:cNvPicPr/>
            <p:nvPr/>
          </p:nvPicPr>
          <p:blipFill>
            <a:blip r:embed="rId2"/>
            <a:stretch/>
          </p:blipFill>
          <p:spPr>
            <a:xfrm>
              <a:off x="133200" y="450720"/>
              <a:ext cx="886464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133200" y="450720"/>
              <a:ext cx="886464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2640" indent="-5126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отношение выездных мероприятий и мероприятий на базе учреждения 1:1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512640" indent="-5126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Целесообразность мероприятий в соответствии с целями работы района, учреждения, педагогов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512640" indent="-5126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отношение теоретических мероприятий с практическими 1:2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103320" y="450720"/>
            <a:ext cx="8894520" cy="1152720"/>
            <a:chOff x="103320" y="450720"/>
            <a:chExt cx="8894520" cy="1152720"/>
          </a:xfrm>
        </p:grpSpPr>
        <p:pic>
          <p:nvPicPr>
            <p:cNvPr id="432" name="" descr=""/>
            <p:cNvPicPr/>
            <p:nvPr/>
          </p:nvPicPr>
          <p:blipFill>
            <a:blip r:embed="rId2"/>
            <a:stretch/>
          </p:blipFill>
          <p:spPr>
            <a:xfrm>
              <a:off x="103320" y="450720"/>
              <a:ext cx="88945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103320" y="450720"/>
              <a:ext cx="889452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95280" y="1088640"/>
            <a:ext cx="842472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Государственное бюджетное образовательное учреждение дополнительного образования детей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Центр внешкольной работы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Фрунзенского района Санкт-Петербурга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айонный опорный Центр по социализации детей и подростков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айонное методическое объединение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тветственных за профориентационную работу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отокол № 1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Тема «Старт РМО. Цели и задачи на 2012-2013 учебный год»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уководи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Высоцкая З.С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рисутствовал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ОУ: 205, 226, 441, 8, 303, 311, 553, 201, 202, 212, 298, 302, 313, 314, 322, 364, 365, 367, 448, 603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екретар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Зайцева И. Ю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Повестка дня: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ерспективы работы на 2012-2013 уч.г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озможности сотрудничества ОУ и РОЦ в рамках профориентационной работы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Текущее планирование деятельности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ыступил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Высоцкая З.С. С вопросом о перспективах развития направления профориентации в районе и городе. Участники были оповещены о стратегии развития данного направления в городе, основных городских и районных мероприятиях, возможности повышения квалификации на базе АППО. Состоялось обсуждение целей, задач и плана работы РМО на учебный год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ыступил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: Зайцева И.Ю. С вопросом о возможностях РОЦ в рамках сотрудничества с ОУ района. В частности обсуждались вопросы о заключении договоров с ОУ, подача заявок на осуществление плановых диагностик, проведения мероприятий, мастер-классов, выхода на собрание педагогических и родительских коллективов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бщее обсуж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и корректировка плана мероприятий профориентационного направления на уч. г.  Обсуждалась необходимость изменения концепции проведения районных выставок «Образовательных возможностей»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ешение: информирование ответственных в  ГКУ «Вектор» о необходимости модернизации выставок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ыступил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ысоцкая З.С. с вопросом о сроках сдачи документации по профпланам и профнамерениям учащихся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писок участников РМО прилагается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Дата: 10.10.2012г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1:43:00Z</dcterms:created>
  <dc:creator>Высоцкая</dc:creator>
  <dc:description/>
  <dc:language>en-US</dc:language>
  <cp:lastModifiedBy>Высоцкая</cp:lastModifiedBy>
  <dcterms:modified xsi:type="dcterms:W3CDTF">2012-12-13T13:12:57Z</dcterms:modified>
  <cp:revision>9</cp:revision>
  <dc:subject/>
  <dc:title>Технология создания районного методического объединения ответственных за профориентационную работу в ОУ</dc:title>
</cp:coreProperties>
</file>