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jpeg" ContentType="image/jpeg"/>
  <Override PartName="/ppt/media/image28.png" ContentType="image/png"/>
  <Override PartName="/ppt/media/image16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F98-ADAD-4769-8D87-E795E438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306-B467-4C2B-AE31-9D0C5BAB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7B5-294A-4FFE-9465-978B6CB3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DEA-F612-42D6-81FC-6B7A2CCA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015-C4D4-4E9B-B83F-B6CA18C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C95-33DA-4E52-AF8C-536F923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ECE-5FFD-41EC-A7A0-1DFC5ACD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EC4-6528-4FA3-AC19-2A1E6BA1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ED5-53E5-4878-B556-3FBF2E18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E3F-0792-49C8-9C9A-FEE77E7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EE6-D861-460F-B963-04368D8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0EA-A34C-49A2-9051-76D16300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358-0FE9-469A-B810-7CDCEE227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9maya.ru/2008/04/15/znaki_razlichija._pogony.html" TargetMode="External"/><Relationship Id="rId3" Type="http://schemas.openxmlformats.org/officeDocument/2006/relationships/hyperlink" Target="http://kuhta.clan.su/index/0-15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" Target="slide18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1"/>
          <p:cNvSpPr/>
          <p:nvPr/>
        </p:nvSpPr>
        <p:spPr>
          <a:xfrm flipV="1">
            <a:off x="5796000" y="403560"/>
            <a:ext cx="3170160" cy="158436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0"/>
          <p:cNvSpPr txBox="1"/>
          <p:nvPr/>
        </p:nvSpPr>
        <p:spPr>
          <a:xfrm>
            <a:off x="5940360" y="692280"/>
            <a:ext cx="28576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ы</a:t>
            </a:r>
            <a:endParaRPr b="0" lang="en-US" sz="4800" spc="1" strike="noStrike">
              <a:ln w="19080">
                <a:solidFill>
                  <a:srgbClr val="ff33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AutoShape 17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5877000" y="2664000"/>
            <a:ext cx="2835360" cy="49500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" descr="02_l"/>
          <p:cNvPicPr/>
          <p:nvPr/>
        </p:nvPicPr>
        <p:blipFill>
          <a:blip r:embed="rId1"/>
          <a:stretch/>
        </p:blipFill>
        <p:spPr>
          <a:xfrm>
            <a:off x="385920" y="233280"/>
            <a:ext cx="473364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>
            <a:hlinkClick r:id="rId1" action="ppaction://hlinksldjump"/>
          </p:cNvPr>
          <p:cNvSpPr/>
          <p:nvPr/>
        </p:nvSpPr>
        <p:spPr>
          <a:xfrm>
            <a:off x="395280" y="2997360"/>
            <a:ext cx="820728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период с 1 июня по 30 августа в год достижения гражданами возраста 16 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>
            <a:hlinkClick r:id="rId2" action="ppaction://hlinksldjump"/>
          </p:cNvPr>
          <p:cNvSpPr/>
          <p:nvPr/>
        </p:nvSpPr>
        <p:spPr>
          <a:xfrm>
            <a:off x="395280" y="558972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период с 1 сентября по 30 ноября в год достижения гражданами возраста 15 лет?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>
            <a:hlinkClick r:id="rId3" action="ppaction://hlinksldjump"/>
          </p:cNvPr>
          <p:cNvSpPr/>
          <p:nvPr/>
        </p:nvSpPr>
        <p:spPr>
          <a:xfrm>
            <a:off x="395280" y="429264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период с 1 января по 31 марта в год достижения гражданами возраста 17 л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79280" y="260280"/>
            <a:ext cx="8640720" cy="18003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В соответствии с Федеральным зако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О воинской обязанности и военной службе» первоначальная постановка на учет осуществляется: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>
            <a:hlinkClick r:id="rId1" action="ppaction://hlinksldjump"/>
          </p:cNvPr>
          <p:cNvSpPr/>
          <p:nvPr/>
        </p:nvSpPr>
        <p:spPr>
          <a:xfrm>
            <a:off x="250920" y="4365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граниченно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>
            <a:hlinkClick r:id="rId2" action="ppaction://hlinksldjump"/>
          </p:cNvPr>
          <p:cNvSpPr/>
          <p:nvPr/>
        </p:nvSpPr>
        <p:spPr>
          <a:xfrm>
            <a:off x="250920" y="292428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е 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>
            <a:hlinkClick r:id="rId3" action="ppaction://hlinksldjump"/>
          </p:cNvPr>
          <p:cNvSpPr/>
          <p:nvPr/>
        </p:nvSpPr>
        <p:spPr>
          <a:xfrm>
            <a:off x="250920" y="57340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оден к военной служ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аключение по результатам освидетельствования категории «А» озна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>
            <a:hlinkClick r:id="rId1" action="ppaction://hlinksldjump"/>
          </p:cNvPr>
          <p:cNvSpPr/>
          <p:nvPr/>
        </p:nvSpPr>
        <p:spPr>
          <a:xfrm>
            <a:off x="395280" y="2276640"/>
            <a:ext cx="82072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статусе военнослужащих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>
            <a:hlinkClick r:id="rId2" action="ppaction://hlinksldjump"/>
          </p:cNvPr>
          <p:cNvSpPr/>
          <p:nvPr/>
        </p:nvSpPr>
        <p:spPr>
          <a:xfrm>
            <a:off x="395280" y="522936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Указ Президента Российской Федерации «О создании Вооруженных Сил Российской Федерации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>
            <a:hlinkClick r:id="rId3" action="ppaction://hlinksldjump"/>
          </p:cNvPr>
          <p:cNvSpPr/>
          <p:nvPr/>
        </p:nvSpPr>
        <p:spPr>
          <a:xfrm>
            <a:off x="468360" y="3645000"/>
            <a:ext cx="8136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Федеральный закон «О воинской обязанности и военной службе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79280" y="260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акой правовой акт устанавливает права и свободы военнослужащих: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6">
            <a:hlinkClick r:id="rId1" action="ppaction://hlinksldjump"/>
          </p:cNvPr>
          <p:cNvSpPr/>
          <p:nvPr/>
        </p:nvSpPr>
        <p:spPr>
          <a:xfrm>
            <a:off x="324000" y="3357720"/>
            <a:ext cx="8278560" cy="155700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вокупность норм, основанных на принципах гуманности и направленных на защиту жертв вооруженных конфликтов и ограничение средств и методов ведения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>
            <a:hlinkClick r:id="rId2" action="ppaction://hlinksldjump"/>
          </p:cNvPr>
          <p:cNvSpPr/>
          <p:nvPr/>
        </p:nvSpPr>
        <p:spPr>
          <a:xfrm>
            <a:off x="324000" y="191628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жертв стихийных бедств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>
            <a:hlinkClick r:id="rId3" action="ppaction://hlinksldjump"/>
          </p:cNvPr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вокупность норм, направленных на защиту прав человека в мирное врем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324000" y="692280"/>
            <a:ext cx="828036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ждународное гуманитарное право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0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836640"/>
          <a:ext cx="8229600" cy="5864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7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лд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ержанты и ста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порщ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8" descr=""/>
          <p:cNvPicPr/>
          <p:nvPr/>
        </p:nvPicPr>
        <p:blipFill>
          <a:blip r:embed="rId1"/>
          <a:stretch/>
        </p:blipFill>
        <p:spPr>
          <a:xfrm>
            <a:off x="6146640" y="1628640"/>
            <a:ext cx="1079640" cy="45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5" descr=""/>
          <p:cNvPicPr/>
          <p:nvPr/>
        </p:nvPicPr>
        <p:blipFill>
          <a:blip r:embed="rId2"/>
          <a:stretch/>
        </p:blipFill>
        <p:spPr>
          <a:xfrm>
            <a:off x="7407360" y="2259000"/>
            <a:ext cx="1081080" cy="463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7"/>
          <p:cNvSpPr/>
          <p:nvPr/>
        </p:nvSpPr>
        <p:spPr>
          <a:xfrm>
            <a:off x="3134520" y="13824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8" descr=""/>
          <p:cNvPicPr/>
          <p:nvPr/>
        </p:nvPicPr>
        <p:blipFill>
          <a:blip r:embed="rId3"/>
          <a:stretch/>
        </p:blipFill>
        <p:spPr>
          <a:xfrm>
            <a:off x="6146640" y="2843280"/>
            <a:ext cx="1046160" cy="44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9" descr=""/>
          <p:cNvPicPr/>
          <p:nvPr/>
        </p:nvPicPr>
        <p:blipFill>
          <a:blip r:embed="rId4"/>
          <a:stretch/>
        </p:blipFill>
        <p:spPr>
          <a:xfrm>
            <a:off x="7451640" y="3429000"/>
            <a:ext cx="1009800" cy="426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56"/>
          <p:cNvSpPr/>
          <p:nvPr/>
        </p:nvSpPr>
        <p:spPr>
          <a:xfrm>
            <a:off x="3313800" y="17193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яд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8" descr=""/>
          <p:cNvPicPr/>
          <p:nvPr/>
        </p:nvPicPr>
        <p:blipFill>
          <a:blip r:embed="rId5"/>
          <a:srcRect l="5282" t="14509" r="12347" b="10728"/>
          <a:stretch/>
        </p:blipFill>
        <p:spPr>
          <a:xfrm>
            <a:off x="7362720" y="4778280"/>
            <a:ext cx="1081080" cy="4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9" descr=""/>
          <p:cNvPicPr/>
          <p:nvPr/>
        </p:nvPicPr>
        <p:blipFill>
          <a:blip r:embed="rId6"/>
          <a:srcRect l="2952" t="10979" r="4972" b="5904"/>
          <a:stretch/>
        </p:blipFill>
        <p:spPr>
          <a:xfrm>
            <a:off x="6102360" y="4149720"/>
            <a:ext cx="1152360" cy="52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0" descr=""/>
          <p:cNvPicPr/>
          <p:nvPr/>
        </p:nvPicPr>
        <p:blipFill>
          <a:blip r:embed="rId7"/>
          <a:srcRect l="0" t="7240" r="0" b="0"/>
          <a:stretch/>
        </p:blipFill>
        <p:spPr>
          <a:xfrm>
            <a:off x="6058080" y="5499000"/>
            <a:ext cx="968040" cy="3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1" descr=""/>
          <p:cNvPicPr/>
          <p:nvPr/>
        </p:nvPicPr>
        <p:blipFill>
          <a:blip r:embed="rId8"/>
          <a:srcRect l="0" t="7485" r="0" b="0"/>
          <a:stretch/>
        </p:blipFill>
        <p:spPr>
          <a:xfrm>
            <a:off x="7451640" y="6129360"/>
            <a:ext cx="946080" cy="374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62"/>
          <p:cNvSpPr/>
          <p:nvPr/>
        </p:nvSpPr>
        <p:spPr>
          <a:xfrm>
            <a:off x="3313800" y="225900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Ефрей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3"/>
          <p:cNvSpPr/>
          <p:nvPr/>
        </p:nvSpPr>
        <p:spPr>
          <a:xfrm>
            <a:off x="3313080" y="28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лад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4"/>
          <p:cNvSpPr/>
          <p:nvPr/>
        </p:nvSpPr>
        <p:spPr>
          <a:xfrm>
            <a:off x="3313440" y="34732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5"/>
          <p:cNvSpPr/>
          <p:nvPr/>
        </p:nvSpPr>
        <p:spPr>
          <a:xfrm>
            <a:off x="3313440" y="414972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й серж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7"/>
          <p:cNvSpPr/>
          <p:nvPr/>
        </p:nvSpPr>
        <p:spPr>
          <a:xfrm>
            <a:off x="3314520" y="486900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8"/>
          <p:cNvSpPr/>
          <p:nvPr/>
        </p:nvSpPr>
        <p:spPr>
          <a:xfrm>
            <a:off x="3314520" y="5499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0"/>
          <p:cNvSpPr/>
          <p:nvPr/>
        </p:nvSpPr>
        <p:spPr>
          <a:xfrm>
            <a:off x="3362040" y="61293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й прапорщ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4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4360" y="1052640"/>
          <a:ext cx="8229600" cy="4911480"/>
        </p:xfrm>
        <a:graphic>
          <a:graphicData uri="http://schemas.openxmlformats.org/drawingml/2006/table">
            <a:tbl>
              <a:tblPr/>
              <a:tblGrid>
                <a:gridCol w="2743200"/>
                <a:gridCol w="2728800"/>
                <a:gridCol w="275760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28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лад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ар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76" descr=""/>
          <p:cNvPicPr/>
          <p:nvPr/>
        </p:nvPicPr>
        <p:blipFill>
          <a:blip r:embed="rId1"/>
          <a:srcRect l="0" t="11832" r="0" b="0"/>
          <a:stretch/>
        </p:blipFill>
        <p:spPr>
          <a:xfrm>
            <a:off x="6227640" y="184464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7" descr=""/>
          <p:cNvPicPr/>
          <p:nvPr/>
        </p:nvPicPr>
        <p:blipFill>
          <a:blip r:embed="rId2"/>
          <a:srcRect l="0" t="9187" r="0" b="0"/>
          <a:stretch/>
        </p:blipFill>
        <p:spPr>
          <a:xfrm>
            <a:off x="7596360" y="2492280"/>
            <a:ext cx="1152360" cy="43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8" descr=""/>
          <p:cNvPicPr/>
          <p:nvPr/>
        </p:nvPicPr>
        <p:blipFill>
          <a:blip r:embed="rId3"/>
          <a:srcRect l="0" t="1664" r="0" b="0"/>
          <a:stretch/>
        </p:blipFill>
        <p:spPr>
          <a:xfrm>
            <a:off x="6227640" y="3068640"/>
            <a:ext cx="1150920" cy="471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9" descr=""/>
          <p:cNvPicPr/>
          <p:nvPr/>
        </p:nvPicPr>
        <p:blipFill>
          <a:blip r:embed="rId4"/>
          <a:srcRect l="0" t="5551" r="0" b="0"/>
          <a:stretch/>
        </p:blipFill>
        <p:spPr>
          <a:xfrm>
            <a:off x="7632720" y="3645000"/>
            <a:ext cx="1116000" cy="439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0" descr=""/>
          <p:cNvPicPr/>
          <p:nvPr/>
        </p:nvPicPr>
        <p:blipFill>
          <a:blip r:embed="rId5"/>
          <a:stretch/>
        </p:blipFill>
        <p:spPr>
          <a:xfrm>
            <a:off x="6192720" y="4238640"/>
            <a:ext cx="1108080" cy="452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2" descr=""/>
          <p:cNvPicPr/>
          <p:nvPr/>
        </p:nvPicPr>
        <p:blipFill>
          <a:blip r:embed="rId6"/>
          <a:stretch/>
        </p:blipFill>
        <p:spPr>
          <a:xfrm>
            <a:off x="7632720" y="4869000"/>
            <a:ext cx="1093680" cy="44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3" descr=""/>
          <p:cNvPicPr/>
          <p:nvPr/>
        </p:nvPicPr>
        <p:blipFill>
          <a:blip r:embed="rId7"/>
          <a:srcRect l="0" t="5551" r="0" b="0"/>
          <a:stretch/>
        </p:blipFill>
        <p:spPr>
          <a:xfrm>
            <a:off x="6237360" y="5454720"/>
            <a:ext cx="1008000" cy="403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4"/>
          <p:cNvSpPr/>
          <p:nvPr/>
        </p:nvSpPr>
        <p:spPr>
          <a:xfrm>
            <a:off x="3539880" y="189864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лад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5"/>
          <p:cNvSpPr/>
          <p:nvPr/>
        </p:nvSpPr>
        <p:spPr>
          <a:xfrm>
            <a:off x="3494160" y="2484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6"/>
          <p:cNvSpPr/>
          <p:nvPr/>
        </p:nvSpPr>
        <p:spPr>
          <a:xfrm>
            <a:off x="3495600" y="311472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тарший 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7"/>
          <p:cNvSpPr/>
          <p:nvPr/>
        </p:nvSpPr>
        <p:spPr>
          <a:xfrm>
            <a:off x="3494520" y="36543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Капи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8"/>
          <p:cNvSpPr/>
          <p:nvPr/>
        </p:nvSpPr>
        <p:spPr>
          <a:xfrm>
            <a:off x="3494160" y="42847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9"/>
          <p:cNvSpPr/>
          <p:nvPr/>
        </p:nvSpPr>
        <p:spPr>
          <a:xfrm>
            <a:off x="3495960" y="4869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д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0"/>
          <p:cNvSpPr/>
          <p:nvPr/>
        </p:nvSpPr>
        <p:spPr>
          <a:xfrm>
            <a:off x="3449880" y="5454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2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3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95280" y="1268280"/>
          <a:ext cx="8229600" cy="4214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ставы военнослужащих С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йсковые з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гоны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99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ысший офицерский сост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90" descr=""/>
          <p:cNvPicPr/>
          <p:nvPr/>
        </p:nvPicPr>
        <p:blipFill>
          <a:blip r:embed="rId1"/>
          <a:srcRect l="0" t="3780" r="0" b="0"/>
          <a:stretch/>
        </p:blipFill>
        <p:spPr>
          <a:xfrm>
            <a:off x="5967360" y="2124000"/>
            <a:ext cx="1081080" cy="474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1" descr=""/>
          <p:cNvPicPr/>
          <p:nvPr/>
        </p:nvPicPr>
        <p:blipFill>
          <a:blip r:embed="rId2"/>
          <a:stretch/>
        </p:blipFill>
        <p:spPr>
          <a:xfrm>
            <a:off x="7407360" y="2798640"/>
            <a:ext cx="103644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2" descr=""/>
          <p:cNvPicPr/>
          <p:nvPr/>
        </p:nvPicPr>
        <p:blipFill>
          <a:blip r:embed="rId3"/>
          <a:stretch/>
        </p:blipFill>
        <p:spPr>
          <a:xfrm>
            <a:off x="6012000" y="3519360"/>
            <a:ext cx="1008000" cy="459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3" descr=""/>
          <p:cNvPicPr/>
          <p:nvPr/>
        </p:nvPicPr>
        <p:blipFill>
          <a:blip r:embed="rId4"/>
          <a:stretch/>
        </p:blipFill>
        <p:spPr>
          <a:xfrm>
            <a:off x="7407360" y="4194000"/>
            <a:ext cx="1035000" cy="473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4" descr=""/>
          <p:cNvPicPr/>
          <p:nvPr/>
        </p:nvPicPr>
        <p:blipFill>
          <a:blip r:embed="rId5"/>
          <a:stretch/>
        </p:blipFill>
        <p:spPr>
          <a:xfrm>
            <a:off x="6012000" y="4915080"/>
            <a:ext cx="1106280" cy="406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00"/>
          <p:cNvSpPr/>
          <p:nvPr/>
        </p:nvSpPr>
        <p:spPr>
          <a:xfrm>
            <a:off x="3360240" y="23328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роверь се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"/>
          <p:cNvSpPr/>
          <p:nvPr/>
        </p:nvSpPr>
        <p:spPr>
          <a:xfrm>
            <a:off x="3225960" y="212400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енерал-май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"/>
          <p:cNvSpPr/>
          <p:nvPr/>
        </p:nvSpPr>
        <p:spPr>
          <a:xfrm>
            <a:off x="3179880" y="2798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енерал-лейтен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5"/>
          <p:cNvSpPr/>
          <p:nvPr/>
        </p:nvSpPr>
        <p:spPr>
          <a:xfrm>
            <a:off x="3227760" y="360828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енерал-полк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7"/>
          <p:cNvSpPr/>
          <p:nvPr/>
        </p:nvSpPr>
        <p:spPr>
          <a:xfrm>
            <a:off x="3266640" y="423864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енерал Ар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2"/>
          <p:cNvSpPr/>
          <p:nvPr/>
        </p:nvSpPr>
        <p:spPr>
          <a:xfrm>
            <a:off x="3268440" y="486900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аршал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4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50920" y="1359000"/>
            <a:ext cx="8596080" cy="47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лодецкий Г.А., Латчук В.Н., Марков В.В. и др. Оценка качества подготовки выпускников средней (полной) школы по ОБЖ. М.: Дрофа, 200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9maya.ru/2008/04/15/znaki_razlichija._pogo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kuhta.clan.su/index/0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21.ru/userdata/plakati/MCS/02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finsvoboda.com.ua/wp-content/uploads/2008/06/ce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ru.wikipedia.org/wiki/%D0%92%D0%BE%D0%B8%D0%BD%D1%81%D0%BA%D0%B8%D0%B5_%D0%B7%D0%B2%D0%B0%D0%BD%D0%B8%D1%8F_%D0%B2_%D0%B0%D1%80%D0%BC%D0%B8%D0%B8_%D0%A0%D0%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733840" y="458640"/>
            <a:ext cx="3320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Times New Roman"/>
              </a:rPr>
              <a:t>Используемый ресур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>
            <a:hlinkClick r:id="" action="ppaction://hlinkshowjump?jump=firstslide"/>
          </p:cNvPr>
          <p:cNvSpPr/>
          <p:nvPr/>
        </p:nvSpPr>
        <p:spPr>
          <a:xfrm>
            <a:off x="8532720" y="6264360"/>
            <a:ext cx="611280" cy="593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593640"/>
              <a:gd name="textAreaBottom" fmla="*/ 555480 h 593640"/>
            </a:gdLst>
            <a:ahLst/>
            <a:rect l="textAreaLeft" t="textAreaTop" r="textAreaRight" b="textAreaBottom"/>
            <a:pathLst>
              <a:path w="22241" h="21600">
                <a:moveTo>
                  <a:pt x="0" y="0"/>
                </a:moveTo>
                <a:lnTo>
                  <a:pt x="22241" y="0"/>
                </a:lnTo>
                <a:lnTo>
                  <a:pt x="22241" y="21600"/>
                </a:lnTo>
                <a:lnTo>
                  <a:pt x="0" y="21600"/>
                </a:lnTo>
                <a:close/>
              </a:path>
              <a:path fill="lightenLess" w="22241" h="21600">
                <a:moveTo>
                  <a:pt x="0" y="0"/>
                </a:moveTo>
                <a:lnTo>
                  <a:pt x="22241" y="0"/>
                </a:lnTo>
                <a:lnTo>
                  <a:pt x="20841" y="1400"/>
                </a:lnTo>
                <a:lnTo>
                  <a:pt x="1400" y="1400"/>
                </a:lnTo>
                <a:close/>
              </a:path>
              <a:path fill="darken" w="22241" h="21600">
                <a:moveTo>
                  <a:pt x="22241" y="0"/>
                </a:moveTo>
                <a:lnTo>
                  <a:pt x="22241" y="21600"/>
                </a:lnTo>
                <a:lnTo>
                  <a:pt x="20841" y="20200"/>
                </a:lnTo>
                <a:lnTo>
                  <a:pt x="20841" y="1400"/>
                </a:lnTo>
                <a:close/>
              </a:path>
              <a:path fill="darkenLess" w="22241" h="21600">
                <a:moveTo>
                  <a:pt x="22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41" y="20200"/>
                </a:lnTo>
                <a:close/>
              </a:path>
              <a:path fill="lighten" w="22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41" h="21600">
                <a:moveTo>
                  <a:pt x="11121" y="3837"/>
                </a:moveTo>
                <a:lnTo>
                  <a:pt x="13697" y="6448"/>
                </a:ln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lnTo>
                  <a:pt x="18084" y="10800"/>
                </a:lnTo>
                <a:lnTo>
                  <a:pt x="16430" y="10800"/>
                </a:lnTo>
                <a:lnTo>
                  <a:pt x="16430" y="17989"/>
                </a:lnTo>
                <a:lnTo>
                  <a:pt x="5811" y="17989"/>
                </a:lnTo>
                <a:lnTo>
                  <a:pt x="5811" y="10800"/>
                </a:lnTo>
                <a:lnTo>
                  <a:pt x="4158" y="10800"/>
                </a:lnTo>
                <a:close/>
              </a:path>
              <a:path fill="darkenLess" w="22241" h="21600">
                <a:moveTo>
                  <a:pt x="13697" y="6448"/>
                </a:moveTo>
                <a:lnTo>
                  <a:pt x="13697" y="4707"/>
                </a:lnTo>
                <a:lnTo>
                  <a:pt x="15473" y="4707"/>
                </a:lnTo>
                <a:lnTo>
                  <a:pt x="15473" y="8224"/>
                </a:lnTo>
                <a:close/>
              </a:path>
              <a:path fill="darkenLess" w="22241" h="21600">
                <a:moveTo>
                  <a:pt x="10198" y="14299"/>
                </a:moveTo>
                <a:lnTo>
                  <a:pt x="12043" y="14299"/>
                </a:lnTo>
                <a:lnTo>
                  <a:pt x="12043" y="17989"/>
                </a:lnTo>
                <a:lnTo>
                  <a:pt x="16430" y="17989"/>
                </a:lnTo>
                <a:lnTo>
                  <a:pt x="16430" y="10800"/>
                </a:lnTo>
                <a:lnTo>
                  <a:pt x="5811" y="10800"/>
                </a:lnTo>
                <a:lnTo>
                  <a:pt x="5811" y="17989"/>
                </a:lnTo>
                <a:lnTo>
                  <a:pt x="10198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24000" y="3860640"/>
          <a:ext cx="8532720" cy="2737080"/>
        </p:xfrm>
        <a:graphic>
          <a:graphicData uri="http://schemas.openxmlformats.org/drawingml/2006/table">
            <a:tbl>
              <a:tblPr/>
              <a:tblGrid>
                <a:gridCol w="8532720"/>
              </a:tblGrid>
              <a:tr h="273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ухопутные войска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как вид Вооруженных Сил Российской Федерации предназначены для ведения боевых действий преимущественно на суш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своим боевым возможностям они способны во взаимодействии с другими видами Вооруженных Сил Российской Федерации вести наступление в целях разгрома группировки противника и овладения его территорией, наносить огневые удары на большую глубину, отражать вторжение противника, его крупных воздушных десантов, прочно удерживать занимаемые территории, районы и рубеж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27" descr="Эмблема Сухопутных войск Российской Федерации"/>
          <p:cNvPicPr/>
          <p:nvPr/>
        </p:nvPicPr>
        <p:blipFill>
          <a:blip r:embed="rId1"/>
          <a:stretch/>
        </p:blipFill>
        <p:spPr>
          <a:xfrm>
            <a:off x="2771640" y="981000"/>
            <a:ext cx="3384720" cy="2384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85" name="Rectangle 29"/>
          <p:cNvSpPr/>
          <p:nvPr/>
        </p:nvSpPr>
        <p:spPr>
          <a:xfrm>
            <a:off x="900000" y="259560"/>
            <a:ext cx="74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ухопутные войск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3573360"/>
          <a:ext cx="8713800" cy="30099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300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воздушные силы (ВВС)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– вид Вооруженных Сил Российской Федерации. Они предназначены для ведения разведки группировок противника; обеспечения завоевания господства (сдерживания) в воздухе; защиты от ударов с воздуха важных военно-экономических районов (объектов) страны и группировок войск; предупреждения о воздушном нападении; поражения объектов, составляющих основу военного и военно-экономического потенциала противника; поддержки с воздуха сухопутных войск и сил флота; десантирования воздушных десантов; перевозки войск и материальных средств по воздух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19"/>
          <p:cNvSpPr/>
          <p:nvPr/>
        </p:nvSpPr>
        <p:spPr>
          <a:xfrm>
            <a:off x="474120" y="259560"/>
            <a:ext cx="81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енно-воздушные силы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0" descr="Эмблема Военно-воздушных сил Российской Федерации"/>
          <p:cNvPicPr/>
          <p:nvPr/>
        </p:nvPicPr>
        <p:blipFill>
          <a:blip r:embed="rId1"/>
          <a:stretch/>
        </p:blipFill>
        <p:spPr>
          <a:xfrm>
            <a:off x="2843280" y="836640"/>
            <a:ext cx="3311280" cy="24462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0" name="AutoShape 23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>
            <a:hlinkClick r:id="rId1" action="ppaction://hlinksldjump"/>
          </p:cNvPr>
          <p:cNvSpPr/>
          <p:nvPr/>
        </p:nvSpPr>
        <p:spPr>
          <a:xfrm>
            <a:off x="431640" y="3743280"/>
            <a:ext cx="8298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 призыву и в добровольном порядке (по контракту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>
            <a:hlinkClick r:id="rId2" action="ppaction://hlinksldjump"/>
          </p:cNvPr>
          <p:cNvSpPr/>
          <p:nvPr/>
        </p:nvSpPr>
        <p:spPr>
          <a:xfrm>
            <a:off x="324000" y="2349360"/>
            <a:ext cx="8297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олько в добровольном порядке (по контракту)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>
            <a:hlinkClick r:id="rId3" action="ppaction://hlinksldjump"/>
          </p:cNvPr>
          <p:cNvSpPr/>
          <p:nvPr/>
        </p:nvSpPr>
        <p:spPr>
          <a:xfrm>
            <a:off x="431640" y="5157720"/>
            <a:ext cx="819000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Только по призыву, по достижении определенного возра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24000" y="692280"/>
            <a:ext cx="849780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Граждане Российской Федерации проходят военную службу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250920" y="3213000"/>
          <a:ext cx="8651880" cy="329904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3299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оенно-Морской Флот (ВМФ)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является видом Вооруженных Сил Российской Федерации. Он предназначен для вооруженной защиты интересов России, ведения боевых действий на морских и океанских театрах войны. ВМФ способен наносить ядерные удары по наземным объектам противника, уничтожать группировки его флота в море и базах, нарушать океанские и морские коммуникации противника и защищать свои морские перевозки, содействовать сухопутным войскам в операциях на континентальных театрах военных действий, высаживать морские десанты, участвовать в отражении десантов противника и выполнять другие задач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7"/>
          <p:cNvSpPr/>
          <p:nvPr/>
        </p:nvSpPr>
        <p:spPr>
          <a:xfrm>
            <a:off x="761040" y="259560"/>
            <a:ext cx="76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енно-Морской Флот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8" descr="Эмблема Военно-Морского Флота&amp;nbsp; Российской Федерации"/>
          <p:cNvPicPr/>
          <p:nvPr/>
        </p:nvPicPr>
        <p:blipFill>
          <a:blip r:embed="rId1"/>
          <a:stretch/>
        </p:blipFill>
        <p:spPr>
          <a:xfrm>
            <a:off x="3132000" y="836640"/>
            <a:ext cx="3024360" cy="2160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4" name="AutoShape 21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24000" y="3508200"/>
            <a:ext cx="8496000" cy="2838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Ракетные войска стратегического назначения (РВСН)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 род войск Вооруженных Сил Российской Федерации, главный компонент ее стратегических ядерных сил. Предназначены для ядерного сдерживания возможной агрессии и поражения в составе стратегических ядерных сил или самостоятельно массированными, групповыми или одиночными ракетно-ядерными ударами стратегических объектов, находящихся на одном или нескольких стратегических воздушно-космических направлениях и составляющих основу военных и военно-экономических потенциалов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Эмблема РВСН"/>
          <p:cNvPicPr/>
          <p:nvPr/>
        </p:nvPicPr>
        <p:blipFill>
          <a:blip r:embed="rId1"/>
          <a:stretch/>
        </p:blipFill>
        <p:spPr>
          <a:xfrm>
            <a:off x="2916360" y="1125360"/>
            <a:ext cx="3168360" cy="21560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sp>
        <p:nvSpPr>
          <p:cNvPr id="197" name="Text Box 6"/>
          <p:cNvSpPr/>
          <p:nvPr/>
        </p:nvSpPr>
        <p:spPr>
          <a:xfrm>
            <a:off x="833760" y="4762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Ракетные войска стратегического на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324000" y="3787920"/>
            <a:ext cx="8335800" cy="253332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Космические войска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– принципиально новый род войск, который предназначен для обеспечения безопасности России в космическ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сновными задачами Космических войск являются доведение информации предупреждения высшего военно-политического руководства страны о ракетном нападении, противоракетная оборона г. Москвы, создание, развертывание, поддержание и управление орбитальной группировки космических аппаратов военного, двойного, социально-экономического и научного на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Эмблема Космических войск"/>
          <p:cNvPicPr/>
          <p:nvPr/>
        </p:nvPicPr>
        <p:blipFill>
          <a:blip r:embed="rId1"/>
          <a:stretch/>
        </p:blipFill>
        <p:spPr>
          <a:xfrm>
            <a:off x="2843280" y="1197000"/>
            <a:ext cx="3095640" cy="22874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1" name="Text Box 6"/>
          <p:cNvSpPr/>
          <p:nvPr/>
        </p:nvSpPr>
        <p:spPr>
          <a:xfrm>
            <a:off x="2703600" y="333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осмически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539640" y="4233960"/>
            <a:ext cx="7848720" cy="192348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оздушно-десантные войска (ВДВ)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, высокомобильный род войск вооруженных сил, предназначенный для охвата противника по воздуху и ведения боевых действий в его тылу. ВДВ РФ являются средством ВГК и могут составлять основу мобильны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ни подчиняются непосредственно командующему ВДВ и состоят из воздушно-десантных дивизий, бригад, отд. частей и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Эмблема воздушно-десантных войск РФ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2771640" y="1125360"/>
            <a:ext cx="3456000" cy="24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5" name="Text Box 6"/>
          <p:cNvSpPr/>
          <p:nvPr/>
        </p:nvSpPr>
        <p:spPr>
          <a:xfrm>
            <a:off x="2126520" y="26028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оздушно-десантные вой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109680" cy="468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WordArt 9"/>
          <p:cNvSpPr txBox="1"/>
          <p:nvPr/>
        </p:nvSpPr>
        <p:spPr>
          <a:xfrm>
            <a:off x="971640" y="2708280"/>
            <a:ext cx="7489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8440">
                  <a:solidFill>
                    <a:srgbClr val="cc33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Точно в цель!</a:t>
            </a:r>
            <a:endParaRPr b="0" lang="en-US" sz="7200" spc="1" strike="noStrike">
              <a:ln w="28440">
                <a:solidFill>
                  <a:srgbClr val="cc33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209" name="AutoShape 10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5"/>
          <p:cNvSpPr txBox="1"/>
          <p:nvPr/>
        </p:nvSpPr>
        <p:spPr>
          <a:xfrm rot="19798200">
            <a:off x="523800" y="2060280"/>
            <a:ext cx="86202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Надо подумать…</a:t>
            </a:r>
            <a:endParaRPr b="0" lang="en-US" sz="7200" spc="1" strike="noStrike">
              <a:ln w="381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11" name="WordArt 8"/>
          <p:cNvSpPr txBox="1"/>
          <p:nvPr/>
        </p:nvSpPr>
        <p:spPr>
          <a:xfrm rot="299400">
            <a:off x="1908000" y="476280"/>
            <a:ext cx="20782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800000"/>
                </a:gradFill>
                <a:latin typeface="Impact"/>
              </a:rPr>
              <a:t>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800000"/>
              </a:gradFill>
              <a:latin typeface="Impact"/>
              <a:ea typeface="Impact"/>
            </a:endParaRPr>
          </a:p>
        </p:txBody>
      </p:sp>
      <p:sp>
        <p:nvSpPr>
          <p:cNvPr id="212" name="AutoShape 9">
            <a:hlinkClick r:id="" action="ppaction://hlinkshowjump?jump=previousslide"/>
          </p:cNvPr>
          <p:cNvSpPr/>
          <p:nvPr/>
        </p:nvSpPr>
        <p:spPr>
          <a:xfrm>
            <a:off x="8424720" y="6137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7514"/>
                </a:moveTo>
                <a:lnTo>
                  <a:pt x="7301" y="7514"/>
                </a:lnTo>
                <a:lnTo>
                  <a:pt x="7301" y="12850"/>
                </a:lnTo>
                <a:cubicBezTo>
                  <a:pt x="7301" y="13772"/>
                  <a:pt x="8102" y="14503"/>
                  <a:pt x="9138" y="14503"/>
                </a:cubicBezTo>
                <a:lnTo>
                  <a:pt x="10800" y="14503"/>
                </a:lnTo>
                <a:cubicBezTo>
                  <a:pt x="11836" y="14503"/>
                  <a:pt x="12636" y="13772"/>
                  <a:pt x="12636" y="12850"/>
                </a:cubicBezTo>
                <a:lnTo>
                  <a:pt x="12636" y="7514"/>
                </a:lnTo>
                <a:lnTo>
                  <a:pt x="10800" y="7514"/>
                </a:lnTo>
                <a:lnTo>
                  <a:pt x="14308" y="4007"/>
                </a:lnTo>
                <a:lnTo>
                  <a:pt x="17981" y="7514"/>
                </a:lnTo>
                <a:lnTo>
                  <a:pt x="16144" y="7514"/>
                </a:lnTo>
                <a:lnTo>
                  <a:pt x="16144" y="12850"/>
                </a:lnTo>
                <a:cubicBezTo>
                  <a:pt x="16144" y="15617"/>
                  <a:pt x="13568" y="18176"/>
                  <a:pt x="10800" y="18176"/>
                </a:cubicBezTo>
                <a:lnTo>
                  <a:pt x="9138" y="18176"/>
                </a:lnTo>
                <a:cubicBezTo>
                  <a:pt x="6370" y="18176"/>
                  <a:pt x="3794" y="15617"/>
                  <a:pt x="3794" y="12850"/>
                </a:cubicBezTo>
                <a:close/>
              </a:path>
            </a:pathLst>
          </a:cu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6"/>
          <p:cNvSpPr/>
          <p:nvPr/>
        </p:nvSpPr>
        <p:spPr>
          <a:xfrm>
            <a:off x="341280" y="2214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9"/>
          <p:cNvSpPr/>
          <p:nvPr/>
        </p:nvSpPr>
        <p:spPr>
          <a:xfrm>
            <a:off x="250920" y="41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Русская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эскадра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д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командова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Ф. Ф. Ушакова нанесла поражение превосходящей по численности турецкой эскадре у мыса Тенд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1">
            <a:hlinkClick r:id="rId1" action="ppaction://hlinksldjump"/>
          </p:cNvPr>
          <p:cNvSpPr/>
          <p:nvPr/>
        </p:nvSpPr>
        <p:spPr>
          <a:xfrm>
            <a:off x="6327720" y="5634000"/>
            <a:ext cx="26100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7.01.1944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3"/>
          <p:cNvSpPr/>
          <p:nvPr/>
        </p:nvSpPr>
        <p:spPr>
          <a:xfrm>
            <a:off x="250920" y="4284720"/>
            <a:ext cx="864072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День снятия блокады города Ленингра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4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8"/>
          <p:cNvSpPr/>
          <p:nvPr/>
        </p:nvSpPr>
        <p:spPr>
          <a:xfrm>
            <a:off x="349236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9">
            <a:hlinkClick r:id="rId2" action="ppaction://hlinksldjump"/>
          </p:cNvPr>
          <p:cNvSpPr/>
          <p:nvPr/>
        </p:nvSpPr>
        <p:spPr>
          <a:xfrm>
            <a:off x="6642000" y="2259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0"/>
          <p:cNvSpPr/>
          <p:nvPr/>
        </p:nvSpPr>
        <p:spPr>
          <a:xfrm>
            <a:off x="297000" y="5634000"/>
            <a:ext cx="2520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.02.194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2"/>
          <p:cNvSpPr/>
          <p:nvPr/>
        </p:nvSpPr>
        <p:spPr>
          <a:xfrm>
            <a:off x="3357720" y="5634000"/>
            <a:ext cx="238572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7.09.1941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2">
            <a:hlinkClick r:id="rId1" action="ppaction://hlinksldjump"/>
          </p:cNvPr>
          <p:cNvSpPr/>
          <p:nvPr/>
        </p:nvSpPr>
        <p:spPr>
          <a:xfrm>
            <a:off x="3537000" y="2124000"/>
            <a:ext cx="20890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14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Гангутское сражение в ходе Сев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ежду русским и шведским флотами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>
            <a:hlinkClick r:id="rId2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ородинское сражение между русской арм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М. И. Кутузова и французской армией Наполеона произош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9"/>
          <p:cNvSpPr/>
          <p:nvPr/>
        </p:nvSpPr>
        <p:spPr>
          <a:xfrm>
            <a:off x="52236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5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6551640" y="212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353700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1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6642000" y="563400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825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9" dur="1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0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" dur="1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>
            <a:hlinkClick r:id="rId1" action="ppaction://hlinksldjump"/>
          </p:cNvPr>
          <p:cNvSpPr/>
          <p:nvPr/>
        </p:nvSpPr>
        <p:spPr>
          <a:xfrm>
            <a:off x="6507000" y="2079720"/>
            <a:ext cx="2016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09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638280"/>
            <a:ext cx="864072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олтавское сражение между русской и шведской армиями во время Северной войны произошл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>
            <a:hlinkClick r:id="rId2" action="ppaction://hlinksldjump"/>
          </p:cNvPr>
          <p:cNvSpPr/>
          <p:nvPr/>
        </p:nvSpPr>
        <p:spPr>
          <a:xfrm>
            <a:off x="385920" y="554508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24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50920" y="3654360"/>
            <a:ext cx="864072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Битва русского войска во главе с Александром Невским с рыцарями немецкого Ливонского ордена на льду Чудского озера произош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85920" y="2033640"/>
            <a:ext cx="20174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79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537000" y="207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612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62736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380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551640" y="5589720"/>
            <a:ext cx="201780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 1223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>
            <a:hlinkClick r:id="rId1" action="ppaction://hlinksldjump"/>
          </p:cNvPr>
          <p:cNvSpPr/>
          <p:nvPr/>
        </p:nvSpPr>
        <p:spPr>
          <a:xfrm>
            <a:off x="395280" y="3860640"/>
            <a:ext cx="8352000" cy="119124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артиллерийские войска, войска противовоздушной оборо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>
            <a:hlinkClick r:id="rId2" action="ppaction://hlinksldjump"/>
          </p:cNvPr>
          <p:cNvSpPr/>
          <p:nvPr/>
        </p:nvSpPr>
        <p:spPr>
          <a:xfrm>
            <a:off x="395280" y="249228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здушно-десантные войска, танковые войска, мотострелков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>
            <a:hlinkClick r:id="rId3" action="ppaction://hlinksldjump"/>
          </p:cNvPr>
          <p:cNvSpPr/>
          <p:nvPr/>
        </p:nvSpPr>
        <p:spPr>
          <a:xfrm>
            <a:off x="324000" y="5445000"/>
            <a:ext cx="842472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ухопутные войска, Военно-воздушные силы,             Военно-Морской Фло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39840" y="620640"/>
            <a:ext cx="8521560" cy="9471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 видам Вооруженных Сил Российской Федер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>
            <a:hlinkClick r:id="rId1" action="ppaction://hlinksldjump"/>
          </p:cNvPr>
          <p:cNvSpPr/>
          <p:nvPr/>
        </p:nvSpPr>
        <p:spPr>
          <a:xfrm>
            <a:off x="324000" y="364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отострелковые войска, танковые войска, артиллерийски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>
            <a:hlinkClick r:id="rId2" action="ppaction://hlinksldjump"/>
          </p:cNvPr>
          <p:cNvSpPr/>
          <p:nvPr/>
        </p:nvSpPr>
        <p:spPr>
          <a:xfrm>
            <a:off x="395280" y="5157720"/>
            <a:ext cx="828036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осмические войска, войска противовоздушной обороны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>
            <a:hlinkClick r:id="rId3" action="ppaction://hlinksldjump"/>
          </p:cNvPr>
          <p:cNvSpPr/>
          <p:nvPr/>
        </p:nvSpPr>
        <p:spPr>
          <a:xfrm>
            <a:off x="324000" y="2205000"/>
            <a:ext cx="8353440" cy="82548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акетные войска стратегического назначения, космические войска, воздушно-десантные войс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10760" y="692280"/>
            <a:ext cx="8166600" cy="5205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 родам войск Российской Федерации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6"/>
          <p:cNvSpPr/>
          <p:nvPr/>
        </p:nvSpPr>
        <p:spPr>
          <a:xfrm>
            <a:off x="395280" y="486900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468360" y="292428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395280" y="907920"/>
            <a:ext cx="8353440" cy="1584360"/>
          </a:xfrm>
          <a:prstGeom prst="rect">
            <a:avLst/>
          </a:prstGeom>
          <a:solidFill>
            <a:srgbClr val="bbe0e3">
              <a:alpha val="7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95480" y="330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Эмблема Сухопутных войск Российской Федерации"/>
          <p:cNvPicPr/>
          <p:nvPr/>
        </p:nvPicPr>
        <p:blipFill>
          <a:blip r:embed="rId1"/>
          <a:stretch/>
        </p:blipFill>
        <p:spPr>
          <a:xfrm>
            <a:off x="826920" y="1125360"/>
            <a:ext cx="1727280" cy="12178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3" name="Picture 12" descr="Эмблема Военно-воздушных сил Российской Федерации"/>
          <p:cNvPicPr/>
          <p:nvPr/>
        </p:nvPicPr>
        <p:blipFill>
          <a:blip r:embed="rId2"/>
          <a:stretch/>
        </p:blipFill>
        <p:spPr>
          <a:xfrm>
            <a:off x="6516720" y="3068640"/>
            <a:ext cx="1800360" cy="13302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4" name="Picture 15" descr="Эмблема Военно-Морского Флота&amp;nbsp; Российской Федерации"/>
          <p:cNvPicPr/>
          <p:nvPr/>
        </p:nvPicPr>
        <p:blipFill>
          <a:blip r:embed="rId3"/>
          <a:stretch/>
        </p:blipFill>
        <p:spPr>
          <a:xfrm>
            <a:off x="6516720" y="5013360"/>
            <a:ext cx="1800360" cy="1285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5" name="Text Box 17"/>
          <p:cNvSpPr/>
          <p:nvPr/>
        </p:nvSpPr>
        <p:spPr>
          <a:xfrm>
            <a:off x="1120680" y="18900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азвать эмблемы видов и родов войск Р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8" descr="Эмблема РВСН"/>
          <p:cNvPicPr/>
          <p:nvPr/>
        </p:nvPicPr>
        <p:blipFill>
          <a:blip r:embed="rId4"/>
          <a:stretch/>
        </p:blipFill>
        <p:spPr>
          <a:xfrm>
            <a:off x="6516720" y="1052640"/>
            <a:ext cx="1800360" cy="12254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7" name="Picture 20" descr="Эмблема Космических войск"/>
          <p:cNvPicPr/>
          <p:nvPr/>
        </p:nvPicPr>
        <p:blipFill>
          <a:blip r:embed="rId5"/>
          <a:stretch/>
        </p:blipFill>
        <p:spPr>
          <a:xfrm>
            <a:off x="826920" y="3068640"/>
            <a:ext cx="1729080" cy="12780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98" name="Picture 22" descr="Эмблема воздушно-десантных войск РФ"/>
          <p:cNvPicPr/>
          <p:nvPr/>
        </p:nvPicPr>
        <p:blipFill>
          <a:blip r:embed="rId6"/>
          <a:stretch/>
        </p:blipFill>
        <p:spPr>
          <a:xfrm>
            <a:off x="826920" y="4941720"/>
            <a:ext cx="1800360" cy="12686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99" name="AutoShape 41"/>
          <p:cNvSpPr/>
          <p:nvPr/>
        </p:nvSpPr>
        <p:spPr>
          <a:xfrm>
            <a:off x="2627280" y="141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3"/>
          <p:cNvSpPr/>
          <p:nvPr/>
        </p:nvSpPr>
        <p:spPr>
          <a:xfrm>
            <a:off x="2627280" y="3429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4"/>
          <p:cNvSpPr/>
          <p:nvPr/>
        </p:nvSpPr>
        <p:spPr>
          <a:xfrm>
            <a:off x="2700360" y="537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8"/>
          <p:cNvSpPr/>
          <p:nvPr/>
        </p:nvSpPr>
        <p:spPr>
          <a:xfrm>
            <a:off x="5508720" y="1413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1"/>
          <p:cNvSpPr/>
          <p:nvPr/>
        </p:nvSpPr>
        <p:spPr>
          <a:xfrm>
            <a:off x="5508720" y="342900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2"/>
          <p:cNvSpPr/>
          <p:nvPr/>
        </p:nvSpPr>
        <p:spPr>
          <a:xfrm>
            <a:off x="5508720" y="5373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3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324000" y="371628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инская ч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>
            <a:hlinkClick r:id="rId2" action="ppaction://hlinksldjump"/>
          </p:cNvPr>
          <p:cNvSpPr/>
          <p:nvPr/>
        </p:nvSpPr>
        <p:spPr>
          <a:xfrm>
            <a:off x="395280" y="2276640"/>
            <a:ext cx="82803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Муже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>
            <a:hlinkClick r:id="rId3" action="ppaction://hlinksldjump"/>
          </p:cNvPr>
          <p:cNvSpPr/>
          <p:nvPr/>
        </p:nvSpPr>
        <p:spPr>
          <a:xfrm>
            <a:off x="324000" y="5157720"/>
            <a:ext cx="83516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оинская добл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95280" y="260280"/>
            <a:ext cx="8497800" cy="1373760"/>
          </a:xfrm>
          <a:prstGeom prst="rect">
            <a:avLst/>
          </a:prstGeom>
          <a:solidFill>
            <a:srgbClr val="ffff99">
              <a:alpha val="5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Самоотверженное, мужественное исполнение военнослужащим своего воинского долга и служебных обязанностей в мирное время -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>
            <a:hlinkClick r:id="" action="ppaction://hlinkshowjump?jump=nextslide"/>
          </p:cNvPr>
          <p:cNvSpPr/>
          <p:nvPr/>
        </p:nvSpPr>
        <p:spPr>
          <a:xfrm>
            <a:off x="8758080" y="6489720"/>
            <a:ext cx="385920" cy="368280"/>
          </a:xfrm>
          <a:custGeom>
            <a:avLst/>
            <a:gdLst>
              <a:gd name="textAreaLeft" fmla="*/ 23760 w 385920"/>
              <a:gd name="textAreaRight" fmla="*/ 362160 w 385920"/>
              <a:gd name="textAreaTop" fmla="*/ 23760 h 368280"/>
              <a:gd name="textAreaBottom" fmla="*/ 344520 h 368280"/>
            </a:gdLst>
            <a:ahLst/>
            <a:rect l="textAreaLeft" t="textAreaTop" r="textAreaRight" b="textAreaBottom"/>
            <a:pathLst>
              <a:path w="22634" h="21600">
                <a:moveTo>
                  <a:pt x="0" y="0"/>
                </a:moveTo>
                <a:lnTo>
                  <a:pt x="22634" y="0"/>
                </a:lnTo>
                <a:lnTo>
                  <a:pt x="22634" y="21600"/>
                </a:lnTo>
                <a:lnTo>
                  <a:pt x="0" y="21600"/>
                </a:lnTo>
                <a:close/>
              </a:path>
              <a:path fill="lightenLess" w="22634" h="21600">
                <a:moveTo>
                  <a:pt x="0" y="0"/>
                </a:moveTo>
                <a:lnTo>
                  <a:pt x="22634" y="0"/>
                </a:lnTo>
                <a:lnTo>
                  <a:pt x="21234" y="1400"/>
                </a:lnTo>
                <a:lnTo>
                  <a:pt x="1400" y="1400"/>
                </a:lnTo>
                <a:close/>
              </a:path>
              <a:path fill="darken" w="22634" h="21600">
                <a:moveTo>
                  <a:pt x="22634" y="0"/>
                </a:moveTo>
                <a:lnTo>
                  <a:pt x="22634" y="21600"/>
                </a:lnTo>
                <a:lnTo>
                  <a:pt x="21234" y="20200"/>
                </a:lnTo>
                <a:lnTo>
                  <a:pt x="21234" y="1400"/>
                </a:lnTo>
                <a:close/>
              </a:path>
              <a:path fill="darkenLess" w="22634" h="21600">
                <a:moveTo>
                  <a:pt x="2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34" y="20200"/>
                </a:lnTo>
                <a:close/>
              </a:path>
              <a:path fill="lighten" w="2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34" h="21600">
                <a:moveTo>
                  <a:pt x="4310" y="3794"/>
                </a:moveTo>
                <a:lnTo>
                  <a:pt x="18323" y="10800"/>
                </a:lnTo>
                <a:lnTo>
                  <a:pt x="4310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35:11Z</dcterms:created>
  <dc:creator>школа</dc:creator>
  <dc:description/>
  <dc:language>en-US</dc:language>
  <cp:lastModifiedBy>101</cp:lastModifiedBy>
  <dcterms:modified xsi:type="dcterms:W3CDTF">2012-12-17T10:32:50Z</dcterms:modified>
  <cp:revision>134</cp:revision>
  <dc:subject/>
  <dc:title>Слайд 1</dc:title>
</cp:coreProperties>
</file>