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6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FE1-7366-4F76-B32F-F3BC3469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154-8C61-4C7C-B217-913EE627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791-A961-4DFD-BEFD-C18678F9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580-FA30-42BC-84A7-E38596ED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CAD6-C3F2-4646-AAF3-94E79A6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5CD-60D1-4A16-811F-89F68BE1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2716-3759-4031-A936-A6F2BAB2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15FE-EE49-4663-AC25-55B708EC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D65D-1BC8-450A-8178-38AA888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BFF0-1E50-4A9C-8CE0-3FFFFC20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1966-8D87-44FE-B004-C7F660A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A9D-63F9-409C-A50C-995EBBBA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08A9-0C2C-445A-979F-F9D0153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6CE9-6818-4DA1-BD11-9F774BE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D0A1-D966-495C-BC12-5BE2D77F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95A1-150B-472F-A1BF-20142B9C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DEA4-D386-4A72-AB68-14359E0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79A-B8AA-4ABB-AAF0-2065AC7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973-9624-48F7-B095-5F59FB2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20D-D903-4EFE-B7B2-3525FC45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D10-DC06-4A14-8CBF-BEFFE579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125-0EAD-4259-8ED4-4A18493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354-E08B-4629-8892-FABE0A8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446-E8BA-4AEB-B3B2-5A4542F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47E9-E305-48B4-B424-14FC820C3E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4E8-0BBF-4FFA-8875-AE800D59F3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1083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с му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304920"/>
            <a:ext cx="68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излучен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спект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29400" cy="100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TextBox 4"/>
          <p:cNvSpPr/>
          <p:nvPr/>
        </p:nvSpPr>
        <p:spPr>
          <a:xfrm>
            <a:off x="428760" y="2571840"/>
            <a:ext cx="5133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Дают тела, находящиеся в твердом, жидком состоянии, а также плот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Чтобы получить, надо нагреть тело до высокой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Характер спектра зависит не только от свойств отдельных излучающих атомов, но и от взаимодействия атомов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В спектре представлены волны всех длин и нет разры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епрерывный спектр цветов можно наблюдать на дифракционной решетке. Хорошей демонстрацией спектра является природное явление рад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335268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Rectangle 9"/>
          <p:cNvSpPr/>
          <p:nvPr/>
        </p:nvSpPr>
        <p:spPr>
          <a:xfrm>
            <a:off x="2590560" y="4366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прерыв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2940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TextBox 5"/>
          <p:cNvSpPr/>
          <p:nvPr/>
        </p:nvSpPr>
        <p:spPr>
          <a:xfrm>
            <a:off x="428760" y="2500200"/>
            <a:ext cx="84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ают все вещества в газообразном атомном (но не молекулярном) состоянии (атомы практически не взаимодействуют друг с друг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золированные атомы данного химического элемента излучают волны строго определенной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ля наблюдения используют свечение паров вещества в пламени или свечение газового разряда в трубке, наполненной исследуемым г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и увеличении плотности атомарного газа отдельные спектральные линии расшир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895120" y="512640"/>
            <a:ext cx="41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Линейчат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428760" y="2500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пектр состоит из отдельных полос, разделенных темными промежу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Каждая полоса представляет собой совокупность большого числа очень тесно расположенных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оздаются молекулами, не связанными или слабосвязанными друг с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Для наблюдения используют свечение паров в пламени или свечение газово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8126280" cy="1003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2513160" y="45720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лосат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4929120" cy="38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55627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TextBox 5"/>
          <p:cNvSpPr/>
          <p:nvPr/>
        </p:nvSpPr>
        <p:spPr>
          <a:xfrm>
            <a:off x="5029200" y="838080"/>
            <a:ext cx="3571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Если пропускать белый свет сквозь холодный, неизлучающий газ, то на фоне непрерывного спектра источника появятся темные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Газ поглощает наиболее интенсивно свет тех длин волн, которые он испускает в сильно нагретом состоянии</a:t>
            </a: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0" y="45720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емные линии на фоне непрерывного спектра – это линии поглощения, образующие в совокупности спектр погло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288520" y="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 погло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14593" t="0" r="14593" b="0"/>
          <a:stretch/>
        </p:blipFill>
        <p:spPr>
          <a:xfrm>
            <a:off x="6400800" y="2362320"/>
            <a:ext cx="247968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5"/>
          <p:cNvSpPr/>
          <p:nvPr/>
        </p:nvSpPr>
        <p:spPr>
          <a:xfrm>
            <a:off x="6324480" y="594216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Густав Роберт Кирхг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1824 - 18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0" y="594216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Роберт Вильгельм Бунз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1811 -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27302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9"/>
          <p:cNvSpPr/>
          <p:nvPr/>
        </p:nvSpPr>
        <p:spPr>
          <a:xfrm>
            <a:off x="0" y="762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пектральный анализ – метод определения химического состава вещества по его спектру. Разработан в 1859 году немецкими учеными Г. Р. Кирхгофом и Р. В. Бунзе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06920" y="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альны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44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032360" cy="74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4066920" cy="662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905120" y="2819520"/>
            <a:ext cx="4105080" cy="93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tretch/>
        </p:blipFill>
        <p:spPr>
          <a:xfrm>
            <a:off x="1981080" y="4038480"/>
            <a:ext cx="4105440" cy="66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5"/>
          <a:stretch/>
        </p:blipFill>
        <p:spPr>
          <a:xfrm>
            <a:off x="1981080" y="5029200"/>
            <a:ext cx="4105440" cy="662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6"/>
          <a:stretch/>
        </p:blipFill>
        <p:spPr>
          <a:xfrm>
            <a:off x="1981080" y="5867280"/>
            <a:ext cx="41054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0" y="3108240"/>
            <a:ext cx="878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Длины волн (или частоты) линейчатого спектра какого-либо вещества зависят только от свойств атомов этого вещества, но совершенно не зависят от способа возбуждения свечения ат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Можно обнаружить данный элемент в составе сложного вещества, даже если масса вещества меньше 10</a:t>
            </a:r>
            <a:r>
              <a:rPr b="1" lang="ru-RU" sz="2000" spc="-1" strike="noStrike" baseline="30000">
                <a:solidFill>
                  <a:srgbClr val="990099"/>
                </a:solidFill>
                <a:latin typeface="Arial"/>
              </a:rPr>
              <a:t>-10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Атомы каждого химического элемента имеют строго определённые резонансные частоты, в результате чего именно на этих частотах они излучают или поглощают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Это приводит к тому, что в спектроскопе на спектрах видны линии (тёмные или светлые) в определённых местах, характерных для каждого вещества. Интенсивность линий зависит от количества вещества и 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Спектры"/>
          <p:cNvPicPr/>
          <p:nvPr/>
        </p:nvPicPr>
        <p:blipFill>
          <a:blip r:embed="rId1"/>
          <a:stretch/>
        </p:blipFill>
        <p:spPr>
          <a:xfrm>
            <a:off x="0" y="0"/>
            <a:ext cx="899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04920" y="3886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ткрываются новые элементы: рубидий, цезий и 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знали химический состав Солнца и звез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ределяют химический состав руд и минер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етод контроля состава вещества в металлургии, машиностроении, атомной инду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остав сложных смесей анализируется по их молекуля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пект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49760" y="38088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именение спектра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сгонз"/>
          <p:cNvPicPr/>
          <p:nvPr/>
        </p:nvPicPr>
        <p:blipFill>
          <a:blip r:embed="rId1"/>
          <a:stretch/>
        </p:blipFill>
        <p:spPr>
          <a:xfrm>
            <a:off x="914400" y="1066680"/>
            <a:ext cx="6350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Tahoma"/>
                <a:ea typeface="Tahoma"/>
              </a:rPr>
              <a:t>§</a:t>
            </a:r>
            <a:r>
              <a:rPr b="1" lang="ru-RU" sz="3400" spc="-1" strike="noStrike">
                <a:solidFill>
                  <a:srgbClr val="990099"/>
                </a:solidFill>
                <a:latin typeface="Tahoma"/>
                <a:ea typeface="Tahoma"/>
              </a:rPr>
              <a:t>80 - </a:t>
            </a:r>
            <a:r>
              <a:rPr b="1" lang="en-US" sz="3400" spc="-1" strike="noStrike">
                <a:solidFill>
                  <a:srgbClr val="990099"/>
                </a:solidFill>
                <a:latin typeface="Tahoma"/>
                <a:ea typeface="Tahoma"/>
              </a:rPr>
              <a:t>§</a:t>
            </a:r>
            <a:r>
              <a:rPr b="1" lang="ru-RU" sz="3400" spc="-1" strike="noStrike">
                <a:solidFill>
                  <a:srgbClr val="990099"/>
                </a:solidFill>
                <a:latin typeface="Tahoma"/>
                <a:ea typeface="Tahoma"/>
              </a:rPr>
              <a:t>8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MR900336891"/>
          <p:cNvPicPr/>
          <p:nvPr/>
        </p:nvPicPr>
        <p:blipFill>
          <a:blip r:embed="rId1"/>
          <a:stretch/>
        </p:blipFill>
        <p:spPr>
          <a:xfrm>
            <a:off x="3581280" y="137160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214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Свет- это э/м волна с длиной вол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40мкм – 80м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с в"/>
          <p:cNvPicPr/>
          <p:nvPr/>
        </p:nvPicPr>
        <p:blipFill>
          <a:blip r:embed="rId1"/>
          <a:stretch/>
        </p:blipFill>
        <p:spPr>
          <a:xfrm>
            <a:off x="0" y="4114800"/>
            <a:ext cx="79246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ш"/>
          <p:cNvPicPr/>
          <p:nvPr/>
        </p:nvPicPr>
        <p:blipFill>
          <a:blip r:embed="rId2"/>
          <a:stretch/>
        </p:blipFill>
        <p:spPr>
          <a:xfrm>
            <a:off x="1219320" y="14479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11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304560"/>
            <a:ext cx="73152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Для того чтобы атом начал излучать, ему необходимо передать определенную энерг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с ми53т"/>
          <p:cNvPicPr/>
          <p:nvPr/>
        </p:nvPicPr>
        <p:blipFill>
          <a:blip r:embed="rId1"/>
          <a:stretch/>
        </p:blipFill>
        <p:spPr>
          <a:xfrm>
            <a:off x="228600" y="1828800"/>
            <a:ext cx="13716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1143000" y="685800"/>
          <a:ext cx="701028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701028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Calibri"/>
              </a:rPr>
              <a:t>Спектры и спектральные ап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Спектр с латинского «дух, привед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ст7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r3"/>
          <p:cNvPicPr/>
          <p:nvPr/>
        </p:nvPicPr>
        <p:blipFill>
          <a:blip r:embed="rId1"/>
          <a:stretch/>
        </p:blipFill>
        <p:spPr>
          <a:xfrm>
            <a:off x="152280" y="3962520"/>
            <a:ext cx="5029200" cy="2652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-411120" y="0"/>
            <a:ext cx="100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Распределение энерг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в спект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19810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Та энергия, которую несет с собой свет от источника,определ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образом распределена по волнам всех длин,  входящим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светового пучка. Важнейшая характеристика излучения – распределение его по частотам или длинам волн. Это распределение характеризуется спектральной плотностью интенсивности изл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81480" y="380988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Кривая зависимости спектр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плотности интенсивности из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от частоты в видимой части спек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электрической д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11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Зрительно оценить распреде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энергии нельз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т. к. глаз обладает избирательной чувствительностью к свету: максимум лежит в желто- зелен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Bookman Old Style"/>
              </a:rPr>
              <a:t>Для точных исследований спектров используют специальные приборы- спектральные аппар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т67"/>
          <p:cNvPicPr/>
          <p:nvPr/>
        </p:nvPicPr>
        <p:blipFill>
          <a:blip r:embed="rId1"/>
          <a:stretch/>
        </p:blipFill>
        <p:spPr>
          <a:xfrm>
            <a:off x="304920" y="23623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962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Monotype Corsiva"/>
              </a:rPr>
              <a:t>Спектральные аппара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Схема призменного спектрографа"/>
          <p:cNvPicPr/>
          <p:nvPr/>
        </p:nvPicPr>
        <p:blipFill>
          <a:blip r:embed="rId1"/>
          <a:stretch/>
        </p:blipFill>
        <p:spPr>
          <a:xfrm>
            <a:off x="0" y="1600200"/>
            <a:ext cx="4952880" cy="5105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952880" y="1523880"/>
            <a:ext cx="391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Ход лучей в спектрограф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1. Через узкую щель проходит пучок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2. Линза №1 делает пучок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       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паралл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3. Призма раскладывает белый свет по длинам волн на спек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4. Линза №2 собирает разошедший пучок излучения по длинам волн в разные концы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5. Фотопластинка фиксирует спектр и получается спектограмма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5760" y="97776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 Narrow"/>
              </a:rPr>
              <a:t>Призменный спектральный аппарат – спектрогр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Группа 41"/>
          <p:cNvGrpSpPr/>
          <p:nvPr/>
        </p:nvGrpSpPr>
        <p:grpSpPr>
          <a:xfrm>
            <a:off x="428760" y="1428840"/>
            <a:ext cx="8429400" cy="1928520"/>
            <a:chOff x="428760" y="1428840"/>
            <a:chExt cx="8429400" cy="1928520"/>
          </a:xfrm>
        </p:grpSpPr>
        <p:sp>
          <p:nvSpPr>
            <p:cNvPr id="110" name="Прямоугольник 4"/>
            <p:cNvSpPr/>
            <p:nvPr/>
          </p:nvSpPr>
          <p:spPr>
            <a:xfrm>
              <a:off x="3500280" y="1428840"/>
              <a:ext cx="2357280" cy="5713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пектры излу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Группа 37"/>
            <p:cNvGrpSpPr/>
            <p:nvPr/>
          </p:nvGrpSpPr>
          <p:grpSpPr>
            <a:xfrm>
              <a:off x="428760" y="2214720"/>
              <a:ext cx="8429400" cy="1142640"/>
              <a:chOff x="428760" y="2214720"/>
              <a:chExt cx="8429400" cy="1142640"/>
            </a:xfrm>
          </p:grpSpPr>
          <p:sp>
            <p:nvSpPr>
              <p:cNvPr id="112" name="Прямоугольник 6"/>
              <p:cNvSpPr/>
              <p:nvPr/>
            </p:nvSpPr>
            <p:spPr>
              <a:xfrm>
                <a:off x="42876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Непрерывн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Прямоугольник 7"/>
              <p:cNvSpPr/>
              <p:nvPr/>
            </p:nvSpPr>
            <p:spPr>
              <a:xfrm>
                <a:off x="350028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Линейчат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Прямоугольник 8"/>
              <p:cNvSpPr/>
              <p:nvPr/>
            </p:nvSpPr>
            <p:spPr>
              <a:xfrm>
                <a:off x="650088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Полосат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Прямая со стрелкой 21"/>
              <p:cNvCxnSpPr/>
              <p:nvPr/>
            </p:nvCxnSpPr>
            <p:spPr>
              <a:xfrm flipH="1">
                <a:off x="160632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6" name="Прямая со стрелкой 27"/>
              <p:cNvCxnSpPr/>
              <p:nvPr/>
            </p:nvCxnSpPr>
            <p:spPr>
              <a:xfrm flipH="1">
                <a:off x="467820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7" name="Прямая со стрелкой 28"/>
              <p:cNvCxnSpPr/>
              <p:nvPr/>
            </p:nvCxnSpPr>
            <p:spPr>
              <a:xfrm flipH="1">
                <a:off x="767844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18" name="Прямая соединительная линия 30"/>
              <p:cNvSpPr/>
              <p:nvPr/>
            </p:nvSpPr>
            <p:spPr>
              <a:xfrm>
                <a:off x="1581120" y="2214720"/>
                <a:ext cx="612432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Прямая соединительная линия 39"/>
            <p:cNvSpPr/>
            <p:nvPr/>
          </p:nvSpPr>
          <p:spPr>
            <a:xfrm flipV="1">
              <a:off x="4687920" y="1999800"/>
              <a:ext cx="0" cy="214200"/>
            </a:xfrm>
            <a:prstGeom prst="line">
              <a:avLst/>
            </a:prstGeom>
            <a:ln w="3492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42" descr="Сплошной спектр.gif"/>
          <p:cNvPicPr/>
          <p:nvPr/>
        </p:nvPicPr>
        <p:blipFill>
          <a:blip r:embed="rId1"/>
          <a:stretch/>
        </p:blipFill>
        <p:spPr>
          <a:xfrm>
            <a:off x="428760" y="4714920"/>
            <a:ext cx="23540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Рисунок 43" descr="Линейчатый спектр.gif"/>
          <p:cNvPicPr/>
          <p:nvPr/>
        </p:nvPicPr>
        <p:blipFill>
          <a:blip r:embed="rId2"/>
          <a:stretch/>
        </p:blipFill>
        <p:spPr>
          <a:xfrm>
            <a:off x="3500280" y="4714920"/>
            <a:ext cx="235764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Рисунок 44" descr="Полосатый спектр.gif"/>
          <p:cNvPicPr/>
          <p:nvPr/>
        </p:nvPicPr>
        <p:blipFill>
          <a:blip r:embed="rId3"/>
          <a:stretch/>
        </p:blipFill>
        <p:spPr>
          <a:xfrm>
            <a:off x="6483240" y="4714920"/>
            <a:ext cx="23846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3500280" y="3500280"/>
            <a:ext cx="235764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428760" y="3500280"/>
            <a:ext cx="235728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TextBox 53"/>
          <p:cNvSpPr/>
          <p:nvPr/>
        </p:nvSpPr>
        <p:spPr>
          <a:xfrm>
            <a:off x="428760" y="392904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Распределение энергии по часто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(спектральная плотность интенсивности изл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6"/>
          <a:stretch/>
        </p:blipFill>
        <p:spPr>
          <a:xfrm>
            <a:off x="6500880" y="3500280"/>
            <a:ext cx="2340000" cy="28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5"/>
          <p:cNvSpPr/>
          <p:nvPr/>
        </p:nvSpPr>
        <p:spPr>
          <a:xfrm>
            <a:off x="1828800" y="457200"/>
            <a:ext cx="46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ы изл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39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