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12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6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DA5-0361-41A9-A85F-2707FB61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9EE-E637-48DD-B99E-8E2F5DC2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489-523F-4F5C-8FD8-307095D4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D86-0699-421F-8996-80E46739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8006-D581-4ABE-947F-5F0B6DBE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3CA4-5B55-4392-9D90-7BB281E2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3AB-4C1F-45C7-9CFD-0D6A9911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7E1C-A497-4EF3-985B-1E98063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813B-479D-4F24-8C99-61DCC90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E1C5-434B-4193-98E6-2EF0BA7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20BA-98E1-49C8-B467-2593868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74C-2D4B-4F20-8A9E-9FC691E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8C14-5392-4475-9D02-47DCB23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03D0-8D2F-4271-9172-890F1F0C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0DE4-A658-4F6F-B91F-8B5995EC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4FBE-6EB0-4FA4-BC78-905D2719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F75F-ED94-4DA9-83B9-CA5915C5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BFF-5541-4637-9F7A-B99C8C66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F6C-6A80-4290-9B05-BE136B8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9A8-97C0-4ED5-A774-E8613D7B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613-A4F3-4456-A2AF-9E97F160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AB5-60FA-45D2-9B9B-931F3897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E10-7CE4-4FA4-B5C5-60EF25E6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600-4AD9-4B1C-91FD-5D0288B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5DA5-20D5-4D8A-868F-AA359037F29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301F-714E-4D3A-8D09-6C2715B9A7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1083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с муи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304920"/>
            <a:ext cx="68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иды излучен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иды спектр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429400" cy="100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TextBox 4"/>
          <p:cNvSpPr/>
          <p:nvPr/>
        </p:nvSpPr>
        <p:spPr>
          <a:xfrm>
            <a:off x="428760" y="2571840"/>
            <a:ext cx="5133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Дают тела, находящиеся в твердом, жидком состоянии, а также плотные г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Чтобы получить, надо нагреть тело до высокой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Характер спектра зависит не только от свойств отдельных излучающих атомов, но и от взаимодействия атомов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В спектре представлены волны всех длин и нет разры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епрерывный спектр цветов можно наблюдать на дифракционной решетке. Хорошей демонстрацией спектра является природное явление рад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3352680" cy="43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Rectangle 9"/>
          <p:cNvSpPr/>
          <p:nvPr/>
        </p:nvSpPr>
        <p:spPr>
          <a:xfrm>
            <a:off x="2590560" y="4366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прерыв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42940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3" name="TextBox 5"/>
          <p:cNvSpPr/>
          <p:nvPr/>
        </p:nvSpPr>
        <p:spPr>
          <a:xfrm>
            <a:off x="428760" y="2500200"/>
            <a:ext cx="84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ают все вещества в газообразном атомном (но не молекулярном) состоянии (атомы практически не взаимодействуют друг с друг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Изолированные атомы данного химического элемента излучают волны строго определенной д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ля наблюдения используют свечение паров вещества в пламени или свечение газового разряда в трубке, наполненной исследуемым га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и увеличении плотности атомарного газа отдельные спектральные линии расшир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895120" y="512640"/>
            <a:ext cx="41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Линейчат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4"/>
          <p:cNvSpPr/>
          <p:nvPr/>
        </p:nvSpPr>
        <p:spPr>
          <a:xfrm>
            <a:off x="428760" y="2500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пектр состоит из отдельных полос, разделенных темными промежу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Каждая полоса представляет собой совокупность большого числа очень тесно расположенных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оздаются молекулами, не связанными или слабосвязанными друг с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Для наблюдения используют свечение паров в пламени или свечение газового раз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8126280" cy="10033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2513160" y="45720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олосат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4929120" cy="38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581280" y="4343400"/>
            <a:ext cx="556272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TextBox 5"/>
          <p:cNvSpPr/>
          <p:nvPr/>
        </p:nvSpPr>
        <p:spPr>
          <a:xfrm>
            <a:off x="5029200" y="838080"/>
            <a:ext cx="3571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Если пропускать белый свет сквозь холодный, неизлучающий газ, то на фоне непрерывного спектра источника появятся темные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Газ поглощает наиболее интенсивно свет тех длин волн, которые он испускает в сильно нагретом состоянии</a:t>
            </a:r>
            <a:r>
              <a:rPr b="0" lang="ru-RU" sz="18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0" y="4572000"/>
            <a:ext cx="3657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емные линии на фоне непрерывного спектра – это линии поглощения, образующие в совокупности спектр погло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288520" y="0"/>
            <a:ext cx="46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Спектр погло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14593" t="0" r="14593" b="0"/>
          <a:stretch/>
        </p:blipFill>
        <p:spPr>
          <a:xfrm>
            <a:off x="6400800" y="2362320"/>
            <a:ext cx="247968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5"/>
          <p:cNvSpPr/>
          <p:nvPr/>
        </p:nvSpPr>
        <p:spPr>
          <a:xfrm>
            <a:off x="6324480" y="5942160"/>
            <a:ext cx="25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Густав Роберт Кирхго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1824 - 18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0" y="594216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Роберт Вильгельм Бунз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Franklin Gothic Book"/>
              </a:rPr>
              <a:t>1811 - 18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273024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TextBox 9"/>
          <p:cNvSpPr/>
          <p:nvPr/>
        </p:nvSpPr>
        <p:spPr>
          <a:xfrm>
            <a:off x="0" y="762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Спектральный анализ – метод определения химического состава вещества по его спектру. Разработан в 1859 году немецкими учеными Г. Р. Кирхгофом и Р. В. Бунзе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06920" y="0"/>
            <a:ext cx="52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Спектральный анал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446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4032360" cy="74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1905120" y="1905120"/>
            <a:ext cx="4066920" cy="662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905120" y="2819520"/>
            <a:ext cx="4105080" cy="936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4"/>
          <a:stretch/>
        </p:blipFill>
        <p:spPr>
          <a:xfrm>
            <a:off x="1981080" y="4038480"/>
            <a:ext cx="4105440" cy="662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5"/>
          <a:stretch/>
        </p:blipFill>
        <p:spPr>
          <a:xfrm>
            <a:off x="1981080" y="5029200"/>
            <a:ext cx="4105440" cy="662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6"/>
          <a:stretch/>
        </p:blipFill>
        <p:spPr>
          <a:xfrm>
            <a:off x="1981080" y="5867280"/>
            <a:ext cx="41054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0" y="3108240"/>
            <a:ext cx="8786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Длины волн (или частоты) линейчатого спектра какого-либо вещества зависят только от свойств атомов этого вещества, но совершенно не зависят от способа возбуждения свечения ато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Можно обнаружить данный элемент в составе сложного вещества, даже если масса вещества меньше 10</a:t>
            </a:r>
            <a:r>
              <a:rPr b="1" lang="ru-RU" sz="2000" spc="-1" strike="noStrike" baseline="30000">
                <a:solidFill>
                  <a:srgbClr val="990099"/>
                </a:solidFill>
                <a:latin typeface="Arial"/>
              </a:rPr>
              <a:t>-10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Атомы каждого химического элемента имеют строго определённые резонансные частоты, в результате чего именно на этих частотах они излучают или поглощают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Это приводит к тому, что в спектроскопе на спектрах видны линии (тёмные или светлые) в определённых местах, характерных для каждого вещества. Интенсивность линий зависит от количества вещества и 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Спектры"/>
          <p:cNvPicPr/>
          <p:nvPr/>
        </p:nvPicPr>
        <p:blipFill>
          <a:blip r:embed="rId1"/>
          <a:stretch/>
        </p:blipFill>
        <p:spPr>
          <a:xfrm>
            <a:off x="0" y="0"/>
            <a:ext cx="8991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304920" y="3886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ткрываются новые элементы: рубидий, цезий и д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Узнали химический состав Солнца и звез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ределяют химический состав руд и минер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етод контроля состава вещества в металлургии, машиностроении, атомной инду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остав сложных смесей анализируется по их молекулярн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пект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49760" y="380880"/>
            <a:ext cx="75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именение спектральн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сгонз"/>
          <p:cNvPicPr/>
          <p:nvPr/>
        </p:nvPicPr>
        <p:blipFill>
          <a:blip r:embed="rId1"/>
          <a:stretch/>
        </p:blipFill>
        <p:spPr>
          <a:xfrm>
            <a:off x="914400" y="1066680"/>
            <a:ext cx="63500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99"/>
                </a:solidFill>
                <a:latin typeface="Tahoma"/>
                <a:ea typeface="Tahoma"/>
              </a:rPr>
              <a:t>§</a:t>
            </a:r>
            <a:r>
              <a:rPr b="1" lang="ru-RU" sz="3400" spc="-1" strike="noStrike">
                <a:solidFill>
                  <a:srgbClr val="990099"/>
                </a:solidFill>
                <a:latin typeface="Tahoma"/>
                <a:ea typeface="Tahoma"/>
              </a:rPr>
              <a:t>80 - </a:t>
            </a:r>
            <a:r>
              <a:rPr b="1" lang="en-US" sz="3400" spc="-1" strike="noStrike">
                <a:solidFill>
                  <a:srgbClr val="990099"/>
                </a:solidFill>
                <a:latin typeface="Tahoma"/>
                <a:ea typeface="Tahoma"/>
              </a:rPr>
              <a:t>§</a:t>
            </a:r>
            <a:r>
              <a:rPr b="1" lang="ru-RU" sz="3400" spc="-1" strike="noStrike">
                <a:solidFill>
                  <a:srgbClr val="990099"/>
                </a:solidFill>
                <a:latin typeface="Tahoma"/>
                <a:ea typeface="Tahoma"/>
              </a:rPr>
              <a:t>8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MR900336891"/>
          <p:cNvPicPr/>
          <p:nvPr/>
        </p:nvPicPr>
        <p:blipFill>
          <a:blip r:embed="rId1"/>
          <a:stretch/>
        </p:blipFill>
        <p:spPr>
          <a:xfrm>
            <a:off x="3581280" y="137160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21492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Свет- это э/м волна с длиной вол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40мкм – 80мк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с в"/>
          <p:cNvPicPr/>
          <p:nvPr/>
        </p:nvPicPr>
        <p:blipFill>
          <a:blip r:embed="rId1"/>
          <a:stretch/>
        </p:blipFill>
        <p:spPr>
          <a:xfrm>
            <a:off x="0" y="4114800"/>
            <a:ext cx="79246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гш"/>
          <p:cNvPicPr/>
          <p:nvPr/>
        </p:nvPicPr>
        <p:blipFill>
          <a:blip r:embed="rId2"/>
          <a:stretch/>
        </p:blipFill>
        <p:spPr>
          <a:xfrm>
            <a:off x="1219320" y="1447920"/>
            <a:ext cx="7924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11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304560"/>
            <a:ext cx="73152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Для того чтобы атом начал излучать, ему необходимо передать определенную энерг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с ми53т"/>
          <p:cNvPicPr/>
          <p:nvPr/>
        </p:nvPicPr>
        <p:blipFill>
          <a:blip r:embed="rId1"/>
          <a:stretch/>
        </p:blipFill>
        <p:spPr>
          <a:xfrm>
            <a:off x="228600" y="1828800"/>
            <a:ext cx="13716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2"/>
          <p:cNvGraphicFramePr/>
          <p:nvPr/>
        </p:nvGraphicFramePr>
        <p:xfrm>
          <a:off x="1143000" y="685800"/>
          <a:ext cx="7010280" cy="59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7010280" cy="59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Calibri"/>
              </a:rPr>
              <a:t>Спектры и спектральные ап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Спектр с латинского «дух, привед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ст7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r3"/>
          <p:cNvPicPr/>
          <p:nvPr/>
        </p:nvPicPr>
        <p:blipFill>
          <a:blip r:embed="rId1"/>
          <a:stretch/>
        </p:blipFill>
        <p:spPr>
          <a:xfrm>
            <a:off x="152280" y="3962520"/>
            <a:ext cx="5029200" cy="2652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-411120" y="0"/>
            <a:ext cx="1003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Распределение энерг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Monotype Corsiva"/>
              </a:rPr>
              <a:t>в спект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19810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Narrow"/>
              </a:rPr>
              <a:t>Та энергия, которую несет с собой свет от источника,определ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Narrow"/>
              </a:rPr>
              <a:t>образом распределена по волнам всех длин,  входящим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Narrow"/>
              </a:rPr>
              <a:t>светового пучка. Важнейшая характеристика излучения – распределение его по частотам или длинам волн. Это распределение характеризуется спектральной плотностью интенсивности изл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81480" y="380988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Кривая зависимости спектр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плотности интенсивности из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от частоты в видимой части спек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 Narrow"/>
              </a:rPr>
              <a:t>электрической д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115560"/>
            <a:ext cx="7543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Зрительно оценить распредел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энергии нельз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 </a:t>
            </a:r>
            <a:r>
              <a:rPr b="0" lang="ru-RU" sz="3200" spc="-1" strike="noStrike">
                <a:solidFill>
                  <a:srgbClr val="009900"/>
                </a:solidFill>
                <a:latin typeface="Bookman Old Style"/>
              </a:rPr>
              <a:t>т. к. глаз обладает избирательной чувствительностью к свету: максимум лежит в желто- зеленой об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Bookman Old Style"/>
              </a:rPr>
              <a:t>Для точных исследований спектров используют специальные приборы- спектральные аппар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т67"/>
          <p:cNvPicPr/>
          <p:nvPr/>
        </p:nvPicPr>
        <p:blipFill>
          <a:blip r:embed="rId1"/>
          <a:stretch/>
        </p:blipFill>
        <p:spPr>
          <a:xfrm>
            <a:off x="304920" y="2362320"/>
            <a:ext cx="7467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962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99"/>
                </a:solidFill>
                <a:latin typeface="Monotype Corsiva"/>
              </a:rPr>
              <a:t>Спектральные аппара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Схема призменного спектрографа"/>
          <p:cNvPicPr/>
          <p:nvPr/>
        </p:nvPicPr>
        <p:blipFill>
          <a:blip r:embed="rId1"/>
          <a:stretch/>
        </p:blipFill>
        <p:spPr>
          <a:xfrm>
            <a:off x="0" y="1600200"/>
            <a:ext cx="4952880" cy="5105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4952880" y="1523880"/>
            <a:ext cx="3916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Ход лучей в спектрограф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1. Через узкую щель проходит пучок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2. Линза №1 делает пучок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        </a:t>
            </a: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паралл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3. Призма раскладывает белый свет по длинам волн на спек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4. Линза №2 собирает разошедший пучок излучения по длинам волн в разные концы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 Narrow"/>
              </a:rPr>
              <a:t>5. Фотопластинка фиксирует спектр и получается спектограмма</a:t>
            </a: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5760" y="977760"/>
            <a:ext cx="72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 Narrow"/>
              </a:rPr>
              <a:t>Призменный спектральный аппарат – спектрогра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Группа 41"/>
          <p:cNvGrpSpPr/>
          <p:nvPr/>
        </p:nvGrpSpPr>
        <p:grpSpPr>
          <a:xfrm>
            <a:off x="428760" y="1428840"/>
            <a:ext cx="8429400" cy="1928520"/>
            <a:chOff x="428760" y="1428840"/>
            <a:chExt cx="8429400" cy="1928520"/>
          </a:xfrm>
        </p:grpSpPr>
        <p:sp>
          <p:nvSpPr>
            <p:cNvPr id="110" name="Прямоугольник 4"/>
            <p:cNvSpPr/>
            <p:nvPr/>
          </p:nvSpPr>
          <p:spPr>
            <a:xfrm>
              <a:off x="3500280" y="1428840"/>
              <a:ext cx="2357280" cy="5713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пектры излу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Группа 37"/>
            <p:cNvGrpSpPr/>
            <p:nvPr/>
          </p:nvGrpSpPr>
          <p:grpSpPr>
            <a:xfrm>
              <a:off x="428760" y="2214720"/>
              <a:ext cx="8429400" cy="1142640"/>
              <a:chOff x="428760" y="2214720"/>
              <a:chExt cx="8429400" cy="1142640"/>
            </a:xfrm>
          </p:grpSpPr>
          <p:sp>
            <p:nvSpPr>
              <p:cNvPr id="112" name="Прямоугольник 6"/>
              <p:cNvSpPr/>
              <p:nvPr/>
            </p:nvSpPr>
            <p:spPr>
              <a:xfrm>
                <a:off x="428760" y="2643120"/>
                <a:ext cx="23572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libri"/>
                  </a:rPr>
                  <a:t>Непрерывн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Прямоугольник 7"/>
              <p:cNvSpPr/>
              <p:nvPr/>
            </p:nvSpPr>
            <p:spPr>
              <a:xfrm>
                <a:off x="3500280" y="2643120"/>
                <a:ext cx="23572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libri"/>
                  </a:rPr>
                  <a:t>Линейчат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Прямоугольник 8"/>
              <p:cNvSpPr/>
              <p:nvPr/>
            </p:nvSpPr>
            <p:spPr>
              <a:xfrm>
                <a:off x="6500880" y="2643120"/>
                <a:ext cx="2357280" cy="71424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libri"/>
                  </a:rPr>
                  <a:t>Полосаты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5" name="Прямая со стрелкой 21"/>
              <p:cNvCxnSpPr/>
              <p:nvPr/>
            </p:nvCxnSpPr>
            <p:spPr>
              <a:xfrm flipH="1">
                <a:off x="1606320" y="2214720"/>
                <a:ext cx="2160" cy="429120"/>
              </a:xfrm>
              <a:prstGeom prst="straightConnector1">
                <a:avLst/>
              </a:prstGeom>
              <a:ln w="3492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6" name="Прямая со стрелкой 27"/>
              <p:cNvCxnSpPr/>
              <p:nvPr/>
            </p:nvCxnSpPr>
            <p:spPr>
              <a:xfrm flipH="1">
                <a:off x="4678200" y="2214720"/>
                <a:ext cx="2160" cy="429120"/>
              </a:xfrm>
              <a:prstGeom prst="straightConnector1">
                <a:avLst/>
              </a:prstGeom>
              <a:ln w="3492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7" name="Прямая со стрелкой 28"/>
              <p:cNvCxnSpPr/>
              <p:nvPr/>
            </p:nvCxnSpPr>
            <p:spPr>
              <a:xfrm flipH="1">
                <a:off x="7678440" y="2214720"/>
                <a:ext cx="2160" cy="429120"/>
              </a:xfrm>
              <a:prstGeom prst="straightConnector1">
                <a:avLst/>
              </a:prstGeom>
              <a:ln w="3492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118" name="Прямая соединительная линия 30"/>
              <p:cNvSpPr/>
              <p:nvPr/>
            </p:nvSpPr>
            <p:spPr>
              <a:xfrm>
                <a:off x="1581120" y="2214720"/>
                <a:ext cx="6124320" cy="0"/>
              </a:xfrm>
              <a:prstGeom prst="line">
                <a:avLst/>
              </a:prstGeom>
              <a:ln w="349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Прямая соединительная линия 39"/>
            <p:cNvSpPr/>
            <p:nvPr/>
          </p:nvSpPr>
          <p:spPr>
            <a:xfrm flipV="1">
              <a:off x="4687920" y="1999800"/>
              <a:ext cx="0" cy="214200"/>
            </a:xfrm>
            <a:prstGeom prst="line">
              <a:avLst/>
            </a:prstGeom>
            <a:ln w="3492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Рисунок 42" descr="Сплошной спектр.gif"/>
          <p:cNvPicPr/>
          <p:nvPr/>
        </p:nvPicPr>
        <p:blipFill>
          <a:blip r:embed="rId1"/>
          <a:stretch/>
        </p:blipFill>
        <p:spPr>
          <a:xfrm>
            <a:off x="428760" y="4714920"/>
            <a:ext cx="23540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Рисунок 43" descr="Линейчатый спектр.gif"/>
          <p:cNvPicPr/>
          <p:nvPr/>
        </p:nvPicPr>
        <p:blipFill>
          <a:blip r:embed="rId2"/>
          <a:stretch/>
        </p:blipFill>
        <p:spPr>
          <a:xfrm>
            <a:off x="3500280" y="4714920"/>
            <a:ext cx="2357640" cy="15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Рисунок 44" descr="Полосатый спектр.gif"/>
          <p:cNvPicPr/>
          <p:nvPr/>
        </p:nvPicPr>
        <p:blipFill>
          <a:blip r:embed="rId3"/>
          <a:stretch/>
        </p:blipFill>
        <p:spPr>
          <a:xfrm>
            <a:off x="6483240" y="4714920"/>
            <a:ext cx="23846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5" descr=""/>
          <p:cNvPicPr/>
          <p:nvPr/>
        </p:nvPicPr>
        <p:blipFill>
          <a:blip r:embed="rId4"/>
          <a:stretch/>
        </p:blipFill>
        <p:spPr>
          <a:xfrm>
            <a:off x="3500280" y="3500280"/>
            <a:ext cx="2357640" cy="2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6" descr=""/>
          <p:cNvPicPr/>
          <p:nvPr/>
        </p:nvPicPr>
        <p:blipFill>
          <a:blip r:embed="rId5"/>
          <a:stretch/>
        </p:blipFill>
        <p:spPr>
          <a:xfrm>
            <a:off x="428760" y="3500280"/>
            <a:ext cx="2357280" cy="2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TextBox 53"/>
          <p:cNvSpPr/>
          <p:nvPr/>
        </p:nvSpPr>
        <p:spPr>
          <a:xfrm>
            <a:off x="428760" y="392904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Распределение энергии по часто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(спектральная плотность интенсивности изл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6"/>
          <a:stretch/>
        </p:blipFill>
        <p:spPr>
          <a:xfrm>
            <a:off x="6500880" y="3500280"/>
            <a:ext cx="2340000" cy="289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5"/>
          <p:cNvSpPr/>
          <p:nvPr/>
        </p:nvSpPr>
        <p:spPr>
          <a:xfrm>
            <a:off x="1828800" y="457200"/>
            <a:ext cx="46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Arial"/>
              </a:rPr>
              <a:t>Спектры изл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20T17:39:0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